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gif" ContentType="image/gif"/>
  <Override PartName="/ppt/media/image12.gif" ContentType="image/gif"/>
  <Override PartName="/ppt/media/image8.png" ContentType="image/png"/>
  <Override PartName="/ppt/media/image9.png" ContentType="image/png"/>
  <Override PartName="/ppt/media/image10.gif" ContentType="image/gi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A335-5195-409D-A1D4-7C81DE2A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54C4-18EF-4731-9FD5-3F930A4C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81CA-5A4A-42B5-8939-95BB936E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FF90-9DCB-4890-8193-4EB33B85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E670-716C-4ECF-946D-C9FB7A12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65B4-FA89-45BE-810B-5A0F9C34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615F-D6F9-4AA9-94A8-08E6F205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FA41-C3D9-446D-811C-0DC0E9CC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F2A5-C943-4C16-9D7E-400A3ABC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DF92-9137-4B25-9ACC-EE999136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A667-E7A2-4757-A6CF-840C4429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8E28-2245-449B-86E5-1EE6ADF0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66ff66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947B-B0F0-4917-B545-82653C0ED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5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5.png"/><Relationship Id="rId3" Type="http://schemas.openxmlformats.org/officeDocument/2006/relationships/slide" Target="slide10.xml"/><Relationship Id="rId4" Type="http://schemas.openxmlformats.org/officeDocument/2006/relationships/image" Target="../media/image8.png"/><Relationship Id="rId5" Type="http://schemas.openxmlformats.org/officeDocument/2006/relationships/slide" Target="slide10.xml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66ff66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843280" y="549360"/>
            <a:ext cx="29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8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ст</a:t>
            </a:r>
            <a:endParaRPr b="1" i="1" lang="en-US" sz="1800" spc="1" strike="noStrike">
              <a:ln w="22320">
                <a:solidFill>
                  <a:srgbClr val="00008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42920" y="2205000"/>
            <a:ext cx="72741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0066ff"/>
                    </a:gs>
                    <a:gs pos="100000">
                      <a:srgbClr val="ff0066"/>
                    </a:gs>
                  </a:gsLst>
                  <a:lin ang="8100000"/>
                </a:gradFill>
                <a:latin typeface="Times New Roman"/>
              </a:rPr>
              <a:t>внутренние</a:t>
            </a:r>
            <a:endParaRPr b="1" lang="en-US" sz="1800" spc="1" strike="noStrike">
              <a:ln w="284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50000">
                    <a:srgbClr val="0066ff"/>
                  </a:gs>
                  <a:gs pos="100000">
                    <a:srgbClr val="ff0066"/>
                  </a:gs>
                </a:gsLst>
                <a:lin ang="81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0066ff"/>
                    </a:gs>
                    <a:gs pos="100000">
                      <a:srgbClr val="ff0066"/>
                    </a:gs>
                  </a:gsLst>
                  <a:lin ang="8100000"/>
                </a:gradFill>
                <a:latin typeface="Times New Roman"/>
              </a:rPr>
              <a:t>органы человека</a:t>
            </a:r>
            <a:endParaRPr b="1" lang="en-US" sz="1800" spc="1" strike="noStrike">
              <a:ln w="284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50000">
                    <a:srgbClr val="0066ff"/>
                  </a:gs>
                  <a:gs pos="100000">
                    <a:srgbClr val="ff0066"/>
                  </a:gs>
                </a:gsLst>
                <a:lin ang="8100000"/>
              </a:gradFill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84720" y="765000"/>
            <a:ext cx="2838600" cy="1638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67640" y="6308640"/>
            <a:ext cx="1476360" cy="549360"/>
          </a:xfrm>
          <a:custGeom>
            <a:avLst/>
            <a:gdLst>
              <a:gd name="textAreaLeft" fmla="*/ 35280 w 1476360"/>
              <a:gd name="textAreaRight" fmla="*/ 1441080 w 14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8024" h="21600">
                <a:moveTo>
                  <a:pt x="0" y="0"/>
                </a:moveTo>
                <a:lnTo>
                  <a:pt x="58024" y="0"/>
                </a:lnTo>
                <a:lnTo>
                  <a:pt x="58024" y="21600"/>
                </a:lnTo>
                <a:lnTo>
                  <a:pt x="0" y="21600"/>
                </a:lnTo>
                <a:close/>
              </a:path>
              <a:path fill="lightenLess" w="58024" h="21600">
                <a:moveTo>
                  <a:pt x="0" y="0"/>
                </a:moveTo>
                <a:lnTo>
                  <a:pt x="58024" y="0"/>
                </a:lnTo>
                <a:lnTo>
                  <a:pt x="56624" y="1400"/>
                </a:lnTo>
                <a:lnTo>
                  <a:pt x="1400" y="1400"/>
                </a:lnTo>
                <a:close/>
              </a:path>
              <a:path fill="darken" w="58024" h="21600">
                <a:moveTo>
                  <a:pt x="58024" y="0"/>
                </a:moveTo>
                <a:lnTo>
                  <a:pt x="58024" y="21600"/>
                </a:lnTo>
                <a:lnTo>
                  <a:pt x="56624" y="20200"/>
                </a:lnTo>
                <a:lnTo>
                  <a:pt x="56624" y="1400"/>
                </a:lnTo>
                <a:close/>
              </a:path>
              <a:path fill="darkenLess" w="58024" h="21600">
                <a:moveTo>
                  <a:pt x="58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624" y="20200"/>
                </a:lnTo>
                <a:close/>
              </a:path>
              <a:path fill="lighten" w="58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ач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66ff66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4360" y="836640"/>
            <a:ext cx="741672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умай!!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348000" y="3500280"/>
            <a:ext cx="2592360" cy="259272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0" y="6093000"/>
            <a:ext cx="2340000" cy="765000"/>
          </a:xfrm>
          <a:custGeom>
            <a:avLst/>
            <a:gdLst>
              <a:gd name="textAreaLeft" fmla="*/ 49320 w 2340000"/>
              <a:gd name="textAreaRight" fmla="*/ 2290680 w 2340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66050" h="21600">
                <a:moveTo>
                  <a:pt x="0" y="0"/>
                </a:moveTo>
                <a:lnTo>
                  <a:pt x="66050" y="0"/>
                </a:lnTo>
                <a:lnTo>
                  <a:pt x="66050" y="21600"/>
                </a:lnTo>
                <a:lnTo>
                  <a:pt x="0" y="21600"/>
                </a:lnTo>
                <a:close/>
              </a:path>
              <a:path fill="lightenLess" w="66050" h="21600">
                <a:moveTo>
                  <a:pt x="0" y="0"/>
                </a:moveTo>
                <a:lnTo>
                  <a:pt x="66050" y="0"/>
                </a:lnTo>
                <a:lnTo>
                  <a:pt x="64650" y="1400"/>
                </a:lnTo>
                <a:lnTo>
                  <a:pt x="1400" y="1400"/>
                </a:lnTo>
                <a:close/>
              </a:path>
              <a:path fill="darken" w="66050" h="21600">
                <a:moveTo>
                  <a:pt x="66050" y="0"/>
                </a:moveTo>
                <a:lnTo>
                  <a:pt x="66050" y="21600"/>
                </a:lnTo>
                <a:lnTo>
                  <a:pt x="64650" y="20200"/>
                </a:lnTo>
                <a:lnTo>
                  <a:pt x="64650" y="1400"/>
                </a:lnTo>
                <a:close/>
              </a:path>
              <a:path fill="darkenLess" w="66050" h="21600">
                <a:moveTo>
                  <a:pt x="66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650" y="20200"/>
                </a:lnTo>
                <a:close/>
              </a:path>
              <a:path fill="lighten" w="66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верн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66ff66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26920" y="0"/>
            <a:ext cx="6769440" cy="61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Ты справилс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с заданием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300720" y="3789360"/>
            <a:ext cx="20862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66ff66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826920" y="620640"/>
            <a:ext cx="7272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 С помощью какого органа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ышит человек?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7" name="Picture 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2637000"/>
            <a:ext cx="1839960" cy="1798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>
            <a:hlinkClick r:id="rId3" action="ppaction://hlinksldjump"/>
          </p:cNvPr>
          <p:cNvPicPr/>
          <p:nvPr/>
        </p:nvPicPr>
        <p:blipFill>
          <a:blip r:embed="rId4"/>
          <a:srcRect l="5089" t="13653" r="2902" b="37396"/>
          <a:stretch/>
        </p:blipFill>
        <p:spPr>
          <a:xfrm>
            <a:off x="3132000" y="2637000"/>
            <a:ext cx="2303640" cy="187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>
            <a:hlinkClick r:id="rId5" action="ppaction://hlinksldjump"/>
          </p:cNvPr>
          <p:cNvPicPr/>
          <p:nvPr/>
        </p:nvPicPr>
        <p:blipFill>
          <a:blip r:embed="rId6"/>
          <a:srcRect l="11163" t="12972" r="22019" b="8330"/>
          <a:stretch/>
        </p:blipFill>
        <p:spPr>
          <a:xfrm>
            <a:off x="6012000" y="2637000"/>
            <a:ext cx="1503360" cy="187164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rId7" action="ppaction://hlinksldjump"/>
          </p:cNvPr>
          <p:cNvSpPr/>
          <p:nvPr/>
        </p:nvSpPr>
        <p:spPr>
          <a:xfrm>
            <a:off x="468360" y="4941720"/>
            <a:ext cx="2016000" cy="936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головной моз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5796000" y="4941720"/>
            <a:ext cx="2016000" cy="936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серд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3203640" y="5013360"/>
            <a:ext cx="2016000" cy="936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лёг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66ff66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24000" y="549360"/>
            <a:ext cx="6408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лично!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292720" y="3789360"/>
            <a:ext cx="2376360" cy="2286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67640" y="6308640"/>
            <a:ext cx="1476360" cy="549360"/>
          </a:xfrm>
          <a:custGeom>
            <a:avLst/>
            <a:gdLst>
              <a:gd name="textAreaLeft" fmla="*/ 35280 w 1476360"/>
              <a:gd name="textAreaRight" fmla="*/ 1441080 w 14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8024" h="21600">
                <a:moveTo>
                  <a:pt x="0" y="0"/>
                </a:moveTo>
                <a:lnTo>
                  <a:pt x="58024" y="0"/>
                </a:lnTo>
                <a:lnTo>
                  <a:pt x="58024" y="21600"/>
                </a:lnTo>
                <a:lnTo>
                  <a:pt x="0" y="21600"/>
                </a:lnTo>
                <a:close/>
              </a:path>
              <a:path fill="lightenLess" w="58024" h="21600">
                <a:moveTo>
                  <a:pt x="0" y="0"/>
                </a:moveTo>
                <a:lnTo>
                  <a:pt x="58024" y="0"/>
                </a:lnTo>
                <a:lnTo>
                  <a:pt x="56624" y="1400"/>
                </a:lnTo>
                <a:lnTo>
                  <a:pt x="1400" y="1400"/>
                </a:lnTo>
                <a:close/>
              </a:path>
              <a:path fill="darken" w="58024" h="21600">
                <a:moveTo>
                  <a:pt x="58024" y="0"/>
                </a:moveTo>
                <a:lnTo>
                  <a:pt x="58024" y="21600"/>
                </a:lnTo>
                <a:lnTo>
                  <a:pt x="56624" y="20200"/>
                </a:lnTo>
                <a:lnTo>
                  <a:pt x="56624" y="1400"/>
                </a:lnTo>
                <a:close/>
              </a:path>
              <a:path fill="darkenLess" w="58024" h="21600">
                <a:moveTo>
                  <a:pt x="58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624" y="20200"/>
                </a:lnTo>
                <a:close/>
              </a:path>
              <a:path fill="lighten" w="58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66ff66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24000" y="476280"/>
            <a:ext cx="83818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 "Извилистый коридор", в котор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еваривается пищ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539640" y="2492280"/>
            <a:ext cx="2448000" cy="1297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желу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3203640" y="3429000"/>
            <a:ext cx="2519280" cy="1368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киш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3" action="ppaction://hlinksldjump"/>
          </p:cNvPr>
          <p:cNvSpPr/>
          <p:nvPr/>
        </p:nvSpPr>
        <p:spPr>
          <a:xfrm>
            <a:off x="6300720" y="2492280"/>
            <a:ext cx="2448000" cy="1368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голов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моз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66ff66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187280" y="1125360"/>
            <a:ext cx="6337440" cy="1005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молодец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43280" y="2133720"/>
            <a:ext cx="3024000" cy="3024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67640" y="6308640"/>
            <a:ext cx="1476360" cy="549360"/>
          </a:xfrm>
          <a:custGeom>
            <a:avLst/>
            <a:gdLst>
              <a:gd name="textAreaLeft" fmla="*/ 35280 w 1476360"/>
              <a:gd name="textAreaRight" fmla="*/ 1441080 w 14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8024" h="21600">
                <a:moveTo>
                  <a:pt x="0" y="0"/>
                </a:moveTo>
                <a:lnTo>
                  <a:pt x="58024" y="0"/>
                </a:lnTo>
                <a:lnTo>
                  <a:pt x="58024" y="21600"/>
                </a:lnTo>
                <a:lnTo>
                  <a:pt x="0" y="21600"/>
                </a:lnTo>
                <a:close/>
              </a:path>
              <a:path fill="lightenLess" w="58024" h="21600">
                <a:moveTo>
                  <a:pt x="0" y="0"/>
                </a:moveTo>
                <a:lnTo>
                  <a:pt x="58024" y="0"/>
                </a:lnTo>
                <a:lnTo>
                  <a:pt x="56624" y="1400"/>
                </a:lnTo>
                <a:lnTo>
                  <a:pt x="1400" y="1400"/>
                </a:lnTo>
                <a:close/>
              </a:path>
              <a:path fill="darken" w="58024" h="21600">
                <a:moveTo>
                  <a:pt x="58024" y="0"/>
                </a:moveTo>
                <a:lnTo>
                  <a:pt x="58024" y="21600"/>
                </a:lnTo>
                <a:lnTo>
                  <a:pt x="56624" y="20200"/>
                </a:lnTo>
                <a:lnTo>
                  <a:pt x="56624" y="1400"/>
                </a:lnTo>
                <a:close/>
              </a:path>
              <a:path fill="darkenLess" w="58024" h="21600">
                <a:moveTo>
                  <a:pt x="58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624" y="20200"/>
                </a:lnTo>
                <a:close/>
              </a:path>
              <a:path fill="lighten" w="58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66ff66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8360" y="549360"/>
            <a:ext cx="81374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. Какой внутренний орган </a:t>
            </a:r>
            <a:endParaRPr b="1" lang="en-US" sz="1800" spc="1" strike="noStrike">
              <a:ln w="22320">
                <a:solidFill>
                  <a:srgbClr val="0000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зывается мотором </a:t>
            </a:r>
            <a:endParaRPr b="1" lang="en-US" sz="1800" spc="1" strike="noStrike">
              <a:ln w="22320">
                <a:solidFill>
                  <a:srgbClr val="0000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его организма?</a:t>
            </a:r>
            <a:endParaRPr b="1" lang="en-US" sz="1800" spc="1" strike="noStrike">
              <a:ln w="22320">
                <a:solidFill>
                  <a:srgbClr val="0000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4" name="Picture 5" descr="">
            <a:hlinkClick r:id="rId1" action="ppaction://hlinksldjump"/>
          </p:cNvPr>
          <p:cNvPicPr/>
          <p:nvPr/>
        </p:nvPicPr>
        <p:blipFill>
          <a:blip r:embed="rId2"/>
          <a:srcRect l="11163" t="12972" r="22019" b="8330"/>
          <a:stretch/>
        </p:blipFill>
        <p:spPr>
          <a:xfrm>
            <a:off x="611280" y="2924280"/>
            <a:ext cx="2141280" cy="2665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971640" y="3068640"/>
            <a:ext cx="1628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рдц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" name="Picture 11" descr="">
            <a:hlinkClick r:id="rId3" action="ppaction://hlinksldjump"/>
          </p:cNvPr>
          <p:cNvPicPr/>
          <p:nvPr/>
        </p:nvPicPr>
        <p:blipFill>
          <a:blip r:embed="rId4"/>
          <a:srcRect l="6827" t="11780" r="14441" b="15724"/>
          <a:stretch/>
        </p:blipFill>
        <p:spPr>
          <a:xfrm>
            <a:off x="3059280" y="2924280"/>
            <a:ext cx="2520720" cy="2592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276720" y="3068640"/>
            <a:ext cx="1923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лудо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8" name="Picture 3" descr="">
            <a:hlinkClick r:id="rId5" action="ppaction://hlinksldjump"/>
          </p:cNvPr>
          <p:cNvPicPr/>
          <p:nvPr/>
        </p:nvPicPr>
        <p:blipFill>
          <a:blip r:embed="rId6"/>
          <a:srcRect l="23613" t="0" r="1829" b="17563"/>
          <a:stretch/>
        </p:blipFill>
        <p:spPr>
          <a:xfrm>
            <a:off x="5940360" y="3056040"/>
            <a:ext cx="2664000" cy="2427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6012000" y="3141720"/>
            <a:ext cx="24350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ишечни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66ff66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755640" y="1700280"/>
            <a:ext cx="756144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1381320" cy="166716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7667640" y="6308640"/>
            <a:ext cx="1476360" cy="549360"/>
          </a:xfrm>
          <a:custGeom>
            <a:avLst/>
            <a:gdLst>
              <a:gd name="textAreaLeft" fmla="*/ 35280 w 1476360"/>
              <a:gd name="textAreaRight" fmla="*/ 1441080 w 14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8024" h="21600">
                <a:moveTo>
                  <a:pt x="0" y="0"/>
                </a:moveTo>
                <a:lnTo>
                  <a:pt x="58024" y="0"/>
                </a:lnTo>
                <a:lnTo>
                  <a:pt x="58024" y="21600"/>
                </a:lnTo>
                <a:lnTo>
                  <a:pt x="0" y="21600"/>
                </a:lnTo>
                <a:close/>
              </a:path>
              <a:path fill="lightenLess" w="58024" h="21600">
                <a:moveTo>
                  <a:pt x="0" y="0"/>
                </a:moveTo>
                <a:lnTo>
                  <a:pt x="58024" y="0"/>
                </a:lnTo>
                <a:lnTo>
                  <a:pt x="56624" y="1400"/>
                </a:lnTo>
                <a:lnTo>
                  <a:pt x="1400" y="1400"/>
                </a:lnTo>
                <a:close/>
              </a:path>
              <a:path fill="darken" w="58024" h="21600">
                <a:moveTo>
                  <a:pt x="58024" y="0"/>
                </a:moveTo>
                <a:lnTo>
                  <a:pt x="58024" y="21600"/>
                </a:lnTo>
                <a:lnTo>
                  <a:pt x="56624" y="20200"/>
                </a:lnTo>
                <a:lnTo>
                  <a:pt x="56624" y="1400"/>
                </a:lnTo>
                <a:close/>
              </a:path>
              <a:path fill="darkenLess" w="58024" h="21600">
                <a:moveTo>
                  <a:pt x="58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624" y="20200"/>
                </a:lnTo>
                <a:close/>
              </a:path>
              <a:path fill="lighten" w="58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66ff66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755640" y="189000"/>
            <a:ext cx="792000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. Соседка желудка,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ходящаяся с правой стороны 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 него: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755640" y="3213000"/>
            <a:ext cx="2016000" cy="12956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лёг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" action="ppaction://hlinksldjump"/>
          </p:cNvPr>
          <p:cNvSpPr/>
          <p:nvPr/>
        </p:nvSpPr>
        <p:spPr>
          <a:xfrm>
            <a:off x="6372360" y="3213000"/>
            <a:ext cx="2016000" cy="12956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е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3419640" y="4076640"/>
            <a:ext cx="2016000" cy="12956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66ff66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900000" y="1628640"/>
            <a:ext cx="71280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красно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58920" y="3500280"/>
            <a:ext cx="2389320" cy="316872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7667640" y="6308640"/>
            <a:ext cx="1476360" cy="549360"/>
          </a:xfrm>
          <a:custGeom>
            <a:avLst/>
            <a:gdLst>
              <a:gd name="textAreaLeft" fmla="*/ 35280 w 1476360"/>
              <a:gd name="textAreaRight" fmla="*/ 1441080 w 14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8024" h="21600">
                <a:moveTo>
                  <a:pt x="0" y="0"/>
                </a:moveTo>
                <a:lnTo>
                  <a:pt x="58024" y="0"/>
                </a:lnTo>
                <a:lnTo>
                  <a:pt x="58024" y="21600"/>
                </a:lnTo>
                <a:lnTo>
                  <a:pt x="0" y="21600"/>
                </a:lnTo>
                <a:close/>
              </a:path>
              <a:path fill="lightenLess" w="58024" h="21600">
                <a:moveTo>
                  <a:pt x="0" y="0"/>
                </a:moveTo>
                <a:lnTo>
                  <a:pt x="58024" y="0"/>
                </a:lnTo>
                <a:lnTo>
                  <a:pt x="56624" y="1400"/>
                </a:lnTo>
                <a:lnTo>
                  <a:pt x="1400" y="1400"/>
                </a:lnTo>
                <a:close/>
              </a:path>
              <a:path fill="darken" w="58024" h="21600">
                <a:moveTo>
                  <a:pt x="58024" y="0"/>
                </a:moveTo>
                <a:lnTo>
                  <a:pt x="58024" y="21600"/>
                </a:lnTo>
                <a:lnTo>
                  <a:pt x="56624" y="20200"/>
                </a:lnTo>
                <a:lnTo>
                  <a:pt x="56624" y="1400"/>
                </a:lnTo>
                <a:close/>
              </a:path>
              <a:path fill="darkenLess" w="58024" h="21600">
                <a:moveTo>
                  <a:pt x="58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624" y="20200"/>
                </a:lnTo>
                <a:close/>
              </a:path>
              <a:path fill="lighten" w="58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5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03:10:17Z</dcterms:created>
  <dc:creator>Df</dc:creator>
  <dc:description/>
  <dc:language>en-US</dc:language>
  <cp:lastModifiedBy>Df</cp:lastModifiedBy>
  <dcterms:modified xsi:type="dcterms:W3CDTF">2010-01-15T04:18:26Z</dcterms:modified>
  <cp:revision>10</cp:revision>
  <dc:subject/>
  <dc:title>Слайд 1</dc:title>
</cp:coreProperties>
</file>