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9.jpeg" ContentType="image/jpeg"/>
  <Override PartName="/ppt/media/image11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6.gif" ContentType="image/gif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FB21-9A8B-4B04-B528-5A35614D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10D-6107-4CC3-A930-DFE85C7C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82E-D96E-47AE-A805-D817761B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AC2-BAE8-46FF-AE46-A23D0A32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8C01-DC84-470B-9CCF-9A56EA1D6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3C63-1508-4D74-B6DF-E116EA22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6D5D-9BE6-48B5-9A9A-44C7E274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670D-FC9A-4427-A929-A36B0362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3A89-17DE-4557-B80F-79A81947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BC69-D378-462E-8382-3A63F70B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B3CA-073D-48A9-834C-A1AC9FA55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2DA-A785-44DC-94EF-E92D9555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5A36-93CC-4C67-8FDD-01928242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AA01-80E3-4374-9FCF-DB2EEC6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17C5-4A51-4633-AD24-8B9EBA06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1632-7FB2-431B-8863-FA8B39DD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8DF2-355B-4291-A4FC-622BCA23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4BC-4C1E-46D0-90E7-F220A761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C5A1-5CEA-4F0F-9113-21F9B4E9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BC8-D4C4-42CE-8985-60CDF729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ACFA-CFC2-4DA5-A07A-0D9926EB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145-87D4-4FF1-9C7F-5C92426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39E-EC46-4F28-8762-0DF41031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AE6A-93A5-4650-990C-2FD17129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E317-6B0C-43A0-979F-589E5C6430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85F7-54A6-4A1F-8013-145C4BFC87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307/81454286.23f/0_7e1ec_fa0a3369_XL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arentingzoo.com/members/?tag=health" TargetMode="External"/><Relationship Id="rId2" Type="http://schemas.openxmlformats.org/officeDocument/2006/relationships/hyperlink" Target="http://www.my-article.net/get/&#1085;&#1072;&#1091;&#1082;&#1072;/&#1075;&#1077;&#1086;&#1075;&#1088;&#1072;&#1092;&#1080;&#1103;/&#1077;&#1074;&#1088;&#1086;&#1087;&#1072;/&#1074;&#1086;&#1089;&#1090;&#1086;&#1095;&#1085;&#1072;&#1103;-&#1077;&#1074;&#1088;&#1086;&#1087;&#1072;/&#1088;&#1086;&#1089;&#1089;&#1080;&#1103;" TargetMode="External"/><Relationship Id="rId3" Type="http://schemas.openxmlformats.org/officeDocument/2006/relationships/hyperlink" Target="http://www.my-article.net/get/&#1085;&#1072;&#1091;&#1082;&#1072;/&#1075;&#1077;&#1086;&#1075;&#1088;&#1072;&#1092;&#1080;&#1103;/&#1077;&#1074;&#1088;&#1086;&#1087;&#1072;/&#1074;&#1086;&#1089;&#1090;&#1086;&#1095;&#1085;&#1072;&#1103;-&#1077;&#1074;&#1088;&#1086;&#1087;&#1072;/&#1088;&#1086;&#1089;&#1089;&#1080;&#1103;" TargetMode="External"/><Relationship Id="rId4" Type="http://schemas.openxmlformats.org/officeDocument/2006/relationships/hyperlink" Target="http://www.astrobl.ru/news/47480" TargetMode="External"/><Relationship Id="rId5" Type="http://schemas.openxmlformats.org/officeDocument/2006/relationships/hyperlink" Target="http://tvoyamalishka.nnov.org/?cPart=2" TargetMode="External"/><Relationship Id="rId6" Type="http://schemas.openxmlformats.org/officeDocument/2006/relationships/hyperlink" Target="http://ads.chernihiv.info/ad/&#1055;&#1088;&#1086;&#1076;&#1072;&#1084;-&#1089;&#1077;&#1084;&#1077;&#1095;&#1082;&#1091;-&#1087;&#1086;&#1076;&#1089;&#1086;&#1083;&#1085;&#1077;&#1095;&#1085;&#1080;&#1082;&#1072;" TargetMode="External"/><Relationship Id="rId7" Type="http://schemas.openxmlformats.org/officeDocument/2006/relationships/hyperlink" Target="http://ads.chernihiv.info/ad/&#1055;&#1088;&#1086;&#1076;&#1072;&#1084;-&#1089;&#1077;&#1084;&#1077;&#1095;&#1082;&#1091;-&#1087;&#1086;&#1076;&#1089;&#1086;&#1083;&#1085;&#1077;&#1095;&#1085;&#1080;&#1082;&#1072;" TargetMode="External"/><Relationship Id="rId8" Type="http://schemas.openxmlformats.org/officeDocument/2006/relationships/hyperlink" Target="http://plant.agronationale.ru/20225.html" TargetMode="External"/><Relationship Id="rId9" Type="http://schemas.openxmlformats.org/officeDocument/2006/relationships/hyperlink" Target="http://ogoom.com/page/337/" TargetMode="External"/><Relationship Id="rId10" Type="http://schemas.openxmlformats.org/officeDocument/2006/relationships/hyperlink" Target="http://inqs.karnage.ru/page/9/?s=&#1091;&#1093;&#1072;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10" descr=""/>
          <p:cNvPicPr/>
          <p:nvPr/>
        </p:nvPicPr>
        <p:blipFill>
          <a:blip r:embed="rId1"/>
          <a:stretch/>
        </p:blipFill>
        <p:spPr>
          <a:xfrm>
            <a:off x="731880" y="1468440"/>
            <a:ext cx="8289720" cy="1433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1"/>
          <p:cNvSpPr/>
          <p:nvPr/>
        </p:nvSpPr>
        <p:spPr>
          <a:xfrm>
            <a:off x="1643040" y="328608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курсу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143080" y="35712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городе у доро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солнышко на нож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желтые л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не горя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артинка 14 из 13759"/>
          <p:cNvPicPr/>
          <p:nvPr/>
        </p:nvPicPr>
        <p:blipFill>
          <a:blip r:embed="rId1"/>
          <a:stretch/>
        </p:blipFill>
        <p:spPr>
          <a:xfrm>
            <a:off x="1643040" y="2286000"/>
            <a:ext cx="563076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143080" y="50004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, полосатень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ередке сладень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Дольки на блюде"/>
          <p:cNvPicPr/>
          <p:nvPr/>
        </p:nvPicPr>
        <p:blipFill>
          <a:blip r:embed="rId1"/>
          <a:stretch/>
        </p:blipFill>
        <p:spPr>
          <a:xfrm>
            <a:off x="169236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357280" y="500040"/>
            <a:ext cx="557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дела сто руб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рустела на зуб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Картинка 14 из 166236"/>
          <p:cNvPicPr/>
          <p:nvPr/>
        </p:nvPicPr>
        <p:blipFill>
          <a:blip r:embed="rId1"/>
          <a:stretch/>
        </p:blipFill>
        <p:spPr>
          <a:xfrm>
            <a:off x="1714680" y="1714680"/>
            <a:ext cx="601164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500200" y="6429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на пригор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 желтые бочон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Картинка 20 из 1582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2000160"/>
            <a:ext cx="56311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000160" y="285840"/>
            <a:ext cx="535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рос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жерновом бы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чк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ем при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Картинка 4 из 151318"/>
          <p:cNvPicPr/>
          <p:nvPr/>
        </p:nvPicPr>
        <p:blipFill>
          <a:blip r:embed="rId1"/>
          <a:stretch/>
        </p:blipFill>
        <p:spPr>
          <a:xfrm>
            <a:off x="1785960" y="2428920"/>
            <a:ext cx="543888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286000" y="4287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блях белеют ча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нитки и руб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артинка 2 из 158800"/>
          <p:cNvPicPr/>
          <p:nvPr/>
        </p:nvPicPr>
        <p:blipFill>
          <a:blip r:embed="rId1"/>
          <a:stretch/>
        </p:blipFill>
        <p:spPr>
          <a:xfrm>
            <a:off x="2000160" y="157176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214720" y="214200"/>
            <a:ext cx="507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е, румя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сту на в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меня взрос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леньки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Картинка 9 из 221785"/>
          <p:cNvPicPr/>
          <p:nvPr/>
        </p:nvPicPr>
        <p:blipFill>
          <a:blip r:embed="rId1"/>
          <a:stretch/>
        </p:blipFill>
        <p:spPr>
          <a:xfrm>
            <a:off x="1785960" y="2143080"/>
            <a:ext cx="53737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1"/>
          <p:cNvSpPr/>
          <p:nvPr/>
        </p:nvSpPr>
        <p:spPr>
          <a:xfrm>
            <a:off x="2000160" y="571680"/>
            <a:ext cx="6429600" cy="119124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ьте описание растения по план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"/>
          <p:cNvSpPr/>
          <p:nvPr/>
        </p:nvSpPr>
        <p:spPr>
          <a:xfrm>
            <a:off x="714240" y="2214720"/>
            <a:ext cx="8215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какой группе относится (дерево, кустарник, травянистое расте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его выращивают ( в поле, в огороде, в са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 части есть у этого растения? Как они выгляд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еловек использует это раст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785880" y="1571760"/>
            <a:ext cx="750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ь сообщение о профессиях людей, занятых растениевод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Картинка 6 из 139857"/>
          <p:cNvPicPr/>
          <p:nvPr/>
        </p:nvPicPr>
        <p:blipFill>
          <a:blip r:embed="rId1"/>
          <a:stretch/>
        </p:blipFill>
        <p:spPr>
          <a:xfrm>
            <a:off x="214200" y="2857680"/>
            <a:ext cx="3667320" cy="2428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Картинка 4 из 139857"/>
          <p:cNvPicPr/>
          <p:nvPr/>
        </p:nvPicPr>
        <p:blipFill>
          <a:blip r:embed="rId2"/>
          <a:stretch/>
        </p:blipFill>
        <p:spPr>
          <a:xfrm>
            <a:off x="5500800" y="2786040"/>
            <a:ext cx="3143160" cy="21114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Картинка 8 из 139857"/>
          <p:cNvPicPr/>
          <p:nvPr/>
        </p:nvPicPr>
        <p:blipFill>
          <a:blip r:embed="rId3"/>
          <a:stretch/>
        </p:blipFill>
        <p:spPr>
          <a:xfrm>
            <a:off x="3143160" y="4357800"/>
            <a:ext cx="3286080" cy="2090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нет-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arentingzoo.com/members/?tag=heal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http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фотоогород.рф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sadovodstvo-zelenoe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y-article.net/get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наука/география/европа/восточная-европа/рос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strobl.ru/news/47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tvoyamalishka.nnov.org/?cPart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ds.chernihiv.info/ad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Продам-семечку-подсолне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plant.agronationale.ru/20225.htm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ogoom.com/page/337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inqs.karnage.ru/page/9/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korall.ucoz.ru/publ/tkani_ispolzuemye_dlja_poshiva_postelnogo_belja/9-1-0-17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babushkinysovety.ru/gruwa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edcotton.ru/cott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-mama.ru/board/index.php?p=ad&amp;id=3751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ltairegion22.ru/region_news/1476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1214280" y="1500120"/>
            <a:ext cx="700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ЕНИЕВОДСТВ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отрасль сельского хозяйства, выращивание культурных раст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хема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02720" cy="6345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000160" y="928800"/>
            <a:ext cx="664380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, декоративных (декоративное садоводство), в т. ч. комнатных (комнатное садоводство)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Картинка 2 из 154781"/>
          <p:cNvPicPr/>
          <p:nvPr/>
        </p:nvPicPr>
        <p:blipFill>
          <a:blip r:embed="rId1"/>
          <a:stretch/>
        </p:blipFill>
        <p:spPr>
          <a:xfrm>
            <a:off x="142920" y="2857680"/>
            <a:ext cx="4389480" cy="3286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Картинка 43 из 155558"/>
          <p:cNvPicPr/>
          <p:nvPr/>
        </p:nvPicPr>
        <p:blipFill>
          <a:blip r:embed="rId2"/>
          <a:stretch/>
        </p:blipFill>
        <p:spPr>
          <a:xfrm>
            <a:off x="5000760" y="2857680"/>
            <a:ext cx="33606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Картинка 75 из 121"/>
          <p:cNvPicPr/>
          <p:nvPr/>
        </p:nvPicPr>
        <p:blipFill>
          <a:blip r:embed="rId1"/>
          <a:stretch/>
        </p:blipFill>
        <p:spPr>
          <a:xfrm>
            <a:off x="4429080" y="3141720"/>
            <a:ext cx="4505400" cy="337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Картинка 11 из 121"/>
          <p:cNvPicPr/>
          <p:nvPr/>
        </p:nvPicPr>
        <p:blipFill>
          <a:blip r:embed="rId2"/>
          <a:stretch/>
        </p:blipFill>
        <p:spPr>
          <a:xfrm>
            <a:off x="1071720" y="4929120"/>
            <a:ext cx="2820960" cy="17146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РН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культур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артинка 31 из 121"/>
          <p:cNvPicPr/>
          <p:nvPr/>
        </p:nvPicPr>
        <p:blipFill>
          <a:blip r:embed="rId3"/>
          <a:stretch/>
        </p:blipFill>
        <p:spPr>
          <a:xfrm>
            <a:off x="214200" y="1928880"/>
            <a:ext cx="507708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Картинка 35 из 8578"/>
          <p:cNvPicPr/>
          <p:nvPr/>
        </p:nvPicPr>
        <p:blipFill>
          <a:blip r:embed="rId1"/>
          <a:stretch/>
        </p:blipFill>
        <p:spPr>
          <a:xfrm>
            <a:off x="3929040" y="335772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ОЩ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овощн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Картинка 14 из 8342"/>
          <p:cNvPicPr/>
          <p:nvPr/>
        </p:nvPicPr>
        <p:blipFill>
          <a:blip r:embed="rId2"/>
          <a:stretch/>
        </p:blipFill>
        <p:spPr>
          <a:xfrm>
            <a:off x="214200" y="2000160"/>
            <a:ext cx="442908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ХЧ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бахче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Картинка 26 из 332"/>
          <p:cNvPicPr/>
          <p:nvPr/>
        </p:nvPicPr>
        <p:blipFill>
          <a:blip r:embed="rId1"/>
          <a:stretch/>
        </p:blipFill>
        <p:spPr>
          <a:xfrm>
            <a:off x="214200" y="1928880"/>
            <a:ext cx="5683320" cy="3214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Картинка 5 из 7248"/>
          <p:cNvPicPr/>
          <p:nvPr/>
        </p:nvPicPr>
        <p:blipFill>
          <a:blip r:embed="rId2"/>
          <a:stretch/>
        </p:blipFill>
        <p:spPr>
          <a:xfrm>
            <a:off x="4643280" y="3079800"/>
            <a:ext cx="4281480" cy="3516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Картинка 9 из 10172"/>
          <p:cNvPicPr/>
          <p:nvPr/>
        </p:nvPicPr>
        <p:blipFill>
          <a:blip r:embed="rId1"/>
          <a:stretch/>
        </p:blipFill>
        <p:spPr>
          <a:xfrm>
            <a:off x="214200" y="1928880"/>
            <a:ext cx="4500720" cy="336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Картинка 2 из 11281"/>
          <p:cNvPicPr/>
          <p:nvPr/>
        </p:nvPicPr>
        <p:blipFill>
          <a:blip r:embed="rId2"/>
          <a:stretch/>
        </p:blipFill>
        <p:spPr>
          <a:xfrm>
            <a:off x="4429080" y="3286080"/>
            <a:ext cx="4505400" cy="337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2071800" y="21420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ЩИ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ИХ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1785960" y="157176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технически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Картинка 2 из 171147"/>
          <p:cNvPicPr/>
          <p:nvPr/>
        </p:nvPicPr>
        <p:blipFill>
          <a:blip r:embed="rId1"/>
          <a:stretch/>
        </p:blipFill>
        <p:spPr>
          <a:xfrm>
            <a:off x="642960" y="2643120"/>
            <a:ext cx="4352760" cy="3562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Картинка 20 из 21615"/>
          <p:cNvPicPr/>
          <p:nvPr/>
        </p:nvPicPr>
        <p:blipFill>
          <a:blip r:embed="rId2"/>
          <a:stretch/>
        </p:blipFill>
        <p:spPr>
          <a:xfrm>
            <a:off x="5500800" y="2571840"/>
            <a:ext cx="263844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еночка</cp:lastModifiedBy>
  <dcterms:modified xsi:type="dcterms:W3CDTF">2014-03-05T14:31:24Z</dcterms:modified>
  <cp:revision>46</cp:revision>
  <dc:subject/>
  <dc:title>Слайд 1</dc:title>
</cp:coreProperties>
</file>