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73D4-A595-4594-88DB-577565C01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F322-10C1-4598-AF54-85F45D68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6449-C25B-4E82-9183-703E91EFD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6753-0442-427E-8968-1E1C05732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D84F-856D-4AA6-A65C-F455B8BD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FDC3-C626-41E8-82E7-C0DA1034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865A-3571-4DCD-A022-9C95C655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8D85-C97E-4362-BD1D-C194A437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1F7B-63D4-49B5-BAAF-51930280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BFF6-BBA7-4B45-B40D-07933286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BA5A-A117-4672-878D-E9BC6A07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5F5E-FCAE-4008-A601-45ADC2AF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9903-1247-4F81-8DCB-5941100A785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nsportal.ru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volchki.ru/" TargetMode="External"/><Relationship Id="rId2" Type="http://schemas.openxmlformats.org/officeDocument/2006/relationships/hyperlink" Target="http://www.volchki.ru/" TargetMode="External"/><Relationship Id="rId3" Type="http://schemas.openxmlformats.org/officeDocument/2006/relationships/hyperlink" Target="http://www.volchki.ru/" TargetMode="External"/><Relationship Id="rId4" Type="http://schemas.openxmlformats.org/officeDocument/2006/relationships/hyperlink" Target="http://www.volchki.ru/" TargetMode="External"/><Relationship Id="rId5" Type="http://schemas.openxmlformats.org/officeDocument/2006/relationships/hyperlink" Target="http://www.volchki.ru/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840" y="1500120"/>
            <a:ext cx="621504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3600"/>
            </a:b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Информационно - коммуникативные  технологии в коррекционно – образовательном процессе  с детьми, имеющими речевые нарушения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1800" spc="-1" strike="noStrike">
                <a:solidFill>
                  <a:srgbClr val="008000"/>
                </a:solidFill>
                <a:latin typeface="Calibri"/>
              </a:rPr>
              <a:t>Подготовила   Маркина Т.С.  Учитель – логопед</a:t>
            </a:r>
            <a:br>
              <a:rPr sz="1800"/>
            </a:br>
            <a:r>
              <a:rPr b="1" lang="ru-RU" sz="1800" spc="-1" strike="noStrike">
                <a:solidFill>
                  <a:srgbClr val="008000"/>
                </a:solidFill>
                <a:latin typeface="Calibri"/>
              </a:rPr>
              <a:t>МАДОУ №14 «Дельфинчик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C:\Documents and Settings\Дом\Мои документы\Мои рисунки\Фото для работы\мастер - класс\P1010005.JPG"/>
          <p:cNvPicPr/>
          <p:nvPr/>
        </p:nvPicPr>
        <p:blipFill>
          <a:blip r:embed="rId1"/>
          <a:stretch/>
        </p:blipFill>
        <p:spPr>
          <a:xfrm>
            <a:off x="2205000" y="2755800"/>
            <a:ext cx="4361040" cy="30816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4" descr="P1010013.JPG"/>
          <p:cNvPicPr/>
          <p:nvPr/>
        </p:nvPicPr>
        <p:blipFill>
          <a:blip r:embed="rId2"/>
          <a:stretch/>
        </p:blipFill>
        <p:spPr>
          <a:xfrm>
            <a:off x="285840" y="4751280"/>
            <a:ext cx="407808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0" y="38160"/>
            <a:ext cx="6858000" cy="82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В логопедическом кабинете создан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идеотека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которая включает в себя  раздел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для родител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«Подготовка детей к школе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«Советы  опытного  логопеда любящим родителям», «Домашний логопед», «Логопедический массаж»,  компьютерные игры: Школа для маленьких зверят (развитие психических процессов) и т.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2860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первом родительском собрании проводит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экскурс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по логопедическому кабинету; родители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накомятс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с  видеосалоном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 видеотек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; с ними проигрываются некоторые   игры – презентации, которые  впоследствии  они применяют для развития  своих   малыш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2860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ффективной  формой  взаимодействия с родителями  являетс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ин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сайт логопед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оциальной сети работников образования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nsportal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.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r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Web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- адрес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айта: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1"/>
              </a:rPr>
              <a:t>http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:/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nsporta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r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/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markina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-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tatyana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-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stepanovna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где  создано электронное портфолио,  помещаются статьи по  коррекционн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образовательным аспектам: Коррекция речи;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ебенок плохо говори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ем фонематический слу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и т.п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286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родителями вновь прибывших детей проводится анкетирование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ужно ли использовать ИКТ с деть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Все  семьи  положительно  относятся  к  использованию  ИКТ.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286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зданы авторские  газеты  - презентации для родителе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Логопедический ликбез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На  страницах этих  газет поднимаются и обсуждаются статьи на разные   актуальные  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6760" y="114264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Calibri"/>
              </a:rPr>
              <a:t>Спасибо за внимание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C:\Documents and Settings\Дом\Мои документы\Мои рисунки\Фото для работы\P1010013.JPG"/>
          <p:cNvPicPr/>
          <p:nvPr/>
        </p:nvPicPr>
        <p:blipFill>
          <a:blip r:embed="rId1"/>
          <a:stretch/>
        </p:blipFill>
        <p:spPr>
          <a:xfrm>
            <a:off x="1658880" y="3059280"/>
            <a:ext cx="4073760" cy="30574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3" descr="P1010021.JPG"/>
          <p:cNvPicPr/>
          <p:nvPr/>
        </p:nvPicPr>
        <p:blipFill>
          <a:blip r:embed="rId2"/>
          <a:stretch/>
        </p:blipFill>
        <p:spPr>
          <a:xfrm>
            <a:off x="0" y="6033960"/>
            <a:ext cx="400536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285840" y="2071800"/>
            <a:ext cx="6572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у  по  использованию информационно - коммуникативных  технологий (ИКТ)  с  детьми  с  речевыми  нарушениями  мы начали проводить   более 10 лет тому назад. Первым  опытом  по  информатизации  коррекционно -  образовательного  процесса  в  логопедических  группах     делились  на  страницах  областного научно -  методического  журнала  «Педагогическое  обозрение» №1 2007г  (Забайкальский институт повышения квалификации и переподготовки педагогических кадров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428760" y="428760"/>
            <a:ext cx="61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йонный конкурс образовательных инициатив (КОИ), который проходил в 2010- 2012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2"/>
          <p:cNvSpPr/>
          <p:nvPr/>
        </p:nvSpPr>
        <p:spPr>
          <a:xfrm>
            <a:off x="0" y="2500200"/>
            <a:ext cx="6858000" cy="86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 базе  МДОУ  была  создана  муниципальная  творческая  педагогическая  лаборатория (МТПЛ).  Вся  деятельность  лаборатории осуществлялась  в  соответствии  с  проектом  МТПЛ,  в  котором  дано было обоснование  важности  и  перспективы  использования  ИКТ,  обозначены  задачи МТПЛ. В процессе  исследовательской  деятельности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были составлены мероприятия  по  реализации  задач  проекта,   создан  нормативно - правовой  портфель,   УМК (учебно - методический  комплекс) по данной теме.  Анализ  исследовательской  работы  показал, что   на   занятиях  с  применением  ИКТ  у  детей  наблюдается  хороший  эмоциональный  настрой, у них обогащается словарный запас  по разным лексическим темам, прослеживается  динамика по звукопроизношению, по  развитию фонематического слуха, по знакомству детей с буквами, по обучению чтению  и 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0" y="39240"/>
            <a:ext cx="6858000" cy="86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недрение  компьютерных иг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пример,  у  ребёнка  проблемы  с  фонематическим  слухом,   используем игру  «Узнай  лягушку  по  голосу» (Компьютерная  игра «Школа на курьих ножках»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 у  ребёнка  недостаточно  развито  логическое  мышление,    применяем  компьютерную  программу  «Алик  скоро  в  школу»: ребёнок   находит  четвертый  лишний  предмет,  помогает  медведю  разложить  предметы  в  сарае  (на  классификацию), выполняет другие игровые действия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 обучении  детей  звуко – буквенному  анализу, чтению применяем диск «Лунтик.  Русский  язык  для  малышей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чень  понравились в работе  игры - презентации  по  лексическим  темам  (сайт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"/>
              </a:rPr>
              <a:t>www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2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3"/>
              </a:rPr>
              <a:t>volchki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4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5"/>
              </a:rPr>
              <a:t>r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, предлагаемые И.И..Волковой. :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Большой – маленьк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" -  обучение  словообразованию (огурец – огуречик,  яблоко – яблочко);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Один – мног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» -   упражнения в  использовании слов в И.п. единственного  и множественного  числа  и в  Р.п   множественного числа   (зебра – зебры, много зебр); «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Четвертый лишн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» -   развитие мышления и  формирование умения формулировать  высказывание, доказывающее  правильность ответа; «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Чей детеныш»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знакомство  с названиями  детенышей животных, птиц,  с притяжательными прилагательными (петушиный, коровий ) и т.п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"/>
          <p:cNvPicPr/>
          <p:nvPr/>
        </p:nvPicPr>
        <p:blipFill>
          <a:blip r:embed="rId1"/>
          <a:stretch/>
        </p:blipFill>
        <p:spPr>
          <a:xfrm rot="21042600">
            <a:off x="571320" y="1096560"/>
            <a:ext cx="2427120" cy="334008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3"/>
          <p:cNvSpPr/>
          <p:nvPr/>
        </p:nvSpPr>
        <p:spPr>
          <a:xfrm>
            <a:off x="3643200" y="214200"/>
            <a:ext cx="3214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2010г пакет материалов по данной теме был представлен на Всероссийский  конкурс «Росток.  Мир  спасут  дети», автор – разработчик Маркина Т.С.  награждена  серебряной медал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частие в этом конкурсе  обогатило нашу видеотеку авторскими игр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4"/>
          <p:cNvSpPr/>
          <p:nvPr/>
        </p:nvSpPr>
        <p:spPr>
          <a:xfrm>
            <a:off x="1714680" y="3664080"/>
            <a:ext cx="34290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2" descr=""/>
          <p:cNvPicPr/>
          <p:nvPr/>
        </p:nvPicPr>
        <p:blipFill>
          <a:blip r:embed="rId2"/>
          <a:stretch/>
        </p:blipFill>
        <p:spPr>
          <a:xfrm>
            <a:off x="4149720" y="4284720"/>
            <a:ext cx="2594160" cy="1942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"/>
          <p:cNvPicPr/>
          <p:nvPr/>
        </p:nvPicPr>
        <p:blipFill>
          <a:blip r:embed="rId3"/>
          <a:stretch/>
        </p:blipFill>
        <p:spPr>
          <a:xfrm>
            <a:off x="0" y="4562640"/>
            <a:ext cx="3068640" cy="2301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"/>
          <p:cNvPicPr/>
          <p:nvPr/>
        </p:nvPicPr>
        <p:blipFill>
          <a:blip r:embed="rId4"/>
          <a:stretch/>
        </p:blipFill>
        <p:spPr>
          <a:xfrm>
            <a:off x="1989000" y="6419880"/>
            <a:ext cx="280836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0" y="17280"/>
            <a:ext cx="6858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011г приняла заочное участие в международной научно – практической конференции «Образовательная среда как фактор повышения качества образования»  с докладом на  тему  «ИКТ в коррекционно – развивающей деятельности с  детьми логопедических групп».  Выступление опубликовано 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областном сборнике  «Образовательная среда как фактор повышения качества образования»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Documents and Settings\Дом\Мои документы\личные документы 2\Журналы с моими статьями\Обложка сборника межд. конфер.tif"/>
          <p:cNvPicPr/>
          <p:nvPr/>
        </p:nvPicPr>
        <p:blipFill>
          <a:blip r:embed="rId1"/>
          <a:stretch/>
        </p:blipFill>
        <p:spPr>
          <a:xfrm rot="15454800">
            <a:off x="-183240" y="4950000"/>
            <a:ext cx="3614760" cy="2371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Documents and Settings\Дом\Мои документы\личные документы 2\Журналы с моими статьями\Статья межд. науч пр конф.tif"/>
          <p:cNvPicPr/>
          <p:nvPr/>
        </p:nvPicPr>
        <p:blipFill>
          <a:blip r:embed="rId2"/>
          <a:stretch/>
        </p:blipFill>
        <p:spPr>
          <a:xfrm>
            <a:off x="3214800" y="4111560"/>
            <a:ext cx="2806560" cy="42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0" y="20520"/>
            <a:ext cx="685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егодня  продолжаем активно изучать материалы  интернет – сайтов. Вызывает интерес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йт  Мерсибо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существуют множество интерактивных игр для детей дошкольного возраста. </a:t>
            </a:r>
            <a:r>
              <a:rPr b="0" i="1" lang="ru-RU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Суслова Екатерина Александровна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ведущий специалист по ИКТ в логопедии  проводит  вебинары  на различные темы  - как использовать  игры Мерсибо для  речевого развития детей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(Постановка и автоматизация звуков у дошкольников с помощью интерактивных игр   и др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8" descr="1505_Маркина Т.png"/>
          <p:cNvPicPr/>
          <p:nvPr/>
        </p:nvPicPr>
        <p:blipFill>
          <a:blip r:embed="rId1"/>
          <a:stretch/>
        </p:blipFill>
        <p:spPr>
          <a:xfrm>
            <a:off x="333360" y="6372360"/>
            <a:ext cx="2698920" cy="19080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sertifikat_130314.png"/>
          <p:cNvPicPr/>
          <p:nvPr/>
        </p:nvPicPr>
        <p:blipFill>
          <a:blip r:embed="rId2"/>
          <a:stretch/>
        </p:blipFill>
        <p:spPr>
          <a:xfrm rot="1380000">
            <a:off x="3325320" y="6300360"/>
            <a:ext cx="2795760" cy="19782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3" descr="1004_Маркина Т.С.png"/>
          <p:cNvPicPr/>
          <p:nvPr/>
        </p:nvPicPr>
        <p:blipFill>
          <a:blip r:embed="rId3"/>
          <a:stretch/>
        </p:blipFill>
        <p:spPr>
          <a:xfrm rot="20848200">
            <a:off x="1881000" y="4466880"/>
            <a:ext cx="264312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5"/>
          <p:cNvSpPr/>
          <p:nvPr/>
        </p:nvSpPr>
        <p:spPr>
          <a:xfrm>
            <a:off x="428760" y="2571840"/>
            <a:ext cx="60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C:\Documents and Settings\Дом\Мои документы\diskel_2.jpg"/>
          <p:cNvPicPr/>
          <p:nvPr/>
        </p:nvPicPr>
        <p:blipFill>
          <a:blip r:embed="rId1"/>
          <a:stretch/>
        </p:blipFill>
        <p:spPr>
          <a:xfrm>
            <a:off x="0" y="3419640"/>
            <a:ext cx="3213000" cy="2014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:\Documents and Settings\Дом\Мои документы\diskel_4.jpg"/>
          <p:cNvPicPr/>
          <p:nvPr/>
        </p:nvPicPr>
        <p:blipFill>
          <a:blip r:embed="rId2"/>
          <a:stretch/>
        </p:blipFill>
        <p:spPr>
          <a:xfrm>
            <a:off x="1413000" y="4892760"/>
            <a:ext cx="4537080" cy="2846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C:\Documents and Settings\Дом\Мои документы\diskel_3.jpg"/>
          <p:cNvPicPr/>
          <p:nvPr/>
        </p:nvPicPr>
        <p:blipFill>
          <a:blip r:embed="rId3"/>
          <a:stretch/>
        </p:blipFill>
        <p:spPr>
          <a:xfrm>
            <a:off x="3187800" y="7007400"/>
            <a:ext cx="3409920" cy="2136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C:\Documents and Settings\Дом\Мои документы\Мои рисунки\Грамота, мерсибо\P1010003.JPG"/>
          <p:cNvPicPr/>
          <p:nvPr/>
        </p:nvPicPr>
        <p:blipFill>
          <a:blip r:embed="rId4"/>
          <a:stretch/>
        </p:blipFill>
        <p:spPr>
          <a:xfrm>
            <a:off x="3213000" y="2627280"/>
            <a:ext cx="3176640" cy="170676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8"/>
          <p:cNvSpPr/>
          <p:nvPr/>
        </p:nvSpPr>
        <p:spPr>
          <a:xfrm>
            <a:off x="0" y="214200"/>
            <a:ext cx="6500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ы приобрели через интернет – магазин «Мерсибо»  игры на дисках « Звуковой калейдоскоп», «Конструктор картинок», « Начинаю говорить», «Логопедическая экспресс- диагностика»  и др. Теперь  без интернета в условиях кабинета  применяем эти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41440" y="5874840"/>
            <a:ext cx="5829120" cy="18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28400" y="5785920"/>
            <a:ext cx="6143400" cy="24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ин из  последних дисков, который  появился на Мерсибо -«Конструктор картинок». Позволяет без интернета  создавать такие материалы, которые удобно и эффективно использовать в своей работе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любому специалисту – логопеду, дефектологу, психологу, воспитателю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C:\Documents and Settings\Дом\Мои документы\Мои рисунки\Грамота, мерсибо\P1010002.JPG"/>
          <p:cNvPicPr/>
          <p:nvPr/>
        </p:nvPicPr>
        <p:blipFill>
          <a:blip r:embed="rId1"/>
          <a:stretch/>
        </p:blipFill>
        <p:spPr>
          <a:xfrm>
            <a:off x="1066680" y="1908000"/>
            <a:ext cx="4497480" cy="28800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6"/>
          <p:cNvSpPr/>
          <p:nvPr/>
        </p:nvSpPr>
        <p:spPr>
          <a:xfrm>
            <a:off x="500040" y="214200"/>
            <a:ext cx="59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Диск  Конструктор картинок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18:02:38Z</dcterms:created>
  <dc:creator>Admin</dc:creator>
  <dc:description/>
  <dc:language>en-US</dc:language>
  <cp:lastModifiedBy>1</cp:lastModifiedBy>
  <dcterms:modified xsi:type="dcterms:W3CDTF">2016-04-26T10:46:05Z</dcterms:modified>
  <cp:revision>1168</cp:revision>
  <dc:subject/>
  <dc:title>Портфолио</dc:title>
</cp:coreProperties>
</file>