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7FE10-3B66-4C79-8881-41DD2D2BE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ADF2A-E5BC-40DA-BF9A-EC279488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FAF06-2B00-4944-B4AD-50D95FAAF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3AA3D-054C-4C6C-A724-CDF285AB8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3162-C6BB-4674-B31D-59CCABED6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6736-8E92-429D-B0C3-B5B8EA71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B0C1-D7D9-4206-8CD6-94D63C67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E411-2176-4119-8EB5-693BD808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BEB1-C2A0-43BE-A1E1-756854F4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8F3D-83F6-4C18-A565-C7A6BD77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9B81-204D-4CEE-89AA-20FC4BED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1243F-EB4C-4B29-B96E-A0D3ACAE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CF59E-5DA9-4578-93C4-2EFCBDDF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C1FC1-C92C-414C-A26C-C7748DE0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312F-B4C9-4449-A4B2-09CA5FAF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FD25-2A4F-4139-8FF5-1A163CF7B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B91A-2FB7-49CB-BBAF-4847AAEFE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24F11-35C4-4424-9B5A-A54594D9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BC4DD-DDB2-4776-8A69-E3227275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E10DD-F9CF-4571-92D7-6D17AC72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7A752-1128-4491-A0D1-9020EF78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C3FFD-D349-4484-BF10-67DBDC8C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B1ED7-B369-464A-ADB4-660B21C2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83BA0-3DE6-4954-8530-9EE53B88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846B-691E-4C87-9FB3-36028B2A59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6711-1821-400D-99B9-EBB057E668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t-portal.ru/_ph/7/582821932.jpg" TargetMode="External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nedelya.ru/cache/gorzakaz/2009-04-01/14015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99640" y="1736640"/>
            <a:ext cx="7558200" cy="33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Times New Roman"/>
              </a:rPr>
              <a:t>Академия Русского балета им.А.Я.Вагановой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6092640"/>
            <a:ext cx="6400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404352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 начале XIX века большое значение для школы имела творческая деятельность французского балетмейстера Ш.Дидло, при нём сложилась система классического танца, в корне отличающаяся от прежней, близкой к системе бального, бытового танц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8320" y="475920"/>
            <a:ext cx="403848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356000" y="404640"/>
            <a:ext cx="45849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Большой (Каменный) театр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6" name="" descr="Большой (Каменный) театр."/>
          <p:cNvPicPr/>
          <p:nvPr/>
        </p:nvPicPr>
        <p:blipFill>
          <a:blip r:embed="rId1"/>
          <a:stretch/>
        </p:blipFill>
        <p:spPr>
          <a:xfrm>
            <a:off x="468360" y="1312920"/>
            <a:ext cx="82072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о время правления Николая I возникла необходимость нового здания для училищ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Николай I                                             Александра Фёдоровн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3600360" cy="4680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219640" y="1557360"/>
            <a:ext cx="3097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7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40384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 1836 году училище обосновалось в современном здании, построенным архитектором К.И.Росс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К.И.Росс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356000" y="476280"/>
            <a:ext cx="4608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1000"/>
                                        <p:tgtEl>
                                          <p:spTgt spid="1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1000"/>
                                        <p:tgtEl>
                                          <p:spTgt spid="14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Улица Зодчего Росс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1000"/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40384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Благодаря работе в Санкт-Петербурге во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I половине XIX века балетмейстера М.Петипа, сформировался академический репертуар, классический танец достиг вершин художественной выразительности, была воспитана высокопрофессиональная трупп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7960" y="404280"/>
            <a:ext cx="4244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М.Петип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788000" y="189000"/>
            <a:ext cx="41655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1000"/>
                                        <p:tgtEl>
                                          <p:spTgt spid="1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1000"/>
                                        <p:tgtEl>
                                          <p:spTgt spid="1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403848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Уже в советское время А.Ваганова систематизировала методику преподавания классического танц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а сегодняшний день методика Вагановой является общепризнанной системой профессиональной подготовки артистов балет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48320" y="476280"/>
            <a:ext cx="403848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43280" y="620640"/>
            <a:ext cx="42483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620640"/>
            <a:ext cx="403848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овый этап в истории русского балета начался, когда русский композитор П.И. Чайковский впервые сочинил музыку для балет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Благодаря этому балетная музыка стала серьёзным искусством, так как раньше считалась низшим видом музыкального творчеств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8320" y="549360"/>
            <a:ext cx="403848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.И.Чайковски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43280" y="260280"/>
            <a:ext cx="43214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1000"/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 1909 по 1914 гг. продолжались в Париже “Русские сезоны”. Они увенчались подлинным триумфом. Труппа под руководством Дягилева в своё время вызвала множество споров, но её огромное влияние на балет XX века не вызывает сомне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26920" y="2708280"/>
            <a:ext cx="2808360" cy="4149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148360" y="2857680"/>
            <a:ext cx="29239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549000"/>
            <a:ext cx="843588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 настоящее время обучение в Академии ведется на двух факультета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Исполнительский                  Педагогический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обучение 8 лет)                    (обучение 5 лет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ыпускники этого                   Ведётся подготовк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факультета работают               по 4 специальностям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 качестве артистов                 - педагог-репетитор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балета в труппах.                         балета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балетмейстер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балетовед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- концертмейстер балет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268360" y="1628640"/>
            <a:ext cx="71928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19640" y="1557360"/>
            <a:ext cx="86508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500"/>
                            </p:stCondLst>
                            <p:childTnLst>
                              <p:par>
                                <p:cTn id="3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500"/>
                            </p:stCondLst>
                            <p:childTnLst>
                              <p:par>
                                <p:cTn id="3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4500"/>
                            </p:stCondLst>
                            <p:childTnLst>
                              <p:par>
                                <p:cTn id="3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0"/>
                            </p:stCondLst>
                            <p:childTnLst>
                              <p:par>
                                <p:cTn id="3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500"/>
                            </p:stCondLst>
                            <p:childTnLst>
                              <p:par>
                                <p:cTn id="3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6000"/>
                            </p:stCondLst>
                            <p:childTnLst>
                              <p:par>
                                <p:cTn id="3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Балет зародился в Италии в XV веке, где владетельные      князья нанимали профессиональных мастеров  танца для постановки пышных зрелищ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26920" y="1889280"/>
            <a:ext cx="7561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403848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Уникальным явлением в балетном мире является труппа Б.Эйфман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Оставаясь верным классической основе, он дерзнул создать современный балет, переведя условный язык балета на язык драм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48320" y="476280"/>
            <a:ext cx="403848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427640" y="476280"/>
            <a:ext cx="47163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403848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Балет “Анна Каренина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8320" y="476280"/>
            <a:ext cx="403848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Балет “Пиноккио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" descr="Картинка 13 из 30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476280"/>
            <a:ext cx="4032360" cy="55465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Пиноккио"/>
          <p:cNvPicPr/>
          <p:nvPr/>
        </p:nvPicPr>
        <p:blipFill>
          <a:blip r:embed="rId3"/>
          <a:stretch/>
        </p:blipFill>
        <p:spPr>
          <a:xfrm>
            <a:off x="4716360" y="404640"/>
            <a:ext cx="403236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1000"/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9" dur="1000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 конце 2011 года в Санкт-Петербурге начнется строительство здания для театра балета Бориса Эйфман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По словам самого Эйфмана, Дворец танцев должен быть современным, но созданным для исторической части города, без использования стеклянных фасадо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Стоит отметить, что театр Эйфмана существует уже более 30 лет, но до сих пор не имеет своей сцены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" descr="Картинка 1 из 2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2852640"/>
            <a:ext cx="698508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тав супругой французского короля итальянка Екатерина Медичи привезла во Францию моду на придворные балеты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3024000" cy="5157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435640" y="2421000"/>
            <a:ext cx="3168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Герб Медичи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4170600" cy="50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Ponte Vecchio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56320" cy="3500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5294160" cy="3357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681520" y="2878560"/>
            <a:ext cx="25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Palazzo Vecchio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382752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Новый виток популярности балет приобрел с восшествием на престол Людовика XIV, который сам принимал в нём живое участи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260280"/>
            <a:ext cx="449568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43280" y="476280"/>
            <a:ext cx="42847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7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Гранд Опера в Париж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6201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7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403848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 мая 1738 года по указу императрицы Анны Иоановны в Санкт-Петербурге открыта Танцевальная Её Императорского Величества Школ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Так начала своё летоисчисление первая русская балетная профессиональная школа, ныне Академия Русского балета им. А.Я.Ваганово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404280"/>
            <a:ext cx="40384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00720" y="476280"/>
            <a:ext cx="464328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-й Зимний дворец Анны Иоановн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58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1000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5T11:37:42Z</dcterms:created>
  <dc:creator>Вика</dc:creator>
  <dc:description/>
  <dc:language>en-US</dc:language>
  <cp:lastModifiedBy>Вика</cp:lastModifiedBy>
  <dcterms:modified xsi:type="dcterms:W3CDTF">2009-05-13T17:23:40Z</dcterms:modified>
  <cp:revision>8</cp:revision>
  <dc:subject/>
  <dc:title>Академия Русского балета им.А.Я.Вагановой</dc:title>
</cp:coreProperties>
</file>