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D519-CAFB-4DC6-93ED-BE353FE7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90AA-7E5E-48A8-8AD3-3336132F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12EA-7174-4B18-A60F-16348A08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DC8F-B418-4B11-9574-56CA42AE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885-73F0-409E-BA04-9757ACCA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D9FB-746B-424F-9E21-066FC73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F37D-314A-47CC-800A-699D71A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5BA3-887E-4184-A93C-C68EF650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B6A-53C6-4810-94EF-783F3A4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D5B-4180-48FF-9BFB-A593435F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D184-D281-4E3B-8064-6599B4B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1FC0-38C7-4399-8A71-05073E8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C278-9EB9-4BFE-B33A-27E5E80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01BE-F104-4478-ABBE-115EE84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40C-3845-4517-B19B-1CF26E5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BD91-44E4-43A6-A990-076B57C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8EB3-49D5-4CFD-937E-C573F55A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6A09-B084-46AC-A619-41585B02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07F2-8E17-49B7-8B3F-FA6C05F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30D5-C9AA-4528-93A4-6484386B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CCE4-C23E-404F-90E6-0FD81E0A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1AEA-344A-45C8-94EB-742F363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9EE9-2A05-4808-90A2-0E13427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7D0C-F681-4E71-B06C-18F6A2C5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E23-DE9E-478B-BA4D-A245D3EB14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3D3-4252-4D55-8B79-0BDD1219F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-portal.ru/_ph/7/582821932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nedelya.ru/cache/gorzakaz/2009-04-01/14015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1736640"/>
            <a:ext cx="7558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Академия Русского балета им.А.Я.Ваганов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4043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начале XIX века большое значение для школы имела творческая деятельность французского балетмейстера Ш.Дидло, при нём сложилась система классического танца, в корне отличающаяся от прежней, близкой к системе бального, бытового тан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475920"/>
            <a:ext cx="4038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5849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Большой (Каменный) теа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Большой (Каменный) театр."/>
          <p:cNvPicPr/>
          <p:nvPr/>
        </p:nvPicPr>
        <p:blipFill>
          <a:blip r:embed="rId1"/>
          <a:stretch/>
        </p:blipFill>
        <p:spPr>
          <a:xfrm>
            <a:off x="468360" y="131292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 время правления Николая I возникла необходимость нового здания для училищ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иколай I                                             Александра Фёдоров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1836 году училище обосновалось в современном здании, построенным архитектором К.И.Росс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.И.Росс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6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лица Зодчего Росс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лагодаря работе в Санкт-Петербурге в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I половине XIX века балетмейстера М.Петипа, сформировался академический репертуар, классический танец достиг вершин художественной выразительности, была воспитана высокопрофессиональная трупп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404280"/>
            <a:ext cx="4244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.Петип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65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же в советское время А.Ваганова систематизировала методику преподавания классического танц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сегодняшний день методика Вагановой является общепризнанной системой профессиональной подготовки артистов бал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4248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овый этап в истории русского балета начался, когда русский композитор П.И. Чайковский впервые сочинил музыку для бале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лагодаря этому балетная музыка стала серьёзным искусством, так как раньше считалась низшим видом музыкального творче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549360"/>
            <a:ext cx="4038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.И.Чайков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3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1909 по 1914 гг. продолжались в Париже “Русские сезоны”. Они увенчались подлинным триумфом. Труппа под руководством Дягилева в своё время вызвала множество споров, но её огромное влияние на балет XX века не вызывает сом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2808360" cy="414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48360" y="2857680"/>
            <a:ext cx="2923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84358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настоящее время обучение в Академии ведется на двух факультет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сполнительский                  Педагогический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обучение 8 лет)                    (обучение 5 лет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пускники этого                   Ведётся подготов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акультета работают               по 4 специальност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качестве артистов                 - педагог-репети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а в труппах.                         бале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балетмейсте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балетове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концертмейстер бал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68360" y="1628640"/>
            <a:ext cx="719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557360"/>
            <a:ext cx="8650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зародился в Италии в XV веке, где владетельные      князья нанимали профессиональных мастеров  танца для постановки пышных зрелищ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889280"/>
            <a:ext cx="756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никальным явлением в балетном мире является труппа Б.Эйфман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таваясь верным классической основе, он дерзнул создать современный балет, переведя условный язык балета на язык дра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716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“Анна Каренина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“Пиноккио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Картинка 13 из 3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4032360" cy="5546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Пиноккио"/>
          <p:cNvPicPr/>
          <p:nvPr/>
        </p:nvPicPr>
        <p:blipFill>
          <a:blip r:embed="rId3"/>
          <a:stretch/>
        </p:blipFill>
        <p:spPr>
          <a:xfrm>
            <a:off x="4716360" y="404640"/>
            <a:ext cx="4032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конце 2011 года в Санкт-Петербурге начнется строительство здания для театра балета Бориса Эйфма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 словам самого Эйфмана, Дворец танцев должен быть современным, но созданным для исторической части города, без использования стеклянных фасад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оит отметить, что театр Эйфмана существует уже более 30 лет, но до сих пор не имеет своей сцен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Картинка 1 из 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852640"/>
            <a:ext cx="6985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ав супругой французского короля итальянка Екатерина Медичи привезла во Францию моду на придворные балет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24000" cy="515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Герб Медичи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706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Ponte Vecchio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632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5294160" cy="335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81520" y="28785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Palazzo Vecchio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382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овый виток популярности балет приобрел с восшествием на престол Людовика XIV, который сам принимал в нём живое участ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4956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28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ранд Опера в Пари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мая 1738 года по указу императрицы Анны Иоановны в Санкт-Петербурге открыта Танцевальная Её Императорского Величества Шко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начала своё летоисчисление первая русская балетная профессиональная школа, ныне Академия Русского балета им. А.Я.Ваганов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643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й Зимний дворец Анны Иоано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1:37:42Z</dcterms:created>
  <dc:creator>Вика</dc:creator>
  <dc:description/>
  <dc:language>en-US</dc:language>
  <cp:lastModifiedBy>Вика</cp:lastModifiedBy>
  <dcterms:modified xsi:type="dcterms:W3CDTF">2009-05-13T17:23:40Z</dcterms:modified>
  <cp:revision>8</cp:revision>
  <dc:subject/>
  <dc:title>Академия Русского балета им.А.Я.Вагановой</dc:title>
</cp:coreProperties>
</file>