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ECB-E626-40CF-85D2-2592F437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1DD-50FB-45B6-8789-F315604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1AE-7A33-4DAF-9AAE-DAB8E385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8E3-A96C-4F68-8424-19FD1BF6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A5201-4252-44F5-9219-2FE42728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92914-88E1-447C-B02A-11F29D2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4FFE-256B-461C-9BA1-5DB9232B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4D83D-4CE1-46BE-BB6E-B4E2C8E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9771E-B73A-4577-B6B5-8137FC60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36351-B2CA-4249-8EDD-A91E6265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D140A-EC2C-4F8F-872E-7D919A0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598-8075-4FE6-A600-CC624770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8581-F2BF-46BB-A7FB-B45DA88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99EAD-4133-40BE-AF9A-B0962EF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2273-9279-4E83-8E38-65AD0BB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A31C-D40A-4E50-BDF2-18E60806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3AB2B-7192-4EEA-B3E9-BF537017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41CD-83A9-48AC-A72A-D880668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1418-C042-498F-93CC-9689914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B401-9171-4545-A57D-BE04DF1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A8B8-B1A9-4736-89EC-9D4D9B25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4C18-1F95-4D0F-98A2-B55E8EE4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CF7-80E7-42B2-A88F-4D18F213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7471-4FDB-4A1C-B9BE-C576B08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9BA3-271B-4324-A05C-D8F479C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8ED7-EA44-4229-86B0-9413493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E931-5B14-4D8D-AF0C-E10C1BA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D13C-C9D0-4F74-ABA8-F7D1CB0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6A4B-02FE-4B41-934F-2469899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B431-0F57-42D7-B327-E17A1942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6A5B2-7A6A-4328-87B7-F9793C97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3C692-D9DC-43EC-9BDA-61AF276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FEBBA-8263-4C53-B590-0EFFF907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FC8-8EB0-4226-86C3-3551AFC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93F89-1AD3-4717-A151-C5AAFAB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83E9E-F714-4BDA-A8CA-4F2D3510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C84AB-0C5F-4A5D-ADEE-31EDA3CF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4812E-8191-4C5F-8586-79AA829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6F2CD-368E-4C6D-9DFA-E03515F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67FF6-1CBA-464D-AE49-F0595EC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BFE6A-A7E2-47CD-BF9D-0BA919E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41D0E-6272-4FF4-91B8-3E6A36EA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3547F-95BA-4D18-9BB0-A4E2D58A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A9A0-F92F-4F6E-B92C-ACC0AB79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A12-9D4D-469F-890C-7C754B3B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D918-0EF4-4CDB-BE6B-08399CE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3484-661A-4E2B-9051-A7EC664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AA85-D982-44EE-9757-C8D7DB5E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C300-D1AE-4FE2-95CA-CFE216D4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7177-FBB7-405E-BC2D-C3056A4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8049-2AFE-460E-A54C-DEF20A1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31B0-1309-47CB-9310-706ED15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C8AC-F408-4B9F-9DB5-36807E7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152A-B905-4932-9265-B308331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C8F3-EDA2-4FAA-82CC-5D7A30ED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BA4-BAEF-4F15-BAB6-5B985274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B5EF-FA73-4AD1-A659-31924FA9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C7BF-D4EF-4E15-95F4-11B56DE1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ABED-D094-420C-BF0F-E29982F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5A30-F21A-4929-B54B-35A4B29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24E9-0E33-43CC-B442-DE37E73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18165-5882-438F-AD10-627E7A6D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32F0-0701-4ECC-8A0D-30270A3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EAC5A-4355-4BC7-BD47-362208A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A894-C2AF-4452-A3CE-2290D36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5C09B-26EC-40CF-A8EB-DFAD3ABD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E44-0F06-43A4-931E-1D1A004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7277-A7D4-4FDF-8B8A-24739C9C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9332-6EEC-41E6-BAE4-25FD05C6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52BB-F4DD-4358-93F5-CB6A917B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FCD-D4C5-49F1-A3CF-C15C6BE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B41-329F-4EBE-A0F7-570A34B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e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71E-86DD-40E4-811F-3D92AE10107E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a5644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e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A52-CEDE-4B61-8BD2-45C99820AA16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e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C0E-C2EE-4D7C-A29E-F002740F3A7D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741-24E1-4E8A-9013-1BADB65787E2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e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2D7-3355-4E5B-9578-651FCFF4F3CE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DF7-6811-4C45-93DF-4B0C044A8BE4}" type="slidenum">
              <a:rPr b="0" lang="ru-RU" sz="16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7918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Песнь о вещем Олеге» -  легенда, облечённая  в  форму  баллады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 в основе лежит </a:t>
            </a:r>
            <a:r>
              <a:rPr b="1" lang="ru-RU" sz="3600" spc="-1" strike="noStrike">
                <a:solidFill>
                  <a:srgbClr val="f3cd60"/>
                </a:solidFill>
                <a:latin typeface="Constantia"/>
              </a:rPr>
              <a:t>исторический факт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1" lang="ru-RU" sz="3600" spc="-1" strike="noStrike">
                <a:solidFill>
                  <a:srgbClr val="f3cd60"/>
                </a:solidFill>
                <a:latin typeface="Constantia"/>
              </a:rPr>
              <a:t>тема рока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, предопределенности, неизбежности судьб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1" lang="ru-RU" sz="3600" spc="-1" strike="noStrike">
                <a:solidFill>
                  <a:srgbClr val="f3cd60"/>
                </a:solidFill>
                <a:latin typeface="Constantia"/>
              </a:rPr>
              <a:t>композиционная особенность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 включение </a:t>
            </a:r>
            <a:r>
              <a:rPr b="1" lang="ru-RU" sz="3600" spc="-1" strike="noStrike">
                <a:solidFill>
                  <a:srgbClr val="f3cd60"/>
                </a:solidFill>
                <a:latin typeface="Constantia"/>
              </a:rPr>
              <a:t>диалога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 (обращения, вопросы-ответы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486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37960" y="255600"/>
            <a:ext cx="8448840" cy="128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79280" y="1357200"/>
            <a:ext cx="8785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cd60"/>
                </a:solidFill>
                <a:latin typeface="Constantia"/>
              </a:rPr>
              <a:t>Тема: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История гибели князя Олег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ема отношений поэта и власт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Главная тема – 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тема  судьбы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3cd60"/>
                </a:solidFill>
                <a:latin typeface="Constantia"/>
              </a:rPr>
              <a:t>Идея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 слепой рок приговорил  Олега к смерти «от коня своего», а привязанность к коню, заставившая отбросить все опасения и пожалеть, что у них ни одна судьб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Верность чувству долга может привести к смерти, но в верности человеческой памяти – залог бессмерти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396720" y="755640"/>
            <a:ext cx="8229600" cy="749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nstantia"/>
              </a:rPr>
              <a:t>Главные герои</a:t>
            </a:r>
            <a:r>
              <a:rPr b="0" lang="ru-RU" sz="31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– Олег и его верный конь, кудесник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nstantia"/>
              </a:rPr>
              <a:t>Второстепенные  герои</a:t>
            </a:r>
            <a:r>
              <a:rPr b="0" lang="ru-RU" sz="31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– Ольга, Игорь, слуги, дружинники.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nstantia"/>
              </a:rPr>
              <a:t>Сюжет баллады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Завязка</a:t>
            </a: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действия  - встреча     с  мудрым  старцем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Кульминация</a:t>
            </a: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в  развитии  действия – исполнение предсказания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Развязка</a:t>
            </a: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 действия  -  «На    тризне  плачевной Олега…» )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2017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. Предсказание  кудесника  и прощание  с  конем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2. «Пирует  с  дружиною  Вещий Олег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3. «На  холме  у  брега  Днепра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5" descr=""/>
          <p:cNvPicPr/>
          <p:nvPr/>
        </p:nvPicPr>
        <p:blipFill>
          <a:blip r:embed="rId1"/>
          <a:stretch/>
        </p:blipFill>
        <p:spPr>
          <a:xfrm>
            <a:off x="396720" y="-30240"/>
            <a:ext cx="822960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966"/>
          <p:cNvPicPr/>
          <p:nvPr/>
        </p:nvPicPr>
        <p:blipFill>
          <a:blip r:embed="rId2"/>
          <a:stretch/>
        </p:blipFill>
        <p:spPr>
          <a:xfrm>
            <a:off x="428760" y="938160"/>
            <a:ext cx="8215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8682120" cy="2017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85840" y="18568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cd60"/>
                </a:solidFill>
                <a:latin typeface="Constantia"/>
              </a:rPr>
              <a:t>Историки –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разительное чтение 1, 2 строф «Песни…»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такие хазары? О каком событии напоминают  выражения «цареградская броня»  и  «щит  на  вратах  Цареграда»?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кое  событие  произошло раньше – поход на  хазаров  или  взятие  Царьграда?  Какое историческое  несоответствие  вы заметили?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65960" cy="2017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57120" y="178560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cd60"/>
                </a:solidFill>
                <a:latin typeface="Constantia"/>
              </a:rPr>
              <a:t>Литературоведы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 -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разительное  чтение  3, 4, 5 строф «Песни…»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Где  происходит  встреча  вещего Олега  с кудесником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огда происходит  эта  встреча? Почему Пушкин  использует  глаголы  настоящего времени  изъявительного  наклонения  и глаголы  повелительного  наклонения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328680" y="-42840"/>
            <a:ext cx="8682120" cy="2017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cd60"/>
                </a:solidFill>
                <a:latin typeface="Constantia"/>
              </a:rPr>
              <a:t>Лингвисты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разительное  чтение  6, 7 строф «Песни…»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 обозначают  слова «броня», «Перун», «пращ», «сеча», «по бранному полю», «волхвы»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 какими  словами  употребляется слово «вещий»? Какой смысл  вкладывает Пушкин  в  эти  выражения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60480" y="353880"/>
            <a:ext cx="915012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428760" y="1646280"/>
          <a:ext cx="8215200" cy="521172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521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удожественно-изобразительные сред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мстить </a:t>
                      </a:r>
                      <a:r>
                        <a:rPr b="1" lang="ru-RU" sz="2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неразумным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зарам, </a:t>
                      </a:r>
                      <a:r>
                        <a:rPr b="1" lang="ru-RU" sz="2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могучий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Олег, </a:t>
                      </a:r>
                      <a:r>
                        <a:rPr b="1" lang="ru-RU" sz="2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вдохновенный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удес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ядущие </a:t>
                      </a:r>
                      <a:r>
                        <a:rPr b="1" lang="ru-RU" sz="2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годы  таятся во  мгл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п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аф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285840" y="500040"/>
          <a:ext cx="8643960" cy="600084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60008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удожественно-изобразительные сред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322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99"/>
                          </a:solidFill>
                          <a:latin typeface="Constantia"/>
                        </a:rPr>
                        <a:t>как чёрная лента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, вкруг ног обвилась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 кудри их белы, </a:t>
                      </a:r>
                      <a:r>
                        <a:rPr b="1" lang="ru-RU" sz="2400" spc="-1" strike="noStrike">
                          <a:solidFill>
                            <a:srgbClr val="00cc99"/>
                          </a:solidFill>
                          <a:latin typeface="Constantia"/>
                        </a:rPr>
                        <a:t>как утренний сне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00cc99"/>
                          </a:solidFill>
                          <a:latin typeface="Constantia"/>
                        </a:rPr>
                        <a:t>И волны, и суша покорны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бе;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–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 волей </a:t>
                      </a:r>
                      <a:r>
                        <a:rPr b="1" lang="ru-RU" sz="2400" spc="-1" strike="noStrike">
                          <a:solidFill>
                            <a:srgbClr val="00cc99"/>
                          </a:solidFill>
                          <a:latin typeface="Constantia"/>
                        </a:rPr>
                        <a:t>небесно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322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авнен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лицетво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вер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322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6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066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cd60"/>
                </a:solidFill>
                <a:latin typeface="Constantia"/>
              </a:rPr>
              <a:t>Вещий Олег и его врем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бота с историческими документами (Отрывок из «Повести временных лет» и «Истории государства Российского» Карамзина Н. М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cd60"/>
                </a:solidFill>
                <a:latin typeface="Constantia"/>
              </a:rPr>
              <a:t>Анализ «Песни о вещем Олеге» А.С.Пушкин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ема, идея. Жанр, сюжет, композиц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.   </a:t>
            </a:r>
            <a:r>
              <a:rPr b="1" lang="ru-RU" sz="2800" spc="-1" strike="noStrike">
                <a:solidFill>
                  <a:srgbClr val="f3cd60"/>
                </a:solidFill>
                <a:latin typeface="Constantia"/>
              </a:rPr>
              <a:t>Исследование эпизода </a:t>
            </a:r>
            <a:r>
              <a:rPr b="1" lang="ru-RU" sz="3600" spc="-1" strike="noStrike">
                <a:solidFill>
                  <a:srgbClr val="f3cd60"/>
                </a:solidFill>
                <a:latin typeface="Constantia"/>
              </a:rPr>
              <a:t>«Предсказание кудесника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11732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49c"/>
              </a:solidFill>
              <a:latin typeface="Constanti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Выводы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buClr>
                <a:srgbClr val="a5644e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«Песнь о Вещем Олеге» </a:t>
            </a:r>
            <a:r>
              <a:rPr b="0" lang="ru-RU" sz="3300" spc="-1" strike="noStrike">
                <a:solidFill>
                  <a:srgbClr val="ffff00"/>
                </a:solidFill>
                <a:latin typeface="Constantia"/>
              </a:rPr>
              <a:t>дополняет 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содержание летописи, </a:t>
            </a:r>
            <a:r>
              <a:rPr b="0" lang="ru-RU" sz="3300" spc="-1" strike="noStrike">
                <a:solidFill>
                  <a:srgbClr val="ffff00"/>
                </a:solidFill>
                <a:latin typeface="Constantia"/>
              </a:rPr>
              <a:t>помогает представить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 исторических героев, </a:t>
            </a:r>
            <a:r>
              <a:rPr b="0" lang="ru-RU" sz="3300" spc="-1" strike="noStrike">
                <a:solidFill>
                  <a:srgbClr val="ffff00"/>
                </a:solidFill>
                <a:latin typeface="Constantia"/>
              </a:rPr>
              <a:t>увидеть </a:t>
            </a:r>
            <a:r>
              <a:rPr b="0" lang="ru-RU" sz="3300" spc="-1" strike="noStrike">
                <a:solidFill>
                  <a:srgbClr val="ffffff"/>
                </a:solidFill>
                <a:latin typeface="Constantia"/>
              </a:rPr>
              <a:t>их характеры и судьбы. Вещий Олег  наделён душевной привязанностью к коню. Над его чувствами не властно ни время, ни даже смерть коня. </a:t>
            </a:r>
            <a:r>
              <a:rPr b="1" lang="ru-RU" sz="3300" spc="-1" strike="noStrike">
                <a:solidFill>
                  <a:srgbClr val="ffff00"/>
                </a:solidFill>
                <a:latin typeface="Constantia"/>
              </a:rPr>
              <a:t>Не слепой рок приговорил Олега к смерти «от коня своего», а привязанность к коню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49c"/>
              </a:solidFill>
              <a:latin typeface="Constantia"/>
            </a:endParaRPr>
          </a:p>
        </p:txBody>
      </p:sp>
      <p:pic>
        <p:nvPicPr>
          <p:cNvPr id="256" name="Picture 6" descr="MAP02"/>
          <p:cNvPicPr/>
          <p:nvPr/>
        </p:nvPicPr>
        <p:blipFill>
          <a:blip r:embed="rId1"/>
          <a:stretch/>
        </p:blipFill>
        <p:spPr>
          <a:xfrm>
            <a:off x="324000" y="333360"/>
            <a:ext cx="845964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4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82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RICON02"/>
          <p:cNvPicPr/>
          <p:nvPr/>
        </p:nvPicPr>
        <p:blipFill>
          <a:blip r:embed="rId2"/>
          <a:stretch/>
        </p:blipFill>
        <p:spPr>
          <a:xfrm>
            <a:off x="250920" y="1557360"/>
            <a:ext cx="3929040" cy="5111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427280" y="1600200"/>
            <a:ext cx="45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лег – родственник Рюрика. В 882 году Олег перенес столицу в Киев. В 907 году осуществил успешный поход на Царьград (Константинополь) Необычайная военная удача, его ум и проницательность принесли ему прозвище "Вещий"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10" descr=""/>
          <p:cNvPicPr/>
          <p:nvPr/>
        </p:nvPicPr>
        <p:blipFill>
          <a:blip r:embed="rId1"/>
          <a:stretch/>
        </p:blipFill>
        <p:spPr>
          <a:xfrm>
            <a:off x="469800" y="5010120"/>
            <a:ext cx="8339400" cy="1665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V1_100"/>
          <p:cNvPicPr/>
          <p:nvPr/>
        </p:nvPicPr>
        <p:blipFill>
          <a:blip r:embed="rId2"/>
          <a:stretch/>
        </p:blipFill>
        <p:spPr>
          <a:xfrm>
            <a:off x="1285920" y="268200"/>
            <a:ext cx="6715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378000" y="5303880"/>
            <a:ext cx="8394480" cy="1401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Russian_konung_Oleg_by_Vasnetsov-2"/>
          <p:cNvPicPr/>
          <p:nvPr/>
        </p:nvPicPr>
        <p:blipFill>
          <a:blip r:embed="rId2"/>
          <a:stretch/>
        </p:blipFill>
        <p:spPr>
          <a:xfrm>
            <a:off x="900000" y="333360"/>
            <a:ext cx="7417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5" descr=""/>
          <p:cNvPicPr/>
          <p:nvPr/>
        </p:nvPicPr>
        <p:blipFill>
          <a:blip r:embed="rId1"/>
          <a:stretch/>
        </p:blipFill>
        <p:spPr>
          <a:xfrm>
            <a:off x="469800" y="244440"/>
            <a:ext cx="8229600" cy="858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RG25_0"/>
          <p:cNvPicPr/>
          <p:nvPr/>
        </p:nvPicPr>
        <p:blipFill>
          <a:blip r:embed="rId2"/>
          <a:stretch/>
        </p:blipFill>
        <p:spPr>
          <a:xfrm>
            <a:off x="1042920" y="1052640"/>
            <a:ext cx="2772000" cy="448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0296"/>
          <p:cNvPicPr/>
          <p:nvPr/>
        </p:nvPicPr>
        <p:blipFill>
          <a:blip r:embed="rId3"/>
          <a:stretch/>
        </p:blipFill>
        <p:spPr>
          <a:xfrm>
            <a:off x="4859280" y="981000"/>
            <a:ext cx="319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4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6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3cd60"/>
                </a:solidFill>
                <a:latin typeface="Constantia"/>
              </a:rPr>
              <a:t>Баллада – лирическое стихотворение с напряжённым, острым сюжетом (легендарным, историческим, фантастическим). Герои в балладе вступают в конфликт друг с другом, с самой судьбой. Часто присутствует элемент  загадочного,  фантастического, необъяснимого, трагически неразрешимог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42960" y="1928880"/>
          <a:ext cx="8143920" cy="4309920"/>
        </p:xfrm>
        <a:graphic>
          <a:graphicData uri="http://schemas.openxmlformats.org/drawingml/2006/table">
            <a:tbl>
              <a:tblPr/>
              <a:tblGrid>
                <a:gridCol w="1839960"/>
                <a:gridCol w="2838240"/>
                <a:gridCol w="3465720"/>
              </a:tblGrid>
              <a:tr h="6094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топи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алла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арактер Княз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нет 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Олег усмехнулся – однако чел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 взор омрачилися думой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396720" y="476280"/>
            <a:ext cx="8290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8:08:07Z</dcterms:created>
  <dc:creator>alex</dc:creator>
  <dc:description/>
  <dc:language>en-US</dc:language>
  <cp:lastModifiedBy>Надежда</cp:lastModifiedBy>
  <dcterms:modified xsi:type="dcterms:W3CDTF">2016-01-15T07:42:40Z</dcterms:modified>
  <cp:revision>30</cp:revision>
  <dc:subject/>
  <dc:title>Интегрированный урок литература – история – русский язык  в 7 классе</dc:title>
</cp:coreProperties>
</file>