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2EB-7FC8-4508-B9C7-C347C1F0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6A3-519C-430E-86D4-3DEF5DCE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D060-4AF3-4061-936F-959F38EE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E8AD-7253-489A-BF9F-287FCC28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12B2-754E-4364-99F4-F34E2771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7C14-39B9-41B0-990A-4FFDC82B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B31A-D4B5-4411-AE34-8A56722F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DB85-F4A8-49F5-84EE-84190F25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A8FC-6FC1-419F-8674-772D261F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9CBC-C74C-4D06-827E-85BDBAD7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EAED-63F0-4BAF-A44C-533359C1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EDEA-9CCD-4527-9F58-5721B9C4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1A68-4BBD-4C26-ACF6-B5561355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9FC9-F097-44E5-9D1C-BCC96C21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CF78-7701-465E-A06A-746A5ADA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1758-FF5D-4D1D-8177-1D515A8B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22DA-B647-4A82-9A85-A1988CF1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A65E-E617-46BF-809D-A05CA35F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E4BF-4846-44ED-A248-3AD4F3E3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073-BFE1-4A5C-8499-0265A261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A998-E240-452C-8ECE-4AE0B0EE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3F78-E0EF-466A-A522-3E871DA9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585-8173-4A41-A4E6-CF46222A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4A5-6E6A-4DB3-B070-83A1416E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C409-F26E-48A2-962F-1CD30186B75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19EE-B7C1-42F9-ABDE-BD8830CF276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536400" y="628560"/>
            <a:ext cx="7851960" cy="2175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2171880" y="2643120"/>
            <a:ext cx="559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К.Паустовский «Эдгар П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Понятие о литературном портр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Эдгар П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й он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214280" y="2357280"/>
            <a:ext cx="2095560" cy="2619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3624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4280" y="71388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42600" y="1928880"/>
            <a:ext cx="8286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Биография и литературный портрет… Отличается ли литературный портрет от обычной биографии писателя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3" name="Picture 4" descr="6bc24d6024efa56a18f6d0311c2eec57_19009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29040" y="4357800"/>
            <a:ext cx="1293840" cy="1936800"/>
          </a:xfrm>
          <a:prstGeom prst="rect">
            <a:avLst/>
          </a:prstGeom>
          <a:ln w="0">
            <a:noFill/>
          </a:ln>
        </p:spPr>
      </p:pic>
      <p:sp>
        <p:nvSpPr>
          <p:cNvPr id="104" name="Блок-схема: перфолента 7"/>
          <p:cNvSpPr/>
          <p:nvPr/>
        </p:nvSpPr>
        <p:spPr>
          <a:xfrm>
            <a:off x="5715000" y="5000760"/>
            <a:ext cx="2214720" cy="1214280"/>
          </a:xfrm>
          <a:prstGeom prst="flowChartPunchedTap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тературный порт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Блок-схема: перфолента 10"/>
          <p:cNvSpPr/>
          <p:nvPr/>
        </p:nvSpPr>
        <p:spPr>
          <a:xfrm>
            <a:off x="1571760" y="5000760"/>
            <a:ext cx="2000160" cy="1214280"/>
          </a:xfrm>
          <a:prstGeom prst="flowChartPunchedTap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Биография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.Г.Паустовский «Эдгар По»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Понятие о литературном портрет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071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ель урока: открыть признаки литературного портрета и сформировать представление о писателе Эдгаре П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ч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)формирование умения читать, оценивать, анализировать литературный портрет как наилучший способ знакомства с персонаже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)развитие аналитического мышления, умения работать с текстом, обобщать, делать вывод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) расширение кругозора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.Г.Паустовск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858000" y="2714760"/>
            <a:ext cx="1785960" cy="28573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714240" y="2357280"/>
            <a:ext cx="6143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мечательный портретист, он работал с необыкновенной легкостью и еще в молодости своей создал множество произведений, в которых запечатлел чуть ли не всех именитых людей своего времени и, кроме того, десятки безвестных купцов, моряков, женщин и детей, чиновников и крестьян. Каждый портрет его давал законченный, отчетливо и ярко выраженный внутренний облик человека. Не только лица писал он, но и обладал удивительной способностью выражать во внешнем облике мир внутренний, скрытый, душевный.»  А.Эрл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6840" y="357120"/>
            <a:ext cx="66438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итературный портр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85840" y="1571760"/>
            <a:ext cx="85723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Художественная характеристика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де писатель раскрывает характер своих героев и выражает своё идейное отношение к ни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1000080" y="2928960"/>
            <a:ext cx="74296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Р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писание внешности героя, рассказ о его деле, профессии, творчестве, отдельные факты биографии, описание особенностей характера героя, его речи, эпизод (или несколько эпизодов), раскрывающий в герое главно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«Мой взгляд на Эдгара По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-36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Облако 3"/>
          <p:cNvSpPr/>
          <p:nvPr/>
        </p:nvSpPr>
        <p:spPr>
          <a:xfrm>
            <a:off x="857160" y="2500200"/>
            <a:ext cx="1857600" cy="134316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фант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блако 4"/>
          <p:cNvSpPr/>
          <p:nvPr/>
        </p:nvSpPr>
        <p:spPr>
          <a:xfrm>
            <a:off x="6143760" y="2857680"/>
            <a:ext cx="2214360" cy="141444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ишелец с далёкой план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блако 5"/>
          <p:cNvSpPr/>
          <p:nvPr/>
        </p:nvSpPr>
        <p:spPr>
          <a:xfrm>
            <a:off x="1571760" y="4929120"/>
            <a:ext cx="2071440" cy="107172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ений-подкид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блако 6"/>
          <p:cNvSpPr/>
          <p:nvPr/>
        </p:nvSpPr>
        <p:spPr>
          <a:xfrm>
            <a:off x="5072040" y="4857840"/>
            <a:ext cx="2571840" cy="121428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длинный джентель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блако 7"/>
          <p:cNvSpPr/>
          <p:nvPr/>
        </p:nvSpPr>
        <p:spPr>
          <a:xfrm>
            <a:off x="3714840" y="2071800"/>
            <a:ext cx="2143080" cy="121428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лудный с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8"/>
          <p:cNvSpPr/>
          <p:nvPr/>
        </p:nvSpPr>
        <p:spPr>
          <a:xfrm>
            <a:off x="3857760" y="3786120"/>
            <a:ext cx="13572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дгар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12"/>
          <p:cNvSpPr/>
          <p:nvPr/>
        </p:nvSpPr>
        <p:spPr>
          <a:xfrm>
            <a:off x="2571840" y="3500280"/>
            <a:ext cx="1500120" cy="500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14"/>
          <p:cNvSpPr/>
          <p:nvPr/>
        </p:nvSpPr>
        <p:spPr>
          <a:xfrm>
            <a:off x="4929120" y="4429080"/>
            <a:ext cx="914400" cy="91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16"/>
          <p:cNvSpPr/>
          <p:nvPr/>
        </p:nvSpPr>
        <p:spPr>
          <a:xfrm>
            <a:off x="5072040" y="4214880"/>
            <a:ext cx="171468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20"/>
          <p:cNvSpPr/>
          <p:nvPr/>
        </p:nvSpPr>
        <p:spPr>
          <a:xfrm flipV="1">
            <a:off x="4616280" y="3284280"/>
            <a:ext cx="169920" cy="4935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24"/>
          <p:cNvSpPr/>
          <p:nvPr/>
        </p:nvSpPr>
        <p:spPr>
          <a:xfrm flipV="1">
            <a:off x="2928960" y="4643280"/>
            <a:ext cx="1357200" cy="5716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дгар По «Золотой жук» (чтение и пересказ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928800" y="33577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4000680" y="3571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6286680" y="3286080"/>
            <a:ext cx="19047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9:13:26Z</dcterms:created>
  <dc:creator>Admin</dc:creator>
  <dc:description/>
  <dc:language>en-US</dc:language>
  <cp:lastModifiedBy>Даня</cp:lastModifiedBy>
  <dcterms:modified xsi:type="dcterms:W3CDTF">2015-10-06T20:52:03Z</dcterms:modified>
  <cp:revision>136</cp:revision>
  <dc:subject/>
  <dc:title>Урок литературы</dc:title>
</cp:coreProperties>
</file>