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A1F-A9CC-449A-8695-869DCA93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DB1-8F29-488C-9174-E24290D2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3BB-B556-4987-8C1F-C282C499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CA2-D0D1-4D15-9292-FFAAF054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86C-E132-48AE-8BF5-FFF86956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394-32C8-43CC-A41C-8A3F2A7B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8C2-24A4-4BFF-9F11-EE9F4CF4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557-9DD5-4A6D-BC9D-DA94E04A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EC1-6990-4ADF-9506-24AB9C21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AA3-0ECF-49EE-B954-069A73D4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2D2-06AB-431F-AC72-F4A5CD45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6A9-D7ED-41FA-8F83-ECFDCAE5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E6BC-9A7E-42C7-84C6-2675BADFE1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razymama.ru/images/cartoon/prev/1003_4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v0f1rz7a01" TargetMode="External"/><Relationship Id="rId2" Type="http://schemas.openxmlformats.org/officeDocument/2006/relationships/hyperlink" Target="http://learningapps.org/display?v=pao302enk01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g.ivi.ru/static/frames/33270/597602.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anmedia.org.ua/uploads/posts/2010-03/1267551433_priklyucheniya-pingvinenka-lolo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kotenokgav.ru/wp-content/gallery/cache/319__320x240_lolo_pep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reeforall.com.ua/uploads/posts/2010-03/1267947210_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9257"/>
              </a:solidFill>
              <a:latin typeface="Times New Roman"/>
            </a:endParaRPr>
          </a:p>
        </p:txBody>
      </p:sp>
      <p:pic>
        <p:nvPicPr>
          <p:cNvPr id="147" name="Picture 8" descr="0_23443_b72952db_L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1003_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648320"/>
            <a:ext cx="3505320" cy="2209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457200" y="914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епен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лаг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 односложных и двухсложных прилагате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нглийс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язы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5867280" y="45720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хорошева Н.В.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БОУ СОШ  № 657     г.Моск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Образуйте сравнительную и превосходную степень прилагательных</a:t>
            </a:r>
            <a:endParaRPr b="0" lang="en-US" sz="4000" spc="-1" strike="noStrike">
              <a:solidFill>
                <a:srgbClr val="b39257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лож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18720">
                      <a:solidFill>
                        <a:srgbClr val="d7d1b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авн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18720">
                      <a:solidFill>
                        <a:srgbClr val="d7d1b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восход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18720">
                      <a:solidFill>
                        <a:srgbClr val="d7d1b9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h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1872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1872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1872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h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th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t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bu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f6ea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e4100"/>
                          </a:solidFill>
                          <a:latin typeface="Times New Roman"/>
                          <a:ea typeface="Times New Roman"/>
                        </a:rPr>
                        <a:t>hung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7d1b9"/>
                      </a:solidFill>
                    </a:lnL>
                    <a:lnR w="5760">
                      <a:solidFill>
                        <a:srgbClr val="d7d1b9"/>
                      </a:solidFill>
                    </a:lnR>
                    <a:lnT w="5760">
                      <a:solidFill>
                        <a:srgbClr val="d7d1b9"/>
                      </a:solidFill>
                    </a:lnT>
                    <a:lnB w="5760">
                      <a:solidFill>
                        <a:srgbClr val="d7d1b9"/>
                      </a:solidFill>
                    </a:lnB>
                    <a:solidFill>
                      <a:srgbClr val="ffecd3"/>
                    </a:solidFill>
                  </a:tcPr>
                </a:tc>
              </a:tr>
            </a:tbl>
          </a:graphicData>
        </a:graphic>
      </p:graphicFrame>
      <p:sp>
        <p:nvSpPr>
          <p:cNvPr id="178" name="TextBox 5"/>
          <p:cNvSpPr/>
          <p:nvPr/>
        </p:nvSpPr>
        <p:spPr>
          <a:xfrm>
            <a:off x="37339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ho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609588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hot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365760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hap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6095880" y="2666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happ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373392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ni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3809880" y="3733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i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617220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thinn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324480" y="32767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nic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3733920" y="4267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60958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tal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3886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bu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6095880" y="4724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bus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7"/>
          <p:cNvSpPr/>
          <p:nvPr/>
        </p:nvSpPr>
        <p:spPr>
          <a:xfrm>
            <a:off x="3733920" y="5181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hung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6095880" y="5181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4100"/>
                </a:solidFill>
                <a:latin typeface="Times New Roman"/>
                <a:ea typeface="Times New Roman"/>
              </a:rPr>
              <a:t>the hungr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2666880" y="586728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роверьте себя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51120" y="264600"/>
            <a:ext cx="9194760" cy="141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епени сравнения прилагательных</a:t>
            </a:r>
            <a:br>
              <a:rPr sz="4400"/>
            </a:b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Times New Roman"/>
                <a:hlinkClick r:id="rId1"/>
              </a:rPr>
              <a:t>http://learningapps.org/display?v=pv0f1rz7a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33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apps.org/display?v=pao302enk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learningapps.org/display?v=pzuem07jn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learningapps.org/display?v=ppg54i5qn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2" descr="3аним"/>
          <p:cNvPicPr/>
          <p:nvPr/>
        </p:nvPicPr>
        <p:blipFill>
          <a:blip r:embed="rId3"/>
          <a:stretch/>
        </p:blipFill>
        <p:spPr>
          <a:xfrm>
            <a:off x="2700360" y="4206960"/>
            <a:ext cx="32306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Запомни!!!</a:t>
            </a:r>
            <a:endParaRPr b="0" lang="en-US" sz="66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В предложениях употребляются  прилагательные в сравнительной степени и сло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an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чем), </a:t>
            </a: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сравнивая два предмета (как одушевленные, так и неодушевленн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dog  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igg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бака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ольше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чем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Ло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В предложениях с прилагательными в превосходной степени часто употребляются такие выражения, как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all, in the world, in my family </a:t>
            </a: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и друг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41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lo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cleveres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 his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Лол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амый умный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Картинка 101 из 124"/>
          <p:cNvPicPr/>
          <p:nvPr/>
        </p:nvPicPr>
        <p:blipFill>
          <a:blip r:embed="rId1"/>
          <a:stretch/>
        </p:blipFill>
        <p:spPr>
          <a:xfrm>
            <a:off x="5632560" y="4664160"/>
            <a:ext cx="2908080" cy="2200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original"/>
          <p:cNvPicPr/>
          <p:nvPr/>
        </p:nvPicPr>
        <p:blipFill>
          <a:blip r:embed="rId2"/>
          <a:stretch/>
        </p:blipFill>
        <p:spPr>
          <a:xfrm>
            <a:off x="4718160" y="2359080"/>
            <a:ext cx="22255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Исключения</a:t>
            </a:r>
            <a:endParaRPr b="0" lang="en-US" sz="66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Необходимо запомнить еще несколько слов, которые могут образовывать степени сравнения в английском языке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вумя способам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т.е. с помощь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“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“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/”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le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ngry, common, friendly,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cruel, gentle, narrow,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andsome, polite,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leasant, serious, quite,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e, clever, so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3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сточник информации</a:t>
            </a:r>
            <a:br>
              <a:rPr sz="5400"/>
            </a:br>
            <a:endParaRPr b="0" lang="en-US" sz="6000" spc="-1" strike="noStrike">
              <a:solidFill>
                <a:srgbClr val="b39257"/>
              </a:solidFill>
              <a:latin typeface="Times New Roman"/>
            </a:endParaRPr>
          </a:p>
        </p:txBody>
      </p:sp>
      <p:pic>
        <p:nvPicPr>
          <p:cNvPr id="203" name="Picture 9" descr="Приключения пингвинёнка Лоло. Скриншот 3"/>
          <p:cNvPicPr/>
          <p:nvPr/>
        </p:nvPicPr>
        <p:blipFill>
          <a:blip r:embed="rId1"/>
          <a:stretch/>
        </p:blipFill>
        <p:spPr>
          <a:xfrm>
            <a:off x="5937120" y="4486320"/>
            <a:ext cx="2554560" cy="1933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457200" y="1600200"/>
            <a:ext cx="8305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s://www.google.ru/search?q=%D0%BC%D1%83%D0%BB%D1%8C%D1%82%D1%84%D0%B8%D0%BB%D1%8C%D0%BC+%D0%BF%D0%B8%D0%BD%D0%B3%D0%B2%D0%B8%D0%BD%D0%B5%D0%BD%D0%BE%D0%BA+%D0%BB%D0%BE%D0%BB%D0%BE&amp;newwindow=1&amp;espv=2&amp;biw=1366&amp;bih=667&amp;source=lnms&amp;tbm=isch&amp;sa=X&amp;ei=O1tnVNGiGOL5yQOWp4CQBw&amp;ved=0CAcQ_AUo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юарт Кокрейн «Практическая  грамматика английского языка для начальной школы -2» 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MIL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илагательные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мена прилагательные в английском языке не изменяются ни по лицам, ни по родам, ни по падежам.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ни имеют только степени с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2" descr="1280260082_00-12-32"/>
          <p:cNvPicPr/>
          <p:nvPr/>
        </p:nvPicPr>
        <p:blipFill>
          <a:blip r:embed="rId1"/>
          <a:stretch/>
        </p:blipFill>
        <p:spPr>
          <a:xfrm>
            <a:off x="5670720" y="4191120"/>
            <a:ext cx="3027240" cy="234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Картинка 78 из 1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4114800"/>
            <a:ext cx="3200400" cy="240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рилагательные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В английском языке прилагательные делятся на две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 и двухсложные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( слово состоит из одного или двух слогов)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all, cle-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ногосложные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(слово состоит из трех слогов и больше)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-te-res-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3аним"/>
          <p:cNvPicPr/>
          <p:nvPr/>
        </p:nvPicPr>
        <p:blipFill>
          <a:blip r:embed="rId1"/>
          <a:stretch/>
        </p:blipFill>
        <p:spPr>
          <a:xfrm>
            <a:off x="6095880" y="228600"/>
            <a:ext cx="281952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тепени прилагательных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В английском языке прилагательные имеют три степе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оложитель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Сравнитель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боль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ревосход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33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амый 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2" descr="1274798821_priklyucheniya_pingvinenka_lolo_k2"/>
          <p:cNvPicPr/>
          <p:nvPr/>
        </p:nvPicPr>
        <p:blipFill>
          <a:blip r:embed="rId1"/>
          <a:stretch/>
        </p:blipFill>
        <p:spPr>
          <a:xfrm>
            <a:off x="4419720" y="2970360"/>
            <a:ext cx="4419360" cy="317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Односложные прилагательные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Сравнительная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бразуется путем прибавления суффикса 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ольшой - боль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har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яжелый – тяжел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рабрый - храбрее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Картинка 24 из 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666880"/>
            <a:ext cx="38466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Односложные прилагательные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Превосходная 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бразуется: путем прибавления суффикса 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[ ist]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ртикля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еред слов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ольшой – самый 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яжелый –  самый тяж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рабрый -  самый храбрый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3" descr="original"/>
          <p:cNvPicPr/>
          <p:nvPr/>
        </p:nvPicPr>
        <p:blipFill>
          <a:blip r:embed="rId1"/>
          <a:stretch/>
        </p:blipFill>
        <p:spPr>
          <a:xfrm>
            <a:off x="6273720" y="3505320"/>
            <a:ext cx="2870280" cy="217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.Если слово оканчивается на одну согласную букву, а перед ней стоит одна гласная буква ( закрытый слог), то согласная буква удваива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" descr="G_Sokolskiy_-_Priklyucheniya_Pingvinyonka_Lolo_DVDRip_1986_-_4"/>
          <p:cNvPicPr/>
          <p:nvPr/>
        </p:nvPicPr>
        <p:blipFill>
          <a:blip r:embed="rId1"/>
          <a:stretch/>
        </p:blipFill>
        <p:spPr>
          <a:xfrm rot="252600">
            <a:off x="5124240" y="3710160"/>
            <a:ext cx="358128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.Если слово оканчивается на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букву 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о вторая буква 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не пишется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Картинка 60 из 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570120"/>
            <a:ext cx="4343400" cy="2849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.Если слово оканчивается на букву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а перед ней стои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гласная буква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то буква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меняется на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нятой – более занятый – самый заня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– 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-  the 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еселый –более  веселый – самый вес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9" descr="Картинка 29 из 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09680"/>
            <a:ext cx="345132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PC</cp:lastModifiedBy>
  <dcterms:modified xsi:type="dcterms:W3CDTF">2016-05-22T10:23:0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