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7BA-A8E4-428C-8E24-508F2F74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DE3-7D89-4EBB-B0D5-EDC9E384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F83-5621-444E-AC93-7AF0276D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BAB-D489-4ABA-B09C-AB7A3944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995-17A8-4D68-A4D6-5836AF67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56C-0100-4BCB-A873-67F492AF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74B-4470-4279-A08B-FA868283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FDF-C78A-4E39-BF5C-AF0F62CB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597-3A98-4B36-AA11-9757E05F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49C-A243-4C98-9824-31A4E1CB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C42-6617-4FA6-90A3-7FDD546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E75-9181-41F3-A2B4-306A2AA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F8DB-2B76-42BB-B117-B8E1760E69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razymama.ru/images/cartoon/prev/1003_4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v0f1rz7a01" TargetMode="External"/><Relationship Id="rId2" Type="http://schemas.openxmlformats.org/officeDocument/2006/relationships/hyperlink" Target="http://learningapps.org/display?v=pao302enk01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g.ivi.ru/static/frames/33270/597602.2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anmedia.org.ua/uploads/posts/2010-03/1267551433_priklyucheniya-pingvinenka-lolo_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kotenokgav.ru/wp-content/gallery/cache/319__320x240_lolo_pep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reeforall.com.ua/uploads/posts/2010-03/1267947210_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39257"/>
              </a:solidFill>
              <a:latin typeface="Times New Roman"/>
            </a:endParaRPr>
          </a:p>
        </p:txBody>
      </p:sp>
      <p:pic>
        <p:nvPicPr>
          <p:cNvPr id="147" name="Picture 8" descr="0_23443_b72952db_L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1003_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648320"/>
            <a:ext cx="3505320" cy="2209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457200" y="91440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епен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лагате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 односложных и двухсложных прилагате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нглийск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язык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5867280" y="45720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хорошева Н.В.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БОУ СОШ  № 657     г.Моск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Образуйте сравнительную и превосходную степень прилагательных</a:t>
            </a:r>
            <a:endParaRPr b="0" lang="en-US" sz="4000" spc="-1" strike="noStrike">
              <a:solidFill>
                <a:srgbClr val="b39257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1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лож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18720">
                      <a:solidFill>
                        <a:srgbClr val="d7d1b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авн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18720">
                      <a:solidFill>
                        <a:srgbClr val="d7d1b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восход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18720">
                      <a:solidFill>
                        <a:srgbClr val="d7d1b9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h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1872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1872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1872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h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th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t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bu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hung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</a:tr>
            </a:tbl>
          </a:graphicData>
        </a:graphic>
      </p:graphicFrame>
      <p:sp>
        <p:nvSpPr>
          <p:cNvPr id="178" name="TextBox 5"/>
          <p:cNvSpPr/>
          <p:nvPr/>
        </p:nvSpPr>
        <p:spPr>
          <a:xfrm>
            <a:off x="3733920" y="2133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ho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609588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hot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365760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hap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6095880" y="2666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happ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373392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ni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3809880" y="3733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i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617220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thinn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6324480" y="32767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nic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3733920" y="4267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6095880" y="42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tal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3886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bu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6095880" y="4724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bus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7"/>
          <p:cNvSpPr/>
          <p:nvPr/>
        </p:nvSpPr>
        <p:spPr>
          <a:xfrm>
            <a:off x="3733920" y="5181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hung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6095880" y="5181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hungr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2666880" y="586728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роверьте себя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51120" y="264600"/>
            <a:ext cx="9194760" cy="141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епени сравнения прилагательных</a:t>
            </a:r>
            <a:br>
              <a:rPr sz="4400"/>
            </a:b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33"/>
                </a:solidFill>
                <a:uFillTx/>
                <a:latin typeface="Times New Roman"/>
                <a:hlinkClick r:id="rId1"/>
              </a:rPr>
              <a:t>http://learningapps.org/display?v=pv0f1rz7a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33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apps.org/display?v=pao302enk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learningapps.org/display?v=pzuem07jn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learningapps.org/display?v=ppg54i5qn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2" descr="3аним"/>
          <p:cNvPicPr/>
          <p:nvPr/>
        </p:nvPicPr>
        <p:blipFill>
          <a:blip r:embed="rId3"/>
          <a:stretch/>
        </p:blipFill>
        <p:spPr>
          <a:xfrm>
            <a:off x="2700360" y="4206960"/>
            <a:ext cx="32306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Запомни!!!</a:t>
            </a:r>
            <a:endParaRPr b="0" lang="en-US" sz="66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В предложениях употребляются  прилагательные в сравнительной степени и сло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an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чем), </a:t>
            </a: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сравнивая два предмета (как одушевленные, так и неодушевленны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dog  i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igge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бака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ольше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чем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Ло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В предложениях с прилагательными в превосходной степени часто употребляются такие выражения, как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all, in the world, in my family </a:t>
            </a: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и друг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lo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cleveres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 his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Лол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амый умный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Картинка 101 из 124"/>
          <p:cNvPicPr/>
          <p:nvPr/>
        </p:nvPicPr>
        <p:blipFill>
          <a:blip r:embed="rId1"/>
          <a:stretch/>
        </p:blipFill>
        <p:spPr>
          <a:xfrm>
            <a:off x="5632560" y="4664160"/>
            <a:ext cx="2908080" cy="2200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original"/>
          <p:cNvPicPr/>
          <p:nvPr/>
        </p:nvPicPr>
        <p:blipFill>
          <a:blip r:embed="rId2"/>
          <a:stretch/>
        </p:blipFill>
        <p:spPr>
          <a:xfrm>
            <a:off x="4718160" y="2359080"/>
            <a:ext cx="22255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Исключения</a:t>
            </a:r>
            <a:endParaRPr b="0" lang="en-US" sz="66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Необходимо запомнить еще несколько слов, которые могут образовывать степени сравнения в английском языке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вумя способами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т.е. с помощь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“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“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/”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le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ngry, common, friendly,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cruel, gentle, narrow,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handsome, polite,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leasant, serious, quite,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mple, clever, so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32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сточник информации</a:t>
            </a:r>
            <a:br>
              <a:rPr sz="5400"/>
            </a:br>
            <a:endParaRPr b="0" lang="en-US" sz="6000" spc="-1" strike="noStrike">
              <a:solidFill>
                <a:srgbClr val="b39257"/>
              </a:solidFill>
              <a:latin typeface="Times New Roman"/>
            </a:endParaRPr>
          </a:p>
        </p:txBody>
      </p:sp>
      <p:pic>
        <p:nvPicPr>
          <p:cNvPr id="203" name="Picture 9" descr="Приключения пингвинёнка Лоло. Скриншот 3"/>
          <p:cNvPicPr/>
          <p:nvPr/>
        </p:nvPicPr>
        <p:blipFill>
          <a:blip r:embed="rId1"/>
          <a:stretch/>
        </p:blipFill>
        <p:spPr>
          <a:xfrm>
            <a:off x="5937120" y="4486320"/>
            <a:ext cx="2554560" cy="1933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457200" y="1600200"/>
            <a:ext cx="8305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s://www.google.ru/search?q=%D0%BC%D1%83%D0%BB%D1%8C%D1%82%D1%84%D0%B8%D0%BB%D1%8C%D0%BC+%D0%BF%D0%B8%D0%BD%D0%B3%D0%B2%D0%B8%D0%BD%D0%B5%D0%BD%D0%BE%D0%BA+%D0%BB%D0%BE%D0%BB%D0%BE&amp;newwindow=1&amp;espv=2&amp;biw=1366&amp;bih=667&amp;source=lnms&amp;tbm=isch&amp;sa=X&amp;ei=O1tnVNGiGOL5yQOWp4CQBw&amp;ved=0CAcQ_AUo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юарт Кокрейн «Практическая  грамматика английского языка для начальной школы -2» 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MIL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лагательные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мена прилагательные в английском языке не изменяются ни по лицам, ни по родам, ни по падежам.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Они имеют только степени с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2" descr="1280260082_00-12-32"/>
          <p:cNvPicPr/>
          <p:nvPr/>
        </p:nvPicPr>
        <p:blipFill>
          <a:blip r:embed="rId1"/>
          <a:stretch/>
        </p:blipFill>
        <p:spPr>
          <a:xfrm>
            <a:off x="5670720" y="4191120"/>
            <a:ext cx="3027240" cy="234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Картинка 78 из 1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4114800"/>
            <a:ext cx="3200400" cy="240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Прилагательные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В английском языке прилагательные делятся на две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 и двухсложные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( слово состоит из одного или двух слогов)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mall, cle-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ногосложные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(слово состоит из трех слогов и больше)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-te-res-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7" descr="3аним"/>
          <p:cNvPicPr/>
          <p:nvPr/>
        </p:nvPicPr>
        <p:blipFill>
          <a:blip r:embed="rId1"/>
          <a:stretch/>
        </p:blipFill>
        <p:spPr>
          <a:xfrm>
            <a:off x="6095880" y="228600"/>
            <a:ext cx="281952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Степени прилагательных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В английском языке прилагательные имеют три степе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оложитель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Сравнитель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боль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ревосход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амый 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2" descr="1274798821_priklyucheniya_pingvinenka_lolo_k2"/>
          <p:cNvPicPr/>
          <p:nvPr/>
        </p:nvPicPr>
        <p:blipFill>
          <a:blip r:embed="rId1"/>
          <a:stretch/>
        </p:blipFill>
        <p:spPr>
          <a:xfrm>
            <a:off x="4419720" y="2970360"/>
            <a:ext cx="4419360" cy="317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Односложные прилагательные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Сравнительная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Образуется путем прибавления суффикса 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большой - боль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har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яжелый – тяжел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рабрый - храбрее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Картинка 24 из 1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666880"/>
            <a:ext cx="38466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Односложные прилагательные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Превосходная 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Образуется: путем прибавления суффикса 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[ ist]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ртикля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еред слов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большой – самый 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яжелый –  самый тяже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рабрый -  самый храбрый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3" descr="original"/>
          <p:cNvPicPr/>
          <p:nvPr/>
        </p:nvPicPr>
        <p:blipFill>
          <a:blip r:embed="rId1"/>
          <a:stretch/>
        </p:blipFill>
        <p:spPr>
          <a:xfrm>
            <a:off x="6273720" y="3505320"/>
            <a:ext cx="2870280" cy="217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.Если слово оканчивается на одну согласную букву, а перед ней стоит одна гласная буква ( закрытый слог), то согласная буква удваива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" descr="G_Sokolskiy_-_Priklyucheniya_Pingvinyonka_Lolo_DVDRip_1986_-_4"/>
          <p:cNvPicPr/>
          <p:nvPr/>
        </p:nvPicPr>
        <p:blipFill>
          <a:blip r:embed="rId1"/>
          <a:stretch/>
        </p:blipFill>
        <p:spPr>
          <a:xfrm rot="252600">
            <a:off x="5124240" y="3710160"/>
            <a:ext cx="358128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.Если слово оканчивается на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букву 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о вторая буква 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не пишется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Картинка 60 из 1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3570120"/>
            <a:ext cx="4343400" cy="2849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.Если слово оканчивается на букву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а перед ней стои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гласная буква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то буква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меняется на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er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нятой – более занятый – самый занят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– 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-  the 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еселый –более  веселый – самый весе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9" descr="Картинка 29 из 1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09680"/>
            <a:ext cx="3451320" cy="266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a</dc:creator>
  <dc:description/>
  <dc:language>en-US</dc:language>
  <cp:lastModifiedBy>PC</cp:lastModifiedBy>
  <dcterms:modified xsi:type="dcterms:W3CDTF">2016-05-22T10:23:0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