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87AC-0A31-4039-B78F-FAF295A3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6F09-7700-44E2-9094-9BC06F6B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077F-9DA1-43C3-8AAA-254BBC8D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B83C-0EC7-4387-859A-965F7CE2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6347-E690-44C6-ADB0-75696987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8AE8-D4E0-45F9-B9BE-2F7494B7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1DA5-810E-45AD-9257-42A49EE4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4761-68BA-4E85-B306-8D38A4C1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C6BD-827D-49CC-8462-024DA43E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F9F2-475F-4BE1-A621-A6574380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8716-32EE-4A20-86B0-3A84E771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995-B01F-4528-94A5-FD49F9B6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36DD-521D-4FC4-96BE-298A4E75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7651-F000-413F-89E3-57FE6831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5D6A-1D28-4B7D-BA2D-9EE841E4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47BF-8946-45C9-932D-994C268F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48B3-56BE-4789-8DD4-D0E91E52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4160-5BF8-4D5E-8B18-952A09C8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5135-F8BA-498F-85F8-51604D9E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42F-B36B-4E83-9568-7DC91160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265D-F4D7-4E14-BE44-381AC76F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06C0-BA55-468E-8ACB-44830496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C91-1EB4-440B-BB4E-162B6E2D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B47-599A-4FBC-8F6D-0D2948FC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093F-19DF-4421-BE6C-E75B3CF058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51D8-48A0-46A7-8006-85A0B40BCB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Диалог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 вредных соблазна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щита от угро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Содержимое 3" descr="13_защита от угрозы.JPG"/>
          <p:cNvPicPr/>
          <p:nvPr/>
        </p:nvPicPr>
        <p:blipFill>
          <a:blip r:embed="rId1"/>
          <a:stretch/>
        </p:blipFill>
        <p:spPr>
          <a:xfrm>
            <a:off x="1165320" y="1600200"/>
            <a:ext cx="681336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аг к здоровью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Содержимое 3" descr="15_шаг к здоровью.JPG"/>
          <p:cNvPicPr/>
          <p:nvPr/>
        </p:nvPicPr>
        <p:blipFill>
          <a:blip r:embed="rId1"/>
          <a:stretch/>
        </p:blipFill>
        <p:spPr>
          <a:xfrm>
            <a:off x="1173240" y="1600200"/>
            <a:ext cx="679752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Счастье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желаю счастья Вам..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925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1925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192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192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ляющие здор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Содержимое 3" descr="2_3 составляющие здоровья.JPG"/>
          <p:cNvPicPr/>
          <p:nvPr/>
        </p:nvPicPr>
        <p:blipFill>
          <a:blip r:embed="rId1"/>
          <a:stretch/>
        </p:blipFill>
        <p:spPr>
          <a:xfrm>
            <a:off x="1182600" y="1600200"/>
            <a:ext cx="677880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лементы ЗО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Содержимое 3" descr="4_ЗОЖ.JPG"/>
          <p:cNvPicPr/>
          <p:nvPr/>
        </p:nvPicPr>
        <p:blipFill>
          <a:blip r:embed="rId1"/>
          <a:stretch/>
        </p:blipFill>
        <p:spPr>
          <a:xfrm>
            <a:off x="1182600" y="1600200"/>
            <a:ext cx="677880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кторы ри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Содержимое 3" descr="4_ЗОЖ.JPG"/>
          <p:cNvPicPr/>
          <p:nvPr/>
        </p:nvPicPr>
        <p:blipFill>
          <a:blip r:embed="rId1"/>
          <a:stretch/>
        </p:blipFill>
        <p:spPr>
          <a:xfrm>
            <a:off x="1182600" y="1617840"/>
            <a:ext cx="677880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хие циф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1447920" y="16002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данным Всемирной Организации Здравоохранени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3200400" y="21337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ЖЕГОДНО УМИРАЮ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олния 5"/>
          <p:cNvSpPr/>
          <p:nvPr/>
        </p:nvSpPr>
        <p:spPr>
          <a:xfrm rot="6952200">
            <a:off x="2717280" y="3168720"/>
            <a:ext cx="2021040" cy="3636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олния 6"/>
          <p:cNvSpPr/>
          <p:nvPr/>
        </p:nvSpPr>
        <p:spPr>
          <a:xfrm rot="2856600">
            <a:off x="4148280" y="3139560"/>
            <a:ext cx="2020680" cy="363600"/>
          </a:xfrm>
          <a:prstGeom prst="lightningBolt">
            <a:avLst/>
          </a:prstGeom>
          <a:solidFill>
            <a:srgbClr val="f41d0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Рисунок 7" descr="Бутылка.JPG"/>
          <p:cNvPicPr/>
          <p:nvPr/>
        </p:nvPicPr>
        <p:blipFill>
          <a:blip r:embed="rId1"/>
          <a:stretch/>
        </p:blipFill>
        <p:spPr>
          <a:xfrm>
            <a:off x="5867280" y="3701880"/>
            <a:ext cx="371520" cy="10764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8" descr="Сигарета.JPG"/>
          <p:cNvPicPr/>
          <p:nvPr/>
        </p:nvPicPr>
        <p:blipFill>
          <a:blip r:embed="rId2"/>
          <a:stretch/>
        </p:blipFill>
        <p:spPr>
          <a:xfrm>
            <a:off x="2362320" y="4191120"/>
            <a:ext cx="514080" cy="6001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9"/>
          <p:cNvSpPr/>
          <p:nvPr/>
        </p:nvSpPr>
        <p:spPr>
          <a:xfrm>
            <a:off x="1219320" y="48769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 миллиона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человек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т курения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Box 10"/>
          <p:cNvSpPr/>
          <p:nvPr/>
        </p:nvSpPr>
        <p:spPr>
          <a:xfrm>
            <a:off x="4495680" y="48769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6 миллионов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человек от алкоголизма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Box 11"/>
          <p:cNvSpPr/>
          <p:nvPr/>
        </p:nvSpPr>
        <p:spPr>
          <a:xfrm>
            <a:off x="380880" y="5638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нозируется, что в 2020 году от курения погибнут окол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10 миллионов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еловек в возрасте от 30 до 40 лет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к гу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Содержимое 3" descr="9_рак губы.jpg"/>
          <p:cNvPicPr/>
          <p:nvPr/>
        </p:nvPicPr>
        <p:blipFill>
          <a:blip r:embed="rId1"/>
          <a:stretch/>
        </p:blipFill>
        <p:spPr>
          <a:xfrm>
            <a:off x="2263680" y="1600200"/>
            <a:ext cx="461664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гкие здорового челове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курильщ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Содержимое 3" descr="11_легкие курильщика.jpg"/>
          <p:cNvPicPr/>
          <p:nvPr/>
        </p:nvPicPr>
        <p:blipFill>
          <a:blip r:embed="rId1"/>
          <a:stretch/>
        </p:blipFill>
        <p:spPr>
          <a:xfrm>
            <a:off x="4684680" y="3048120"/>
            <a:ext cx="4125960" cy="35179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4" descr="10_легкие здоровые.jpg"/>
          <p:cNvPicPr/>
          <p:nvPr/>
        </p:nvPicPr>
        <p:blipFill>
          <a:blip r:embed="rId2"/>
          <a:stretch/>
        </p:blipFill>
        <p:spPr>
          <a:xfrm>
            <a:off x="380880" y="1752480"/>
            <a:ext cx="401328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ти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Содержимое 3" descr="12_мотивы.JPG"/>
          <p:cNvPicPr/>
          <p:nvPr/>
        </p:nvPicPr>
        <p:blipFill>
          <a:blip r:embed="rId1"/>
          <a:stretch/>
        </p:blipFill>
        <p:spPr>
          <a:xfrm>
            <a:off x="1171440" y="1600200"/>
            <a:ext cx="680112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а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Содержимое 3" descr="14_анаграммы.JPG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6832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609480" y="10666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сставьте буквы в правильном порядке, чтобы получить слова – последствия воздействия алкоголя на организ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06:19:20Z</dcterms:created>
  <dc:creator>Konstantin Albychev</dc:creator>
  <dc:description/>
  <dc:language>en-US</dc:language>
  <cp:lastModifiedBy>admin</cp:lastModifiedBy>
  <dcterms:modified xsi:type="dcterms:W3CDTF">2012-02-10T05:32:05Z</dcterms:modified>
  <cp:revision>30</cp:revision>
  <dc:subject/>
  <dc:title>Слайд 1</dc:title>
</cp:coreProperties>
</file>