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CAE-9B1F-45B0-8EB4-083B2124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85B-B08A-47FE-B43C-08FDA05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AD8-6D57-4E55-BD47-92E8E7B3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886-E33A-4DA0-99B8-3A650D93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24D3-6F11-40D3-8E66-FC5769F3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2289-9AD0-4B8C-85B0-B2D9F0DF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3021-0DA4-41DE-B2A1-BA2694DA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A7EA-DD22-48A7-AD69-83AAD23E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700-44BA-444A-A624-56CD9E1F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D318-42D9-4A1C-8151-0D126EB0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C0B0-D528-409E-9F45-C96FD13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DC5-3791-47D3-B854-8ACF2DC4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DD10-D23B-4415-9628-E1FCB12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55F9-2033-4CA1-AAD1-FDC5A7A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B732-775A-4C4E-BBAC-2DC41936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A251-B981-495F-83BE-7B1ED5B9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F9E7-A8D5-4BCE-90F4-D0CB218A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B37-0EF9-42D1-8C9E-4738ACB0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9B8-3A97-4302-B51E-CAB040FD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EA4-168D-403A-8B86-BBE78C9D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B60-2D3D-41E8-8300-B2DAC78E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3AC-B87C-4E06-8F9F-978FC43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729-7522-417F-A933-A744C80C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E10-3703-45F7-AF06-B710AA2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A678-F51F-498F-B88E-CF022786D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84AA-C1A6-46A1-A192-ECE5FF56A16D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жите о строении и работе мыш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&amp;Bcy;&amp;icy;&amp;ocy;&amp;lcy;&amp;ocy;&amp;gcy;&amp;icy;&amp;yacy; &amp;dcy;&amp;lcy;&amp;yacy; &amp;ucy;&amp;chcy;&amp;iecy;&amp;ncy;&amp;icy;&amp;kcy;&amp;ocy;&amp;vcy; &amp;icy; &amp;ucy;&amp;chcy;&amp;icy;&amp;tcy;&amp;iecy;&amp;lcy;&amp;iecy;&amp;jcy;"/>
          <p:cNvPicPr/>
          <p:nvPr/>
        </p:nvPicPr>
        <p:blipFill>
          <a:blip r:embed="rId1"/>
          <a:srcRect l="0" t="3697" r="0" b="0"/>
          <a:stretch/>
        </p:blipFill>
        <p:spPr>
          <a:xfrm>
            <a:off x="3352680" y="609480"/>
            <a:ext cx="495144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очему важно иметь правильную осанку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ктическая работа «Гибок ли ваш позвоночник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. 3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&amp;Scy;&amp;kcy;&amp;ocy;&amp;lcy;&amp;icy;&amp;ocy;&amp;zcy;. &amp;Ncy;&amp;acy;&amp;rcy;&amp;ucy;&amp;shcy;&amp;iecy;&amp;ncy;&amp;icy;"/>
          <p:cNvPicPr/>
          <p:nvPr/>
        </p:nvPicPr>
        <p:blipFill>
          <a:blip r:embed="rId1"/>
          <a:stretch/>
        </p:blipFill>
        <p:spPr>
          <a:xfrm>
            <a:off x="380880" y="270000"/>
            <a:ext cx="8763120" cy="6054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&amp;Tcy;&amp;acy;&amp;kcy;&amp;icy;&amp;iecy; &amp;pcy;&amp;ocy;&amp;zcy;&amp;ycy; &amp;scy;&amp;pcy;&amp;ocy;&amp;scy;&amp;ocy;&amp;bcy;&amp;scy;&amp;tcy;&amp;vcy;&amp;ucy;&amp;yucy;&amp;tcy; &amp;fcy;&amp;ocy;&amp;rcy;&amp;mcy;&amp;icy;&amp;rcy;&amp;ocy;&amp;vcy;&amp;acy;&amp;ncy;&amp;icy;&amp;yucy; &amp;ncy;&amp;iecy;&amp;pcy;&amp;rcy;&amp;acy;&amp;vcy;&amp;icy;&amp;lcy;&amp;softcy;&amp;ncy;&amp;ocy;&amp;jcy; &amp;ocy;&amp;scy;&amp;acy;&amp;ncy;&amp;kcy;&amp;icy; - &amp;Kcy;&amp;acy;&amp;rcy;&amp;tcy;&amp;icy;&amp;ncy;&amp;kcy;&amp;acy; 7145/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66"/>
                </a:solidFill>
                <a:latin typeface="Arial"/>
              </a:rPr>
              <a:t>Плоскостопи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ормация формы стопы с понижением ее с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такой деформации, стопы полностью теряют свои рессорные и амортизирующие способ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est Shoes For Flat Feet humuguge24"/>
          <p:cNvPicPr/>
          <p:nvPr/>
        </p:nvPicPr>
        <p:blipFill>
          <a:blip r:embed="rId1"/>
          <a:stretch/>
        </p:blipFill>
        <p:spPr>
          <a:xfrm>
            <a:off x="4648320" y="1676520"/>
            <a:ext cx="400032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&amp;Pcy;&amp;lcy;&amp;ocy;&amp;scy;&amp;kcy;&amp;ocy;&amp;scy;&amp;tcy;&amp;ocy;&amp;pcy;&amp;icy;&amp;iecy; &amp;icy; &amp;Lcy;&amp;Fcy;&amp;Kcy;"/>
          <p:cNvPicPr/>
          <p:nvPr/>
        </p:nvPicPr>
        <p:blipFill>
          <a:blip r:embed="rId1"/>
          <a:stretch/>
        </p:blipFill>
        <p:spPr>
          <a:xfrm>
            <a:off x="990720" y="1447920"/>
            <a:ext cx="714348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&amp;Pcy;&amp;lcy;&amp;ocy;&amp;scy;&amp;kcy;&amp;ocy;&amp;scy;&amp;tcy;&amp;ocy;&amp;pcy;&amp;icy;&amp;iecy; (&amp;vcy;&amp;ycy;&amp;yacy;&amp;vcy;&amp;lcy;&amp;iecy;&amp;ncy;&amp;icy;&amp;iecy; , &amp;pcy;&amp;rcy;&amp;iecy;&amp;dcy;&amp;ocy;&amp;tcy;&amp;vcy;&amp;rcy;&amp;acy;&amp;shchcy;&amp;iecy;&amp;ncy;&amp;icy;&amp;iecy; , &amp;lcy;&amp;iecy;&amp;chcy;&amp;iecy;&amp;ncy;&amp;icy;&amp;iecy;)"/>
          <p:cNvPicPr/>
          <p:nvPr/>
        </p:nvPicPr>
        <p:blipFill>
          <a:blip r:embed="rId1"/>
          <a:stretch/>
        </p:blipFill>
        <p:spPr>
          <a:xfrm>
            <a:off x="914400" y="228600"/>
            <a:ext cx="7191360" cy="4576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981080" y="54100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Домашняя практическая работа  «Есть ли у вас плоскостопие?» стр. 61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аковы причины плоскостопия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ишите в тетрадь не менее 3 причин плоскостопия, используя имеющиеся знания и материал учебника (стр. 60, параграф 12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990720" y="4800600"/>
            <a:ext cx="70866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Д/з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Выполните практическую работу «Есть ли у вас плоскостопие?» (стр. 61) и результаты оформите в тетрадь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оследствия плоскостоп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&amp;Pcy;&amp;ocy;&amp;scy;&amp;lcy;&amp;iecy;&amp;dcy;&amp;scy;&amp;tcy;&amp;vcy;&amp;icy;&amp;yacy; &amp;pcy;&amp;lcy;&amp;ocy;&amp;scy;&amp;kcy;&amp;ocy;&amp;scy;&amp;tcy;&amp;ocy;&amp;pcy;&amp;icy;&amp;yacy;"/>
          <p:cNvPicPr/>
          <p:nvPr/>
        </p:nvPicPr>
        <p:blipFill>
          <a:blip r:embed="rId1"/>
          <a:stretch/>
        </p:blipFill>
        <p:spPr>
          <a:xfrm>
            <a:off x="2286000" y="1066680"/>
            <a:ext cx="4962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&amp;Pcy;&amp;rcy;&amp;acy;&amp;vcy;&amp;icy;&amp;lcy;&amp;softcy;&amp;ncy;&amp;acy;&amp;yacy; &amp;ocy;&amp;scy;&amp;acy;&amp;ncy;&amp;kcy;&amp;acy; - &amp;Kcy;&amp;rcy;&amp;acy;&amp;scy;&amp;ocy;&amp;tcy;&amp;acy; - &amp;Kcy;&amp;acy;&amp;rcy;&amp;tcy;&amp;icy;&amp;ncy;&amp;kcy;&amp;icy; &amp;pcy;&amp;ocy; &amp;fcy;&amp;icy;&amp;zcy;&amp;kcy;&amp;ucy;&amp;lcy;&amp;softcy;&amp;tcy;&amp;ucy;&amp;r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924360" cy="6629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8769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чего зависит амплитуда движений мышц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роисходит утомление мышц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осле длительной или непривычной нагрузки мышцы боля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делать так, чтобы утомление не наступало быстро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намическая и статическая работа мыш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ак рассчитать оптимальную высоту каблук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у стопы в см поделить на 7 (ортопед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тимальный каблук от 2 до 4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7" name="Picture 1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5410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&amp;Ocy;&amp;scy;&amp;acy;&amp;ncy;&amp;kcy;&amp;acy;"/>
          <p:cNvPicPr/>
          <p:nvPr/>
        </p:nvPicPr>
        <p:blipFill>
          <a:blip r:embed="rId1"/>
          <a:stretch/>
        </p:blipFill>
        <p:spPr>
          <a:xfrm>
            <a:off x="523800" y="533520"/>
            <a:ext cx="86202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Домашняя работа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граф 12, выполнить 2 практические работы (стр.59 и стр. 61) и результаты оформить в тетр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ворческое задание (по желанию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ить буклет-памятку «Предупреждение нарушения осанки и плоскостоп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рушение осанки и плоскостоп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Осанк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ивычное положение тела человека в покое и при движен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&amp;Ucy;&amp;chcy;&amp;iecy;&amp;bcy;&amp;ncy;&amp;ocy;-&amp;mcy;&amp;iecy;&amp;tcy;&amp;ocy;&amp;dcy;&amp;icy;&amp;chcy;&amp;iecy;&amp;scy;&amp;kcy;&amp;ocy;&amp;iecy; &amp;pcy;&amp;ocy;&amp;scy;&amp;ocy;&amp;bcy;&amp;icy;&amp;iecy; &amp;Rcy;&amp;iecy;&amp;kcy;&amp;ocy;&amp;mcy;&amp;iecy;&amp;ncy;&amp;dcy;&amp;ocy;&amp;vcy;&amp;acy;&amp;ncy;&amp;ocy; &amp;mcy;&amp;iecy;&amp;tcy;&amp;ocy;&amp;dcy;&amp;icy;&amp;chcy;&amp;iecy;&amp;scy;&amp;kcy;&amp;ocy;&amp;jcy; &amp;kcy;&amp;ocy;&amp;mcy;&amp;icy;&amp;scy;…"/>
          <p:cNvPicPr/>
          <p:nvPr/>
        </p:nvPicPr>
        <p:blipFill>
          <a:blip r:embed="rId1"/>
          <a:stretch/>
        </p:blipFill>
        <p:spPr>
          <a:xfrm>
            <a:off x="685800" y="1523880"/>
            <a:ext cx="2305080" cy="470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&amp;Zcy;&amp;acy;&amp;dcy;&amp;acy;&amp;chcy;&amp;icy;: &amp;Dcy;&amp;acy;&amp;tcy;&amp;softcy; &amp;zcy;&amp;ncy;&amp;acy;&amp;ncy;&amp;icy;&amp;yacy; &amp;ocy; &amp;tcy;&amp;icy;&amp;pcy;&amp;acy;&amp;khcy; &amp;dcy;&amp;iecy;&amp;fcy;&amp;ocy;&amp;rcy;&amp;mcy;&amp;acy;&amp;tscy;&amp;icy;&amp;icy;, &amp;ocy; &amp;gcy;&amp;icy;&amp;gcy;&amp;icy;&amp;iecy;&amp;ncy;&amp;icy;&amp;chcy;&amp;iecy;&amp;scy;&amp;kcy;&amp;icy;&amp;khcy; &amp;tcy;&amp;rcy;&amp;iecy;&amp;bcy;&amp;ocy;&amp;vcy;&amp;acy;&amp;ncy;&amp;icy;&amp;yacy;&amp;khcy; &amp;kcy; &amp;ocy;&amp;bcy;&amp;ocy;&amp;rcy;&amp;ucy;&amp;dcy;&amp;ocy;&amp;vcy;&amp;acy;&amp;ncy;&amp;icy;&amp;yucy; &amp;kcy;&amp;lcy;&amp;acy;&amp;scy;&amp;scy;&amp;acy;; &amp;rcy;&amp;acy;&amp;zcy;&amp;vcy;&amp;icy;&amp;tcy;&amp;icy;&amp;iecy; &amp;ucy;&amp;mcy;&amp;iecy;&amp;ncy;&amp;icy;&amp;jcy; &amp;ocy;&amp;pcy;&amp;rcy;&amp;iecy;&amp;dcy;&amp;iecy;&amp;lcy;&amp;yacy;&amp;tcy;&amp;softcy; &amp;tcy;&amp;icy;&amp;pcy;&amp;ycy; &amp;dcy;&amp;iecy;&amp;fcy;&amp;ocy;&amp;rcy;"/>
          <p:cNvPicPr/>
          <p:nvPr/>
        </p:nvPicPr>
        <p:blipFill>
          <a:blip r:embed="rId2"/>
          <a:stretch/>
        </p:blipFill>
        <p:spPr>
          <a:xfrm>
            <a:off x="3276720" y="1447920"/>
            <a:ext cx="503388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28600" y="5105520"/>
            <a:ext cx="3276720" cy="1557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Д/з Практическая  работа «Проверяем правильность осанки» стр. 59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Виды нарушений осанки 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MedPortal - &amp;Ncy;&amp;acy;&amp;rcy;&amp;ucy;&amp;shcy;&amp;iecy;&amp;ncy;&amp;icy;&amp;iecy; &amp;ocy;&amp;scy;&amp;acy;&amp;ncy;&amp;kcy;&amp;icy;: &amp;vcy;&amp;icy;&amp;dcy;&amp;ycy; &amp;icy; &amp;pcy;&amp;rcy;&amp;icy;&amp;chcy;&amp;icy;&amp;ncy;&amp;ycy; &amp;ncy;&amp;acy;&amp;rcy;&amp;ucy;&amp;shcy;&amp;iecy;&amp;ncy;&amp;icy;&amp;yacy; &amp;ocy;&amp;scy;&amp;acy;&amp;ncy;&amp;kcy;&amp;icy;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&amp;Scy;&amp;kcy;&amp;ocy;&amp;lcy;&amp;icy;&amp;ocy;&amp;zcy; &amp;ocy;&amp;pcy;&amp;rcy;&amp;iecy;&amp;dcy;&amp;iecy;&amp;lcy;&amp;icy;&amp;tcy;&amp;softcy;. &amp;Scy;&amp;kcy;&amp;ocy;&amp;lcy;&amp;icy;&amp;ocy;&amp;zcy; - &amp;ncy;&amp;acy;&amp;rcy;&amp;ucy;&amp;shcy;&amp;iecy;&amp;ncy;&amp;icy;&amp;iecy; &amp;ocy;&amp;scy;&amp;acy;&amp;ncy;&amp;kcy;&amp;icy; &amp;ucy; &amp;dcy;&amp;iecy;&amp;tcy;&amp;iecy;&amp;jcy;"/>
          <p:cNvPicPr/>
          <p:nvPr/>
        </p:nvPicPr>
        <p:blipFill>
          <a:blip r:embed="rId1"/>
          <a:stretch/>
        </p:blipFill>
        <p:spPr>
          <a:xfrm>
            <a:off x="-533520" y="533520"/>
            <a:ext cx="96775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&amp;Ncy;&amp;acy;&amp;rcy;&amp;ucy;&amp;shcy;&amp;iecy;&amp;ncy;&amp;icy;&amp;iecy; &amp;ocy;&amp;scy;&amp;acy;&amp;ncy;&amp;kcy;&amp;icy; &amp;ucy; &amp;dcy;&amp;iecy;&amp;tcy;&amp;iecy;&amp;jcy;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edPortal - &amp;Ncy;&amp;acy;&amp;rcy;&amp;ucy;&amp;shcy;&amp;iecy;&amp;ncy;&amp;icy;&amp;iecy; &amp;ocy;&amp;scy;&amp;acy;&amp;ncy;&amp;kcy;&amp;icy;: &amp;vcy;&amp;icy;&amp;dcy;&amp;ycy; &amp;icy; &amp;pcy;&amp;rcy;&amp;icy;&amp;chcy;&amp;icy;&amp;ncy;&amp;ycy; &amp;ncy;&amp;acy;&amp;rcy;&amp;ucy;&amp;shcy;&amp;iecy;&amp;ncy;&amp;icy;&amp;yacy; &amp;ocy;&amp;scy;&amp;acy;&amp;ncy;&amp;kcy;&amp;icy;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&amp;Rcy;&amp;iecy;&amp;acy;&amp;bcy;&amp;icy;&amp;lcy;&amp;icy;&amp;tcy;&amp;acy;&amp;tscy;&amp;icy;&amp;yacy; &amp;ucy; &amp;dcy;&amp;iecy;&amp;tcy;&amp;iecy;&amp;jcy; &amp;pcy;&amp;rcy;&amp;icy; &amp;ncy;&amp;acy;&amp;rcy;&amp;ucy;&amp;shcy;&amp;iecy;&amp;ncy;&amp;icy;&amp;icy; &amp;ocy;&amp;scy;&amp;acy;&amp;ncy;&amp;kcy;&amp;icy; &amp;icy; &amp;scy;&amp;kcy;&amp;ocy;&amp;lcy;&amp;icy;&amp;ocy;&amp;zcy;&amp;iecy;"/>
          <p:cNvPicPr/>
          <p:nvPr/>
        </p:nvPicPr>
        <p:blipFill>
          <a:blip r:embed="rId1"/>
          <a:stretch/>
        </p:blipFill>
        <p:spPr>
          <a:xfrm>
            <a:off x="990720" y="444600"/>
            <a:ext cx="69339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8-03T11:14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