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CB80-94EB-45D3-B905-E4EB2E4AB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B12F-58BE-4E32-9169-8F125AA18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78E2-0075-4E1B-8A52-994F7B3BE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01E8-5475-4B25-8EA9-50D624CC1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B9C4E-5161-41B0-9854-590314A72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EA81D-1F52-4284-A189-0F6FDD56D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0F5A5-D0B7-42BC-A10A-7CF48A306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BD33F-C1CC-4359-84FD-4F23F85BF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62DD7-EBF4-4349-BBF4-2DFE612A0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C80C1-8EB3-486F-AEC5-775E73861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58152-BF2C-42CC-9808-159D3510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6232-272C-42AB-8B60-626A1EB48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D6FD5-C354-4833-B5DE-895AFFB5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B6FB1-FD66-4C05-A0CE-66BBBE35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33B22-E249-4B64-8E83-DCA130CB1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F525D-292C-4F88-86B4-10CD54A7A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2865A-DA10-4212-A85B-0911A78A3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007B-4F24-476F-BF2C-1D13D1407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713E-CB76-4376-9EDF-7CF5A88C6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B6C4-752E-4E58-BCB1-80070606B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CCD9-F785-4F72-9D2D-EB060465A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1017-52AA-45D5-B28F-0CAA9D6D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D6F9-D49F-47BE-8B78-4246F195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A2BB-E4D8-4216-B308-849C0A94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4872C-DB27-4995-993B-99FB429CF7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6701E-F6C4-4DB8-B3FD-F9ECA7C0EC2F}" type="slidenum">
              <a:rPr b="0" lang="ru-RU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сскажите о строении и работе мышц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&amp;Bcy;&amp;icy;&amp;ocy;&amp;lcy;&amp;ocy;&amp;gcy;&amp;icy;&amp;yacy; &amp;dcy;&amp;lcy;&amp;yacy; &amp;ucy;&amp;chcy;&amp;iecy;&amp;ncy;&amp;icy;&amp;kcy;&amp;ocy;&amp;vcy; &amp;icy; &amp;ucy;&amp;chcy;&amp;icy;&amp;tcy;&amp;iecy;&amp;lcy;&amp;iecy;&amp;jcy;"/>
          <p:cNvPicPr/>
          <p:nvPr/>
        </p:nvPicPr>
        <p:blipFill>
          <a:blip r:embed="rId1"/>
          <a:srcRect l="0" t="3697" r="0" b="0"/>
          <a:stretch/>
        </p:blipFill>
        <p:spPr>
          <a:xfrm>
            <a:off x="3352680" y="609480"/>
            <a:ext cx="4951440" cy="59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Почему важно иметь правильную осанку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Практическая работа «Гибок ли ваш позвоночник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тр. 36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&amp;Scy;&amp;kcy;&amp;ocy;&amp;lcy;&amp;icy;&amp;ocy;&amp;zcy;. &amp;Ncy;&amp;acy;&amp;rcy;&amp;ucy;&amp;shcy;&amp;iecy;&amp;ncy;&amp;icy;"/>
          <p:cNvPicPr/>
          <p:nvPr/>
        </p:nvPicPr>
        <p:blipFill>
          <a:blip r:embed="rId1"/>
          <a:stretch/>
        </p:blipFill>
        <p:spPr>
          <a:xfrm>
            <a:off x="380880" y="270000"/>
            <a:ext cx="8763120" cy="6054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&amp;Tcy;&amp;acy;&amp;kcy;&amp;icy;&amp;iecy; &amp;pcy;&amp;ocy;&amp;zcy;&amp;ycy; &amp;scy;&amp;pcy;&amp;ocy;&amp;scy;&amp;ocy;&amp;bcy;&amp;scy;&amp;tcy;&amp;vcy;&amp;ucy;&amp;yucy;&amp;tcy; &amp;fcy;&amp;ocy;&amp;rcy;&amp;mcy;&amp;icy;&amp;rcy;&amp;ocy;&amp;vcy;&amp;acy;&amp;ncy;&amp;icy;&amp;yucy; &amp;ncy;&amp;iecy;&amp;pcy;&amp;rcy;&amp;acy;&amp;vcy;&amp;icy;&amp;lcy;&amp;softcy;&amp;ncy;&amp;ocy;&amp;jcy; &amp;ocy;&amp;scy;&amp;acy;&amp;ncy;&amp;kcy;&amp;icy; - &amp;Kcy;&amp;acy;&amp;rcy;&amp;tcy;&amp;icy;&amp;ncy;&amp;kcy;&amp;acy; 7145/1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6666"/>
                </a:solidFill>
                <a:latin typeface="Arial"/>
              </a:rPr>
              <a:t>Плоскостопие</a:t>
            </a: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формация формы стопы с понижением ее св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45720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 такой деформации, стопы полностью теряют свои рессорные и амортизирующие способност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Best Shoes For Flat Feet humuguge24"/>
          <p:cNvPicPr/>
          <p:nvPr/>
        </p:nvPicPr>
        <p:blipFill>
          <a:blip r:embed="rId1"/>
          <a:stretch/>
        </p:blipFill>
        <p:spPr>
          <a:xfrm>
            <a:off x="4648320" y="1676520"/>
            <a:ext cx="400032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&amp;Pcy;&amp;lcy;&amp;ocy;&amp;scy;&amp;kcy;&amp;ocy;&amp;scy;&amp;tcy;&amp;ocy;&amp;pcy;&amp;icy;&amp;iecy; &amp;icy; &amp;Lcy;&amp;Fcy;&amp;Kcy;"/>
          <p:cNvPicPr/>
          <p:nvPr/>
        </p:nvPicPr>
        <p:blipFill>
          <a:blip r:embed="rId1"/>
          <a:stretch/>
        </p:blipFill>
        <p:spPr>
          <a:xfrm>
            <a:off x="990720" y="1447920"/>
            <a:ext cx="7143480" cy="41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&amp;Pcy;&amp;lcy;&amp;ocy;&amp;scy;&amp;kcy;&amp;ocy;&amp;scy;&amp;tcy;&amp;ocy;&amp;pcy;&amp;icy;&amp;iecy; (&amp;vcy;&amp;ycy;&amp;yacy;&amp;vcy;&amp;lcy;&amp;iecy;&amp;ncy;&amp;icy;&amp;iecy; , &amp;pcy;&amp;rcy;&amp;iecy;&amp;dcy;&amp;ocy;&amp;tcy;&amp;vcy;&amp;rcy;&amp;acy;&amp;shchcy;&amp;iecy;&amp;ncy;&amp;icy;&amp;iecy; , &amp;lcy;&amp;iecy;&amp;chcy;&amp;iecy;&amp;ncy;&amp;icy;&amp;iecy;)"/>
          <p:cNvPicPr/>
          <p:nvPr/>
        </p:nvPicPr>
        <p:blipFill>
          <a:blip r:embed="rId1"/>
          <a:stretch/>
        </p:blipFill>
        <p:spPr>
          <a:xfrm>
            <a:off x="914400" y="228600"/>
            <a:ext cx="7191360" cy="45766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1981080" y="541008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Домашняя практическая работа  «Есть ли у вас плоскостопие?» стр. 61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Каковы причины плоскостопия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пишите в тетрадь не менее 3 причин плоскостопия, используя имеющиеся знания и материал учебника (стр. 60, параграф 12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4"/>
          <p:cNvSpPr/>
          <p:nvPr/>
        </p:nvSpPr>
        <p:spPr>
          <a:xfrm>
            <a:off x="990720" y="4800600"/>
            <a:ext cx="7086600" cy="155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"/>
              </a:rPr>
              <a:t>Д/з: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"/>
              </a:rPr>
              <a:t>Выполните практическую работу «Есть ли у вас плоскостопие?» (стр. 61) и результаты оформите в тетрадь</a:t>
            </a: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Последствия плоскостопия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&amp;Pcy;&amp;ocy;&amp;scy;&amp;lcy;&amp;iecy;&amp;dcy;&amp;scy;&amp;tcy;&amp;vcy;&amp;icy;&amp;yacy; &amp;pcy;&amp;lcy;&amp;ocy;&amp;scy;&amp;kcy;&amp;ocy;&amp;scy;&amp;tcy;&amp;ocy;&amp;pcy;&amp;icy;&amp;yacy;"/>
          <p:cNvPicPr/>
          <p:nvPr/>
        </p:nvPicPr>
        <p:blipFill>
          <a:blip r:embed="rId1"/>
          <a:stretch/>
        </p:blipFill>
        <p:spPr>
          <a:xfrm>
            <a:off x="2286000" y="1066680"/>
            <a:ext cx="49626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&amp;Pcy;&amp;rcy;&amp;acy;&amp;vcy;&amp;icy;&amp;lcy;&amp;softcy;&amp;ncy;&amp;acy;&amp;yacy; &amp;ocy;&amp;scy;&amp;acy;&amp;ncy;&amp;kcy;&amp;acy; - &amp;Kcy;&amp;rcy;&amp;acy;&amp;scy;&amp;ocy;&amp;tcy;&amp;acy; - &amp;Kcy;&amp;acy;&amp;rcy;&amp;tcy;&amp;icy;&amp;ncy;&amp;kcy;&amp;icy; &amp;pcy;&amp;ocy; &amp;fcy;&amp;icy;&amp;zcy;&amp;kcy;&amp;ucy;&amp;lcy;&amp;softcy;&amp;tcy;&amp;ucy;&amp;rcy;&amp;ie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48" name="Picture 6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3924360" cy="66294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"/>
          <p:cNvPicPr/>
          <p:nvPr/>
        </p:nvPicPr>
        <p:blipFill>
          <a:blip r:embed="rId2"/>
          <a:stretch/>
        </p:blipFill>
        <p:spPr>
          <a:xfrm>
            <a:off x="4038480" y="1143000"/>
            <a:ext cx="4876920" cy="38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3880" y="129528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т чего зависит амплитуда движений мышцы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чему происходит утомление мышц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чему после длительной или непривычной нагрузки мышцы болят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к сделать так, чтобы утомление не наступало быстро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инамическая и статическая работа мышц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Как рассчитать оптимальную высоту каблука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лину стопы в см поделить на 7 (ортопеды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тимальный каблук от 2 до 4 с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4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5" name="AutoShape 11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6" name="AutoShape 1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57" name="Picture 14" descr=""/>
          <p:cNvPicPr/>
          <p:nvPr/>
        </p:nvPicPr>
        <p:blipFill>
          <a:blip r:embed="rId1"/>
          <a:stretch/>
        </p:blipFill>
        <p:spPr>
          <a:xfrm>
            <a:off x="3429000" y="1828800"/>
            <a:ext cx="541008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5" descr="&amp;Ocy;&amp;scy;&amp;acy;&amp;ncy;&amp;kcy;&amp;acy;"/>
          <p:cNvPicPr/>
          <p:nvPr/>
        </p:nvPicPr>
        <p:blipFill>
          <a:blip r:embed="rId1"/>
          <a:stretch/>
        </p:blipFill>
        <p:spPr>
          <a:xfrm>
            <a:off x="523800" y="533520"/>
            <a:ext cx="8620200" cy="58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Домашняя работа: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араграф 12, выполнить 2 практические работы (стр.59 и стр. 61) и результаты оформить в тетрад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ворческое задание (по желанию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дготовить буклет-памятку «Предупреждение нарушения осанки и плоскостопия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Нарушение осанки и плоскостоп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209680" y="380880"/>
            <a:ext cx="647712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Осанка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привычное положение тела человека в покое и при движени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28640" y="14479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&amp;Ucy;&amp;chcy;&amp;iecy;&amp;bcy;&amp;ncy;&amp;ocy;-&amp;mcy;&amp;iecy;&amp;tcy;&amp;ocy;&amp;dcy;&amp;icy;&amp;chcy;&amp;iecy;&amp;scy;&amp;kcy;&amp;ocy;&amp;iecy; &amp;pcy;&amp;ocy;&amp;scy;&amp;ocy;&amp;bcy;&amp;icy;&amp;iecy; &amp;Rcy;&amp;iecy;&amp;kcy;&amp;ocy;&amp;mcy;&amp;iecy;&amp;ncy;&amp;dcy;&amp;ocy;&amp;vcy;&amp;acy;&amp;ncy;&amp;ocy; &amp;mcy;&amp;iecy;&amp;tcy;&amp;ocy;&amp;dcy;&amp;icy;&amp;chcy;&amp;iecy;&amp;scy;&amp;kcy;&amp;ocy;&amp;jcy; &amp;kcy;&amp;ocy;&amp;mcy;&amp;icy;&amp;scy;…"/>
          <p:cNvPicPr/>
          <p:nvPr/>
        </p:nvPicPr>
        <p:blipFill>
          <a:blip r:embed="rId1"/>
          <a:stretch/>
        </p:blipFill>
        <p:spPr>
          <a:xfrm>
            <a:off x="685800" y="1523880"/>
            <a:ext cx="2305080" cy="4705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&amp;Zcy;&amp;acy;&amp;dcy;&amp;acy;&amp;chcy;&amp;icy;: &amp;Dcy;&amp;acy;&amp;tcy;&amp;softcy; &amp;zcy;&amp;ncy;&amp;acy;&amp;ncy;&amp;icy;&amp;yacy; &amp;ocy; &amp;tcy;&amp;icy;&amp;pcy;&amp;acy;&amp;khcy; &amp;dcy;&amp;iecy;&amp;fcy;&amp;ocy;&amp;rcy;&amp;mcy;&amp;acy;&amp;tscy;&amp;icy;&amp;icy;, &amp;ocy; &amp;gcy;&amp;icy;&amp;gcy;&amp;icy;&amp;iecy;&amp;ncy;&amp;icy;&amp;chcy;&amp;iecy;&amp;scy;&amp;kcy;&amp;icy;&amp;khcy; &amp;tcy;&amp;rcy;&amp;iecy;&amp;bcy;&amp;ocy;&amp;vcy;&amp;acy;&amp;ncy;&amp;icy;&amp;yacy;&amp;khcy; &amp;kcy; &amp;ocy;&amp;bcy;&amp;ocy;&amp;rcy;&amp;ucy;&amp;dcy;&amp;ocy;&amp;vcy;&amp;acy;&amp;ncy;&amp;icy;&amp;yucy; &amp;kcy;&amp;lcy;&amp;acy;&amp;scy;&amp;scy;&amp;acy;; &amp;rcy;&amp;acy;&amp;zcy;&amp;vcy;&amp;icy;&amp;tcy;&amp;icy;&amp;iecy; &amp;ucy;&amp;mcy;&amp;iecy;&amp;ncy;&amp;icy;&amp;jcy; &amp;ocy;&amp;pcy;&amp;rcy;&amp;iecy;&amp;dcy;&amp;iecy;&amp;lcy;&amp;yacy;&amp;tcy;&amp;softcy; &amp;tcy;&amp;icy;&amp;pcy;&amp;ycy; &amp;dcy;&amp;iecy;&amp;fcy;&amp;ocy;&amp;rcy;"/>
          <p:cNvPicPr/>
          <p:nvPr/>
        </p:nvPicPr>
        <p:blipFill>
          <a:blip r:embed="rId2"/>
          <a:stretch/>
        </p:blipFill>
        <p:spPr>
          <a:xfrm>
            <a:off x="3276720" y="1447920"/>
            <a:ext cx="5033880" cy="54100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8"/>
          <p:cNvSpPr/>
          <p:nvPr/>
        </p:nvSpPr>
        <p:spPr>
          <a:xfrm>
            <a:off x="228600" y="5105520"/>
            <a:ext cx="3276720" cy="1557000"/>
          </a:xfrm>
          <a:prstGeom prst="rect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Д/з Практическая  работа «Проверяем правильность осанки» стр. 59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Виды нарушений осанки 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MedPortal - &amp;Ncy;&amp;acy;&amp;rcy;&amp;ucy;&amp;shcy;&amp;iecy;&amp;ncy;&amp;icy;&amp;iecy; &amp;ocy;&amp;scy;&amp;acy;&amp;ncy;&amp;kcy;&amp;icy;: &amp;vcy;&amp;icy;&amp;dcy;&amp;ycy; &amp;icy; &amp;pcy;&amp;rcy;&amp;icy;&amp;chcy;&amp;icy;&amp;ncy;&amp;ycy; &amp;ncy;&amp;acy;&amp;rcy;&amp;ucy;&amp;shcy;&amp;iecy;&amp;ncy;&amp;icy;&amp;yacy; &amp;ocy;&amp;scy;&amp;acy;&amp;ncy;&amp;kcy;&amp;icy;"/>
          <p:cNvPicPr/>
          <p:nvPr/>
        </p:nvPicPr>
        <p:blipFill>
          <a:blip r:embed="rId1"/>
          <a:stretch/>
        </p:blipFill>
        <p:spPr>
          <a:xfrm>
            <a:off x="914400" y="1981080"/>
            <a:ext cx="762012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&amp;Scy;&amp;kcy;&amp;ocy;&amp;lcy;&amp;icy;&amp;ocy;&amp;zcy; &amp;ocy;&amp;pcy;&amp;rcy;&amp;iecy;&amp;dcy;&amp;iecy;&amp;lcy;&amp;icy;&amp;tcy;&amp;softcy;. &amp;Scy;&amp;kcy;&amp;ocy;&amp;lcy;&amp;icy;&amp;ocy;&amp;zcy; - &amp;ncy;&amp;acy;&amp;rcy;&amp;ucy;&amp;shcy;&amp;iecy;&amp;ncy;&amp;icy;&amp;iecy; &amp;ocy;&amp;scy;&amp;acy;&amp;ncy;&amp;kcy;&amp;icy; &amp;ucy; &amp;dcy;&amp;iecy;&amp;tcy;&amp;iecy;&amp;jcy;"/>
          <p:cNvPicPr/>
          <p:nvPr/>
        </p:nvPicPr>
        <p:blipFill>
          <a:blip r:embed="rId1"/>
          <a:stretch/>
        </p:blipFill>
        <p:spPr>
          <a:xfrm>
            <a:off x="-533520" y="533520"/>
            <a:ext cx="967752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&amp;Ncy;&amp;acy;&amp;rcy;&amp;ucy;&amp;shcy;&amp;iecy;&amp;ncy;&amp;icy;&amp;iecy; &amp;ocy;&amp;scy;&amp;acy;&amp;ncy;&amp;kcy;&amp;icy; &amp;ucy; &amp;dcy;&amp;iecy;&amp;tcy;&amp;iecy;&amp;jcy;"/>
          <p:cNvPicPr/>
          <p:nvPr/>
        </p:nvPicPr>
        <p:blipFill>
          <a:blip r:embed="rId1"/>
          <a:stretch/>
        </p:blipFill>
        <p:spPr>
          <a:xfrm>
            <a:off x="1447920" y="304920"/>
            <a:ext cx="61722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MedPortal - &amp;Ncy;&amp;acy;&amp;rcy;&amp;ucy;&amp;shcy;&amp;iecy;&amp;ncy;&amp;icy;&amp;iecy; &amp;ocy;&amp;scy;&amp;acy;&amp;ncy;&amp;kcy;&amp;icy;: &amp;vcy;&amp;icy;&amp;dcy;&amp;ycy; &amp;icy; &amp;pcy;&amp;rcy;&amp;icy;&amp;chcy;&amp;icy;&amp;ncy;&amp;ycy; &amp;ncy;&amp;acy;&amp;rcy;&amp;ucy;&amp;shcy;&amp;iecy;&amp;ncy;&amp;icy;&amp;yacy; &amp;ocy;&amp;scy;&amp;acy;&amp;ncy;&amp;kcy;&amp;icy;"/>
          <p:cNvPicPr/>
          <p:nvPr/>
        </p:nvPicPr>
        <p:blipFill>
          <a:blip r:embed="rId1"/>
          <a:stretch/>
        </p:blipFill>
        <p:spPr>
          <a:xfrm>
            <a:off x="914400" y="1981080"/>
            <a:ext cx="762012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&amp;Rcy;&amp;iecy;&amp;acy;&amp;bcy;&amp;icy;&amp;lcy;&amp;icy;&amp;tcy;&amp;acy;&amp;tscy;&amp;icy;&amp;yacy; &amp;ucy; &amp;dcy;&amp;iecy;&amp;tcy;&amp;iecy;&amp;jcy; &amp;pcy;&amp;rcy;&amp;icy; &amp;ncy;&amp;acy;&amp;rcy;&amp;ucy;&amp;shcy;&amp;iecy;&amp;ncy;&amp;icy;&amp;icy; &amp;ocy;&amp;scy;&amp;acy;&amp;ncy;&amp;kcy;&amp;icy; &amp;icy; &amp;scy;&amp;kcy;&amp;ocy;&amp;lcy;&amp;icy;&amp;ocy;&amp;zcy;&amp;iecy;"/>
          <p:cNvPicPr/>
          <p:nvPr/>
        </p:nvPicPr>
        <p:blipFill>
          <a:blip r:embed="rId1"/>
          <a:stretch/>
        </p:blipFill>
        <p:spPr>
          <a:xfrm>
            <a:off x="990720" y="444600"/>
            <a:ext cx="693396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6-08-03T11:14:47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