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10.png" ContentType="image/png"/>
  <Override PartName="/ppt/media/image2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7F36-8E23-462F-974E-0271927A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084-C8C2-4675-AE23-D071AB55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CEB74-8AFE-4D48-91F8-39F9AACA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97D93-5271-4EEC-A3D1-10A36CE9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1D270-FAA1-4891-AEDE-15E6751D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8D0F4-9AF6-4C96-B815-30FB13C8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0E213-1A2E-4F94-99C4-D83C5B7D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114AA-BD30-4B4E-890F-68317E3B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6B37D-B899-49A3-B114-3D1410B3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F34D5-1882-42EA-8252-88CB1370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81B1A-5F8C-4E9E-8EB9-40BEE48D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C13-C794-4E3F-8B1D-4B54A72C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A8D-2622-4C9D-8563-6D59D0E5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B437-C851-4E31-B06A-FC003B69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83EA-4F54-4CC1-82E6-6385DD75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AA1E-E74C-4AD4-9BAB-B01A8981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A0EB-DB47-4CC7-A092-1240EC00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1EFD-695D-4A23-AE71-BFA7F2DB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CE53-7EAB-4C0C-AC08-1468922D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3EA2-2BA6-4BA3-AC03-64ADFC47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75B-3C40-4740-90E9-B977852D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6A6E-A466-483A-A006-EE3DD181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B9D9-6EA0-40F3-9A0F-5587C10F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4E82-6C67-4516-BE9D-D598512E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523C-7E02-4AB3-B0C0-DB049094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D4FC-B508-4AF1-A450-5714BCB2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C6629-A210-40E8-AE00-A20D86EA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B1D59-72B3-4F09-A5EF-88E6756E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F519C-102C-48CE-880E-F9E82240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A118B-6739-482F-A87F-A7D4D04F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FBCF-B6CE-4C61-8920-CB74962C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253-4671-46A2-A17C-E404CBCA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8186-E419-4FEB-B248-241BC0D7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7210-72D8-4F56-9A57-419F8CDC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9B1B-6E36-4FCA-B160-6E65687D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04C9A-AFAA-408E-8572-BC8CF0EC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A9F26-1579-45ED-8AFE-6EC2D2DC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F823F-5E1D-4E86-91AD-039249F0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A7ADF-D21E-4153-AC4D-45D35E29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204B7-46CC-4775-BA17-AE049EFE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D28C-47D1-403D-8046-FC5ED358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D852A-E34D-4073-AB6A-3222F7D0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12A-0FF2-4B8B-901B-BBA608F8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25625-8EEB-4618-AB40-A1908C53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E91BA-3EEA-4339-8BF6-3615ADD8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9C035-9EEC-4F2C-8E4D-80F25D7D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60341-54D6-4B8E-8A62-201491B6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0335C-A230-45ED-8833-50A3CBF1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DB72C-7683-4CC0-BBB1-086234DD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37F4F-B8CA-4757-AF8D-D9660194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0EA1A-192E-4797-9095-150DAF52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34F6B-3258-47BA-B5DE-53857512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D5323-A245-403F-9B86-61CA370D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D4B-7D4B-446E-A47F-A6F5084B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8B9B2-62EC-4017-8F36-64794A81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B0608-3608-4A18-9C97-14C1CC22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F5EAF-5374-4330-B58D-25CBF3C2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783D7-89A6-4994-89BC-CC6C6CBB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EC8AC-7218-44BD-BED7-5FEE59FB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B2F15-15AD-4BCD-8525-94C9C58F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7EBEC-04D0-4305-8E24-CF6E5B67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102E9-24F4-4E2C-B6F8-C2C40A67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F22C5-BB3C-4FAB-8EA5-6ECBA560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E7B42-92E7-4B83-9607-EADCE052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ADEF-5CD9-4139-8C7B-ED95892C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2A796-7CD9-4849-B75A-98D4821F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96837-1E9C-4DF9-B875-D86057BF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12829-9E07-4C2C-AC2A-24DCCD16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DAC70-A573-4B65-A4B6-C6D3E657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2AEEE-B180-4A57-8E18-7488E46B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3112F-8386-4703-A022-44E79EEA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148AE-4D82-4A05-BEB6-2646212D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C02CB-9CC9-439F-8F91-61A027F0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E5BE3-EE9C-424A-B30A-786606DB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48829-499A-4AA7-B85D-D054EEEB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D53-BD38-4C62-B8F3-49B217FD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51A93-B18A-4AFD-8F9D-EC90390F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BA4DB-A90D-4342-BC00-8831D6FA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87150-F2E8-46DD-97DA-11F0547F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540D6-5896-45B9-B16F-B2E7CBCF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3C65E-AA30-4B3D-9553-F72264EB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939F5-8527-4CAD-B983-64CB2E1B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57648-74D1-4226-99DE-20E3ABB9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3F738-02BB-42A3-879B-651CF7A4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AA49F-4978-40BD-8629-186F9A5F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FAC8E-2029-47E3-8260-65E283EF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730-7288-4B0B-82EB-61585F6C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6A00F-A49A-4BF0-A47A-91DCB82C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2D847-5EF6-4817-B3E6-C81EBCF5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A3639-B433-4EE9-84C3-0DA34C2B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F558D-B3CC-4DF0-AA75-9A7685AF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6F7BA-C6C2-4FAE-8614-182B671A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9BF25-B76D-4896-A551-D967B053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ACADB-D402-4703-B3BB-F812F479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9BC03-D7D8-44C4-9C20-D3497B7C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5A37A-B129-487A-BC2D-75CAD962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28631-8682-4F32-BA1E-3A4DE4C7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92D-FFC9-47D2-8A58-76E75EFD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E1B06-81C1-4C3C-95F9-4ED60C61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62E1B-2AB6-4E5F-9508-196C5BD3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33D96-62BC-43DE-98A8-D089FAFD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70BA3-BE98-492E-BD8E-443C711A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0B5C8-6D6E-42E0-8DB8-8C6EB27E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D5F5B-42EE-4AEE-A6CA-412182B5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2F057-0B41-4850-87BB-E119D6F9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8C92B-A1E3-48E9-A32E-D6EA4038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8EC86-3866-462F-ACBA-EB8B8FDF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68764-A84E-4260-A08E-4975733A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8D55-088A-4D9C-AC17-11AF0944CFA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FA8F-DBF4-4684-ACB1-B3EFE75CA8B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40C4-6187-4ADC-9BBF-9336437E965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CE31-A078-4592-9024-7A95E3FEC89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CA27-885D-4184-9102-57A8CE3EAEA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A836-7C40-4C21-BDCD-02A336A2319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851A-73A7-428E-94E6-FA64BCFF3F6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8162-E818-4D11-A767-8C199D3656A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B15F-B0DC-4FF9-BD54-011DDFB835D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23640" y="54450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Arial"/>
              </a:rPr>
              <a:t>Учитель Эм Л.Ф. МБОУ «СШ№43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5428800" y="1600200"/>
            <a:ext cx="37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Уши обычно расположены на уровне от бровей до основания нос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3" name="Рисунок 21" descr=""/>
          <p:cNvPicPr/>
          <p:nvPr/>
        </p:nvPicPr>
        <p:blipFill>
          <a:blip r:embed="rId3"/>
          <a:stretch/>
        </p:blipFill>
        <p:spPr>
          <a:xfrm>
            <a:off x="571680" y="1022400"/>
            <a:ext cx="47145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85840" y="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Верхний край уха расположен на уровне бровей, нижний — на уровне основания носа. Линию глаз можно поделить на пять оди­наковых частей, из которых вторую и четвёртую занимают глаз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Ширина носа равняется длине глаз, а рот немного шире носа.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Расстояние между глазами равно ширине глаз или ширине ос­нования носа. Уши располагаются от линии бровей до линии осно­вания носа, разрез рта — на одну треть расстояния от основания носа до конца подбородк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Рисунок 6" descr=""/>
          <p:cNvPicPr/>
          <p:nvPr/>
        </p:nvPicPr>
        <p:blipFill>
          <a:blip r:embed="rId2"/>
          <a:stretch/>
        </p:blipFill>
        <p:spPr>
          <a:xfrm>
            <a:off x="4589640" y="3857760"/>
            <a:ext cx="4554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9" name="Рисунок 23" descr=""/>
          <p:cNvPicPr/>
          <p:nvPr/>
        </p:nvPicPr>
        <p:blipFill>
          <a:blip r:embed="rId3"/>
          <a:stretch/>
        </p:blipFill>
        <p:spPr>
          <a:xfrm>
            <a:off x="0" y="1214280"/>
            <a:ext cx="4357800" cy="490860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24" descr=""/>
          <p:cNvPicPr/>
          <p:nvPr/>
        </p:nvPicPr>
        <p:blipFill>
          <a:blip r:embed="rId4"/>
          <a:stretch/>
        </p:blipFill>
        <p:spPr>
          <a:xfrm>
            <a:off x="4694400" y="1143000"/>
            <a:ext cx="44496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3" name="Рисунок 2" descr=""/>
          <p:cNvPicPr/>
          <p:nvPr/>
        </p:nvPicPr>
        <p:blipFill>
          <a:blip r:embed="rId2"/>
          <a:stretch/>
        </p:blipFill>
        <p:spPr>
          <a:xfrm>
            <a:off x="0" y="285840"/>
            <a:ext cx="879300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5428800" y="1600200"/>
            <a:ext cx="325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Голова имеет овальную форму, которая делится линией глаз на две примерно одинаковые части, то есть линия глаз находится примерно на середине лиц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Рисунок 1" descr=""/>
          <p:cNvPicPr/>
          <p:nvPr/>
        </p:nvPicPr>
        <p:blipFill>
          <a:blip r:embed="rId3"/>
          <a:stretch/>
        </p:blipFill>
        <p:spPr>
          <a:xfrm>
            <a:off x="500040" y="1666800"/>
            <a:ext cx="49291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906444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Рисунок 7" descr=""/>
          <p:cNvPicPr/>
          <p:nvPr/>
        </p:nvPicPr>
        <p:blipFill>
          <a:blip r:embed="rId3"/>
          <a:stretch/>
        </p:blipFill>
        <p:spPr>
          <a:xfrm>
            <a:off x="642960" y="1643040"/>
            <a:ext cx="77151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Сама шея состоит как бы из трёх условных фигур: прямоугольника и двух треугольник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Рисунок 25" descr=""/>
          <p:cNvPicPr/>
          <p:nvPr/>
        </p:nvPicPr>
        <p:blipFill>
          <a:blip r:embed="rId3"/>
          <a:stretch/>
        </p:blipFill>
        <p:spPr>
          <a:xfrm>
            <a:off x="0" y="3354480"/>
            <a:ext cx="91440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Рисунок 2" descr=""/>
          <p:cNvPicPr/>
          <p:nvPr/>
        </p:nvPicPr>
        <p:blipFill>
          <a:blip r:embed="rId3"/>
          <a:stretch/>
        </p:blipFill>
        <p:spPr>
          <a:xfrm>
            <a:off x="136440" y="1487520"/>
            <a:ext cx="707868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4114800" y="237960"/>
            <a:ext cx="5035680" cy="14875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785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Линия воло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Линия глаз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Линия нос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Линия губ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Прямоугольный треугольник 4"/>
          <p:cNvSpPr/>
          <p:nvPr/>
        </p:nvSpPr>
        <p:spPr>
          <a:xfrm>
            <a:off x="3429000" y="5572080"/>
            <a:ext cx="1571760" cy="71460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ый треугольник 5"/>
          <p:cNvSpPr/>
          <p:nvPr/>
        </p:nvSpPr>
        <p:spPr>
          <a:xfrm flipH="1">
            <a:off x="428040" y="5572080"/>
            <a:ext cx="1438200" cy="7239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6"/>
          <p:cNvSpPr/>
          <p:nvPr/>
        </p:nvSpPr>
        <p:spPr>
          <a:xfrm>
            <a:off x="1857240" y="4714920"/>
            <a:ext cx="157176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Овал 3"/>
          <p:cNvSpPr/>
          <p:nvPr/>
        </p:nvSpPr>
        <p:spPr>
          <a:xfrm>
            <a:off x="1071720" y="785880"/>
            <a:ext cx="3071520" cy="421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8"/>
          <p:cNvSpPr/>
          <p:nvPr/>
        </p:nvSpPr>
        <p:spPr>
          <a:xfrm>
            <a:off x="785880" y="2857680"/>
            <a:ext cx="3786120" cy="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9"/>
          <p:cNvSpPr/>
          <p:nvPr/>
        </p:nvSpPr>
        <p:spPr>
          <a:xfrm>
            <a:off x="714240" y="3857760"/>
            <a:ext cx="3786480" cy="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0"/>
          <p:cNvSpPr/>
          <p:nvPr/>
        </p:nvSpPr>
        <p:spPr>
          <a:xfrm>
            <a:off x="857160" y="1785960"/>
            <a:ext cx="3786120" cy="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3"/>
          <p:cNvSpPr/>
          <p:nvPr/>
        </p:nvSpPr>
        <p:spPr>
          <a:xfrm>
            <a:off x="2571840" y="214200"/>
            <a:ext cx="71280" cy="628668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15"/>
          <p:cNvSpPr/>
          <p:nvPr/>
        </p:nvSpPr>
        <p:spPr>
          <a:xfrm>
            <a:off x="2928960" y="2786040"/>
            <a:ext cx="0" cy="107172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16"/>
          <p:cNvSpPr/>
          <p:nvPr/>
        </p:nvSpPr>
        <p:spPr>
          <a:xfrm>
            <a:off x="2286000" y="2786040"/>
            <a:ext cx="0" cy="107172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олилиния 18"/>
          <p:cNvSpPr/>
          <p:nvPr/>
        </p:nvSpPr>
        <p:spPr>
          <a:xfrm>
            <a:off x="2925720" y="2714760"/>
            <a:ext cx="771480" cy="190440"/>
          </a:xfrm>
          <a:prstGeom prst="pie">
            <a:avLst/>
          </a:prstGeom>
          <a:noFill/>
          <a:ln w="7632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олилиния 19"/>
          <p:cNvSpPr/>
          <p:nvPr/>
        </p:nvSpPr>
        <p:spPr>
          <a:xfrm flipH="1">
            <a:off x="1571760" y="2714760"/>
            <a:ext cx="720720" cy="128520"/>
          </a:xfrm>
          <a:prstGeom prst="pie">
            <a:avLst/>
          </a:prstGeom>
          <a:noFill/>
          <a:ln w="7632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олилиния 20"/>
          <p:cNvSpPr/>
          <p:nvPr/>
        </p:nvSpPr>
        <p:spPr>
          <a:xfrm>
            <a:off x="2786040" y="2448000"/>
            <a:ext cx="969840" cy="154080"/>
          </a:xfrm>
          <a:prstGeom prst="pie">
            <a:avLst/>
          </a:prstGeom>
          <a:noFill/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олилиния 21"/>
          <p:cNvSpPr/>
          <p:nvPr/>
        </p:nvSpPr>
        <p:spPr>
          <a:xfrm flipH="1">
            <a:off x="1500120" y="2500200"/>
            <a:ext cx="938160" cy="111240"/>
          </a:xfrm>
          <a:prstGeom prst="pie">
            <a:avLst/>
          </a:prstGeom>
          <a:noFill/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23"/>
          <p:cNvSpPr/>
          <p:nvPr/>
        </p:nvSpPr>
        <p:spPr>
          <a:xfrm>
            <a:off x="3143160" y="2714760"/>
            <a:ext cx="357120" cy="3571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24"/>
          <p:cNvSpPr/>
          <p:nvPr/>
        </p:nvSpPr>
        <p:spPr>
          <a:xfrm>
            <a:off x="1785960" y="2714760"/>
            <a:ext cx="357120" cy="3571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олилиния 25"/>
          <p:cNvSpPr/>
          <p:nvPr/>
        </p:nvSpPr>
        <p:spPr>
          <a:xfrm flipH="1">
            <a:off x="785880" y="2428920"/>
            <a:ext cx="428400" cy="1409760"/>
          </a:xfrm>
          <a:prstGeom prst="pie">
            <a:avLst/>
          </a:prstGeom>
          <a:noFill/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олилиния 26"/>
          <p:cNvSpPr/>
          <p:nvPr/>
        </p:nvSpPr>
        <p:spPr>
          <a:xfrm>
            <a:off x="4000680" y="2500200"/>
            <a:ext cx="361800" cy="1338480"/>
          </a:xfrm>
          <a:prstGeom prst="pie">
            <a:avLst/>
          </a:prstGeom>
          <a:noFill/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27"/>
          <p:cNvSpPr/>
          <p:nvPr/>
        </p:nvSpPr>
        <p:spPr>
          <a:xfrm>
            <a:off x="3214800" y="278604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28"/>
          <p:cNvSpPr/>
          <p:nvPr/>
        </p:nvSpPr>
        <p:spPr>
          <a:xfrm>
            <a:off x="1857240" y="2786040"/>
            <a:ext cx="21456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олилиния 29"/>
          <p:cNvSpPr/>
          <p:nvPr/>
        </p:nvSpPr>
        <p:spPr>
          <a:xfrm>
            <a:off x="2419200" y="2576520"/>
            <a:ext cx="412920" cy="1352520"/>
          </a:xfrm>
          <a:prstGeom prst="pie">
            <a:avLst/>
          </a:prstGeom>
          <a:noFill/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олилиния 30"/>
          <p:cNvSpPr/>
          <p:nvPr/>
        </p:nvSpPr>
        <p:spPr>
          <a:xfrm>
            <a:off x="2265480" y="3803760"/>
            <a:ext cx="688680" cy="109440"/>
          </a:xfrm>
          <a:prstGeom prst="pie">
            <a:avLst/>
          </a:prstGeom>
          <a:noFill/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олилиния 31"/>
          <p:cNvSpPr/>
          <p:nvPr/>
        </p:nvSpPr>
        <p:spPr>
          <a:xfrm>
            <a:off x="2154240" y="4184640"/>
            <a:ext cx="879480" cy="235080"/>
          </a:xfrm>
          <a:prstGeom prst="pie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олилиния 32"/>
          <p:cNvSpPr/>
          <p:nvPr/>
        </p:nvSpPr>
        <p:spPr>
          <a:xfrm>
            <a:off x="984240" y="773280"/>
            <a:ext cx="3370320" cy="2038320"/>
          </a:xfrm>
          <a:prstGeom prst="pie">
            <a:avLst/>
          </a:prstGeom>
          <a:noFill/>
          <a:ln w="7632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ая соединительная линия 11"/>
          <p:cNvSpPr/>
          <p:nvPr/>
        </p:nvSpPr>
        <p:spPr>
          <a:xfrm>
            <a:off x="785880" y="4286160"/>
            <a:ext cx="3786120" cy="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8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901360" cy="14875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Рисунок 3" descr=""/>
          <p:cNvPicPr/>
          <p:nvPr/>
        </p:nvPicPr>
        <p:blipFill>
          <a:blip r:embed="rId3"/>
          <a:stretch/>
        </p:blipFill>
        <p:spPr>
          <a:xfrm>
            <a:off x="4429080" y="1500120"/>
            <a:ext cx="4357800" cy="407052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2" descr=""/>
          <p:cNvPicPr/>
          <p:nvPr/>
        </p:nvPicPr>
        <p:blipFill>
          <a:blip r:embed="rId4"/>
          <a:stretch/>
        </p:blipFill>
        <p:spPr>
          <a:xfrm>
            <a:off x="500040" y="1571760"/>
            <a:ext cx="3243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571320" y="1071360"/>
            <a:ext cx="82580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Основание носа равно ширине глаз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6" name="Рисунок 18" descr=""/>
          <p:cNvPicPr/>
          <p:nvPr/>
        </p:nvPicPr>
        <p:blipFill>
          <a:blip r:embed="rId3"/>
          <a:stretch/>
        </p:blipFill>
        <p:spPr>
          <a:xfrm>
            <a:off x="857160" y="2214720"/>
            <a:ext cx="77598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9" name="Рисунок 10" descr=""/>
          <p:cNvPicPr/>
          <p:nvPr/>
        </p:nvPicPr>
        <p:blipFill>
          <a:blip r:embed="rId3"/>
          <a:stretch/>
        </p:blipFill>
        <p:spPr>
          <a:xfrm>
            <a:off x="4572000" y="214200"/>
            <a:ext cx="2643120" cy="252900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15" descr=""/>
          <p:cNvPicPr/>
          <p:nvPr/>
        </p:nvPicPr>
        <p:blipFill>
          <a:blip r:embed="rId4"/>
          <a:stretch/>
        </p:blipFill>
        <p:spPr>
          <a:xfrm>
            <a:off x="1428840" y="2786040"/>
            <a:ext cx="63356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4:27:20Z</dcterms:created>
  <dc:creator>samsung</dc:creator>
  <dc:description/>
  <dc:language>en-US</dc:language>
  <cp:lastModifiedBy>Лариса</cp:lastModifiedBy>
  <dcterms:modified xsi:type="dcterms:W3CDTF">2016-08-06T17:52:58Z</dcterms:modified>
  <cp:revision>10</cp:revision>
  <dc:subject/>
  <dc:title>Пропорции головы человека</dc:title>
</cp:coreProperties>
</file>