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511-913D-49B7-A41F-661EAB04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BF4-F87E-44A6-953D-43C34A6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6F5F9-6E74-4A0C-9F94-A8A78D6E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EC67D-662B-4DCE-A491-DFAF889E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5FCB3-D551-43D6-964F-1E19E6B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669F0-462B-49CE-BBC6-2AE39F4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79694-F270-4651-BCD6-A33F68D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96A1D-144B-4B26-8F61-AEB9CF5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3C113-B92F-4B0B-844D-3E7C731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8021-2EBF-4A74-A44E-200D5658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4B838-2484-4F41-8ECD-2BD45FEE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C1A-6D91-42CD-BA10-ABAF06A3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CC1-2076-454D-80E1-57075863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7E44-60E3-439D-A294-5AE1DD78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7DA-C42B-4A5A-A9CE-DAEB7E2A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7FC9-4CE4-4390-B3D0-DE0B2632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80E5-5E35-4F27-99AA-2E24C521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FAC-7A8D-4267-BCD7-B8F8B4C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60E7-7AC5-481A-B570-3C167D6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D0DE-9985-4499-8B51-51FED2F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2AD-65AD-490C-8578-FE058BB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B022-6963-4BFC-A9B0-8095DF73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A2BA-76A5-4B22-AA95-671AE5C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BB2-1D9B-4CD0-8EC9-62A5542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A3C-A333-4167-99E0-CC7280DE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9B2-0C85-423D-866E-B43C3D6F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67D6-92FF-40A4-849D-09085205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5B07-F937-4921-A4BE-E02F5FA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8190-3C28-4537-9276-6B214B5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70B7-47F6-4420-886B-8835834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3571-AF0B-460C-99A0-F514947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51A-D112-4E67-8CAD-DF1ACFC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DDC7-486C-4FDC-8F15-392250B2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B5FF-7E2A-4194-8B8B-A7B9BEA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0ACA-5063-4E7A-901D-3456DDE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1993-CFF8-4C60-B8B6-FEA78B8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B99A-17DF-4DA0-9E90-91B2BFF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B766-059A-4B1C-81AA-616FB0FE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718D-266A-4882-A286-8020E473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BE5E-3A71-4C4E-AB83-351F2B99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AF60-2FA0-40F5-96ED-32543E4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1592-2CFE-4E18-A874-6DF7C7F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752-DF34-488A-9FEF-321C107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88B5-BD05-4045-992E-156B72A7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6A90-4318-4107-916A-B39ED58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5E02-C91C-4D78-9E04-E29ABDFB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2252-5E67-48EC-8DC9-4D5E6EE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0F67-DFE1-44A4-9202-B58F27D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C4E3-9E09-49D1-BEAB-5204A67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2EF1-AE55-4335-90BE-7E631397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4BAA-82A1-481A-A18C-D734BBC4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CDD8-63E1-4EC1-9FC3-0BDDEFE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96B8-A1A6-4DEA-B07C-0AA0010A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3B4-A313-4649-BCAD-6E8C507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EAFA-B053-4419-99EE-2CD73F9D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90A4-271C-402E-BC98-3A8DDD2D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6C56-A726-4C1B-A610-D33CD93D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58E5-FC13-4519-A1EA-D4AE882F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510B5-281B-4945-A229-222EA58F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3A42-DBEF-432C-BA83-2D88BC1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0E18-E30E-44CE-B454-D43408BB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2C14-2E93-4DB6-8BE0-EED239A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A300-4C84-4E3D-B372-B205234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412C-63CB-44EC-A756-607ABFAC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6EB-7E0F-4D1B-9CCC-66D7D1C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D9F4-C2DE-4C6A-BC17-24AB4924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80D7-C8B7-4289-A9A1-EAC8E45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71C3-9BA5-4B0E-A0BE-C7A06DB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FBF87-6D36-4347-8E9A-AFBF51F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D2C2-7C55-4EDB-9F3E-7D94AB3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B59D-F09E-4925-9A26-39B189D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BA15-0827-4CB0-A319-F15F2AB5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21E2-CE10-4A0E-88EF-882CBCE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8F4C-B6BD-4B1F-B145-28259E9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21C7-D0B8-4857-B5A0-043F369A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945-143D-4B28-83B9-2276430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AE588-29B6-4A62-948C-6B452C1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54C51-B2C9-44A5-9F68-8F30EB0F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E9FE-A68A-4682-91D1-E49879A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5A55-FFF6-488A-8763-BD05865A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C4E5-CD0E-4409-832D-9CC9C66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029B-0EE4-4193-81A2-4C99A1F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A4BF-1FB7-4962-971A-71F1BD9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882DB-7DCE-48C8-9BA3-6E8B7970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1EDA7-8C40-410E-BAAB-426578D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9D03D-B232-473E-BD2A-2FAC4C7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22F-3DBB-4060-A7FF-8D48E8B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E0C8-C195-46CE-BCA7-5A53E6C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E0DC-1A67-441D-B66D-AD9C71E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BCB0-2215-4579-A228-0F2282E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6A6E-6D23-483A-A7A0-10E2AEA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15F7-00C5-4713-8893-82050FA9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57BC4-D82C-46E3-B48A-2464D5E0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9F022-2413-42B0-9998-6ACA790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F20A4-AD77-4999-A442-CFB6ECB0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2489-A519-44BC-AB46-461059C2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9621C-6D5B-4794-968A-819D1B1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F05-2891-4278-952F-A7823DA7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D04E-8062-4EDC-8B91-44AE51F3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6498-313E-44A5-B48A-420CB3E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7452-8A89-4443-BC97-FEA23D5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38B0-D997-402E-B691-D891C90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07360-A926-4DE4-AA9B-466548C8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1309-1BFA-44C1-8F05-903C9AA4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30A43-594F-4258-AF3B-0E58C15F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9FB9F-7C73-4EF7-ADFA-C0460D44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73BF4-930B-4993-8A3C-0B1F60C9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71F1-B2D0-4B00-B80A-572E4AF3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7B5-93C9-4ADA-86D1-156C4180548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97C3-6BC1-4D95-BE9C-31A90D3925A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33E8-844C-470C-AD37-71BBDDBB6F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C03-2367-4BEC-B663-798E771570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B6F-DF8F-48B3-97E3-20278796B5F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789-58D9-42A5-90D6-7A2B93D5A1F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FA8-B977-4065-B775-6F71C083430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45D-2435-48B3-A11A-8A5931F84DA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F17-29D1-43BE-A455-A708B50E97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54450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</a:rPr>
              <a:t>Учитель Эм Л.Ф. МБОУ «СШ№43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5428800" y="160020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Уши обычно расположены на уровне от бровей до основания нос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Рисунок 21" descr=""/>
          <p:cNvPicPr/>
          <p:nvPr/>
        </p:nvPicPr>
        <p:blipFill>
          <a:blip r:embed="rId3"/>
          <a:stretch/>
        </p:blipFill>
        <p:spPr>
          <a:xfrm>
            <a:off x="571680" y="1022400"/>
            <a:ext cx="47145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85840" y="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Верхний край уха расположен на уровне бровей, нижний — на уровне основания носа. Линию глаз можно поделить на пять оди­наковых частей, из которых вторую и четвёртую занимают глаз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Ширина носа равняется длине глаз, а рот немного шире носа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Расстояние между глазами равно ширине глаз или ширине ос­нования носа. Уши располагаются от линии бровей до линии осно­вания носа, разрез рта — на одну треть расстояния от основания носа до конца подбород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Рисунок 6" descr=""/>
          <p:cNvPicPr/>
          <p:nvPr/>
        </p:nvPicPr>
        <p:blipFill>
          <a:blip r:embed="rId2"/>
          <a:stretch/>
        </p:blipFill>
        <p:spPr>
          <a:xfrm>
            <a:off x="4589640" y="3857760"/>
            <a:ext cx="4554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Рисунок 23" descr=""/>
          <p:cNvPicPr/>
          <p:nvPr/>
        </p:nvPicPr>
        <p:blipFill>
          <a:blip r:embed="rId3"/>
          <a:stretch/>
        </p:blipFill>
        <p:spPr>
          <a:xfrm>
            <a:off x="0" y="1214280"/>
            <a:ext cx="4357800" cy="490860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4" descr=""/>
          <p:cNvPicPr/>
          <p:nvPr/>
        </p:nvPicPr>
        <p:blipFill>
          <a:blip r:embed="rId4"/>
          <a:stretch/>
        </p:blipFill>
        <p:spPr>
          <a:xfrm>
            <a:off x="4694400" y="1143000"/>
            <a:ext cx="4449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Рисунок 2" descr=""/>
          <p:cNvPicPr/>
          <p:nvPr/>
        </p:nvPicPr>
        <p:blipFill>
          <a:blip r:embed="rId2"/>
          <a:stretch/>
        </p:blipFill>
        <p:spPr>
          <a:xfrm>
            <a:off x="0" y="285840"/>
            <a:ext cx="8793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Голова имеет овальную форму, которая делится линией глаз на две примерно одинаковые части, то есть линия глаз находится примерно на середине лиц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3"/>
          <a:stretch/>
        </p:blipFill>
        <p:spPr>
          <a:xfrm>
            <a:off x="500040" y="1666800"/>
            <a:ext cx="49291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6444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Рисунок 7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7715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ама шея состоит как бы из трёх условных фигур: прямоугольника и двух треугольни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Рисунок 25" descr=""/>
          <p:cNvPicPr/>
          <p:nvPr/>
        </p:nvPicPr>
        <p:blipFill>
          <a:blip r:embed="rId3"/>
          <a:stretch/>
        </p:blipFill>
        <p:spPr>
          <a:xfrm>
            <a:off x="0" y="3354480"/>
            <a:ext cx="914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3"/>
          <a:stretch/>
        </p:blipFill>
        <p:spPr>
          <a:xfrm>
            <a:off x="136440" y="1487520"/>
            <a:ext cx="7078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114800" y="237960"/>
            <a:ext cx="5035680" cy="1487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вол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гла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но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гу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Прямоугольный треугольник 4"/>
          <p:cNvSpPr/>
          <p:nvPr/>
        </p:nvSpPr>
        <p:spPr>
          <a:xfrm>
            <a:off x="3429000" y="5572080"/>
            <a:ext cx="1571760" cy="7146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ый треугольник 5"/>
          <p:cNvSpPr/>
          <p:nvPr/>
        </p:nvSpPr>
        <p:spPr>
          <a:xfrm flipH="1">
            <a:off x="428040" y="5572080"/>
            <a:ext cx="1438200" cy="7239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1857240" y="4714920"/>
            <a:ext cx="157176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3"/>
          <p:cNvSpPr/>
          <p:nvPr/>
        </p:nvSpPr>
        <p:spPr>
          <a:xfrm>
            <a:off x="1071720" y="785880"/>
            <a:ext cx="3071520" cy="421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8"/>
          <p:cNvSpPr/>
          <p:nvPr/>
        </p:nvSpPr>
        <p:spPr>
          <a:xfrm>
            <a:off x="785880" y="285768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"/>
          <p:cNvSpPr/>
          <p:nvPr/>
        </p:nvSpPr>
        <p:spPr>
          <a:xfrm>
            <a:off x="714240" y="3857760"/>
            <a:ext cx="378648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0"/>
          <p:cNvSpPr/>
          <p:nvPr/>
        </p:nvSpPr>
        <p:spPr>
          <a:xfrm>
            <a:off x="857160" y="178596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3"/>
          <p:cNvSpPr/>
          <p:nvPr/>
        </p:nvSpPr>
        <p:spPr>
          <a:xfrm>
            <a:off x="2571840" y="214200"/>
            <a:ext cx="71280" cy="62866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5"/>
          <p:cNvSpPr/>
          <p:nvPr/>
        </p:nvSpPr>
        <p:spPr>
          <a:xfrm>
            <a:off x="2928960" y="2786040"/>
            <a:ext cx="0" cy="107172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6"/>
          <p:cNvSpPr/>
          <p:nvPr/>
        </p:nvSpPr>
        <p:spPr>
          <a:xfrm>
            <a:off x="2286000" y="2786040"/>
            <a:ext cx="0" cy="107172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олилиния 18"/>
          <p:cNvSpPr/>
          <p:nvPr/>
        </p:nvSpPr>
        <p:spPr>
          <a:xfrm>
            <a:off x="2925720" y="2714760"/>
            <a:ext cx="771480" cy="19044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олилиния 19"/>
          <p:cNvSpPr/>
          <p:nvPr/>
        </p:nvSpPr>
        <p:spPr>
          <a:xfrm flipH="1">
            <a:off x="1571760" y="2714760"/>
            <a:ext cx="720720" cy="12852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олилиния 20"/>
          <p:cNvSpPr/>
          <p:nvPr/>
        </p:nvSpPr>
        <p:spPr>
          <a:xfrm>
            <a:off x="2786040" y="2448000"/>
            <a:ext cx="969840" cy="15408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олилиния 21"/>
          <p:cNvSpPr/>
          <p:nvPr/>
        </p:nvSpPr>
        <p:spPr>
          <a:xfrm flipH="1">
            <a:off x="1500120" y="2500200"/>
            <a:ext cx="938160" cy="11124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3"/>
          <p:cNvSpPr/>
          <p:nvPr/>
        </p:nvSpPr>
        <p:spPr>
          <a:xfrm>
            <a:off x="3143160" y="2714760"/>
            <a:ext cx="357120" cy="357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4"/>
          <p:cNvSpPr/>
          <p:nvPr/>
        </p:nvSpPr>
        <p:spPr>
          <a:xfrm>
            <a:off x="1785960" y="2714760"/>
            <a:ext cx="357120" cy="357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олилиния 25"/>
          <p:cNvSpPr/>
          <p:nvPr/>
        </p:nvSpPr>
        <p:spPr>
          <a:xfrm flipH="1">
            <a:off x="785880" y="2428920"/>
            <a:ext cx="428400" cy="140976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лилиния 26"/>
          <p:cNvSpPr/>
          <p:nvPr/>
        </p:nvSpPr>
        <p:spPr>
          <a:xfrm>
            <a:off x="4000680" y="2500200"/>
            <a:ext cx="361800" cy="133848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7"/>
          <p:cNvSpPr/>
          <p:nvPr/>
        </p:nvSpPr>
        <p:spPr>
          <a:xfrm>
            <a:off x="3214800" y="27860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8"/>
          <p:cNvSpPr/>
          <p:nvPr/>
        </p:nvSpPr>
        <p:spPr>
          <a:xfrm>
            <a:off x="1857240" y="278604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олилиния 29"/>
          <p:cNvSpPr/>
          <p:nvPr/>
        </p:nvSpPr>
        <p:spPr>
          <a:xfrm>
            <a:off x="2419200" y="2576520"/>
            <a:ext cx="412920" cy="1352520"/>
          </a:xfrm>
          <a:prstGeom prst="pie">
            <a:avLst/>
          </a:prstGeom>
          <a:noFill/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олилиния 30"/>
          <p:cNvSpPr/>
          <p:nvPr/>
        </p:nvSpPr>
        <p:spPr>
          <a:xfrm>
            <a:off x="2265480" y="3803760"/>
            <a:ext cx="688680" cy="10944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олилиния 31"/>
          <p:cNvSpPr/>
          <p:nvPr/>
        </p:nvSpPr>
        <p:spPr>
          <a:xfrm>
            <a:off x="2154240" y="4184640"/>
            <a:ext cx="879480" cy="235080"/>
          </a:xfrm>
          <a:prstGeom prst="pi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олилиния 32"/>
          <p:cNvSpPr/>
          <p:nvPr/>
        </p:nvSpPr>
        <p:spPr>
          <a:xfrm>
            <a:off x="984240" y="773280"/>
            <a:ext cx="3370320" cy="203832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1"/>
          <p:cNvSpPr/>
          <p:nvPr/>
        </p:nvSpPr>
        <p:spPr>
          <a:xfrm>
            <a:off x="785880" y="428616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901360" cy="1487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3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4357800" cy="40705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" descr=""/>
          <p:cNvPicPr/>
          <p:nvPr/>
        </p:nvPicPr>
        <p:blipFill>
          <a:blip r:embed="rId4"/>
          <a:stretch/>
        </p:blipFill>
        <p:spPr>
          <a:xfrm>
            <a:off x="500040" y="1571760"/>
            <a:ext cx="3243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571320" y="10713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Основание носа равно ширине глаз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Рисунок 18" descr=""/>
          <p:cNvPicPr/>
          <p:nvPr/>
        </p:nvPicPr>
        <p:blipFill>
          <a:blip r:embed="rId3"/>
          <a:stretch/>
        </p:blipFill>
        <p:spPr>
          <a:xfrm>
            <a:off x="857160" y="2214720"/>
            <a:ext cx="7759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Рисунок 10" descr=""/>
          <p:cNvPicPr/>
          <p:nvPr/>
        </p:nvPicPr>
        <p:blipFill>
          <a:blip r:embed="rId3"/>
          <a:stretch/>
        </p:blipFill>
        <p:spPr>
          <a:xfrm>
            <a:off x="4572000" y="21420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5" descr=""/>
          <p:cNvPicPr/>
          <p:nvPr/>
        </p:nvPicPr>
        <p:blipFill>
          <a:blip r:embed="rId4"/>
          <a:stretch/>
        </p:blipFill>
        <p:spPr>
          <a:xfrm>
            <a:off x="1428840" y="2786040"/>
            <a:ext cx="6335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27:20Z</dcterms:created>
  <dc:creator>samsung</dc:creator>
  <dc:description/>
  <dc:language>en-US</dc:language>
  <cp:lastModifiedBy>Лариса</cp:lastModifiedBy>
  <dcterms:modified xsi:type="dcterms:W3CDTF">2016-08-06T17:52:58Z</dcterms:modified>
  <cp:revision>10</cp:revision>
  <dc:subject/>
  <dc:title>Пропорции головы человека</dc:title>
</cp:coreProperties>
</file>