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0F3-6991-4579-AC37-86F2E771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5CA3-0113-4EEC-8FB5-75D36FEB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87D-2688-42EF-A72A-1D77766D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E24-7807-420F-AF96-B333BE04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0FBB-199C-4838-B3FC-2160F7AA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805A-F0E1-4C02-9CB1-9380FF2B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59D4-3E1E-416B-87FB-7602EBC5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39CD-5A76-45C8-9FDD-0BF53365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5A9B-A67E-45B9-8AAE-C6AEB16F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BC2F-8836-4623-AA9A-FDC74734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20AF-D8E2-40C5-94E4-048D2474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2CF-86F4-4F63-B059-E14A7081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4321-E55D-4566-80CA-3600F996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0A90-7712-48C8-9710-E6FF7433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FE74-F15C-496C-975A-74D9E829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A96A-F350-42EF-92E4-796F1A49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2431-8A84-47D1-BB5D-A7894724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5363D-9EF3-4D1C-83A0-01C9C87F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47DB5-AEE1-452B-8F51-F5DBAFDA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82679-C2A5-4187-BA2D-8EC8BE33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56DC-FABA-4CCC-9E8A-4CC90304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23945-C964-41E1-B74C-2F3AE6C5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744-87F9-47DF-9B0A-8757B39D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C3156-8B10-4292-88EE-08F342B1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DD872-E13D-4260-B51D-8C08D9A0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AA723-7737-455A-9B51-4FC3F4AB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FD8B5-C16E-416B-B64A-C28D7587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9973E-7851-4863-812D-75C1C78B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4692A-51CD-448A-B6CB-5EE206DE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667AA-F2E1-44AD-B5E1-20EF8BD6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B0D41-CC67-473A-A508-264AFDFF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F8E9C-3680-4996-8D4D-B9EE357E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13048-BEBE-4162-9FC1-DD59B8DC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19EC-133B-4C44-AD99-FB5CC47F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721C1-5D0A-45BD-9CF0-2A9957C3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C59FC-5774-4F30-9000-E40A52A8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70B7F-A975-4679-B0A4-B711E432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1F86D-503A-418B-A398-7E4140F8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89FCB-83DB-4E7E-BD66-068D44E4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99B4E-7256-482F-AD90-F8E92696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91867-7A2D-479A-87F4-1A8B2DDA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A483A-A591-4157-9856-17B73D9E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CB2B5-6576-4B50-BFCF-8F3746E1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DFC19-DA76-4978-9835-EE0C2EA1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A8B-7346-420D-9ADF-6DD8AE02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56001-B80A-4FA9-A557-CD2D6375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CB91F-5581-459A-8947-0E676368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9E18D-ED3D-43AF-9F9F-6DEFC896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2A36A-C643-40C3-BE6A-72AC1B0B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59A63-34C3-454C-94B9-CBD5A5EC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715AB-32CE-45C4-B4E0-47286BC0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94370-C975-4D30-B35D-BF45D5DE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EC555-D54F-4BAD-B87C-C3936F8A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A4913-7BDE-4EC7-AF7E-C1380254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459E4-DFF2-4DE2-A8FF-A323C2A3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E91-0960-4458-86DA-FF8DB7D8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8920D-BB9C-4F9E-A216-FF0B5588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D86-96AE-4CE7-856F-BD7F8473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FBD-ABA5-4FF3-8849-BFB66418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998-05BB-4B28-882C-B71D4980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3BE2-70B5-458E-A7EB-EE4C5773CFF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AE77-AE97-4AE5-8BCD-0B1BD60E259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5B9D-2D07-4D8F-9ED6-B737E26A12B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172F-D376-4526-8AF4-8DC87457A86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7CF6-AD28-491F-97BF-B1D68B52989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2533c"/>
                </a:solidFill>
                <a:latin typeface="Arial"/>
              </a:rPr>
              <a:t>РУССКИЙ АВАНГАРД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68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575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композиция6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599840"/>
            <a:ext cx="2530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Я вижу бесконечность  пространства. Цвет и линии выражают сложную и напряженную жизнь человеческого духа. Это стихийный водоворот, в котором земной и небесный хаос превращается в гармонию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429000" y="357120"/>
            <a:ext cx="538812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Композиция 7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80535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Композиция 8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808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Композиция  9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18496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Композиция 10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137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Казимир Малевич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92934"/>
                </a:solidFill>
                <a:latin typeface="Arial"/>
              </a:rPr>
              <a:t>Я говорю всем: бросьте любовь, бросьте чемоданы мудрости,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292934"/>
                </a:solidFill>
                <a:latin typeface="Arial"/>
              </a:rPr>
              <a:t>ибо в новой культуре ваша мудрость слепа и ничтожна!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92934"/>
                </a:solidFill>
                <a:latin typeface="Arial"/>
              </a:rPr>
              <a:t>Я развязал узлы мудрости и освободил сознание краски!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92934"/>
                </a:solidFill>
                <a:latin typeface="Arial"/>
              </a:rPr>
              <a:t>Снимайте же с себя огрубевшую кожу столетий, чтобы вам было легче догнать нас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92934"/>
                </a:solidFill>
                <a:latin typeface="Arial"/>
              </a:rPr>
              <a:t>Я преодолел невозможное и пропасти сделал своим дыханием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92934"/>
                </a:solidFill>
                <a:latin typeface="Arial"/>
              </a:rPr>
              <a:t>Вы в сетях горизонта, как рыбы!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92934"/>
                </a:solidFill>
                <a:latin typeface="Arial"/>
              </a:rPr>
              <a:t>Мы бросаем вам дорогу! Спешите!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92934"/>
                </a:solidFill>
                <a:latin typeface="Arial"/>
              </a:rPr>
              <a:t>Ибо завтра не догоните нас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0" name="Picture 2" descr="http://blogproart.ru/wp-content/uploads/2011/12/kazemir.jpg"/>
          <p:cNvPicPr/>
          <p:nvPr/>
        </p:nvPicPr>
        <p:blipFill>
          <a:blip r:embed="rId1"/>
          <a:stretch/>
        </p:blipFill>
        <p:spPr>
          <a:xfrm>
            <a:off x="1500120" y="714240"/>
            <a:ext cx="5715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578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33c"/>
                </a:solidFill>
                <a:latin typeface="Arial"/>
              </a:rPr>
              <a:t>Авангард</a:t>
            </a:r>
            <a:r>
              <a:rPr b="0" lang="en-US" sz="2800" spc="-1" strike="noStrike">
                <a:solidFill>
                  <a:srgbClr val="d2533c"/>
                </a:solidFill>
                <a:latin typeface="Arial"/>
              </a:rPr>
              <a:t> – фр. - передовая часть общества, народа.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4000" y="2060640"/>
            <a:ext cx="80024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Arial"/>
              </a:rPr>
              <a:t>Авангардизм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– название ряда художественных течений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XX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 века, сторонники которых стремились к обновлению искусства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Авангард зародился в 1910 году, в очень сложное для России врем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Основоположником этого движения стал Василий Васильевич Кандинский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Главная идея – </a:t>
            </a: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                    разрушение предметности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Arial"/>
              </a:rPr>
              <a:t>Авангардизм  (1905-1930)</a:t>
            </a:r>
            <a:r>
              <a:rPr b="0" lang="ru-RU" sz="2400" spc="-1" strike="noStrike" u="sng">
                <a:solidFill>
                  <a:srgbClr val="292934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Фов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Куб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Футур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Дада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Сюрреал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Примитив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928800"/>
            <a:ext cx="810396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Модернизм (фр.) -  современный </a:t>
            </a:r>
            <a:br>
              <a:rPr sz="4000"/>
            </a:b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d2533c"/>
                </a:solidFill>
                <a:latin typeface="Arial"/>
              </a:rPr>
              <a:t>Отрицание форм и эстетики прошлого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00000" y="3068280"/>
            <a:ext cx="7772400" cy="32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Абстракцион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Экспрессион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Таш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Оп-арт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Минимал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Гиперреал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Главная идея– разрушение предметности 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т.е. предметов в картине может совсем не быть, а они только подразумеваютс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« Предметность вредна моим работам»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«Новый язык в искусстве необходим для того, чтобы провозгласить и утвердить новые законы общества»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Кандинский своими картинами передает настроение души.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397200" y="1628280"/>
            <a:ext cx="2746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В его работах очень важен подбор красок 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Цвет – это клавиши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Глаза – молоточек 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Душа – многострунный рояль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Художник – есть рука, которая посредством того или иного клавиша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Приводит в вибрацию человеческую душу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«Композиция </a:t>
            </a: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VI</a:t>
            </a: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»</a:t>
            </a:r>
            <a:r>
              <a:rPr b="0" i="1" lang="ru-RU" sz="17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1" name="Picture 2" descr="http://www.wm-painting.ru/plugins/p17_image_gallery/images/2/300.jpg"/>
          <p:cNvPicPr/>
          <p:nvPr/>
        </p:nvPicPr>
        <p:blipFill>
          <a:blip r:embed="rId1"/>
          <a:stretch/>
        </p:blipFill>
        <p:spPr>
          <a:xfrm>
            <a:off x="179280" y="1700280"/>
            <a:ext cx="6410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композиция2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539640" y="1185840"/>
            <a:ext cx="74170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композиция 4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468360" y="1482840"/>
            <a:ext cx="80643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Композиция 5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21036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4:27:20Z</dcterms:created>
  <dc:creator>samsung</dc:creator>
  <dc:description/>
  <dc:language>en-US</dc:language>
  <cp:lastModifiedBy>Лариса</cp:lastModifiedBy>
  <dcterms:modified xsi:type="dcterms:W3CDTF">2016-08-06T17:06:59Z</dcterms:modified>
  <cp:revision>20</cp:revision>
  <dc:subject/>
  <dc:title>Пропорции головы человека</dc:title>
</cp:coreProperties>
</file>