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243-CF47-4A9B-B94C-1580C0DC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A96-B5DC-4E94-8359-2D0EB663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583-9CB5-4446-8BA1-524D8875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ADB-2EB1-45E0-A395-9D763C72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8C7D-ADB8-45E2-9193-9F0AE01D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0DD2-CEE1-4D11-9172-46607AB3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4AFF-2BCF-4AA7-934C-A83691C2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A5BB-7EDD-4CBD-A124-D28F94D1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B7C1-D216-47E9-BD2F-350A45F0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3FC4-7760-4BE3-98CB-7EFE9234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9AAF-7DEF-498C-A04C-7BF5E6DC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24E-6478-4178-BFC6-F5803C61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411F-F074-4D21-8F60-5C1E77B9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E74E-7A0E-4456-933F-0A64BAE1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8906-89A4-4FE5-A1BB-8B029873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210B-4A2A-4850-89F1-FCABB987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C5B0-64F8-48BD-A13A-C7A5CD69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46774-E1A1-4A92-BA98-294972FE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91297-E26C-4433-838F-282A77D3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DEF30-DA20-4410-9267-399A09FE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EAC2-EA88-4891-A237-E43CF029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F96F-B0F6-4CFF-B88E-C2CF0813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1BE-019D-41F1-865A-E32F5122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B113E-6120-4B4D-B0FE-A5A6E4DE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7ED34-DE99-46B3-96B6-8D39DA03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F53D8-84FD-4ABE-9ADE-ABABD46F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47503-1A96-4E9E-B15B-90167FA1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B72C8-C31B-450E-9D74-5F2A36AB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E1AA4-8250-4C53-BEF9-A425D7B9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D54D-5B83-4592-9D0C-9DE07999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185C0-6CBC-4A8B-A415-94EB21A9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FC1F4-491C-4AD3-8CC8-585EE5CA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CC9B1-40BF-4074-9F4A-A4B0220D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E7E-2DDD-4B96-B6D1-9BF79D4F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C3F2C-589B-4138-80B6-39435A80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80B6-E6B0-498F-886E-7B0B9555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16724-0F3E-436F-A4B5-1414272F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E6992-F223-47BD-AA35-1B1E7298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3352A-CD2F-490F-8C08-8F5447E3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9CEAE-B3A4-4404-AFB4-21D900DB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2C6BE-847A-4471-AD78-FFE9C24F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5C83B-554E-41AD-8EB4-4D445576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3487E-ACD4-42AF-9947-B9F80BDF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2F5AA-6E04-4C10-9A34-A8EEE828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D88-9CDD-4DAE-AB2C-AEF50999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001FA-99C7-41BD-8CCA-4A57FACF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F4178-8F5F-4E77-B2A5-C78C0DD4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6D59B-D669-4EB4-B330-B5C96C0E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79A34-A170-45D7-83E6-49C88B19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2B51F-E25F-4171-BA0A-41D5FE7E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1953D-39BB-4846-9F11-B990DA0F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3D321-D0C9-44A9-8F19-138272A5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B79F1-D344-4FA1-A01E-74C2D905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8581C-6061-4992-AEE4-71DBA4D5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72AE0-AD1A-44D8-B6A6-FB386696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DF0-26C7-4914-ADC0-765F86F6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977D3-553F-4C07-839D-95C4AB12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277-8C3B-4090-8F70-D056665C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B8F-86C3-4576-9FB4-CD055F61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0F4-9624-49BB-B6C3-256A4312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24CE-7A95-4306-AF8A-C6A6CE296B5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BE4B-7EAA-48A4-B8B5-5EB45535A07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31E7-EACF-40C5-87CF-EE4C516B335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0AFB-89CB-4246-A1A5-2DE8F8A8A7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01D2-F62D-4A2E-982E-1CA9D08E59E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Arial"/>
              </a:rPr>
              <a:t>РУССКИЙ АВАНГАРД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68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575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композиция6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599840"/>
            <a:ext cx="2530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Я вижу бесконечность  пространства. Цвет и линии выражают сложную и напряженную жизнь человеческого духа. Это стихийный водоворот, в котором земной и небесный хаос превращается в гармонию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429000" y="357120"/>
            <a:ext cx="538812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Композиция 7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80535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Композиция 8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28760" y="1000080"/>
            <a:ext cx="808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Композиция  9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18496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Композиция 10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37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Казимир Малевич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Я говорю всем: бросьте любовь, бросьте чемоданы мудрости,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ибо в новой культуре ваша мудрость слепа и ничтожна!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Я развязал узлы мудрости и освободил сознание краски!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Снимайте же с себя огрубевшую кожу столетий, чтобы вам было легче догнать нас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Я преодолел невозможное и пропасти сделал своим дыханием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Вы в сетях горизонта, как рыбы!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Мы бросаем вам дорогу! Спешите!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Ибо завтра не догоните нас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0" name="Picture 2" descr="http://blogproart.ru/wp-content/uploads/2011/12/kazemir.jpg"/>
          <p:cNvPicPr/>
          <p:nvPr/>
        </p:nvPicPr>
        <p:blipFill>
          <a:blip r:embed="rId1"/>
          <a:stretch/>
        </p:blipFill>
        <p:spPr>
          <a:xfrm>
            <a:off x="1500120" y="714240"/>
            <a:ext cx="5715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578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Авангард</a:t>
            </a:r>
            <a:r>
              <a:rPr b="0" lang="en-US" sz="2800" spc="-1" strike="noStrike">
                <a:solidFill>
                  <a:srgbClr val="d2533c"/>
                </a:solidFill>
                <a:latin typeface="Arial"/>
              </a:rPr>
              <a:t> – фр. - передовая часть общества, народа.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4000" y="2060640"/>
            <a:ext cx="80024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Arial"/>
              </a:rPr>
              <a:t>Авангардизм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– название ряда художественных течений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XX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 века, сторонники которых стремились к обновлению искусства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Авангард зародился в 1910 году, в очень сложное для России врем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Основоположником этого движения стал Василий Васильевич Кандинский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Главная идея – </a:t>
            </a: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                    разрушение предметности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Arial"/>
              </a:rPr>
              <a:t>Авангардизм  (1905-1930)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Фов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Куб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Футур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Дада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Сюрреал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Примитив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928800"/>
            <a:ext cx="810396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Модернизм (фр.) -  современный </a:t>
            </a:r>
            <a:br>
              <a:rPr sz="4000"/>
            </a:b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d2533c"/>
                </a:solidFill>
                <a:latin typeface="Arial"/>
              </a:rPr>
              <a:t>Отрицание форм и эстетики прошлого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00000" y="3068280"/>
            <a:ext cx="7772400" cy="32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Абстракцион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Экспрессион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Таш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Оп-арт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Минимал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ctr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Гиперреализм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Главная идея– разрушение предметности 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т.е. предметов в картине может совсем не быть, а они только подразумеваютс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« Предметность вредна моим работам»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«Новый язык в искусстве необходим для того, чтобы провозгласить и утвердить новые законы общества»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Кандинский своими картинами передает настроение души.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397200" y="1628280"/>
            <a:ext cx="2746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В его работах очень важен подбор красок 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Цвет – это клавиши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Глаза – молоточек 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Душа – многострунный рояль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Художник – есть рука, которая посредством того или иного клавиша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Приводит в вибрацию человеческую душу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2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«Композиция </a:t>
            </a: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VI</a:t>
            </a:r>
            <a:r>
              <a:rPr b="0" lang="ru-RU" sz="1700" spc="-1" strike="noStrike">
                <a:solidFill>
                  <a:srgbClr val="292934"/>
                </a:solidFill>
                <a:latin typeface="Arial"/>
              </a:rPr>
              <a:t>»</a:t>
            </a:r>
            <a:r>
              <a:rPr b="0" i="1" lang="ru-RU" sz="17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1" name="Picture 2" descr="http://www.wm-painting.ru/plugins/p17_image_gallery/images/2/300.jpg"/>
          <p:cNvPicPr/>
          <p:nvPr/>
        </p:nvPicPr>
        <p:blipFill>
          <a:blip r:embed="rId1"/>
          <a:stretch/>
        </p:blipFill>
        <p:spPr>
          <a:xfrm>
            <a:off x="179280" y="1700280"/>
            <a:ext cx="6410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композиция2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39640" y="1185840"/>
            <a:ext cx="74170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композиция 4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468360" y="1482840"/>
            <a:ext cx="80643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Композиция 5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21036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4:27:20Z</dcterms:created>
  <dc:creator>samsung</dc:creator>
  <dc:description/>
  <dc:language>en-US</dc:language>
  <cp:lastModifiedBy>Лариса</cp:lastModifiedBy>
  <dcterms:modified xsi:type="dcterms:W3CDTF">2016-08-06T17:06:59Z</dcterms:modified>
  <cp:revision>20</cp:revision>
  <dc:subject/>
  <dc:title>Пропорции головы человека</dc:title>
</cp:coreProperties>
</file>