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02D1-08D7-4DE1-9032-761874F2DF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2FB4-54D0-40C9-BF06-724B5B4763FD}" type="slidenum"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785-1B9B-4F17-BA94-5767288D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FC8-CC09-4DE5-8E50-6A1B7A1D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56E-8606-4AD1-8AEE-1E10AAFE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712-0082-4A5F-A26B-1FA905F7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A246-C40C-4C65-8091-B7955FDF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2B1B-6050-40DD-BE04-56A0B9F3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A75B-359E-46D4-A062-0FB2B3DB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CDF7-6FC3-4B4E-9F92-D4ABE3F9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873A-2586-4FBC-9F87-06689A6E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4565-FCE2-40DC-B680-E18B291F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D9A5-1347-4506-8E09-D160BC9D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236-23B6-4F80-80ED-15594116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6D0B-6978-4420-BB5F-6A730B49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0D03-D4F9-4FDD-8587-EF67E475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BF22-B2DB-4C5E-BC41-0433DDD2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7457-51EA-4E2A-9943-7B5700DC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0813-E48D-4CE4-BFC3-FBF52538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B91-59F5-4449-9711-BC8E53C2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4DB-D2CA-4B03-93BE-66D41B53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08E-8AC7-41EC-89FE-9D1884C0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EEF-363B-422F-9535-534C4261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B0F-5660-4FB0-A52C-D1705428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703C-61BE-458D-ABB0-AC3CAEE8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382-6E90-48AB-9AA0-F8C3EDBE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6957-1CFC-4D20-8C1C-493BD9083C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11EC-369D-4D83-BD01-80415744C08A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зработка диалоговых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71680" y="5786280"/>
            <a:ext cx="371484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92929"/>
                </a:solidFill>
                <a:latin typeface="Arial"/>
              </a:rPr>
              <a:t>Подготовила учитель информатики </a:t>
            </a:r>
            <a:br>
              <a:rPr sz="1500"/>
            </a:br>
            <a:r>
              <a:rPr b="0" lang="ru-RU" sz="1500" spc="-1" strike="noStrike">
                <a:solidFill>
                  <a:srgbClr val="292929"/>
                </a:solidFill>
                <a:latin typeface="Arial"/>
              </a:rPr>
              <a:t>МОУ СШ № 10 города Волгограда </a:t>
            </a:r>
            <a:br>
              <a:rPr sz="1500"/>
            </a:br>
            <a:r>
              <a:rPr b="0" lang="ru-RU" sz="1500" spc="-1" strike="noStrike">
                <a:solidFill>
                  <a:srgbClr val="292929"/>
                </a:solidFill>
                <a:latin typeface="Arial"/>
              </a:rPr>
              <a:t>Руденко Н.А.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Picture 6" descr="connecting"/>
          <p:cNvPicPr/>
          <p:nvPr/>
        </p:nvPicPr>
        <p:blipFill>
          <a:blip r:embed="rId1"/>
          <a:stretch/>
        </p:blipFill>
        <p:spPr>
          <a:xfrm>
            <a:off x="2714760" y="2857680"/>
            <a:ext cx="2786040" cy="2965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508968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ратор ветвления в неполном вариа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684360" y="2349360"/>
            <a:ext cx="80643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IF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THEN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;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468360" y="3213000"/>
            <a:ext cx="7561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IF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&gt;B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THEN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=В*2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;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 программы с условным операторо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807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ogram Test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ses Crt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ar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tr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: string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Clrscr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ritel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В одном байте 8 бит (да/нет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’)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eadl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tr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r=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writeln (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авильно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)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writeln (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неправильно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добавить еще вопросы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adln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Чем отличается полная и сокращенная форма оператора условного перехода?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еречислите ключевые слова оператора условного переход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. 5.1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 диалога  с компьют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9640" y="1557360"/>
          <a:ext cx="7920000" cy="4863960"/>
        </p:xfrm>
        <a:graphic>
          <a:graphicData uri="http://schemas.openxmlformats.org/drawingml/2006/table">
            <a:tbl>
              <a:tblPr/>
              <a:tblGrid>
                <a:gridCol w="2392560"/>
                <a:gridCol w="552744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мпьютер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Здравствуй! Как тебя зовут?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Человек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Мария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мпьютер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мя </a:t>
                      </a: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Мария</a:t>
                      </a: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тебе очень подходит. А сколько тебе лет?  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Человек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мпьютер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Тебе больше </a:t>
                      </a: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и не дашь! А где ты учишься?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Человек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в колледже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мпьютер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у, тогда </a:t>
                      </a: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лледже</a:t>
                      </a: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и встретимся. Пока, </a:t>
                      </a: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Мария</a:t>
                      </a: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, мне пора! Очень рад знакомству! 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 диалога  с компьют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9640" y="1557360"/>
          <a:ext cx="7920000" cy="4497480"/>
        </p:xfrm>
        <a:graphic>
          <a:graphicData uri="http://schemas.openxmlformats.org/drawingml/2006/table">
            <a:tbl>
              <a:tblPr/>
              <a:tblGrid>
                <a:gridCol w="2392560"/>
                <a:gridCol w="55274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мпьютер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Здравствуй! Как тебя зовут?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Человек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мпьютер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мя </a:t>
                      </a: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тебе очень подходит. А сколько тебе лет?  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Человек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мпьютер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Тебе больше </a:t>
                      </a: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и не дашь! А где ты учишься?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Человек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мпьютер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у, тогда </a:t>
                      </a: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и встретимся. Пока, </a:t>
                      </a:r>
                      <a:r>
                        <a:rPr b="1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, мне пора! Очень рад знакомству! 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граммирование программы-диа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3516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Ответьте на вопрос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.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Как компьютер может вывести на экран фразу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Оператором вывода на экран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writeln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А как человек может ввести ответ в компьютер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Оператором ввода на экран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readln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грамма 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зык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8317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ogram Dialog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ses Crt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ar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,B,C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: string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Clrscr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ritel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Здравствуйте! Как Вас зовут?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)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eadl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ritel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Имя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 ‘,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 ‘,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ебе очень подходит. А сколько тебе лет?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eadln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ritel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ебе больше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 ‘,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 ‘,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и не дашь. А где ты учишься?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eadl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ritel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Ну, тогда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, ‘ ‘,C, 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и встретимся. Пока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, ‘ ‘,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 ‘ ‘ , ‘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не пора. Очень рад был знакомству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’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662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ератор условного перехода (оператор ветвле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90d34"/>
                </a:solidFill>
                <a:latin typeface="Arial"/>
              </a:rPr>
              <a:t>Ветвление</a:t>
            </a:r>
            <a:r>
              <a:rPr b="1" i="1" lang="ru-RU" sz="3200" spc="-1" strike="noStrike">
                <a:solidFill>
                  <a:srgbClr val="292929"/>
                </a:solidFill>
                <a:latin typeface="Arial"/>
              </a:rPr>
              <a:t>  - такая форма организации действий, при которой в зависимости от выполнения некоторого условия совершается одна или другая последовательность действий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помни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лок-сх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АНДА ВЕТВЛЕНИЯ  ИМЕЕТ ПОЛНУЮ (1) 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ИЛИ СОКРАЩЕННУЮ ФОРМУ(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1909440" y="6156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2929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16" name="Group 36"/>
          <p:cNvGrpSpPr/>
          <p:nvPr/>
        </p:nvGrpSpPr>
        <p:grpSpPr>
          <a:xfrm>
            <a:off x="0" y="2971800"/>
            <a:ext cx="4114800" cy="3200400"/>
            <a:chOff x="0" y="2971800"/>
            <a:chExt cx="4114800" cy="3200400"/>
          </a:xfrm>
        </p:grpSpPr>
        <p:sp>
          <p:nvSpPr>
            <p:cNvPr id="117" name="AutoShape 3"/>
            <p:cNvSpPr/>
            <p:nvPr/>
          </p:nvSpPr>
          <p:spPr>
            <a:xfrm>
              <a:off x="1295280" y="3352680"/>
              <a:ext cx="1752840" cy="990720"/>
            </a:xfrm>
            <a:prstGeom prst="flowChartDecision">
              <a:avLst/>
            </a:prstGeom>
            <a:solidFill>
              <a:srgbClr val="cc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92929"/>
                  </a:solidFill>
                  <a:latin typeface="Times New Roman"/>
                </a:rPr>
                <a:t>Условие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8" name="Line 4"/>
            <p:cNvSpPr/>
            <p:nvPr/>
          </p:nvSpPr>
          <p:spPr>
            <a:xfrm flipH="1">
              <a:off x="685440" y="3886200"/>
              <a:ext cx="60948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9" name="Line 5"/>
            <p:cNvSpPr/>
            <p:nvPr/>
          </p:nvSpPr>
          <p:spPr>
            <a:xfrm flipH="1">
              <a:off x="3047760" y="3886200"/>
              <a:ext cx="60948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685800" y="3886200"/>
              <a:ext cx="0" cy="7621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>
              <a:off x="2209680" y="2971800"/>
              <a:ext cx="0" cy="38088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0" y="4648320"/>
              <a:ext cx="1600200" cy="68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92929"/>
                  </a:solidFill>
                  <a:latin typeface="Times New Roman"/>
                </a:rPr>
                <a:t>Серия 1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2514600" y="4648320"/>
              <a:ext cx="1600200" cy="68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92929"/>
                  </a:solidFill>
                  <a:latin typeface="Times New Roman"/>
                </a:rPr>
                <a:t>Серия 2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4" name="Line 10"/>
            <p:cNvSpPr/>
            <p:nvPr/>
          </p:nvSpPr>
          <p:spPr>
            <a:xfrm>
              <a:off x="3657600" y="3886200"/>
              <a:ext cx="0" cy="7621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5" name="Line 12"/>
            <p:cNvSpPr/>
            <p:nvPr/>
          </p:nvSpPr>
          <p:spPr>
            <a:xfrm>
              <a:off x="685800" y="5334120"/>
              <a:ext cx="0" cy="4572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>
              <a:off x="3657600" y="5334120"/>
              <a:ext cx="0" cy="4572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>
              <a:off x="685800" y="5791320"/>
              <a:ext cx="13716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 flipH="1">
              <a:off x="2057040" y="5791320"/>
              <a:ext cx="152388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>
              <a:off x="2057400" y="5791320"/>
              <a:ext cx="0" cy="38088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0" name="Text Box 28"/>
            <p:cNvSpPr/>
            <p:nvPr/>
          </p:nvSpPr>
          <p:spPr>
            <a:xfrm>
              <a:off x="686880" y="32004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92929"/>
                  </a:solidFill>
                  <a:latin typeface="Times New Roman"/>
                </a:rPr>
                <a:t>Да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1" name="Text Box 29"/>
            <p:cNvSpPr/>
            <p:nvPr/>
          </p:nvSpPr>
          <p:spPr>
            <a:xfrm>
              <a:off x="3048840" y="3200400"/>
              <a:ext cx="70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92929"/>
                  </a:solidFill>
                  <a:latin typeface="Times New Roman"/>
                </a:rPr>
                <a:t>Нет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32" name="Group 38"/>
          <p:cNvGrpSpPr/>
          <p:nvPr/>
        </p:nvGrpSpPr>
        <p:grpSpPr>
          <a:xfrm>
            <a:off x="4876920" y="2971800"/>
            <a:ext cx="3809880" cy="3124080"/>
            <a:chOff x="4876920" y="2971800"/>
            <a:chExt cx="3809880" cy="3124080"/>
          </a:xfrm>
        </p:grpSpPr>
        <p:sp>
          <p:nvSpPr>
            <p:cNvPr id="133" name="Text Box 19"/>
            <p:cNvSpPr/>
            <p:nvPr/>
          </p:nvSpPr>
          <p:spPr>
            <a:xfrm>
              <a:off x="5792400" y="32767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92929"/>
                  </a:solidFill>
                  <a:latin typeface="Times New Roman"/>
                </a:rPr>
                <a:t>Да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4" name="Text Box 20"/>
            <p:cNvSpPr/>
            <p:nvPr/>
          </p:nvSpPr>
          <p:spPr>
            <a:xfrm>
              <a:off x="7925400" y="3124080"/>
              <a:ext cx="70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92929"/>
                  </a:solidFill>
                  <a:latin typeface="Times New Roman"/>
                </a:rPr>
                <a:t>Нет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>
              <a:off x="7162920" y="2971800"/>
              <a:ext cx="0" cy="38088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6" name="AutoShape 23"/>
            <p:cNvSpPr/>
            <p:nvPr/>
          </p:nvSpPr>
          <p:spPr>
            <a:xfrm>
              <a:off x="6324480" y="3352680"/>
              <a:ext cx="1752840" cy="990720"/>
            </a:xfrm>
            <a:prstGeom prst="flowChartDecision">
              <a:avLst/>
            </a:prstGeom>
            <a:solidFill>
              <a:srgbClr val="cc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92929"/>
                  </a:solidFill>
                  <a:latin typeface="Times New Roman"/>
                </a:rPr>
                <a:t>Условие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7" name="Line 24"/>
            <p:cNvSpPr/>
            <p:nvPr/>
          </p:nvSpPr>
          <p:spPr>
            <a:xfrm flipH="1">
              <a:off x="5714640" y="3809880"/>
              <a:ext cx="60948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 flipH="1">
              <a:off x="8076960" y="3809880"/>
              <a:ext cx="60948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>
              <a:off x="5715000" y="3809880"/>
              <a:ext cx="0" cy="7621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0" name="Rectangle 27"/>
            <p:cNvSpPr/>
            <p:nvPr/>
          </p:nvSpPr>
          <p:spPr>
            <a:xfrm>
              <a:off x="4876920" y="4572000"/>
              <a:ext cx="1600200" cy="68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92929"/>
                  </a:solidFill>
                  <a:latin typeface="Times New Roman"/>
                </a:rPr>
                <a:t>Серия 1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1" name="Line 30"/>
            <p:cNvSpPr/>
            <p:nvPr/>
          </p:nvSpPr>
          <p:spPr>
            <a:xfrm>
              <a:off x="5715000" y="5257800"/>
              <a:ext cx="0" cy="4572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5715000" y="5715000"/>
              <a:ext cx="13716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3" name="Line 32"/>
            <p:cNvSpPr/>
            <p:nvPr/>
          </p:nvSpPr>
          <p:spPr>
            <a:xfrm>
              <a:off x="8686800" y="3809880"/>
              <a:ext cx="0" cy="19051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 flipH="1">
              <a:off x="7086240" y="5715000"/>
              <a:ext cx="16002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5" name="Line 34"/>
            <p:cNvSpPr/>
            <p:nvPr/>
          </p:nvSpPr>
          <p:spPr>
            <a:xfrm>
              <a:off x="7086600" y="5715000"/>
              <a:ext cx="0" cy="38088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46" name="Text Box 35"/>
          <p:cNvSpPr/>
          <p:nvPr/>
        </p:nvSpPr>
        <p:spPr>
          <a:xfrm>
            <a:off x="6859440" y="6156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2929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7"/>
          <p:cNvSpPr/>
          <p:nvPr/>
        </p:nvSpPr>
        <p:spPr>
          <a:xfrm>
            <a:off x="508968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ератор ветвления в полном вариан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179280" y="1700280"/>
            <a:ext cx="8964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IF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292929"/>
                </a:solidFill>
                <a:latin typeface="Times New Roman"/>
              </a:rPr>
              <a:t>(</a:t>
            </a:r>
            <a:r>
              <a:rPr b="0" i="1" lang="ru-RU" sz="3000" spc="-1" strike="noStrike">
                <a:solidFill>
                  <a:srgbClr val="292929"/>
                </a:solidFill>
                <a:latin typeface="Times New Roman"/>
              </a:rPr>
              <a:t>условие</a:t>
            </a:r>
            <a:r>
              <a:rPr b="0" lang="ru-RU" sz="3000" spc="-1" strike="noStrike">
                <a:solidFill>
                  <a:srgbClr val="292929"/>
                </a:solidFill>
                <a:latin typeface="Times New Roman"/>
              </a:rPr>
              <a:t>)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THEN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292929"/>
                </a:solidFill>
                <a:latin typeface="Times New Roman"/>
              </a:rPr>
              <a:t>(</a:t>
            </a:r>
            <a:r>
              <a:rPr b="0" i="1" lang="ru-RU" sz="3000" spc="-1" strike="noStrike">
                <a:solidFill>
                  <a:srgbClr val="292929"/>
                </a:solidFill>
                <a:latin typeface="Times New Roman"/>
              </a:rPr>
              <a:t>оператор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1</a:t>
            </a:r>
            <a:r>
              <a:rPr b="0" lang="ru-RU" sz="3000" spc="-1" strike="noStrike">
                <a:solidFill>
                  <a:srgbClr val="292929"/>
                </a:solidFill>
                <a:latin typeface="Times New Roman"/>
              </a:rPr>
              <a:t>)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ELSE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292929"/>
                </a:solidFill>
                <a:latin typeface="Times New Roman"/>
              </a:rPr>
              <a:t>(</a:t>
            </a:r>
            <a:r>
              <a:rPr b="0" i="1" lang="ru-RU" sz="3000" spc="-1" strike="noStrike">
                <a:solidFill>
                  <a:srgbClr val="292929"/>
                </a:solidFill>
                <a:latin typeface="Times New Roman"/>
              </a:rPr>
              <a:t>оператор2</a:t>
            </a:r>
            <a:r>
              <a:rPr b="0" lang="ru-RU" sz="3000" spc="-1" strike="noStrike">
                <a:solidFill>
                  <a:srgbClr val="292929"/>
                </a:solidFill>
                <a:latin typeface="Times New Roman"/>
              </a:rPr>
              <a:t>)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41080" y="263700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слов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1835280" y="2637000"/>
            <a:ext cx="66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ывается с помощью знаков сравнения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ринимает два значения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ав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ож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539640" y="4365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ложные услов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ляют из простых с помощью логических операций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(или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и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NO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не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755640" y="3500280"/>
            <a:ext cx="7561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IF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292929"/>
                </a:solidFill>
                <a:latin typeface="Times New Roman"/>
              </a:rPr>
              <a:t>A&gt;B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THEN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292929"/>
                </a:solidFill>
                <a:latin typeface="Times New Roman"/>
              </a:rPr>
              <a:t>max:=A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ELSE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292929"/>
                </a:solidFill>
                <a:latin typeface="Times New Roman"/>
              </a:rPr>
              <a:t>max:=B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0" y="5805360"/>
            <a:ext cx="9144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IF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292929"/>
                </a:solidFill>
                <a:latin typeface="Times New Roman"/>
              </a:rPr>
              <a:t>(A&gt;B)AND(A&gt;C)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THEN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292929"/>
                </a:solidFill>
                <a:latin typeface="Times New Roman"/>
              </a:rPr>
              <a:t>max:=A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ELSE</a:t>
            </a:r>
            <a:r>
              <a:rPr b="1" lang="ru-RU" sz="30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292929"/>
                </a:solidFill>
                <a:latin typeface="Times New Roman"/>
              </a:rPr>
              <a:t>max:=100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00"/>
                            </p:stCondLst>
                            <p:childTnLst>
                              <p:par>
                                <p:cTn id="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7:27:02Z</dcterms:created>
  <dc:creator>Кайданная Галия Хафизовна</dc:creator>
  <dc:description/>
  <dc:language>en-US</dc:language>
  <cp:lastModifiedBy>Сергей</cp:lastModifiedBy>
  <dcterms:modified xsi:type="dcterms:W3CDTF">2016-08-06T16:49:52Z</dcterms:modified>
  <cp:revision>92</cp:revision>
  <dc:subject/>
  <dc:title>Оператооры ветвления</dc:title>
</cp:coreProperties>
</file>