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33A2-5A6A-4041-8331-F0DE80004B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D464-46CC-4DF2-A2D9-EEBDB9CE74E7}" type="slidenum"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011-C4FF-434A-93B3-579DC352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B80-6663-467A-9B1B-1239DDF5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EE0-6FE0-491F-9CEF-FAF30E71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8FD-3D45-48C5-B3AA-7B03F24A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D094-E2F9-4AB0-9CD0-1663F547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0718-859C-4F2F-989C-527609A2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5074-7709-41A6-BDF9-B3A2E453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139F-8F82-4438-B809-136BB79F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DE22-CBC1-4C41-8777-16241DAD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1CDF-CC1A-48BB-AEC9-E796A628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BC89-F90C-488B-9C0F-CB8D789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533-5DA5-4892-82C2-C3AA47E4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F9EB-0012-4B54-80B8-E704529E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BB84-3F3A-4795-B4EF-0A47ED6A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9194-36C1-4581-BC37-3636D1B2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0FE3-0EB2-4A53-9724-0FC05EA6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C85B-FD7A-4092-8417-582FDF54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C35-B370-47A7-84DF-BD2B31BA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DF7-8229-4351-AEDD-B6FACC78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6CD-2FB4-4B5F-841D-CC7EF88F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CB4-E448-4416-99A9-86593DC4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D75-0A68-459E-8E20-C91536C8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203-7268-47AE-B2F8-15CAACF7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99B-0E15-4B9A-B3E8-CD29B16D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70E3-9397-4F95-82F4-5A29374B35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5E02-B398-48AD-9FFB-4C8706685C78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работка диалоговых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71680" y="5786280"/>
            <a:ext cx="371484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92929"/>
                </a:solidFill>
                <a:latin typeface="Arial"/>
              </a:rPr>
              <a:t>Подготовила учитель информатики </a:t>
            </a:r>
            <a:br>
              <a:rPr sz="1500"/>
            </a:br>
            <a:r>
              <a:rPr b="0" lang="ru-RU" sz="1500" spc="-1" strike="noStrike">
                <a:solidFill>
                  <a:srgbClr val="292929"/>
                </a:solidFill>
                <a:latin typeface="Arial"/>
              </a:rPr>
              <a:t>МОУ СШ № 10 города Волгограда </a:t>
            </a:r>
            <a:br>
              <a:rPr sz="1500"/>
            </a:br>
            <a:r>
              <a:rPr b="0" lang="ru-RU" sz="1500" spc="-1" strike="noStrike">
                <a:solidFill>
                  <a:srgbClr val="292929"/>
                </a:solidFill>
                <a:latin typeface="Arial"/>
              </a:rPr>
              <a:t>Руденко Н.А.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6" descr="connecting"/>
          <p:cNvPicPr/>
          <p:nvPr/>
        </p:nvPicPr>
        <p:blipFill>
          <a:blip r:embed="rId1"/>
          <a:stretch/>
        </p:blipFill>
        <p:spPr>
          <a:xfrm>
            <a:off x="2714760" y="2857680"/>
            <a:ext cx="2786040" cy="2965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508968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 ветвления в неполном вариа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84360" y="2349360"/>
            <a:ext cx="8064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IF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THEN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;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468360" y="3213000"/>
            <a:ext cx="7561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IF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&gt;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THEN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=В*2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;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 программы с условным операторо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07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gram Test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ar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tr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: string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lrscr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rite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 одном байте 8 бит (да/нет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’)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ead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tr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r=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writeln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авильно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)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writeln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неправильно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добавить еще вопросы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Чем отличается полная и сокращенная форма оператора условного перехода?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еречислите ключевые слова оператора условного переход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. 5.1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 диалога  с компьют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9640" y="1557360"/>
          <a:ext cx="7920000" cy="4863960"/>
        </p:xfrm>
        <a:graphic>
          <a:graphicData uri="http://schemas.openxmlformats.org/drawingml/2006/table">
            <a:tbl>
              <a:tblPr/>
              <a:tblGrid>
                <a:gridCol w="2392560"/>
                <a:gridCol w="552744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Здравствуй! Как тебя зовут?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еловек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Мария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мя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Мария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тебе очень подходит. А сколько тебе лет? 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еловек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Тебе больше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и не дашь! А где ты учишься?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еловек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 колледже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у, тогда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лледже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и встретимся. Пока,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Мария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, мне пора! Очень рад знакомству!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 диалога  с компьют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1557360"/>
          <a:ext cx="7920000" cy="4497480"/>
        </p:xfrm>
        <a:graphic>
          <a:graphicData uri="http://schemas.openxmlformats.org/drawingml/2006/table">
            <a:tbl>
              <a:tblPr/>
              <a:tblGrid>
                <a:gridCol w="2392560"/>
                <a:gridCol w="55274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Здравствуй! Как тебя зовут?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еловек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мя </a:t>
                      </a: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тебе очень подходит. А сколько тебе лет? 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еловек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Тебе больше </a:t>
                      </a: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и не дашь! А где ты учишься?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еловек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у, тогда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и встретимся. Пока,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, мне пора! Очень рад знакомству!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раммирование программы-диа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3516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тветьте на вопрос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Как компьютер может вывести на экран фразу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ператором вывода на экран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writeln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А как человек может ввести ответ в компьютер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ператором ввода на экран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readln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рамма 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зык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317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gram Dialog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ar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,B,C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: string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rite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Здравствуйте! Как Вас зовут?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)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ead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rite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м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 ‘,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 ‘,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ебе очень подходит. А сколько тебе лет?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eadln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rite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ебе больше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 ‘,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 ‘,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 не дашь. А где ты учишься?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ead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rite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Ну, тогда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, ‘ ‘,C, 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 встретимся. Пока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, ‘ ‘,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‘ ‘ , 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не пора. Очень рад был знакомству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662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ератор условного перехода (оператор ветвл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90d34"/>
                </a:solidFill>
                <a:latin typeface="Arial"/>
              </a:rPr>
              <a:t>Ветвление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 - такая форма организации действий, при которой в зависимости от выполнения некоторого условия совершается одна или другая последовательность действий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помни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ок-сх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А ВЕТВЛЕНИЯ  ИМЕЕТ ПОЛНУЮ (1) 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ИЛИ СОКРАЩЕННУЮ ФОРМУ(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1909440" y="6156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2929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0" y="2971800"/>
            <a:ext cx="4114800" cy="3200400"/>
            <a:chOff x="0" y="2971800"/>
            <a:chExt cx="4114800" cy="3200400"/>
          </a:xfrm>
        </p:grpSpPr>
        <p:sp>
          <p:nvSpPr>
            <p:cNvPr id="117" name="AutoShape 3"/>
            <p:cNvSpPr/>
            <p:nvPr/>
          </p:nvSpPr>
          <p:spPr>
            <a:xfrm>
              <a:off x="1295280" y="3352680"/>
              <a:ext cx="1752840" cy="990720"/>
            </a:xfrm>
            <a:prstGeom prst="flowChartDecision">
              <a:avLst/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Условие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8" name="Line 4"/>
            <p:cNvSpPr/>
            <p:nvPr/>
          </p:nvSpPr>
          <p:spPr>
            <a:xfrm flipH="1">
              <a:off x="685440" y="3886200"/>
              <a:ext cx="6094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H="1">
              <a:off x="3047760" y="3886200"/>
              <a:ext cx="6094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685800" y="3886200"/>
              <a:ext cx="0" cy="7621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2209680" y="2971800"/>
              <a:ext cx="0" cy="3808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0" y="4648320"/>
              <a:ext cx="1600200" cy="68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Серия 1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2514600" y="4648320"/>
              <a:ext cx="1600200" cy="68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Серия 2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4" name="Line 10"/>
            <p:cNvSpPr/>
            <p:nvPr/>
          </p:nvSpPr>
          <p:spPr>
            <a:xfrm>
              <a:off x="3657600" y="3886200"/>
              <a:ext cx="0" cy="7621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685800" y="53341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3657600" y="53341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685800" y="5791320"/>
              <a:ext cx="13716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H="1">
              <a:off x="2057040" y="5791320"/>
              <a:ext cx="15238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2057400" y="5791320"/>
              <a:ext cx="0" cy="3808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0" name="Text Box 28"/>
            <p:cNvSpPr/>
            <p:nvPr/>
          </p:nvSpPr>
          <p:spPr>
            <a:xfrm>
              <a:off x="686880" y="320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Да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1" name="Text Box 29"/>
            <p:cNvSpPr/>
            <p:nvPr/>
          </p:nvSpPr>
          <p:spPr>
            <a:xfrm>
              <a:off x="3048840" y="320040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Нет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32" name="Group 38"/>
          <p:cNvGrpSpPr/>
          <p:nvPr/>
        </p:nvGrpSpPr>
        <p:grpSpPr>
          <a:xfrm>
            <a:off x="4876920" y="2971800"/>
            <a:ext cx="3809880" cy="3124080"/>
            <a:chOff x="4876920" y="2971800"/>
            <a:chExt cx="3809880" cy="3124080"/>
          </a:xfrm>
        </p:grpSpPr>
        <p:sp>
          <p:nvSpPr>
            <p:cNvPr id="133" name="Text Box 19"/>
            <p:cNvSpPr/>
            <p:nvPr/>
          </p:nvSpPr>
          <p:spPr>
            <a:xfrm>
              <a:off x="5792400" y="32767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Да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4" name="Text Box 20"/>
            <p:cNvSpPr/>
            <p:nvPr/>
          </p:nvSpPr>
          <p:spPr>
            <a:xfrm>
              <a:off x="7925400" y="312408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Нет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7162920" y="2971800"/>
              <a:ext cx="0" cy="3808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6" name="AutoShape 23"/>
            <p:cNvSpPr/>
            <p:nvPr/>
          </p:nvSpPr>
          <p:spPr>
            <a:xfrm>
              <a:off x="6324480" y="3352680"/>
              <a:ext cx="1752840" cy="990720"/>
            </a:xfrm>
            <a:prstGeom prst="flowChartDecision">
              <a:avLst/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Условие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7" name="Line 24"/>
            <p:cNvSpPr/>
            <p:nvPr/>
          </p:nvSpPr>
          <p:spPr>
            <a:xfrm flipH="1">
              <a:off x="5714640" y="3809880"/>
              <a:ext cx="6094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 flipH="1">
              <a:off x="8076960" y="3809880"/>
              <a:ext cx="6094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>
              <a:off x="5715000" y="3809880"/>
              <a:ext cx="0" cy="7621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0" name="Rectangle 27"/>
            <p:cNvSpPr/>
            <p:nvPr/>
          </p:nvSpPr>
          <p:spPr>
            <a:xfrm>
              <a:off x="4876920" y="4572000"/>
              <a:ext cx="1600200" cy="68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Серия 1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1" name="Line 30"/>
            <p:cNvSpPr/>
            <p:nvPr/>
          </p:nvSpPr>
          <p:spPr>
            <a:xfrm>
              <a:off x="5715000" y="525780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5715000" y="5715000"/>
              <a:ext cx="13716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>
              <a:off x="8686800" y="3809880"/>
              <a:ext cx="0" cy="19051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 flipH="1">
              <a:off x="7086240" y="5715000"/>
              <a:ext cx="16002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>
              <a:off x="7086600" y="5715000"/>
              <a:ext cx="0" cy="3808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46" name="Text Box 35"/>
          <p:cNvSpPr/>
          <p:nvPr/>
        </p:nvSpPr>
        <p:spPr>
          <a:xfrm>
            <a:off x="6859440" y="6156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2929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7"/>
          <p:cNvSpPr/>
          <p:nvPr/>
        </p:nvSpPr>
        <p:spPr>
          <a:xfrm>
            <a:off x="508968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ератор ветвления в полном вариан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79280" y="1700280"/>
            <a:ext cx="8964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IF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0" i="1" lang="ru-RU" sz="3000" spc="-1" strike="noStrike">
                <a:solidFill>
                  <a:srgbClr val="292929"/>
                </a:solidFill>
                <a:latin typeface="Times New Roman"/>
              </a:rPr>
              <a:t>условие</a:t>
            </a:r>
            <a:r>
              <a:rPr b="0" lang="ru-RU" sz="3000" spc="-1" strike="noStrike">
                <a:solidFill>
                  <a:srgbClr val="292929"/>
                </a:solidFill>
                <a:latin typeface="Times New Roman"/>
              </a:rPr>
              <a:t>)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THEN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0" i="1" lang="ru-RU" sz="3000" spc="-1" strike="noStrike">
                <a:solidFill>
                  <a:srgbClr val="292929"/>
                </a:solidFill>
                <a:latin typeface="Times New Roman"/>
              </a:rPr>
              <a:t>оператор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1</a:t>
            </a:r>
            <a:r>
              <a:rPr b="0" lang="ru-RU" sz="3000" spc="-1" strike="noStrike">
                <a:solidFill>
                  <a:srgbClr val="292929"/>
                </a:solidFill>
                <a:latin typeface="Times New Roman"/>
              </a:rPr>
              <a:t>)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ELSE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0" i="1" lang="ru-RU" sz="3000" spc="-1" strike="noStrike">
                <a:solidFill>
                  <a:srgbClr val="292929"/>
                </a:solidFill>
                <a:latin typeface="Times New Roman"/>
              </a:rPr>
              <a:t>оператор2</a:t>
            </a:r>
            <a:r>
              <a:rPr b="0" lang="ru-RU" sz="3000" spc="-1" strike="noStrike">
                <a:solidFill>
                  <a:srgbClr val="292929"/>
                </a:solidFill>
                <a:latin typeface="Times New Roman"/>
              </a:rPr>
              <a:t>)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41080" y="263700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835280" y="263700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ывается с помощью знаков сравнения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ринимает два значения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в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ож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539640" y="4365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ложные услов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яют из простых с помощью логических операций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(или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и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NO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не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755640" y="3500280"/>
            <a:ext cx="7561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IF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292929"/>
                </a:solidFill>
                <a:latin typeface="Times New Roman"/>
              </a:rPr>
              <a:t>A&gt;B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THEN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292929"/>
                </a:solidFill>
                <a:latin typeface="Times New Roman"/>
              </a:rPr>
              <a:t>max:=A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ELSE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292929"/>
                </a:solidFill>
                <a:latin typeface="Times New Roman"/>
              </a:rPr>
              <a:t>max:=B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0" y="5805360"/>
            <a:ext cx="9144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IF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292929"/>
                </a:solidFill>
                <a:latin typeface="Times New Roman"/>
              </a:rPr>
              <a:t>(A&gt;B)AND(A&gt;C)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THEN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292929"/>
                </a:solidFill>
                <a:latin typeface="Times New Roman"/>
              </a:rPr>
              <a:t>max:=A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ELSE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292929"/>
                </a:solidFill>
                <a:latin typeface="Times New Roman"/>
              </a:rPr>
              <a:t>max:=100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7:27:02Z</dcterms:created>
  <dc:creator>Кайданная Галия Хафизовна</dc:creator>
  <dc:description/>
  <dc:language>en-US</dc:language>
  <cp:lastModifiedBy>Сергей</cp:lastModifiedBy>
  <dcterms:modified xsi:type="dcterms:W3CDTF">2016-08-06T16:49:52Z</dcterms:modified>
  <cp:revision>92</cp:revision>
  <dc:subject/>
  <dc:title>Оператооры ветвления</dc:title>
</cp:coreProperties>
</file>