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1557000"/>
            <a:ext cx="867708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 Black"/>
                <a:ea typeface="Malgun Gothic"/>
              </a:rPr>
              <a:t>ДОКУЧНЫЕ   СКАЗКИ</a:t>
            </a:r>
            <a:endParaRPr b="1" lang="en-US" sz="5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26920" y="3528720"/>
            <a:ext cx="74534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5081760" y="746280"/>
            <a:ext cx="3958920" cy="521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37960" y="1049040"/>
            <a:ext cx="853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Жила-была кошка,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Сидела у окошка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И птичку всё время ждала.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Ждала, ждала –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Так и сказочка прошла,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Начинай с начала!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1640" y="446040"/>
            <a:ext cx="8280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ОКУЧНАЯ   СКАЗКА  НА  СОВРЕМЕННЫЙ   ЛАД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3887640" y="1700280"/>
            <a:ext cx="5021280" cy="3636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9280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d0d0d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Ты в школе был?             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- Был.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-324000">
              <a:spcBef>
                <a:spcPts val="601"/>
              </a:spcBef>
              <a:buClr>
                <a:srgbClr val="0d0d0d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У доски отвечал?              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- Отвечал.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-324000">
              <a:spcBef>
                <a:spcPts val="601"/>
              </a:spcBef>
              <a:buClr>
                <a:srgbClr val="0d0d0d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ценку получил?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                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- Получил.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-324000">
              <a:spcBef>
                <a:spcPts val="601"/>
              </a:spcBef>
              <a:buClr>
                <a:srgbClr val="0d0d0d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Так где она?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- Что?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-324000">
              <a:spcBef>
                <a:spcPts val="601"/>
              </a:spcBef>
              <a:buClr>
                <a:srgbClr val="0d0d0d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ценка.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- Какая?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-    Ты в школе был?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Сергей Клементьев</cp:lastModifiedBy>
  <dcterms:modified xsi:type="dcterms:W3CDTF">2016-08-08T10:09:05Z</dcterms:modified>
  <cp:revision>22</cp:revision>
  <dc:subject/>
  <dc:title>Слайд 1</dc:title>
</cp:coreProperties>
</file>