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488-CB64-4122-9697-A8A91221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898-A4A8-4030-A724-D4C8560B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944-C7D3-480D-99A6-12BE2087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4980-BF79-4F94-A8EF-84608862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09BA-788E-47CD-A197-C04815E7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C02F-BAA0-4738-B19C-6B0B1D4F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5F68-5F19-4ADA-ADF0-C8F7072A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EBC6-E439-4691-9D4E-490F48B9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0694-F9F7-4BA3-B571-E2785EB2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F125-17C2-4380-BB87-4FD9C29A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96A5-4446-4712-A862-307888E1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91F-885D-4108-ADC3-71D2069A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B924-EB61-4C29-BBB0-993BA6C8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BFB3-C0C4-4801-8348-8C0135B8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A993-E8D2-496A-8C98-47CEADFE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D5BB-EB40-4ADC-8138-EA99BC51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9D57-43F3-4748-93CE-7EBFA360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9FFD4-845E-4DC4-A070-2EFB7F1F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23004-8A33-4784-9EF1-9ACA04C3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3B60B-973F-4411-8822-9946ACFD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9B5F7-3AAB-4D96-967F-FBBB0C8D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C50AA-3EC8-4128-A1C2-D568394B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8441-9A25-488A-AF2D-3CDD53BA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9C241-E85D-4098-9800-D64F8DFA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5DF33-A420-4DCF-B5E4-FE0BCBC9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FB74B-3102-4E79-B64C-72910AE1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8E580-35D9-4686-BB2E-56FD2213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11114-5A91-468C-BA2D-639C9763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1FD1E-35B0-4F8E-8EA4-9BFFB580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D79C6-6CBA-4173-B6D4-8D1E37B1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690BE-95F1-4BA9-BCC8-2AD5A6B0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61CFE-DB39-465B-9541-65F9BC3B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F2614-5403-4CEF-BB37-AA171CB0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BA0-251B-468D-89F6-45736421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8C13D-49DC-43A4-871B-05664DF1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E5FE2-E91F-4027-9B0F-9C577490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E43A5-030F-4650-A424-93627388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8722C-E54A-4E2B-A44B-2E52AE0B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BA6F6-E871-4523-9D03-0E4E25CB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0BF89-E79D-4058-BE9A-B5A3D166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B954F-7C1B-4FB4-B880-402DB385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CD711-D6B0-4DD1-A62D-62096D3E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14068-A927-4AAD-B018-D18F37B9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DB17A-D2B9-4968-8659-10DA1382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3379-2BEF-40D1-B06C-6787D14E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8D4AA-B850-438A-B8BF-5770FEB6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6B597-7606-4CA2-9ABC-BBA3BF67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3E31C-9F13-4D3A-9B81-DDE3FB92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11CF6-F47A-45F9-AAA0-927542CD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C974B-7B22-424B-9B27-DAE52E8E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0D675-0240-418B-826D-0142ADD6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FBE7D-DA24-4684-AD3F-7F8E6358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7B968-076C-45F2-A770-3400A109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762FC-6ECE-4E36-96AC-7701C791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983F7-A50C-4955-A663-FEC48B18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CB93-E259-4376-86FD-B3ED9CCE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B4E01-7619-44E6-8986-740E3521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AF9-B719-47EC-BB93-E48BDB37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E0D-868A-4E8F-9575-3D099272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1D0-1278-4DE8-AC5F-DF7C4CCE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5f55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A0C9-EB33-4B94-AF8E-169135BB333A}" type="slidenum">
              <a:rPr b="0" lang="ru-RU" sz="1100" spc="-1" strike="noStrike">
                <a:solidFill>
                  <a:srgbClr val="775f55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A456-0D90-4969-9FA0-2BBBA85EAF8A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5f55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4560-7753-40AF-B409-8D351257976F}" type="slidenum">
              <a:rPr b="0" lang="ru-RU" sz="1100" spc="-1" strike="noStrike">
                <a:solidFill>
                  <a:srgbClr val="775f55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ddc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bddc3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bddc3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bddc3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CEE5-E2CF-4B05-A8EB-EFB7D381EF98}" type="slidenum">
              <a:rPr b="0" lang="ru-RU" sz="1100" spc="-1" strike="noStrike">
                <a:solidFill>
                  <a:srgbClr val="ebddc3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5f55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E3F2-90C5-4FFB-982B-8F1272770F39}" type="slidenum">
              <a:rPr b="0" lang="ru-RU" sz="1100" spc="-1" strike="noStrike">
                <a:solidFill>
                  <a:srgbClr val="775f55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-6480" y="-152280"/>
            <a:ext cx="8748720" cy="27302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http://www.sinergia-lib.ru/doc_images/preview/img_341.jpeg"/>
          <p:cNvPicPr/>
          <p:nvPr/>
        </p:nvPicPr>
        <p:blipFill>
          <a:blip r:embed="rId2"/>
          <a:stretch/>
        </p:blipFill>
        <p:spPr>
          <a:xfrm>
            <a:off x="3143160" y="1500120"/>
            <a:ext cx="33577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3"/>
          <p:cNvSpPr/>
          <p:nvPr/>
        </p:nvSpPr>
        <p:spPr>
          <a:xfrm>
            <a:off x="214200" y="428760"/>
            <a:ext cx="7715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нтон Павлович Чехов - крупнейший русский писатель, драматург, классик мировой литерату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одился 17 января 1860 г. в Таганроге в купеческой семье, со строгими правилами воспитания. С детских лет Чехов помогал отцу в лавк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http://www.whoiswho.su/db.img/Rostov/Org/551.jpg"/>
          <p:cNvPicPr/>
          <p:nvPr/>
        </p:nvPicPr>
        <p:blipFill>
          <a:blip r:embed="rId1"/>
          <a:stretch/>
        </p:blipFill>
        <p:spPr>
          <a:xfrm>
            <a:off x="1143000" y="2214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214200" y="214200"/>
            <a:ext cx="7858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1868 поступил в гимназию. Когда вся семья Чеховых переехала в Москву, будущий писатель остался в Таганроге и зарабатывал на жизнь репетиторством, чтобы окончить у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кончив гимназию в 1879, уехал в Москву и поступил на медицинский факультет Московского университета, где слушал лекции знаменитых профессоров — Н. Склифосовского, Г. Захарьина и др. В 1884, получив звание уездного врача, Чехов начал заниматься врачебной практ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https://encrypted-tbn2.gstatic.com/images?q=tbn:ANd9GcTiq5LUAF7-VlvKGN6yKtNEXqqPxI_VlFVaugWMp-keW9jAV9ur"/>
          <p:cNvPicPr/>
          <p:nvPr/>
        </p:nvPicPr>
        <p:blipFill>
          <a:blip r:embed="rId1"/>
          <a:stretch/>
        </p:blipFill>
        <p:spPr>
          <a:xfrm>
            <a:off x="1071720" y="2857680"/>
            <a:ext cx="5786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http://chehov.niv.ru/images/museum/sahalin1_18big.jpg"/>
          <p:cNvPicPr/>
          <p:nvPr/>
        </p:nvPicPr>
        <p:blipFill>
          <a:blip r:embed="rId1"/>
          <a:stretch/>
        </p:blipFill>
        <p:spPr>
          <a:xfrm>
            <a:off x="1571760" y="3643200"/>
            <a:ext cx="4867200" cy="292428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3"/>
          <p:cNvSpPr/>
          <p:nvPr/>
        </p:nvSpPr>
        <p:spPr>
          <a:xfrm>
            <a:off x="214200" y="142920"/>
            <a:ext cx="80726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студенческие годы сотрудничал в журналах "Стрекоза", "Будильник", "Зритель" и др., подписываясь разными псевдонимами, но чаще всего Антоша Чехо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1884 вышла первая книга рассказов Чехова — "Сказки Мельпомены", затем следуют "Пестрые рассказы" (1886), "В сумерках" (1887), "Хмурые люди" (189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1890 г. Чехов решил поехать на Сахал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сле возвращения он написал книгу "Остров Сахалин" (1893 — 94); отразилив сахалинские впечатления и в рассказах               "В ссылке" (1892), "Палата № б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ездка значительно ухудшила состояние здоровья Чехова: обострился туберкулезный проце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214200" y="214200"/>
            <a:ext cx="7786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1892 Чехов купил имение Мелихово, где помогал местным крестьянам как врач, строил школы для крестьянских детей, участвовал во всеобщей переписи на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Мелихово было написано много прекрасных произведений: "Попрыгунья", "Скрипка Ротшильда", "Учитель словесности", "Чайка", "Дядя Ваня" и др. В начале века Чехов создал такие замечательные пьесы, как "Три сестры" и "Вишневый сад". Все пьесы были поставлены на сцене МХ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http://img-fotki.yandex.ru/get/5812/121998322.e/0_65d19_23787285_XL.jpg"/>
          <p:cNvPicPr/>
          <p:nvPr/>
        </p:nvPicPr>
        <p:blipFill>
          <a:blip r:embed="rId1"/>
          <a:stretch/>
        </p:blipFill>
        <p:spPr>
          <a:xfrm>
            <a:off x="1500120" y="2928960"/>
            <a:ext cx="49910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3"/>
          <p:cNvSpPr/>
          <p:nvPr/>
        </p:nvSpPr>
        <p:spPr>
          <a:xfrm>
            <a:off x="142920" y="357120"/>
            <a:ext cx="7929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1898 Чехов переехал в Ялту, где построил дом, в котором он прожил до 1904 г. В гостях у него бывали Л. Толстой, М. Горький; Бунин, Куприн, художник И. Левит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1901 Чехов женился на актрисе МХАТа О. Книпп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http://upload.wikimedia.org/wikipedia/commons/thumb/a/a8/File-Chehov_housez.jpg/200px-File-Chehov_housez.jpg"/>
          <p:cNvPicPr/>
          <p:nvPr/>
        </p:nvPicPr>
        <p:blipFill>
          <a:blip r:embed="rId1"/>
          <a:stretch/>
        </p:blipFill>
        <p:spPr>
          <a:xfrm>
            <a:off x="642960" y="1714680"/>
            <a:ext cx="3857760" cy="2738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http://yaltanews.ru/wp-content/uploads/2013/02/chehov_v_yalte1-e1360696654279.jpg"/>
          <p:cNvPicPr/>
          <p:nvPr/>
        </p:nvPicPr>
        <p:blipFill>
          <a:blip r:embed="rId2"/>
          <a:stretch/>
        </p:blipFill>
        <p:spPr>
          <a:xfrm>
            <a:off x="4786200" y="2286000"/>
            <a:ext cx="2371680" cy="2590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http://www.manwb.ru/pub/Pictures-Articles/2010/02/Chehov/Yalta.jpg"/>
          <p:cNvPicPr/>
          <p:nvPr/>
        </p:nvPicPr>
        <p:blipFill>
          <a:blip r:embed="rId3"/>
          <a:stretch/>
        </p:blipFill>
        <p:spPr>
          <a:xfrm>
            <a:off x="214200" y="4071960"/>
            <a:ext cx="3214800" cy="2490840"/>
          </a:xfrm>
          <a:prstGeom prst="rect">
            <a:avLst/>
          </a:prstGeom>
          <a:ln w="0">
            <a:noFill/>
          </a:ln>
        </p:spPr>
      </p:pic>
      <p:sp>
        <p:nvSpPr>
          <p:cNvPr id="238" name="Параллелограмм 7"/>
          <p:cNvSpPr/>
          <p:nvPr/>
        </p:nvSpPr>
        <p:spPr>
          <a:xfrm>
            <a:off x="4357800" y="6000840"/>
            <a:ext cx="4786200" cy="642960"/>
          </a:xfrm>
          <a:prstGeom prst="parallelogram">
            <a:avLst>
              <a:gd name="adj" fmla="val 160391"/>
            </a:avLst>
          </a:prstGeom>
          <a:solidFill>
            <a:srgbClr val="94b6d2"/>
          </a:solidFill>
          <a:ln w="399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0T18:12:12Z</dcterms:created>
  <dc:creator>Windows User</dc:creator>
  <dc:description/>
  <dc:language>en-US</dc:language>
  <cp:lastModifiedBy>Илья Клементьев</cp:lastModifiedBy>
  <dcterms:modified xsi:type="dcterms:W3CDTF">2016-08-08T11:11:13Z</dcterms:modified>
  <cp:revision>14</cp:revision>
  <dc:subject/>
  <dc:title>ЧЕХОВ АНТОН ПАВЛОВИЧ (1860-1904)  </dc:title>
</cp:coreProperties>
</file>