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535E-312D-4300-B328-88BA8166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2DB-1AAE-42AF-8689-3679C553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C4D-96CC-4F13-89A9-EFB4D1A1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A87-9C1F-4781-BC27-4B480C26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B6A4-BB6E-4FBA-ACF0-38069E5E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6BCD-AD38-4F23-A35B-F306B934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EE90-6B3F-430D-B646-31670FB3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4C49-DCC3-4900-8344-97444167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9A58-940B-42B9-81D8-513AF33A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7D51-8557-4F72-B7D3-E1CFAA13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7E2A-1C8A-4863-B713-E3076144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AD26-CA9E-49C9-A51E-CB8874FD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9F15-C432-4269-8966-C0CD3F44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B36F-A55E-46C7-938D-5864DBCB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B5A7-1222-4069-91A3-1823F989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D16A-39CB-4B59-8A05-2BC89E4D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47E4-5D17-4CB0-88A9-92811F50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D45DF-DDF5-4402-9A13-0E0D3E56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F07E6-8E69-491D-B75F-E4295AC3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96901-A7EC-4D62-A08D-ED30C9DF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ADAA4-C795-46DD-869A-40EE5293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1907A-BE38-4119-BF3F-D65E9604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D01-3A26-4A8C-843C-6672B9A9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5881C-5121-4205-B0E1-316A9598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3EF74-B892-4D4B-AE8E-4B4FB9DA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326D0-47FB-415A-B852-249577E9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CAE43-2A39-46DC-B1EC-6B6A39B7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EC9CD-B80F-470F-A50C-21AB7616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F9323-AD8F-40D5-8E1A-066C4D5E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83C66-A43D-4C67-A746-59334F29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03BC7-329F-4D03-B6B4-A0B5801C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9E66A-0EDF-4A1C-8A01-8719BA0B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050D2-C5FB-4EB8-A67A-C9AA92A7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B11-722E-49C3-AC97-C4D05645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6F391-DE30-4896-AD62-D9157C55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B9837-6B23-4AF2-8022-F1461D32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7D4EF-53B6-45F1-BAB5-D0626AEF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A8AF6-185A-4215-85B1-5D30382C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0B2D7-E4DC-4743-AEE5-1AFD2377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22E0F-116A-4392-AAF9-2A986FAC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A22A7-4774-4FCB-951D-0850B8CF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1019A-BA18-4F3E-BB9E-563FF134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A9F3B-14A0-4167-8516-94E163B8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F7B0C-63B1-4FE1-AA59-57C2AF7D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0EE-A6BB-4ACC-8ABE-3A2F1B55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5F855-6214-4A6A-B73E-3359E7A3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99446-F2BD-495E-A147-CBD58DE3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312E6-2C77-4FBD-8E4B-1315719C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E310A-AEF2-4965-9BD4-DFFF38AA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C23CC-1263-4327-A670-FCF227D2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C8A01-1EB5-4CE3-BB45-CFA8A255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09AE1-BDED-4143-B27D-C8DE1768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48A8A-57C1-4B2F-BA46-DE1362CA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34C33-D67D-4C72-9963-E35ECF24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9D32F-5889-47D4-9ADD-BC2266D7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F771-0E96-4A93-8E8B-3A419C5F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9AD4E-8ED3-4D0D-B291-96EB7C49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9372-E604-4188-9033-C7A0A478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C3C-8026-4DB4-8B17-03BFACC4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F3D0-958D-49C7-9714-4F1BA2E6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5f55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B0E2-BA6A-4CDD-A3B8-1A62EA78D96E}" type="slidenum">
              <a:rPr b="0" lang="ru-RU" sz="1100" spc="-1" strike="noStrike">
                <a:solidFill>
                  <a:srgbClr val="775f55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0457-9BB8-450C-BC49-995391017922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5f55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F0B8-3446-4BCE-94F0-AC4F93981C02}" type="slidenum">
              <a:rPr b="0" lang="ru-RU" sz="1100" spc="-1" strike="noStrike">
                <a:solidFill>
                  <a:srgbClr val="775f55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ddc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bddc3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bddc3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bddc3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2F2D-B631-4305-AF67-AB7C4B618759}" type="slidenum">
              <a:rPr b="0" lang="ru-RU" sz="1100" spc="-1" strike="noStrike">
                <a:solidFill>
                  <a:srgbClr val="ebddc3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75f5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8b25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8b2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8b25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5f55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775f5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7E88-8095-4008-B710-DEC8CBE05E48}" type="slidenum">
              <a:rPr b="0" lang="ru-RU" sz="1100" spc="-1" strike="noStrike">
                <a:solidFill>
                  <a:srgbClr val="775f55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-6480" y="-152280"/>
            <a:ext cx="8748720" cy="27302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http://www.sinergia-lib.ru/doc_images/preview/img_341.jpeg"/>
          <p:cNvPicPr/>
          <p:nvPr/>
        </p:nvPicPr>
        <p:blipFill>
          <a:blip r:embed="rId2"/>
          <a:stretch/>
        </p:blipFill>
        <p:spPr>
          <a:xfrm>
            <a:off x="3143160" y="1500120"/>
            <a:ext cx="33577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3"/>
          <p:cNvSpPr/>
          <p:nvPr/>
        </p:nvSpPr>
        <p:spPr>
          <a:xfrm>
            <a:off x="214200" y="428760"/>
            <a:ext cx="7715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нтон Павлович Чехов - крупнейший русский писатель, драматург, классик мировой литерату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одился 17 января 1860 г. в Таганроге в купеческой семье, со строгими правилами воспитания. С детских лет Чехов помогал отцу в лавк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http://www.whoiswho.su/db.img/Rostov/Org/551.jpg"/>
          <p:cNvPicPr/>
          <p:nvPr/>
        </p:nvPicPr>
        <p:blipFill>
          <a:blip r:embed="rId1"/>
          <a:stretch/>
        </p:blipFill>
        <p:spPr>
          <a:xfrm>
            <a:off x="1143000" y="2214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214200" y="214200"/>
            <a:ext cx="7858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1868 поступил в гимназию. Когда вся семья Чеховых переехала в Москву, будущий писатель остался в Таганроге и зарабатывал на жизнь репетиторством, чтобы окончить у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кончив гимназию в 1879, уехал в Москву и поступил на медицинский факультет Московского университета, где слушал лекции знаменитых профессоров — Н. Склифосовского, Г. Захарьина и др. В 1884, получив звание уездного врача, Чехов начал заниматься врачебной практ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https://encrypted-tbn2.gstatic.com/images?q=tbn:ANd9GcTiq5LUAF7-VlvKGN6yKtNEXqqPxI_VlFVaugWMp-keW9jAV9ur"/>
          <p:cNvPicPr/>
          <p:nvPr/>
        </p:nvPicPr>
        <p:blipFill>
          <a:blip r:embed="rId1"/>
          <a:stretch/>
        </p:blipFill>
        <p:spPr>
          <a:xfrm>
            <a:off x="1071720" y="2857680"/>
            <a:ext cx="5786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http://chehov.niv.ru/images/museum/sahalin1_18big.jpg"/>
          <p:cNvPicPr/>
          <p:nvPr/>
        </p:nvPicPr>
        <p:blipFill>
          <a:blip r:embed="rId1"/>
          <a:stretch/>
        </p:blipFill>
        <p:spPr>
          <a:xfrm>
            <a:off x="1571760" y="3643200"/>
            <a:ext cx="4867200" cy="292428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3"/>
          <p:cNvSpPr/>
          <p:nvPr/>
        </p:nvSpPr>
        <p:spPr>
          <a:xfrm>
            <a:off x="214200" y="142920"/>
            <a:ext cx="80726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студенческие годы сотрудничал в журналах "Стрекоза", "Будильник", "Зритель" и др., подписываясь разными псевдонимами, но чаще всего Антоша Чехо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1884 вышла первая книга рассказов Чехова — "Сказки Мельпомены", затем следуют "Пестрые рассказы" (1886), "В сумерках" (1887), "Хмурые люди" (189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1890 г. Чехов решил поехать на Сахал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сле возвращения он написал книгу "Остров Сахалин" (1893 — 94); отразилив сахалинские впечатления и в рассказах               "В ссылке" (1892), "Палата № б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ездка значительно ухудшила состояние здоровья Чехова: обострился туберкулезный проце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214200" y="214200"/>
            <a:ext cx="7786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1892 Чехов купил имение Мелихово, где помогал местным крестьянам как врач, строил школы для крестьянских детей, участвовал во всеобщей переписи на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Мелихово было написано много прекрасных произведений: "Попрыгунья", "Скрипка Ротшильда", "Учитель словесности", "Чайка", "Дядя Ваня" и др. В начале века Чехов создал такие замечательные пьесы, как "Три сестры" и "Вишневый сад". Все пьесы были поставлены на сцене МХ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http://img-fotki.yandex.ru/get/5812/121998322.e/0_65d19_23787285_XL.jpg"/>
          <p:cNvPicPr/>
          <p:nvPr/>
        </p:nvPicPr>
        <p:blipFill>
          <a:blip r:embed="rId1"/>
          <a:stretch/>
        </p:blipFill>
        <p:spPr>
          <a:xfrm>
            <a:off x="1500120" y="2928960"/>
            <a:ext cx="49910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3"/>
          <p:cNvSpPr/>
          <p:nvPr/>
        </p:nvSpPr>
        <p:spPr>
          <a:xfrm>
            <a:off x="142920" y="357120"/>
            <a:ext cx="7929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1898 Чехов переехал в Ялту, где построил дом, в котором он прожил до 1904 г. В гостях у него бывали Л. Толстой, М. Горький; Бунин, Куприн, художник И. Левит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1901 Чехов женился на актрисе МХАТа О. Книпп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http://upload.wikimedia.org/wikipedia/commons/thumb/a/a8/File-Chehov_housez.jpg/200px-File-Chehov_housez.jpg"/>
          <p:cNvPicPr/>
          <p:nvPr/>
        </p:nvPicPr>
        <p:blipFill>
          <a:blip r:embed="rId1"/>
          <a:stretch/>
        </p:blipFill>
        <p:spPr>
          <a:xfrm>
            <a:off x="642960" y="1714680"/>
            <a:ext cx="3857760" cy="2738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http://yaltanews.ru/wp-content/uploads/2013/02/chehov_v_yalte1-e1360696654279.jpg"/>
          <p:cNvPicPr/>
          <p:nvPr/>
        </p:nvPicPr>
        <p:blipFill>
          <a:blip r:embed="rId2"/>
          <a:stretch/>
        </p:blipFill>
        <p:spPr>
          <a:xfrm>
            <a:off x="4786200" y="2286000"/>
            <a:ext cx="2371680" cy="2590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http://www.manwb.ru/pub/Pictures-Articles/2010/02/Chehov/Yalta.jpg"/>
          <p:cNvPicPr/>
          <p:nvPr/>
        </p:nvPicPr>
        <p:blipFill>
          <a:blip r:embed="rId3"/>
          <a:stretch/>
        </p:blipFill>
        <p:spPr>
          <a:xfrm>
            <a:off x="214200" y="4071960"/>
            <a:ext cx="3214800" cy="2490840"/>
          </a:xfrm>
          <a:prstGeom prst="rect">
            <a:avLst/>
          </a:prstGeom>
          <a:ln w="0">
            <a:noFill/>
          </a:ln>
        </p:spPr>
      </p:pic>
      <p:sp>
        <p:nvSpPr>
          <p:cNvPr id="238" name="Параллелограмм 7"/>
          <p:cNvSpPr/>
          <p:nvPr/>
        </p:nvSpPr>
        <p:spPr>
          <a:xfrm>
            <a:off x="4357800" y="6000840"/>
            <a:ext cx="4786200" cy="642960"/>
          </a:xfrm>
          <a:prstGeom prst="parallelogram">
            <a:avLst>
              <a:gd name="adj" fmla="val 160391"/>
            </a:avLst>
          </a:prstGeom>
          <a:solidFill>
            <a:srgbClr val="94b6d2"/>
          </a:solidFill>
          <a:ln w="399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0T18:12:12Z</dcterms:created>
  <dc:creator>Windows User</dc:creator>
  <dc:description/>
  <dc:language>en-US</dc:language>
  <cp:lastModifiedBy>Илья Клементьев</cp:lastModifiedBy>
  <dcterms:modified xsi:type="dcterms:W3CDTF">2016-08-08T11:11:13Z</dcterms:modified>
  <cp:revision>14</cp:revision>
  <dc:subject/>
  <dc:title>ЧЕХОВ АНТОН ПАВЛОВИЧ (1860-1904)  </dc:title>
</cp:coreProperties>
</file>