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3.jpeg" ContentType="image/jpeg"/>
  <Override PartName="/ppt/media/image12.jpeg" ContentType="image/jpeg"/>
  <Override PartName="/ppt/media/image9.jpeg" ContentType="image/jpeg"/>
  <Override PartName="/ppt/media/image11.jpeg" ContentType="image/jpeg"/>
  <Override PartName="/ppt/media/image7.png" ContentType="image/png"/>
  <Override PartName="/ppt/media/image8.png" ContentType="image/png"/>
  <Override PartName="/ppt/media/image14.jpeg" ContentType="image/jpeg"/>
  <Override PartName="/ppt/media/image6.jpeg" ContentType="image/jpeg"/>
  <Override PartName="/ppt/media/image10.jpeg" ContentType="image/jpeg"/>
  <Override PartName="/ppt/media/image5.jpeg" ContentType="image/jpeg"/>
  <Override PartName="/ppt/media/image4.jpeg" ContentType="image/jpeg"/>
  <Override PartName="/ppt/media/image22.png" ContentType="image/png"/>
  <Override PartName="/ppt/media/image19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24.png" ContentType="image/png"/>
  <Override PartName="/ppt/media/image1.png" ContentType="image/png"/>
  <Override PartName="/ppt/media/image3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D8200-067A-4442-8656-8D16756938C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039FF-219A-4020-88E4-39543AE24E8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FC538-0600-4A4F-89D4-3745E8039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1D90F-59EE-43DC-90F5-28625A4E3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67DBF-D378-4888-900F-7051C1591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D2C6D-568D-40D6-BF27-FBD260AA9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CFA22-7287-4778-A056-5FEFAC41D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A5174-5AD3-4DB6-9E36-FDFEFA52B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0963B-A864-4EC8-B270-94340EAA6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B66D1-56C4-45F7-9BE1-0F2FF38AB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95CFA-6B9F-44E1-B4D6-AAC2075B5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88005-737C-49B5-96BA-5AB6A6C85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2582E-F2F0-435F-B14F-47EEAFDBE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12669-95B6-4057-89B2-DCFE5C7DC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54231-7F41-4ED4-B606-5327FF534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8D0E9-FF8B-4CFB-BD3E-200F2E0AF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B62DE-F9C1-441B-ABE2-095170BA9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BCD74-C2CB-4D6D-8D42-231B41C5C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43A33-4030-4302-8564-9DA5BFCA0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75EDEF4-7EE7-4576-A9A6-34DD08618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9984571-6A3C-4182-BC07-A2FC1507F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03FBBFB-B746-4AD6-A38E-0789903D7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5F922B8-04E1-4BF7-95E8-B8B104C8C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D1B14BB-3361-41C1-A8F9-5D7B4315D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8008A-0D00-46AB-BC30-28B36DCE2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98D55B3-BB02-418B-9967-852A3D412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99F3623-3009-4B23-BA41-B0C57DB43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727A2FA-35BE-4C37-974B-06FBC406D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7852C02-3C45-48FB-86B3-03ECA35A1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E0DA5EC-80E6-4AE3-9D8C-505F83E1D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A2F134-F3E7-48D7-867A-FDCD2483D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F70DFDD-7CF3-4D96-9DF9-A07EBC66F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7E4460-B021-436C-A652-CF7E087AB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45557F-B914-4F79-AE58-DEB677CAD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553060-0C36-46B8-A4C0-CEB78FA96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ADB80-77BD-430E-93A8-2923EF076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20EC19-0C0E-41CD-ABBB-C4DB6CCDE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548306-07C4-4756-9436-09DE76A70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AE5DA7-0E40-4F42-94B9-42B8473DE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7E7C47-3A16-4076-B6C1-5A4E181DD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8DE2F4-6AB7-4937-BF8F-4BF552805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A58DEF-7639-49D0-9324-C18329C39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A66582-95A9-4B21-B49A-9B8FBB62B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83F785-0BDA-4B7E-A6DF-DDD5491B5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F38DAA-4837-4864-B4AF-9D33754CF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1EB313E-21AD-46DD-90B3-A35713BB9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80EFD-AC4F-43CD-9959-5DC4F02C5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0D0BC92-91AC-41BA-B1FD-70831E59B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C52D4E2-D3D1-47AA-B4C0-FE6F5F541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9338D1F-33FF-44C9-89E2-896D001BC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C09542D-371D-4AD2-8A02-9C0336484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AB8BF71-01A6-41C2-B00B-A06978307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53B4340-2B02-402B-B6CE-3BED82774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6B14140-0C5F-490E-B825-7C64141D4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85AEBFC-D1BE-4A01-8EAA-B79F4606B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374259B-46E5-4DB3-9EA0-B0AB790CE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415D159-9760-4D0B-BFB3-F12121A67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F1D3A-7562-4745-B84A-6A45FE040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53F5F24-4F9B-434A-9815-7C44726AA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AF8A286-8FDB-4E9B-8FE0-1AE7A8D3A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96951A6-0024-4754-A7C3-26B502DAE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45FF1B0-BEC0-4ACD-9D02-D1937B4AD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0831325-5DCC-40C2-BDD2-1E320070A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598313B-E971-43FD-B8BD-ADAFBD01C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23333A9-2473-45FC-8549-6662D5D1D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84A4FD9-D0A6-43FB-9CCC-417149A85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B700532-20F9-4AFA-9A63-9B7405F3C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E1A9D77-C395-4B98-B0E5-5896C63B5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D3B7A-F486-4599-AC95-120E9D6EA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4F9E6E0-FAAB-48DE-8F36-6B6DCE679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FC62F61-DF20-42EA-AEEB-9904DF3BD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A38CEA5-C2EF-493C-86D1-9324ED8D1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53D92CD-6D4E-4F1A-8496-0AD172DC0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8612805-7901-44D6-931E-956CB7EDC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6163F02-5B35-4282-A4E1-0BE9365DB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2489D5E-6053-4657-9588-2D3D857B1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349E558-746C-4419-83AB-60694978D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E5C7548-69E0-420A-B22E-3DF5E301B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D2603E5-F159-4444-975D-0D11D3CED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F6AAE-3690-4F02-A3C4-98361F42C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074D5E1-8EC3-43D8-98D1-7C8A21000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E3918E1-6898-4D10-BB01-C25CFD1D5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2323C7C-FC03-4DE0-A3AA-C288AF7B0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70D6383-D3C9-418A-BE85-82E12B41D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DA4981C-3001-4845-9CDE-142C11BE8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9EBE1-7113-41F9-A63D-F3A11680F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B0C5A-2B1C-4878-A5FA-919220424E57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BBE10-CAC7-4F89-895A-91D6D0752DEF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54FC0-6825-4AE4-B453-4E82FD9923DA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7CBDB-E2F1-47E6-86F1-E5DB4F274C0B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88F18-0F8F-4112-A3DA-E57E2ABED980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Прямая соединительная линия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Прямая соединительная линия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Прямая соединительная линия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AFD0E-981A-4DE2-AB5D-707F3E1B19AB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Прямая соединительная линия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EDB32-4FBE-4BB3-A709-9B302A3B0E52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image" Target="../media/image20.jpeg"/><Relationship Id="rId8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fa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2410920" y="620280"/>
            <a:ext cx="6172200" cy="4824360"/>
          </a:xfrm>
          <a:prstGeom prst="rect">
            <a:avLst/>
          </a:prstGeom>
          <a:solidFill>
            <a:srgbClr val="ffffff"/>
          </a:solidFill>
          <a:ln w="25560">
            <a:solidFill>
              <a:srgbClr val="fe8637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2800" spc="-1" strike="noStrike">
                <a:solidFill>
                  <a:srgbClr val="002060"/>
                </a:solidFill>
                <a:latin typeface="Century Schoolbook"/>
              </a:rPr>
              <a:t>ИССЛЕДОВАТЕЛЬСКАЯ  РАБОТА </a:t>
            </a:r>
            <a:br>
              <a:rPr sz="2000"/>
            </a:br>
            <a:r>
              <a:rPr b="1" lang="ru-RU" sz="2800" spc="-1" strike="noStrike">
                <a:solidFill>
                  <a:srgbClr val="c00000"/>
                </a:solidFill>
                <a:latin typeface="Arial Black"/>
                <a:ea typeface="Cambria Math"/>
              </a:rPr>
              <a:t>МАТРЁШКА  В ПРОШЛОМ И НАСТОЯЩЕМ</a:t>
            </a:r>
            <a:br>
              <a:rPr sz="2800"/>
            </a:br>
            <a:br>
              <a:rPr sz="2400"/>
            </a:b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ЧЕНИКА </a:t>
            </a:r>
            <a:r>
              <a:rPr b="1" lang="en-US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3</a:t>
            </a: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КЛАССА </a:t>
            </a:r>
            <a:br>
              <a:rPr sz="1600"/>
            </a:br>
            <a:r>
              <a:rPr b="0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БОУ</a:t>
            </a: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«НИКИФОРОВСКАЯ СРЕДНЯЯ ОБЩЕОБРАЗОВАТЕЛЬНАЯ ШКОЛА №2»</a:t>
            </a:r>
            <a:br>
              <a:rPr sz="1600"/>
            </a:b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РЕТИНИНА  ЕГОРА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59" name="Рисунок 2" descr="C:\Users\Liliya\Pictures\К МАТРЕШКЕ ФОТО\y.jpg"/>
          <p:cNvPicPr/>
          <p:nvPr/>
        </p:nvPicPr>
        <p:blipFill>
          <a:blip r:embed="rId1"/>
          <a:stretch/>
        </p:blipFill>
        <p:spPr>
          <a:xfrm>
            <a:off x="139680" y="2639880"/>
            <a:ext cx="2414520" cy="793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-571680" y="-36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 Black"/>
              </a:rPr>
              <a:t>КАК ВЫГЛЯДЕЛА ПЕРВАЯ МАТРЁШКА?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213840" y="3071880"/>
            <a:ext cx="8472600" cy="358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Если сравнить первую матрешку с ее поздними сестрами, то можно заметить, что выглядела она очень скромной. Это была деревенская девушка, одетая в национальный русский костюм: платок, сарафан, передник.  В руках она держала черного петуха или кота. У более поздних матрёшек наряд был гораздо богаче и в руках можно было видеть самовары, бублики, букеты.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Первая матрешка была восьмиместной  внутри большой девочки помещался мальчик поменьше и так далее – мальчики и девочки чередовались, а самой маленькой, «неделимой», была матрешка – спеленатый младенец.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6" name="Рисунок 3" descr="C:\Users\Liliya\Pictures\ююю.jpg"/>
          <p:cNvPicPr/>
          <p:nvPr/>
        </p:nvPicPr>
        <p:blipFill>
          <a:blip r:embed="rId1"/>
          <a:srcRect l="0" t="-1039" r="0" b="0"/>
          <a:stretch/>
        </p:blipFill>
        <p:spPr>
          <a:xfrm>
            <a:off x="357120" y="1000080"/>
            <a:ext cx="3000600" cy="2071800"/>
          </a:xfrm>
          <a:prstGeom prst="rect">
            <a:avLst/>
          </a:prstGeom>
          <a:ln w="0">
            <a:noFill/>
          </a:ln>
        </p:spPr>
      </p:pic>
      <p:pic>
        <p:nvPicPr>
          <p:cNvPr id="387" name="Рисунок 4" descr="C:\Users\Liliya\Pictures\К МАТРЕШКЕ ФОТО\r.jpg"/>
          <p:cNvPicPr/>
          <p:nvPr/>
        </p:nvPicPr>
        <p:blipFill>
          <a:blip r:embed="rId2"/>
          <a:stretch/>
        </p:blipFill>
        <p:spPr>
          <a:xfrm>
            <a:off x="5143680" y="857160"/>
            <a:ext cx="3286080" cy="21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746784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600" spc="-1" strike="noStrike">
                <a:solidFill>
                  <a:srgbClr val="ff0000"/>
                </a:solidFill>
                <a:latin typeface="Arial Black"/>
              </a:rPr>
              <a:t>СКОЛЬКО МАТРЁШКЕ ЛЕТ?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457200" y="1600200"/>
            <a:ext cx="804384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 1900 году на Всемирной выставке в Париже матрёшка получила Золотую медаль. Поэтому приблизительно с этого времени можно отсчитывать возраст матрешки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 2000 году отметили  ее  </a:t>
            </a: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столетие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90" name="Рисунок 4" descr="C:\Users\Liliya\Pictures\К МАТРЕШКЕ ФОТО\v (2).jpg"/>
          <p:cNvPicPr/>
          <p:nvPr/>
        </p:nvPicPr>
        <p:blipFill>
          <a:blip r:embed="rId1"/>
          <a:stretch/>
        </p:blipFill>
        <p:spPr>
          <a:xfrm>
            <a:off x="2214720" y="3714840"/>
            <a:ext cx="450036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85480" y="214200"/>
            <a:ext cx="746748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 Black"/>
              </a:rPr>
              <a:t>КАК РОЖДАЕТСЯ МАТРЁШКА?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0" y="1285920"/>
            <a:ext cx="55008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Над созданием матрешки работает целая команда мастеров.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Первый этап – выбор дерева. Древесина должна быть сухой и легко поддаваться рукам мастера. После ошкуривания начинается процесс вытачивания деревянной формы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Для выполнения заготовки берут подходящий чурбачок, вставляют его в станок и вытачивают. Деревянные  заготовки, «белье», мастер начинает точить с неразъёмной малютки, «первенькой». Затем следующая кукла, уже складная, и так до самой большой. Сначала вытачивает голову, затем туловище и заготовка готова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После того, как токарь выточил фигурки матрешки, к работе приступает шлифовальщик. Он делает ее поверхность гладкой и удобной для художника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Каждая матрешка в руках художника становится произведением  искусства.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Как ими не любоваться, не восторгаться</a:t>
            </a:r>
            <a:r>
              <a:rPr b="1" lang="ru-RU" sz="1700" spc="-1" strike="noStrike">
                <a:solidFill>
                  <a:srgbClr val="000000"/>
                </a:solidFill>
                <a:latin typeface="Century Schoolbook"/>
              </a:rPr>
              <a:t>!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93" name="Рисунок 5" descr="C:\Users\Liliya\Pictures\ьол8.JPG"/>
          <p:cNvPicPr/>
          <p:nvPr/>
        </p:nvPicPr>
        <p:blipFill>
          <a:blip r:embed="rId1"/>
          <a:stretch/>
        </p:blipFill>
        <p:spPr>
          <a:xfrm>
            <a:off x="5435640" y="1143000"/>
            <a:ext cx="3286080" cy="2571840"/>
          </a:xfrm>
          <a:prstGeom prst="rect">
            <a:avLst/>
          </a:prstGeom>
          <a:ln w="0">
            <a:noFill/>
          </a:ln>
        </p:spPr>
      </p:pic>
      <p:pic>
        <p:nvPicPr>
          <p:cNvPr id="394" name="Рисунок 6" descr="C:\Users\Liliya\Pictures\К МАТРЕШКЕ ФОТО\g.jpg"/>
          <p:cNvPicPr/>
          <p:nvPr/>
        </p:nvPicPr>
        <p:blipFill>
          <a:blip r:embed="rId2"/>
          <a:stretch/>
        </p:blipFill>
        <p:spPr>
          <a:xfrm>
            <a:off x="5518080" y="3816360"/>
            <a:ext cx="3238560" cy="26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56760" y="213840"/>
            <a:ext cx="5929560" cy="12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 Black"/>
              </a:rPr>
              <a:t>ВИДЫ МАТРЁШЕК</a:t>
            </a:r>
            <a:br>
              <a:rPr sz="3200"/>
            </a:br>
            <a:r>
              <a:rPr b="0" lang="ru-RU" sz="1400" spc="-1" strike="noStrike">
                <a:solidFill>
                  <a:srgbClr val="575f6d"/>
                </a:solidFill>
                <a:latin typeface="Century Schoolbook"/>
              </a:rPr>
              <a:t>СУЩЕСТВУЕТ ДВА ОСНОВНЫХ </a:t>
            </a:r>
            <a:r>
              <a:rPr b="1" lang="ru-RU" sz="1400" spc="-1" strike="noStrike">
                <a:solidFill>
                  <a:srgbClr val="575f6d"/>
                </a:solidFill>
                <a:latin typeface="Century Schoolbook"/>
              </a:rPr>
              <a:t>ВИДА МАТРЕШЕК</a:t>
            </a:r>
            <a:r>
              <a:rPr b="0" lang="ru-RU" sz="1400" spc="-1" strike="noStrike">
                <a:solidFill>
                  <a:srgbClr val="575f6d"/>
                </a:solidFill>
                <a:latin typeface="Century Schoolbook"/>
              </a:rPr>
              <a:t>: ТРАДИЦИОННАЯ И АВТОРСКАЯ. У ТРАДИЦИОННОЙ КУКЛЫ СТАНДАРТНЫЙ ВИД РОСПИСИ И НАЗВАНИЕ, ДОСТАЮЩЕЕСЯ ЕЙ ОТ НАЗВАНИЯ МЕСТА ЕЕ РОЖДЕНИЯ.</a:t>
            </a:r>
            <a:endParaRPr b="0" lang="en-US" sz="1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468360" y="1577520"/>
            <a:ext cx="7888320" cy="473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         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Гжель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97" name="Picture 4" descr="Увеличить"/>
          <p:cNvPicPr/>
          <p:nvPr/>
        </p:nvPicPr>
        <p:blipFill>
          <a:blip r:embed="rId1"/>
          <a:stretch/>
        </p:blipFill>
        <p:spPr>
          <a:xfrm>
            <a:off x="785880" y="1643040"/>
            <a:ext cx="2160360" cy="197028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6" descr="виды матрешек"/>
          <p:cNvPicPr/>
          <p:nvPr/>
        </p:nvPicPr>
        <p:blipFill>
          <a:blip r:embed="rId2"/>
          <a:stretch/>
        </p:blipFill>
        <p:spPr>
          <a:xfrm>
            <a:off x="500040" y="4357800"/>
            <a:ext cx="2664000" cy="180504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12" descr="виды матрешек"/>
          <p:cNvPicPr/>
          <p:nvPr/>
        </p:nvPicPr>
        <p:blipFill>
          <a:blip r:embed="rId3"/>
          <a:stretch/>
        </p:blipFill>
        <p:spPr>
          <a:xfrm>
            <a:off x="6643800" y="2286000"/>
            <a:ext cx="2087280" cy="208764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10" descr="виды матрешек"/>
          <p:cNvPicPr/>
          <p:nvPr/>
        </p:nvPicPr>
        <p:blipFill>
          <a:blip r:embed="rId4"/>
          <a:stretch/>
        </p:blipFill>
        <p:spPr>
          <a:xfrm>
            <a:off x="5643720" y="4786200"/>
            <a:ext cx="2998800" cy="175752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8" descr="виды матрешек"/>
          <p:cNvPicPr/>
          <p:nvPr/>
        </p:nvPicPr>
        <p:blipFill>
          <a:blip r:embed="rId5"/>
          <a:stretch/>
        </p:blipFill>
        <p:spPr>
          <a:xfrm>
            <a:off x="3714840" y="3429000"/>
            <a:ext cx="1666800" cy="2857680"/>
          </a:xfrm>
          <a:prstGeom prst="rect">
            <a:avLst/>
          </a:prstGeom>
          <a:ln w="0">
            <a:noFill/>
          </a:ln>
        </p:spPr>
      </p:pic>
      <p:pic>
        <p:nvPicPr>
          <p:cNvPr id="402" name="Рисунок 16" descr="http://samoydelkin.ru/wp-content/uploads/2012/03/matreshka-lyagushka.jpg"/>
          <p:cNvPicPr/>
          <p:nvPr/>
        </p:nvPicPr>
        <p:blipFill>
          <a:blip r:embed="rId6"/>
          <a:stretch/>
        </p:blipFill>
        <p:spPr>
          <a:xfrm>
            <a:off x="3643200" y="1571760"/>
            <a:ext cx="2017800" cy="1566720"/>
          </a:xfrm>
          <a:prstGeom prst="rect">
            <a:avLst/>
          </a:prstGeom>
          <a:ln w="0">
            <a:noFill/>
          </a:ln>
        </p:spPr>
      </p:pic>
      <p:pic>
        <p:nvPicPr>
          <p:cNvPr id="403" name="Рисунок 17" descr="виды матрешек"/>
          <p:cNvPicPr/>
          <p:nvPr/>
        </p:nvPicPr>
        <p:blipFill>
          <a:blip r:embed="rId7"/>
          <a:stretch/>
        </p:blipFill>
        <p:spPr>
          <a:xfrm>
            <a:off x="6000840" y="214200"/>
            <a:ext cx="2857320" cy="1733760"/>
          </a:xfrm>
          <a:prstGeom prst="rect">
            <a:avLst/>
          </a:prstGeom>
          <a:ln w="0">
            <a:noFill/>
          </a:ln>
        </p:spPr>
      </p:pic>
      <p:sp>
        <p:nvSpPr>
          <p:cNvPr id="404" name="Прямоугольник 12"/>
          <p:cNvSpPr/>
          <p:nvPr/>
        </p:nvSpPr>
        <p:spPr>
          <a:xfrm>
            <a:off x="6124680" y="6488280"/>
            <a:ext cx="16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Семеновская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5" name="Прямоугольник 13"/>
          <p:cNvSpPr/>
          <p:nvPr/>
        </p:nvSpPr>
        <p:spPr>
          <a:xfrm>
            <a:off x="3922200" y="6286680"/>
            <a:ext cx="105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Вятская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6" name="Прямоугольник 14"/>
          <p:cNvSpPr/>
          <p:nvPr/>
        </p:nvSpPr>
        <p:spPr>
          <a:xfrm>
            <a:off x="6405480" y="4429080"/>
            <a:ext cx="161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Майданская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7" name="Прямоугольник 19"/>
          <p:cNvSpPr/>
          <p:nvPr/>
        </p:nvSpPr>
        <p:spPr>
          <a:xfrm>
            <a:off x="1344600" y="6286680"/>
            <a:ext cx="119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Тверская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8" name="Прямоугольник 20"/>
          <p:cNvSpPr/>
          <p:nvPr/>
        </p:nvSpPr>
        <p:spPr>
          <a:xfrm>
            <a:off x="536400" y="3714840"/>
            <a:ext cx="24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Сергиево-посадская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9" name="Прямоугольник 21"/>
          <p:cNvSpPr/>
          <p:nvPr/>
        </p:nvSpPr>
        <p:spPr>
          <a:xfrm>
            <a:off x="3908880" y="3000240"/>
            <a:ext cx="133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Авторская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0" name="Прямоугольник 22"/>
          <p:cNvSpPr/>
          <p:nvPr/>
        </p:nvSpPr>
        <p:spPr>
          <a:xfrm>
            <a:off x="6766560" y="1857240"/>
            <a:ext cx="133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Авторская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ff0000"/>
                </a:solidFill>
                <a:latin typeface="Arial Black"/>
              </a:rPr>
              <a:t>ВОТ КОГДА НАЧИНАЕШЬ ПОНИМАТЬ ЧУВСТВА МАСТЕРОВ, КОТОРЫЕ ИЗГОТАВЛИВАЮТ МАТРЕШКУ!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13" name="Рисунок 3" descr="C:\Users\Liliya\Documents\SAM_2982.JPG"/>
          <p:cNvPicPr/>
          <p:nvPr/>
        </p:nvPicPr>
        <p:blipFill>
          <a:blip r:embed="rId1"/>
          <a:stretch/>
        </p:blipFill>
        <p:spPr>
          <a:xfrm>
            <a:off x="4500720" y="1643040"/>
            <a:ext cx="3311280" cy="2433600"/>
          </a:xfrm>
          <a:prstGeom prst="rect">
            <a:avLst/>
          </a:prstGeom>
          <a:ln w="0">
            <a:noFill/>
          </a:ln>
        </p:spPr>
      </p:pic>
      <p:pic>
        <p:nvPicPr>
          <p:cNvPr id="414" name="Рисунок 4" descr=""/>
          <p:cNvPicPr/>
          <p:nvPr/>
        </p:nvPicPr>
        <p:blipFill>
          <a:blip r:embed="rId2"/>
          <a:stretch/>
        </p:blipFill>
        <p:spPr>
          <a:xfrm>
            <a:off x="755640" y="1633680"/>
            <a:ext cx="3095640" cy="2433600"/>
          </a:xfrm>
          <a:prstGeom prst="rect">
            <a:avLst/>
          </a:prstGeom>
          <a:ln w="0">
            <a:noFill/>
          </a:ln>
        </p:spPr>
      </p:pic>
      <p:pic>
        <p:nvPicPr>
          <p:cNvPr id="415" name="Рисунок 5" descr="F:\DCIM\100PHOTO\SAM_3024.JPG"/>
          <p:cNvPicPr/>
          <p:nvPr/>
        </p:nvPicPr>
        <p:blipFill>
          <a:blip r:embed="rId3">
            <a:lum contrast="20000"/>
          </a:blip>
          <a:stretch/>
        </p:blipFill>
        <p:spPr>
          <a:xfrm>
            <a:off x="2571840" y="4076640"/>
            <a:ext cx="362880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71320" y="1425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 Black"/>
              </a:rPr>
              <a:t>ПОПУЛЯРНОСТЬ МАТРЁШКИ В СТАРИНУ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1143000" y="1143000"/>
            <a:ext cx="285768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entury Schoolbook"/>
              </a:rPr>
              <a:t>СТИХИ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entury Schoolbook"/>
              </a:rPr>
              <a:t>Погляди скорее -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entury Schoolbook"/>
              </a:rPr>
              <a:t>Щечки розовеют,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entury Schoolbook"/>
              </a:rPr>
              <a:t>Пестренький платочек,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entury Schoolbook"/>
              </a:rPr>
              <a:t>Платьице в цветочек,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entury Schoolbook"/>
              </a:rPr>
              <a:t>Пухленькие крошки — 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entury Schoolbook"/>
              </a:rPr>
              <a:t>Русские матрешки.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entury Schoolbook"/>
              </a:rPr>
              <a:t>Чуть лишь испугаются,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entury Schoolbook"/>
              </a:rPr>
              <a:t>Все в кружок сбегаются,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entury Schoolbook"/>
              </a:rPr>
              <a:t>Прячутся друг в дружке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entury Schoolbook"/>
              </a:rPr>
              <a:t>Шустрые подружки.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entury Schoolbook"/>
              </a:rPr>
              <a:t>*********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entury Schoolbook"/>
              </a:rPr>
              <a:t>Алый шёлковый платочек,</a:t>
            </a:r>
            <a:r>
              <a:rPr b="0" lang="en-US" sz="14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entury Schoolbook"/>
              </a:rPr>
              <a:t>Яркий сарафан в цветочек.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entury Schoolbook"/>
              </a:rPr>
              <a:t>Упирается  рука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entury Schoolbook"/>
              </a:rPr>
              <a:t>В деревянные бока.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entury Schoolbook"/>
              </a:rPr>
              <a:t>А внутри секреты есть,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entury Schoolbook"/>
              </a:rPr>
              <a:t>Может три, а может шесть.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8" name="Содержимое 2"/>
          <p:cNvSpPr/>
          <p:nvPr/>
        </p:nvSpPr>
        <p:spPr>
          <a:xfrm>
            <a:off x="4572000" y="1214280"/>
            <a:ext cx="3357720" cy="50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entury Schoolbook"/>
              </a:rPr>
              <a:t>ЗАГАДКИ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entury Schoolbook"/>
              </a:rPr>
              <a:t>Разрумянилась немножко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entury Schoolbook"/>
              </a:rPr>
              <a:t>         </a:t>
            </a:r>
            <a:r>
              <a:rPr b="0" lang="ru-RU" sz="1400" spc="-1" strike="noStrike">
                <a:solidFill>
                  <a:srgbClr val="000000"/>
                </a:solidFill>
                <a:latin typeface="Century Schoolbook"/>
              </a:rPr>
              <a:t>Наша русская…</a:t>
            </a:r>
            <a:r>
              <a:rPr b="1" lang="ru-RU" sz="1400" spc="-1" strike="noStrike">
                <a:solidFill>
                  <a:srgbClr val="000000"/>
                </a:solidFill>
                <a:latin typeface="Century Schoolbook"/>
              </a:rPr>
              <a:t>матрёшка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entury Schoolbook"/>
              </a:rPr>
              <a:t>Деревянные подружки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entury Schoolbook"/>
              </a:rPr>
              <a:t>Любят прятаться друг в дружке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entury Schoolbook"/>
              </a:rPr>
              <a:t>Носят яркие одёжки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entury Schoolbook"/>
              </a:rPr>
              <a:t>Называются.-……..</a:t>
            </a:r>
            <a:r>
              <a:rPr b="1" lang="ru-RU" sz="1400" spc="-1" strike="noStrike">
                <a:solidFill>
                  <a:srgbClr val="000000"/>
                </a:solidFill>
                <a:latin typeface="Century Schoolbook"/>
              </a:rPr>
              <a:t>матрёшки</a:t>
            </a:r>
            <a:r>
              <a:rPr b="0" lang="ru-RU" sz="14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entury Schoolbook"/>
              </a:rPr>
              <a:t>Ростом разные подружки, 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entury Schoolbook"/>
              </a:rPr>
              <a:t>Но похожи другу на дружку, 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entury Schoolbook"/>
              </a:rPr>
              <a:t>Все они сидят друг в дружке, 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entury Schoolbook"/>
              </a:rPr>
              <a:t>А всего одна игрушка.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entury Schoolbook"/>
              </a:rPr>
              <a:t>Стоит Матрёшка на одной ножке, в одежду закутана, в сто платков запутана.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entury Schoolbook"/>
              </a:rPr>
              <a:t>Щеголь </a:t>
            </a:r>
            <a:r>
              <a:rPr b="1" lang="ru-RU" sz="1400" spc="-1" strike="noStrike">
                <a:solidFill>
                  <a:srgbClr val="000000"/>
                </a:solidFill>
                <a:latin typeface="Century Schoolbook"/>
              </a:rPr>
              <a:t>Матрешка</a:t>
            </a:r>
            <a:r>
              <a:rPr b="0" lang="ru-RU" sz="1400" spc="-1" strike="noStrike">
                <a:solidFill>
                  <a:srgbClr val="000000"/>
                </a:solidFill>
                <a:latin typeface="Century Schoolbook"/>
              </a:rPr>
              <a:t>: полтора рубля застежка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 Black"/>
              </a:rPr>
              <a:t>ВОПРОСЫ АНКЕТИРОВАНИЯ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Знаете ли вы деревянную игрушку – Матрешку?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Есть ли у вас эта игрушка дома?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Нравится ли вам матрешка?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Чем она вам нравится?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 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Как вы думаете, какую пользу приносит матрешка?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Купили бы вы сейчас себе  матрёшку в дом?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785960" y="-360"/>
            <a:ext cx="492912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 Black"/>
              </a:rPr>
              <a:t>ВЫВОД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285480" y="1071360"/>
            <a:ext cx="842940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entury Schoolbook"/>
              </a:rPr>
              <a:t>Я понял , почему русская матрёшка является символом  России  и пленила не только русский народ, но и завоевала весь мир.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Century Schoolbook"/>
              </a:rPr>
              <a:t>В русской матрёшке, ее содержании, форме и декоре отразились народные представления о мире, добре, красоте. Одновременно в ней с особой силой проявилась творческая энергия русского народа, его способы простыми средствами создавать выразительные образы.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Century Schoolbook"/>
              </a:rPr>
              <a:t>«Плодородие, изобилие, бесконечность жизни – таков, по всей видимости, глубинный смысл популярной игрушки». 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entury Schoolbook"/>
              </a:rPr>
              <a:t>Матрешка вдохновляла и вдохновляет русский народ на создание загадок, частушек, песен, стихотворений, на создание различных образов. А сколько  танцев с прекрасными и разнообразными костюмами матрёшки.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entury Schoolbook"/>
              </a:rPr>
              <a:t>Игрушка, созданная много лет назад и сейчас остается одной из любимых. 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entury Schoolbook"/>
              </a:rPr>
              <a:t>В настоящее время русская матрёшка переживает второе рождение, связанное, наверное, с огромным интересом в мире к России, к переменам, происходящим в нашей стране. Она представляет собой уникальное явление в современном художественном мире. Недаром она привлекает пристальное внимание любителей и коллекционеров изобразительного искусства, как в нашей стране, так и за рубежом. Роспись матрёшки как бы вбирает в себя всё яркое, свежее, актуальное, связанное с обновлением и возрождением России.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6840" y="1267920"/>
            <a:ext cx="74674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r>
              <a:rPr b="1" i="1" lang="ru-RU" sz="4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СПАСИБО ЗА ВНИМАНИЕ!</a:t>
            </a:r>
            <a:endParaRPr b="0" lang="en-US" sz="48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24" name="Picture 2" descr=""/>
          <p:cNvPicPr/>
          <p:nvPr/>
        </p:nvPicPr>
        <p:blipFill>
          <a:blip r:embed="rId1"/>
          <a:stretch/>
        </p:blipFill>
        <p:spPr>
          <a:xfrm>
            <a:off x="2700360" y="2997360"/>
            <a:ext cx="345600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Arial Black"/>
              </a:rPr>
              <a:t>ТЕМА ИССЛЕДОВАНИЯ:</a:t>
            </a:r>
            <a:endParaRPr b="0" lang="en-US" sz="4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456840" y="1600200"/>
            <a:ext cx="7467480" cy="14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Arial Black"/>
              </a:rPr>
              <a:t>Матрёшка  в прошлом и настоящем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2" name="Рисунок 3" descr="C:\Users\Liliya\Pictures\К МАТРЕШКЕ ФОТО\матрешка.jpg"/>
          <p:cNvPicPr/>
          <p:nvPr/>
        </p:nvPicPr>
        <p:blipFill>
          <a:blip r:embed="rId1"/>
          <a:stretch/>
        </p:blipFill>
        <p:spPr>
          <a:xfrm>
            <a:off x="1857240" y="3500280"/>
            <a:ext cx="4286520" cy="29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Arial Black"/>
              </a:rPr>
              <a:t>ПРОБЛЕМА</a:t>
            </a:r>
            <a:endParaRPr b="0" lang="en-US" sz="4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очему деревянная кукла считается символом России, пленила не только русский народ, но и завоевала весь мир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5" name="Рисунок 3" descr="C:\Users\Liliya\Pictures\К МАТРЕШКЕ ФОТО\v3.jpg"/>
          <p:cNvPicPr/>
          <p:nvPr/>
        </p:nvPicPr>
        <p:blipFill>
          <a:blip r:embed="rId1"/>
          <a:stretch/>
        </p:blipFill>
        <p:spPr>
          <a:xfrm>
            <a:off x="2143080" y="3000240"/>
            <a:ext cx="4357800" cy="364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Arial Black"/>
              </a:rPr>
              <a:t>ЦЕЛЬ:</a:t>
            </a:r>
            <a:endParaRPr b="0" lang="en-US" sz="4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456840" y="1599840"/>
            <a:ext cx="7467480" cy="12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42640" indent="-24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Изучение роли матрёшки в русской культуре, прошлой и современной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8" name="Рисунок 3" descr="C:\Users\Liliya\Pictures\К МАТРЕШКЕ ФОТО\x.jpg"/>
          <p:cNvPicPr/>
          <p:nvPr/>
        </p:nvPicPr>
        <p:blipFill>
          <a:blip r:embed="rId1"/>
          <a:stretch/>
        </p:blipFill>
        <p:spPr>
          <a:xfrm>
            <a:off x="714240" y="2857680"/>
            <a:ext cx="6286680" cy="38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Arial Black"/>
              </a:rPr>
              <a:t>ЗАДАЧИ ИССЛЕДОВАНИЯ:</a:t>
            </a:r>
            <a:endParaRPr b="0" lang="en-US" sz="4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571320" y="2000160"/>
            <a:ext cx="7467480" cy="36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Кто такая матрёшка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очему куклу назвали Матрёшкой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Как появилась матрёшка? Кто придумал образ матрёшки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Сколько ей лет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Как рождается матрёшка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опулярность матрёшки в старину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Узнать отношение одноклассников и их родителей к народной игрушке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1" name="Picture 2" descr="C:\Users\Liliya\Pictures\К МАТРЕШКЕ ФОТО\o.jpg"/>
          <p:cNvPicPr/>
          <p:nvPr/>
        </p:nvPicPr>
        <p:blipFill>
          <a:blip r:embed="rId1"/>
          <a:stretch/>
        </p:blipFill>
        <p:spPr>
          <a:xfrm>
            <a:off x="6918480" y="3500280"/>
            <a:ext cx="177480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Arial Black"/>
              </a:rPr>
              <a:t>МЕТОДЫ ИССЛЕДОВАНИЯ:</a:t>
            </a:r>
            <a:endParaRPr b="0" lang="en-US" sz="4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499680" y="2000160"/>
            <a:ext cx="7467480" cy="34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Анализ публикаций газет и журналов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Анализ материалов Интернета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Анализ собранных  иллюстраций, фотографий и рисунков матрёшек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Анализ видов и стилей росписей матрёшек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Анализ представлений о деревянной кукле у моих одноклассников на основе анкетирования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285840" y="142560"/>
            <a:ext cx="618624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Arial Black"/>
              </a:rPr>
              <a:t>ЭТАПЫ ИССЛЕДОВАНИЯ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285480" y="1984320"/>
            <a:ext cx="782964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МАТРЁШКА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– это полуовальная полая, разнимающаяся посередине деревянная расписная кукла, в которую вставляются другие такие же куклы меньшего размера. (</a:t>
            </a: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Словарь Ожегова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МАТРЁШКА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ж. - Русская игрушка в виде деревянной расписной куклы, внутри которой находятся такие же куклы меньшего размера. Матрешка -  полная, румяная, круглолицая девочка, девушка, напоминающая такую куклу. (Словарь русского языка Т.Ф. Ефремовой 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6" name="Заголовок 1"/>
          <p:cNvSpPr/>
          <p:nvPr/>
        </p:nvSpPr>
        <p:spPr>
          <a:xfrm>
            <a:off x="285840" y="1071720"/>
            <a:ext cx="6429240" cy="9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 Black"/>
              </a:rPr>
              <a:t>Кто такая  «матрешка»?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 Black"/>
              </a:rPr>
              <a:t>ПОЧЕМУ КУКЛУ НАЗВАЛИ МАТРЁШКОЙ?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571320" y="1571400"/>
            <a:ext cx="7467480" cy="26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 дореволюционной провинции имя Матрена, Матреша считалось одним из наиболее распространенных русских имен в основе которого лежит латинское слово mater, означающее мать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9" name="Picture 2" descr="C:\Users\Liliya\Pictures\К МАТРЕШКЕ ФОТО\2.JPG"/>
          <p:cNvPicPr/>
          <p:nvPr/>
        </p:nvPicPr>
        <p:blipFill>
          <a:blip r:embed="rId1"/>
          <a:stretch/>
        </p:blipFill>
        <p:spPr>
          <a:xfrm>
            <a:off x="1258920" y="3645000"/>
            <a:ext cx="583416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 Black"/>
              </a:rPr>
              <a:t>КАК ПОЯВИЛАСЬ МАТРЁШКА?</a:t>
            </a: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Arial Black"/>
              </a:rPr>
              <a:t> КТО ПРИДУМАЛ ОБРАЗ МАТРЁШКИ?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213840" y="1571400"/>
            <a:ext cx="4714920" cy="487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entury Schoolbook"/>
              </a:rPr>
              <a:t>      </a:t>
            </a:r>
            <a:r>
              <a:rPr b="0" lang="ru-RU" sz="1700" spc="-1" strike="noStrike">
                <a:solidFill>
                  <a:srgbClr val="000000"/>
                </a:solidFill>
                <a:latin typeface="Century Schoolbook"/>
              </a:rPr>
              <a:t>В 1890 году в усадьбе Мамонтова в</a:t>
            </a:r>
            <a:r>
              <a:rPr b="0" lang="en-US" sz="17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0" lang="ru-RU" sz="1700" spc="-1" strike="noStrike">
                <a:solidFill>
                  <a:srgbClr val="000000"/>
                </a:solidFill>
                <a:latin typeface="Century Schoolbook"/>
              </a:rPr>
              <a:t>подмосковном Абрамцеве </a:t>
            </a:r>
            <a:r>
              <a:rPr b="0" lang="en-US" sz="1700" spc="-1" strike="noStrike">
                <a:solidFill>
                  <a:srgbClr val="000000"/>
                </a:solidFill>
                <a:latin typeface="Century Schoolbook"/>
              </a:rPr>
              <a:t>                   </a:t>
            </a:r>
            <a:r>
              <a:rPr b="0" lang="ru-RU" sz="1700" spc="-1" strike="noStrike">
                <a:solidFill>
                  <a:srgbClr val="000000"/>
                </a:solidFill>
                <a:latin typeface="Century Schoolbook"/>
              </a:rPr>
              <a:t>хозяйка   усадьбы   привезла с японского острова Хонсю игрушку- забавного старичка с секретом, которого звали Фукуруму. Секрет заключался в том, что  в нём пряталась вся его семья.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entury Schoolbook"/>
              </a:rPr>
              <a:t>     </a:t>
            </a:r>
            <a:r>
              <a:rPr b="0" lang="ru-RU" sz="1700" spc="-1" strike="noStrike">
                <a:solidFill>
                  <a:srgbClr val="000000"/>
                </a:solidFill>
                <a:latin typeface="Century Schoolbook"/>
              </a:rPr>
              <a:t>Однажды в усадьбу приехала художественная элита, хозяйка показала всем забавную фигурку. Разъемная игрушка заинтересовала художника Сергея Малютина, и он решил сделать нечто подобное. Японское божество он, конечно, повторять не стал, а сделал эскиз круглолицей крестьянской барышни в цветастом платочке. Таким образом, появлению русской матрешки способствовал её  японский родственник. (</a:t>
            </a:r>
            <a:r>
              <a:rPr b="1" lang="ru-RU" sz="1700" spc="-1" strike="noStrike">
                <a:solidFill>
                  <a:srgbClr val="000000"/>
                </a:solidFill>
                <a:latin typeface="Century Schoolbook"/>
              </a:rPr>
              <a:t>Из </a:t>
            </a:r>
            <a:r>
              <a:rPr b="0" lang="ru-RU" sz="1700" spc="-1" strike="noStrike">
                <a:solidFill>
                  <a:srgbClr val="000000"/>
                </a:solidFill>
                <a:latin typeface="Century Schoolbook"/>
              </a:rPr>
              <a:t>книги Н.Н. Алексахина "Матрешка»)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2" name="Picture 3" descr=""/>
          <p:cNvPicPr/>
          <p:nvPr/>
        </p:nvPicPr>
        <p:blipFill>
          <a:blip r:embed="rId1"/>
          <a:stretch/>
        </p:blipFill>
        <p:spPr>
          <a:xfrm>
            <a:off x="5646600" y="4500720"/>
            <a:ext cx="2936880" cy="214308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4" descr=""/>
          <p:cNvPicPr/>
          <p:nvPr/>
        </p:nvPicPr>
        <p:blipFill>
          <a:blip r:embed="rId2"/>
          <a:stretch/>
        </p:blipFill>
        <p:spPr>
          <a:xfrm>
            <a:off x="5929200" y="1525680"/>
            <a:ext cx="2365560" cy="275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08T09:41:03Z</dcterms:created>
  <dc:creator>User</dc:creator>
  <dc:description/>
  <dc:language>en-US</dc:language>
  <cp:lastModifiedBy>Л</cp:lastModifiedBy>
  <dcterms:modified xsi:type="dcterms:W3CDTF">2016-08-09T12:02:35Z</dcterms:modified>
  <cp:revision>70</cp:revision>
  <dc:subject/>
  <dc:title>Исследовательская  работа   обучающегося 2 класса  МБОУ «Никифоровская средняя общеобразовательная школа №2»</dc:title>
</cp:coreProperties>
</file>