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3.jpeg" ContentType="image/jpeg"/>
  <Override PartName="/ppt/media/image12.jpeg" ContentType="image/jpeg"/>
  <Override PartName="/ppt/media/image9.jpeg" ContentType="image/jpeg"/>
  <Override PartName="/ppt/media/image11.jpeg" ContentType="image/jpeg"/>
  <Override PartName="/ppt/media/image7.png" ContentType="image/png"/>
  <Override PartName="/ppt/media/image8.png" ContentType="image/png"/>
  <Override PartName="/ppt/media/image14.jpeg" ContentType="image/jpeg"/>
  <Override PartName="/ppt/media/image6.jpeg" ContentType="image/jpeg"/>
  <Override PartName="/ppt/media/image10.jpeg" ContentType="image/jpeg"/>
  <Override PartName="/ppt/media/image5.jpeg" ContentType="image/jpeg"/>
  <Override PartName="/ppt/media/image4.jpeg" ContentType="image/jpeg"/>
  <Override PartName="/ppt/media/image22.png" ContentType="image/png"/>
  <Override PartName="/ppt/media/image19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24.png" ContentType="image/png"/>
  <Override PartName="/ppt/media/image1.png" ContentType="image/png"/>
  <Override PartName="/ppt/media/image3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6B7B1-1585-42B2-9A3E-24F717E9BC8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67E09-A453-48E7-A46A-03268592D24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03491-CB34-4487-815F-48451502C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69811-602F-4EAB-8035-D455D9748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FCB18-81E5-4AD8-81A5-2AB14301A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041E7-A0B0-4A5A-A2AA-87F90BEFA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A65B4-537B-4C38-A885-39A39C3DF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6982F-92D2-4C49-BC61-56B5A8F06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60724-C5CD-4B54-9256-B2B515949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CEB96-467A-410B-B6C6-4E42087FD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13341-D61E-42EF-A0F7-101072570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D9989-E7DB-44F5-BA21-1D1A6BFBC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C4806-7FF7-4099-80B6-DCCA4D801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F2F5A-5043-49DD-A97A-8BA5541B6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E8D76-21C8-4272-8897-E498B0E35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62198-1291-4951-8E88-A43B86C31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07601-49E8-412A-BAC6-DB7933B51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7C523-14DF-43F7-82D4-965E674BA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0A2FB-D680-4195-A9F5-2F041F277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E863254-3EF6-49F9-A2E5-DBACF2C62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E1E7298-2DAE-4472-BD36-14B5CD6AA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7CC9659-E6BE-434B-9CE3-C9B2BB321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7A3F6F9-B28F-46B7-8134-59BB87344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B1E195-73F9-40E5-B16F-CE27C5761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F9C3A-4196-4047-96A1-9AF90A500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7CC3017-E518-42C6-85EE-0EC8F88F9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71E6B91-6D49-4C3E-B417-C15359088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B9DCC10-2436-4701-ACB6-C9251E482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321BF47-CF40-4757-8B44-644988F7E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C4536C2-C968-4B7A-A5FD-317A4AD1F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8BECE5-2C6E-4D30-9D3D-EC9F80924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F4CC865-762C-4CC4-AC61-D99047E89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20B9A1-9E30-462C-BC96-D7F759736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E05E7D-B9BC-45AA-8BB8-B3A6BE9FC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9DE527-8B74-4EB9-99AC-30A13F30B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94B72-D8E1-4FC5-950A-6FD89FB1A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B22C4C-6507-42B5-8988-3B744989B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2D995E-E4EF-4AC3-AFC8-35C937B84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0E3421-9D4D-4042-B017-ECE602D3A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1E6751-FA55-4447-90D1-733C31B0B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2E53CD-D586-4F1C-871F-980C0820E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D7FC1F-B47E-4E86-B56B-B69C56191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2BB4ED-6EDC-4DE8-B2EC-741D3080F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1532B2-E651-43E9-8A80-D50FADB0F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39551E-656E-4565-A93D-01C3A186A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630580A-9D42-450A-BB61-AFC56B06F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20B35-3A70-4FD1-BE1F-F2E4B1CBC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448C696-F16B-4021-87E7-07690610E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6044B2B-A8F5-4280-92F2-5D8A505D2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9AA58C3-C3C8-405B-B92E-77E7E702A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2F66F4C-CB39-46BD-B831-BD8BDD894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8C99BA9-7670-4B81-B0A3-69D89742B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E3E7BA2-C6D9-473D-BAAE-E6E078649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EC8A5F3-FE14-43A0-B01C-42697A9DC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46A2A3B-4904-4AE7-89A1-83313ECC1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A47F6C4-4650-4652-8483-91D210F45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B2D4156-8E70-4E01-8106-B2AB955A7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0CEDE-01F5-47E4-B5D4-2CE2A9ED3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C95B845-FBE8-4627-A9C3-32C375DDF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0A18E87-A148-49F1-AB88-A0C17D2B7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6E1872B-A68A-44FB-A5AC-82E4F174C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77D998C-91B2-4609-91B6-95B8D231E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1BD63D5-9412-4994-9DBF-525B40E92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120A811-E3BF-4F21-B198-A6DCEFE56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D46EF61-BB81-43EE-A8DE-47F7D2B68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4D92474-29B8-47FA-98A6-AAD066941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F6A2212-D0A8-4F72-99E9-60D95E5C8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87437A2-9E02-4565-8B77-398A2A0C0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45FF1-8871-4E1E-847C-9C759EFC7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980C22D-5E21-46BC-B39D-9DBE223F0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720AFF6-61D1-4CB9-A957-D4DF5005D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DC4DC48-4170-4862-99BF-649BCD8BB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B4BA821-D236-42D4-AB9E-46F4E6096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2D110FB-EF50-4FC0-9B43-D25AC9315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9EBDC99-74D9-423A-BB52-0832281DF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357AAD7-9450-400A-ACF1-8F92CDF87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F3BB68E-0D1C-4046-B74C-C787D7559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4BD46F9-E486-4141-A9FA-63F52B335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3516A72-BBD5-4DB2-B854-47F42FB9D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BA2EF-C2FA-4CD2-8D55-90E40E36E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E8FEC34-3E20-408F-A07F-899FDD5BA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3E3BE7A-32D4-49C0-BE03-DC6A127DE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32143CD-16E6-4588-996F-D0202B5DE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0D6F19C-8E13-4C5E-8987-B18F1BA0A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E614FCD-A7FC-427B-8D81-98722FE93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0DCFA-BA14-4078-8B41-1B4CEEFF1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4BAB9-2708-47CA-A7A8-7DD5AF7AC6A1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3B5C6-A9BD-4A22-A1D7-340FC835DD0A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E496C-FA37-4449-B87E-5DB86149C7AF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7ED22-4215-4E15-B0E8-2715E97450C9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538E8-ACD7-44F5-90AE-099112BB303F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Прямая соединительная линия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Прямая соединительная линия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Прямая соединительная линия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96553-DEA5-4EF1-B388-410FAF53AD06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Прямая соединительная линия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2A422-26E1-452F-B327-05F996A91951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image" Target="../media/image20.jpeg"/><Relationship Id="rId8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fa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2410920" y="620280"/>
            <a:ext cx="6172200" cy="4824360"/>
          </a:xfrm>
          <a:prstGeom prst="rect">
            <a:avLst/>
          </a:prstGeom>
          <a:solidFill>
            <a:srgbClr val="ffffff"/>
          </a:solidFill>
          <a:ln w="25560">
            <a:solidFill>
              <a:srgbClr val="fe8637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2800" spc="-1" strike="noStrike">
                <a:solidFill>
                  <a:srgbClr val="002060"/>
                </a:solidFill>
                <a:latin typeface="Century Schoolbook"/>
              </a:rPr>
              <a:t>ИССЛЕДОВАТЕЛЬСКАЯ  РАБОТА </a:t>
            </a:r>
            <a:br>
              <a:rPr sz="2000"/>
            </a:br>
            <a:r>
              <a:rPr b="1" lang="ru-RU" sz="2800" spc="-1" strike="noStrike">
                <a:solidFill>
                  <a:srgbClr val="c00000"/>
                </a:solidFill>
                <a:latin typeface="Arial Black"/>
                <a:ea typeface="Cambria Math"/>
              </a:rPr>
              <a:t>МАТРЁШКА  В ПРОШЛОМ И НАСТОЯЩЕМ</a:t>
            </a:r>
            <a:br>
              <a:rPr sz="2800"/>
            </a:br>
            <a:br>
              <a:rPr sz="2400"/>
            </a:b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ЧЕНИКА </a:t>
            </a:r>
            <a:r>
              <a:rPr b="1" lang="en-US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3</a:t>
            </a: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КЛАССА </a:t>
            </a:r>
            <a:br>
              <a:rPr sz="1600"/>
            </a:br>
            <a:r>
              <a:rPr b="0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БОУ</a:t>
            </a: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«НИКИФОРОВСКАЯ СРЕДНЯЯ ОБЩЕОБРАЗОВАТЕЛЬНАЯ ШКОЛА №2»</a:t>
            </a:r>
            <a:br>
              <a:rPr sz="1600"/>
            </a:b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РЕТИНИНА  ЕГОРА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59" name="Рисунок 2" descr="C:\Users\Liliya\Pictures\К МАТРЕШКЕ ФОТО\y.jpg"/>
          <p:cNvPicPr/>
          <p:nvPr/>
        </p:nvPicPr>
        <p:blipFill>
          <a:blip r:embed="rId1"/>
          <a:stretch/>
        </p:blipFill>
        <p:spPr>
          <a:xfrm>
            <a:off x="139680" y="2639880"/>
            <a:ext cx="2414520" cy="793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-571680" y="-36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 Black"/>
              </a:rPr>
              <a:t>КАК ВЫГЛЯДЕЛА ПЕРВАЯ МАТРЁШКА?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213840" y="3071880"/>
            <a:ext cx="8472600" cy="358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Если сравнить первую матрешку с ее поздними сестрами, то можно заметить, что выглядела она очень скромной. Это была деревенская девушка, одетая в национальный русский костюм: платок, сарафан, передник.  В руках она держала черного петуха или кота. У более поздних матрёшек наряд был гораздо богаче и в руках можно было видеть самовары, бублики, букеты.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Первая матрешка была восьмиместной  внутри большой девочки помещался мальчик поменьше и так далее – мальчики и девочки чередовались, а самой маленькой, «неделимой», была матрешка – спеленатый младенец.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6" name="Рисунок 3" descr="C:\Users\Liliya\Pictures\ююю.jpg"/>
          <p:cNvPicPr/>
          <p:nvPr/>
        </p:nvPicPr>
        <p:blipFill>
          <a:blip r:embed="rId1"/>
          <a:srcRect l="0" t="-1039" r="0" b="0"/>
          <a:stretch/>
        </p:blipFill>
        <p:spPr>
          <a:xfrm>
            <a:off x="357120" y="1000080"/>
            <a:ext cx="3000600" cy="2071800"/>
          </a:xfrm>
          <a:prstGeom prst="rect">
            <a:avLst/>
          </a:prstGeom>
          <a:ln w="0">
            <a:noFill/>
          </a:ln>
        </p:spPr>
      </p:pic>
      <p:pic>
        <p:nvPicPr>
          <p:cNvPr id="387" name="Рисунок 4" descr="C:\Users\Liliya\Pictures\К МАТРЕШКЕ ФОТО\r.jpg"/>
          <p:cNvPicPr/>
          <p:nvPr/>
        </p:nvPicPr>
        <p:blipFill>
          <a:blip r:embed="rId2"/>
          <a:stretch/>
        </p:blipFill>
        <p:spPr>
          <a:xfrm>
            <a:off x="5143680" y="857160"/>
            <a:ext cx="3286080" cy="21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746784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600" spc="-1" strike="noStrike">
                <a:solidFill>
                  <a:srgbClr val="ff0000"/>
                </a:solidFill>
                <a:latin typeface="Arial Black"/>
              </a:rPr>
              <a:t>СКОЛЬКО МАТРЁШКЕ ЛЕТ?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457200" y="1600200"/>
            <a:ext cx="804384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 1900 году на Всемирной выставке в Париже матрёшка получила Золотую медаль. Поэтому приблизительно с этого времени можно отсчитывать возраст матрешки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 2000 году отметили  ее  </a:t>
            </a: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столетие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90" name="Рисунок 4" descr="C:\Users\Liliya\Pictures\К МАТРЕШКЕ ФОТО\v (2).jpg"/>
          <p:cNvPicPr/>
          <p:nvPr/>
        </p:nvPicPr>
        <p:blipFill>
          <a:blip r:embed="rId1"/>
          <a:stretch/>
        </p:blipFill>
        <p:spPr>
          <a:xfrm>
            <a:off x="2214720" y="3714840"/>
            <a:ext cx="450036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85480" y="214200"/>
            <a:ext cx="746748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 Black"/>
              </a:rPr>
              <a:t>КАК РОЖДАЕТСЯ МАТРЁШКА?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0" y="1285920"/>
            <a:ext cx="55008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Над созданием матрешки работает целая команда мастеров.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Первый этап – выбор дерева. Древесина должна быть сухой и легко поддаваться рукам мастера. После ошкуривания начинается процесс вытачивания деревянной формы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Для выполнения заготовки берут подходящий чурбачок, вставляют его в станок и вытачивают. Деревянные  заготовки, «белье», мастер начинает точить с неразъёмной малютки, «первенькой». Затем следующая кукла, уже складная, и так до самой большой. Сначала вытачивает голову, затем туловище и заготовка готова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После того, как токарь выточил фигурки матрешки, к работе приступает шлифовальщик. Он делает ее поверхность гладкой и удобной для художника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Каждая матрешка в руках художника становится произведением  искусства.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Как ими не любоваться, не восторгаться</a:t>
            </a:r>
            <a:r>
              <a:rPr b="1" lang="ru-RU" sz="1700" spc="-1" strike="noStrike">
                <a:solidFill>
                  <a:srgbClr val="000000"/>
                </a:solidFill>
                <a:latin typeface="Century Schoolbook"/>
              </a:rPr>
              <a:t>!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93" name="Рисунок 5" descr="C:\Users\Liliya\Pictures\ьол8.JPG"/>
          <p:cNvPicPr/>
          <p:nvPr/>
        </p:nvPicPr>
        <p:blipFill>
          <a:blip r:embed="rId1"/>
          <a:stretch/>
        </p:blipFill>
        <p:spPr>
          <a:xfrm>
            <a:off x="5435640" y="1143000"/>
            <a:ext cx="3286080" cy="2571840"/>
          </a:xfrm>
          <a:prstGeom prst="rect">
            <a:avLst/>
          </a:prstGeom>
          <a:ln w="0">
            <a:noFill/>
          </a:ln>
        </p:spPr>
      </p:pic>
      <p:pic>
        <p:nvPicPr>
          <p:cNvPr id="394" name="Рисунок 6" descr="C:\Users\Liliya\Pictures\К МАТРЕШКЕ ФОТО\g.jpg"/>
          <p:cNvPicPr/>
          <p:nvPr/>
        </p:nvPicPr>
        <p:blipFill>
          <a:blip r:embed="rId2"/>
          <a:stretch/>
        </p:blipFill>
        <p:spPr>
          <a:xfrm>
            <a:off x="5518080" y="3816360"/>
            <a:ext cx="3238560" cy="26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56760" y="213840"/>
            <a:ext cx="5929560" cy="12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 Black"/>
              </a:rPr>
              <a:t>ВИДЫ МАТРЁШЕК</a:t>
            </a:r>
            <a:br>
              <a:rPr sz="3200"/>
            </a:br>
            <a:r>
              <a:rPr b="0" lang="ru-RU" sz="1400" spc="-1" strike="noStrike">
                <a:solidFill>
                  <a:srgbClr val="575f6d"/>
                </a:solidFill>
                <a:latin typeface="Century Schoolbook"/>
              </a:rPr>
              <a:t>СУЩЕСТВУЕТ ДВА ОСНОВНЫХ </a:t>
            </a:r>
            <a:r>
              <a:rPr b="1" lang="ru-RU" sz="1400" spc="-1" strike="noStrike">
                <a:solidFill>
                  <a:srgbClr val="575f6d"/>
                </a:solidFill>
                <a:latin typeface="Century Schoolbook"/>
              </a:rPr>
              <a:t>ВИДА МАТРЕШЕК</a:t>
            </a:r>
            <a:r>
              <a:rPr b="0" lang="ru-RU" sz="1400" spc="-1" strike="noStrike">
                <a:solidFill>
                  <a:srgbClr val="575f6d"/>
                </a:solidFill>
                <a:latin typeface="Century Schoolbook"/>
              </a:rPr>
              <a:t>: ТРАДИЦИОННАЯ И АВТОРСКАЯ. У ТРАДИЦИОННОЙ КУКЛЫ СТАНДАРТНЫЙ ВИД РОСПИСИ И НАЗВАНИЕ, ДОСТАЮЩЕЕСЯ ЕЙ ОТ НАЗВАНИЯ МЕСТА ЕЕ РОЖДЕНИЯ.</a:t>
            </a:r>
            <a:endParaRPr b="0" lang="en-US" sz="1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468360" y="1577520"/>
            <a:ext cx="7888320" cy="473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         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Гжель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97" name="Picture 4" descr="Увеличить"/>
          <p:cNvPicPr/>
          <p:nvPr/>
        </p:nvPicPr>
        <p:blipFill>
          <a:blip r:embed="rId1"/>
          <a:stretch/>
        </p:blipFill>
        <p:spPr>
          <a:xfrm>
            <a:off x="785880" y="1643040"/>
            <a:ext cx="2160360" cy="197028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6" descr="виды матрешек"/>
          <p:cNvPicPr/>
          <p:nvPr/>
        </p:nvPicPr>
        <p:blipFill>
          <a:blip r:embed="rId2"/>
          <a:stretch/>
        </p:blipFill>
        <p:spPr>
          <a:xfrm>
            <a:off x="500040" y="4357800"/>
            <a:ext cx="2664000" cy="180504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12" descr="виды матрешек"/>
          <p:cNvPicPr/>
          <p:nvPr/>
        </p:nvPicPr>
        <p:blipFill>
          <a:blip r:embed="rId3"/>
          <a:stretch/>
        </p:blipFill>
        <p:spPr>
          <a:xfrm>
            <a:off x="6643800" y="2286000"/>
            <a:ext cx="2087280" cy="208764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10" descr="виды матрешек"/>
          <p:cNvPicPr/>
          <p:nvPr/>
        </p:nvPicPr>
        <p:blipFill>
          <a:blip r:embed="rId4"/>
          <a:stretch/>
        </p:blipFill>
        <p:spPr>
          <a:xfrm>
            <a:off x="5643720" y="4786200"/>
            <a:ext cx="2998800" cy="175752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8" descr="виды матрешек"/>
          <p:cNvPicPr/>
          <p:nvPr/>
        </p:nvPicPr>
        <p:blipFill>
          <a:blip r:embed="rId5"/>
          <a:stretch/>
        </p:blipFill>
        <p:spPr>
          <a:xfrm>
            <a:off x="3714840" y="3429000"/>
            <a:ext cx="1666800" cy="2857680"/>
          </a:xfrm>
          <a:prstGeom prst="rect">
            <a:avLst/>
          </a:prstGeom>
          <a:ln w="0">
            <a:noFill/>
          </a:ln>
        </p:spPr>
      </p:pic>
      <p:pic>
        <p:nvPicPr>
          <p:cNvPr id="402" name="Рисунок 16" descr="http://samoydelkin.ru/wp-content/uploads/2012/03/matreshka-lyagushka.jpg"/>
          <p:cNvPicPr/>
          <p:nvPr/>
        </p:nvPicPr>
        <p:blipFill>
          <a:blip r:embed="rId6"/>
          <a:stretch/>
        </p:blipFill>
        <p:spPr>
          <a:xfrm>
            <a:off x="3643200" y="1571760"/>
            <a:ext cx="2017800" cy="1566720"/>
          </a:xfrm>
          <a:prstGeom prst="rect">
            <a:avLst/>
          </a:prstGeom>
          <a:ln w="0">
            <a:noFill/>
          </a:ln>
        </p:spPr>
      </p:pic>
      <p:pic>
        <p:nvPicPr>
          <p:cNvPr id="403" name="Рисунок 17" descr="виды матрешек"/>
          <p:cNvPicPr/>
          <p:nvPr/>
        </p:nvPicPr>
        <p:blipFill>
          <a:blip r:embed="rId7"/>
          <a:stretch/>
        </p:blipFill>
        <p:spPr>
          <a:xfrm>
            <a:off x="6000840" y="214200"/>
            <a:ext cx="2857320" cy="1733760"/>
          </a:xfrm>
          <a:prstGeom prst="rect">
            <a:avLst/>
          </a:prstGeom>
          <a:ln w="0">
            <a:noFill/>
          </a:ln>
        </p:spPr>
      </p:pic>
      <p:sp>
        <p:nvSpPr>
          <p:cNvPr id="404" name="Прямоугольник 12"/>
          <p:cNvSpPr/>
          <p:nvPr/>
        </p:nvSpPr>
        <p:spPr>
          <a:xfrm>
            <a:off x="6124680" y="6488280"/>
            <a:ext cx="16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Семеновская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5" name="Прямоугольник 13"/>
          <p:cNvSpPr/>
          <p:nvPr/>
        </p:nvSpPr>
        <p:spPr>
          <a:xfrm>
            <a:off x="3922200" y="6286680"/>
            <a:ext cx="105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Вятская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6" name="Прямоугольник 14"/>
          <p:cNvSpPr/>
          <p:nvPr/>
        </p:nvSpPr>
        <p:spPr>
          <a:xfrm>
            <a:off x="6405480" y="4429080"/>
            <a:ext cx="161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Майданская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7" name="Прямоугольник 19"/>
          <p:cNvSpPr/>
          <p:nvPr/>
        </p:nvSpPr>
        <p:spPr>
          <a:xfrm>
            <a:off x="1344600" y="6286680"/>
            <a:ext cx="119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Тверская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8" name="Прямоугольник 20"/>
          <p:cNvSpPr/>
          <p:nvPr/>
        </p:nvSpPr>
        <p:spPr>
          <a:xfrm>
            <a:off x="536400" y="3714840"/>
            <a:ext cx="24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Сергиево-посадская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9" name="Прямоугольник 21"/>
          <p:cNvSpPr/>
          <p:nvPr/>
        </p:nvSpPr>
        <p:spPr>
          <a:xfrm>
            <a:off x="3908880" y="3000240"/>
            <a:ext cx="133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Авторская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0" name="Прямоугольник 22"/>
          <p:cNvSpPr/>
          <p:nvPr/>
        </p:nvSpPr>
        <p:spPr>
          <a:xfrm>
            <a:off x="6766560" y="1857240"/>
            <a:ext cx="133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Авторская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ff0000"/>
                </a:solidFill>
                <a:latin typeface="Arial Black"/>
              </a:rPr>
              <a:t>ВОТ КОГДА НАЧИНАЕШЬ ПОНИМАТЬ ЧУВСТВА МАСТЕРОВ, КОТОРЫЕ ИЗГОТАВЛИВАЮТ МАТРЕШКУ!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13" name="Рисунок 3" descr="C:\Users\Liliya\Documents\SAM_2982.JPG"/>
          <p:cNvPicPr/>
          <p:nvPr/>
        </p:nvPicPr>
        <p:blipFill>
          <a:blip r:embed="rId1"/>
          <a:stretch/>
        </p:blipFill>
        <p:spPr>
          <a:xfrm>
            <a:off x="4500720" y="1643040"/>
            <a:ext cx="3311280" cy="2433600"/>
          </a:xfrm>
          <a:prstGeom prst="rect">
            <a:avLst/>
          </a:prstGeom>
          <a:ln w="0">
            <a:noFill/>
          </a:ln>
        </p:spPr>
      </p:pic>
      <p:pic>
        <p:nvPicPr>
          <p:cNvPr id="414" name="Рисунок 4" descr=""/>
          <p:cNvPicPr/>
          <p:nvPr/>
        </p:nvPicPr>
        <p:blipFill>
          <a:blip r:embed="rId2"/>
          <a:stretch/>
        </p:blipFill>
        <p:spPr>
          <a:xfrm>
            <a:off x="755640" y="1633680"/>
            <a:ext cx="3095640" cy="2433600"/>
          </a:xfrm>
          <a:prstGeom prst="rect">
            <a:avLst/>
          </a:prstGeom>
          <a:ln w="0">
            <a:noFill/>
          </a:ln>
        </p:spPr>
      </p:pic>
      <p:pic>
        <p:nvPicPr>
          <p:cNvPr id="415" name="Рисунок 5" descr="F:\DCIM\100PHOTO\SAM_3024.JPG"/>
          <p:cNvPicPr/>
          <p:nvPr/>
        </p:nvPicPr>
        <p:blipFill>
          <a:blip r:embed="rId3">
            <a:lum contrast="20000"/>
          </a:blip>
          <a:stretch/>
        </p:blipFill>
        <p:spPr>
          <a:xfrm>
            <a:off x="2571840" y="4076640"/>
            <a:ext cx="362880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71320" y="1425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 Black"/>
              </a:rPr>
              <a:t>ПОПУЛЯРНОСТЬ МАТРЁШКИ В СТАРИНУ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1143000" y="1143000"/>
            <a:ext cx="285768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entury Schoolbook"/>
              </a:rPr>
              <a:t>СТИХИ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entury Schoolbook"/>
              </a:rPr>
              <a:t>Погляди скорее -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entury Schoolbook"/>
              </a:rPr>
              <a:t>Щечки розовеют,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entury Schoolbook"/>
              </a:rPr>
              <a:t>Пестренький платочек,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entury Schoolbook"/>
              </a:rPr>
              <a:t>Платьице в цветочек,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entury Schoolbook"/>
              </a:rPr>
              <a:t>Пухленькие крошки — 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entury Schoolbook"/>
              </a:rPr>
              <a:t>Русские матрешки.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entury Schoolbook"/>
              </a:rPr>
              <a:t>Чуть лишь испугаются,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entury Schoolbook"/>
              </a:rPr>
              <a:t>Все в кружок сбегаются,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entury Schoolbook"/>
              </a:rPr>
              <a:t>Прячутся друг в дружке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entury Schoolbook"/>
              </a:rPr>
              <a:t>Шустрые подружки.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entury Schoolbook"/>
              </a:rPr>
              <a:t>*********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entury Schoolbook"/>
              </a:rPr>
              <a:t>Алый шёлковый платочек,</a:t>
            </a:r>
            <a:r>
              <a:rPr b="0" lang="en-US" sz="14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entury Schoolbook"/>
              </a:rPr>
              <a:t>Яркий сарафан в цветочек.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entury Schoolbook"/>
              </a:rPr>
              <a:t>Упирается  рука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entury Schoolbook"/>
              </a:rPr>
              <a:t>В деревянные бока.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entury Schoolbook"/>
              </a:rPr>
              <a:t>А внутри секреты есть,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entury Schoolbook"/>
              </a:rPr>
              <a:t>Может три, а может шесть.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8" name="Содержимое 2"/>
          <p:cNvSpPr/>
          <p:nvPr/>
        </p:nvSpPr>
        <p:spPr>
          <a:xfrm>
            <a:off x="4572000" y="1214280"/>
            <a:ext cx="3357720" cy="50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entury Schoolbook"/>
              </a:rPr>
              <a:t>ЗАГАДКИ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entury Schoolbook"/>
              </a:rPr>
              <a:t>Разрумянилась немножко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entury Schoolbook"/>
              </a:rPr>
              <a:t>         </a:t>
            </a:r>
            <a:r>
              <a:rPr b="0" lang="ru-RU" sz="1400" spc="-1" strike="noStrike">
                <a:solidFill>
                  <a:srgbClr val="000000"/>
                </a:solidFill>
                <a:latin typeface="Century Schoolbook"/>
              </a:rPr>
              <a:t>Наша русская…</a:t>
            </a:r>
            <a:r>
              <a:rPr b="1" lang="ru-RU" sz="1400" spc="-1" strike="noStrike">
                <a:solidFill>
                  <a:srgbClr val="000000"/>
                </a:solidFill>
                <a:latin typeface="Century Schoolbook"/>
              </a:rPr>
              <a:t>матрёшка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entury Schoolbook"/>
              </a:rPr>
              <a:t>Деревянные подружки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entury Schoolbook"/>
              </a:rPr>
              <a:t>Любят прятаться друг в дружке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entury Schoolbook"/>
              </a:rPr>
              <a:t>Носят яркие одёжки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entury Schoolbook"/>
              </a:rPr>
              <a:t>Называются.-……..</a:t>
            </a:r>
            <a:r>
              <a:rPr b="1" lang="ru-RU" sz="1400" spc="-1" strike="noStrike">
                <a:solidFill>
                  <a:srgbClr val="000000"/>
                </a:solidFill>
                <a:latin typeface="Century Schoolbook"/>
              </a:rPr>
              <a:t>матрёшки</a:t>
            </a:r>
            <a:r>
              <a:rPr b="0" lang="ru-RU" sz="14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entury Schoolbook"/>
              </a:rPr>
              <a:t>Ростом разные подружки, 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entury Schoolbook"/>
              </a:rPr>
              <a:t>Но похожи другу на дружку, 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entury Schoolbook"/>
              </a:rPr>
              <a:t>Все они сидят друг в дружке, 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entury Schoolbook"/>
              </a:rPr>
              <a:t>А всего одна игрушка.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entury Schoolbook"/>
              </a:rPr>
              <a:t>Стоит Матрёшка на одной ножке, в одежду закутана, в сто платков запутана.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entury Schoolbook"/>
              </a:rPr>
              <a:t>Щеголь </a:t>
            </a:r>
            <a:r>
              <a:rPr b="1" lang="ru-RU" sz="1400" spc="-1" strike="noStrike">
                <a:solidFill>
                  <a:srgbClr val="000000"/>
                </a:solidFill>
                <a:latin typeface="Century Schoolbook"/>
              </a:rPr>
              <a:t>Матрешка</a:t>
            </a:r>
            <a:r>
              <a:rPr b="0" lang="ru-RU" sz="1400" spc="-1" strike="noStrike">
                <a:solidFill>
                  <a:srgbClr val="000000"/>
                </a:solidFill>
                <a:latin typeface="Century Schoolbook"/>
              </a:rPr>
              <a:t>: полтора рубля застежка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 Black"/>
              </a:rPr>
              <a:t>ВОПРОСЫ АНКЕТИРОВАНИЯ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Знаете ли вы деревянную игрушку – Матрешку?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Есть ли у вас эта игрушка дома?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Нравится ли вам матрешка?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Чем она вам нравится?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 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Как вы думаете, какую пользу приносит матрешка?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Купили бы вы сейчас себе  матрёшку в дом?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785960" y="-360"/>
            <a:ext cx="492912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 Black"/>
              </a:rPr>
              <a:t>ВЫВОД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285480" y="1071360"/>
            <a:ext cx="842940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entury Schoolbook"/>
              </a:rPr>
              <a:t>Я понял , почему русская матрёшка является символом  России  и пленила не только русский народ, но и завоевала весь мир.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Century Schoolbook"/>
              </a:rPr>
              <a:t>В русской матрёшке, ее содержании, форме и декоре отразились народные представления о мире, добре, красоте. Одновременно в ней с особой силой проявилась творческая энергия русского народа, его способы простыми средствами создавать выразительные образы.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Century Schoolbook"/>
              </a:rPr>
              <a:t>«Плодородие, изобилие, бесконечность жизни – таков, по всей видимости, глубинный смысл популярной игрушки». 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entury Schoolbook"/>
              </a:rPr>
              <a:t>Матрешка вдохновляла и вдохновляет русский народ на создание загадок, частушек, песен, стихотворений, на создание различных образов. А сколько  танцев с прекрасными и разнообразными костюмами матрёшки.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entury Schoolbook"/>
              </a:rPr>
              <a:t>Игрушка, созданная много лет назад и сейчас остается одной из любимых. 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entury Schoolbook"/>
              </a:rPr>
              <a:t>В настоящее время русская матрёшка переживает второе рождение, связанное, наверное, с огромным интересом в мире к России, к переменам, происходящим в нашей стране. Она представляет собой уникальное явление в современном художественном мире. Недаром она привлекает пристальное внимание любителей и коллекционеров изобразительного искусства, как в нашей стране, так и за рубежом. Роспись матрёшки как бы вбирает в себя всё яркое, свежее, актуальное, связанное с обновлением и возрождением России.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6840" y="1267920"/>
            <a:ext cx="74674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r>
              <a:rPr b="1" i="1" lang="ru-RU" sz="4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СПАСИБО ЗА ВНИМАНИЕ!</a:t>
            </a:r>
            <a:endParaRPr b="0" lang="en-US" sz="48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24" name="Picture 2" descr=""/>
          <p:cNvPicPr/>
          <p:nvPr/>
        </p:nvPicPr>
        <p:blipFill>
          <a:blip r:embed="rId1"/>
          <a:stretch/>
        </p:blipFill>
        <p:spPr>
          <a:xfrm>
            <a:off x="2700360" y="2997360"/>
            <a:ext cx="345600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Arial Black"/>
              </a:rPr>
              <a:t>ТЕМА ИССЛЕДОВАНИЯ:</a:t>
            </a:r>
            <a:endParaRPr b="0" lang="en-US" sz="4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456840" y="1600200"/>
            <a:ext cx="7467480" cy="14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Arial Black"/>
              </a:rPr>
              <a:t>Матрёшка  в прошлом и настоящем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2" name="Рисунок 3" descr="C:\Users\Liliya\Pictures\К МАТРЕШКЕ ФОТО\матрешка.jpg"/>
          <p:cNvPicPr/>
          <p:nvPr/>
        </p:nvPicPr>
        <p:blipFill>
          <a:blip r:embed="rId1"/>
          <a:stretch/>
        </p:blipFill>
        <p:spPr>
          <a:xfrm>
            <a:off x="1857240" y="3500280"/>
            <a:ext cx="4286520" cy="29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Arial Black"/>
              </a:rPr>
              <a:t>ПРОБЛЕМА</a:t>
            </a:r>
            <a:endParaRPr b="0" lang="en-US" sz="4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очему деревянная кукла считается символом России, пленила не только русский народ, но и завоевала весь мир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5" name="Рисунок 3" descr="C:\Users\Liliya\Pictures\К МАТРЕШКЕ ФОТО\v3.jpg"/>
          <p:cNvPicPr/>
          <p:nvPr/>
        </p:nvPicPr>
        <p:blipFill>
          <a:blip r:embed="rId1"/>
          <a:stretch/>
        </p:blipFill>
        <p:spPr>
          <a:xfrm>
            <a:off x="2143080" y="3000240"/>
            <a:ext cx="4357800" cy="364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Arial Black"/>
              </a:rPr>
              <a:t>ЦЕЛЬ:</a:t>
            </a:r>
            <a:endParaRPr b="0" lang="en-US" sz="4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456840" y="1599840"/>
            <a:ext cx="7467480" cy="12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42640" indent="-24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Изучение роли матрёшки в русской культуре, прошлой и современной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8" name="Рисунок 3" descr="C:\Users\Liliya\Pictures\К МАТРЕШКЕ ФОТО\x.jpg"/>
          <p:cNvPicPr/>
          <p:nvPr/>
        </p:nvPicPr>
        <p:blipFill>
          <a:blip r:embed="rId1"/>
          <a:stretch/>
        </p:blipFill>
        <p:spPr>
          <a:xfrm>
            <a:off x="714240" y="2857680"/>
            <a:ext cx="6286680" cy="38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Arial Black"/>
              </a:rPr>
              <a:t>ЗАДАЧИ ИССЛЕДОВАНИЯ:</a:t>
            </a:r>
            <a:endParaRPr b="0" lang="en-US" sz="4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571320" y="2000160"/>
            <a:ext cx="7467480" cy="36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Кто такая матрёшка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очему куклу назвали Матрёшкой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Как появилась матрёшка? Кто придумал образ матрёшки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Сколько ей лет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Как рождается матрёшка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опулярность матрёшки в старину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Узнать отношение одноклассников и их родителей к народной игрушке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1" name="Picture 2" descr="C:\Users\Liliya\Pictures\К МАТРЕШКЕ ФОТО\o.jpg"/>
          <p:cNvPicPr/>
          <p:nvPr/>
        </p:nvPicPr>
        <p:blipFill>
          <a:blip r:embed="rId1"/>
          <a:stretch/>
        </p:blipFill>
        <p:spPr>
          <a:xfrm>
            <a:off x="6918480" y="3500280"/>
            <a:ext cx="177480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Arial Black"/>
              </a:rPr>
              <a:t>МЕТОДЫ ИССЛЕДОВАНИЯ:</a:t>
            </a:r>
            <a:endParaRPr b="0" lang="en-US" sz="4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499680" y="2000160"/>
            <a:ext cx="7467480" cy="34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Анализ публикаций газет и журналов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Анализ материалов Интернета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Анализ собранных  иллюстраций, фотографий и рисунков матрёшек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Анализ видов и стилей росписей матрёшек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Анализ представлений о деревянной кукле у моих одноклассников на основе анкетирования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285840" y="142560"/>
            <a:ext cx="618624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Arial Black"/>
              </a:rPr>
              <a:t>ЭТАПЫ ИССЛЕДОВАНИЯ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285480" y="1984320"/>
            <a:ext cx="782964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МАТРЁШКА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– это полуовальная полая, разнимающаяся посередине деревянная расписная кукла, в которую вставляются другие такие же куклы меньшего размера. (</a:t>
            </a: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Словарь Ожегова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МАТРЁШКА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ж. - Русская игрушка в виде деревянной расписной куклы, внутри которой находятся такие же куклы меньшего размера. Матрешка -  полная, румяная, круглолицая девочка, девушка, напоминающая такую куклу. (Словарь русского языка Т.Ф. Ефремовой 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6" name="Заголовок 1"/>
          <p:cNvSpPr/>
          <p:nvPr/>
        </p:nvSpPr>
        <p:spPr>
          <a:xfrm>
            <a:off x="285840" y="1071720"/>
            <a:ext cx="6429240" cy="9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 Black"/>
              </a:rPr>
              <a:t>Кто такая  «матрешка»?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 Black"/>
              </a:rPr>
              <a:t>ПОЧЕМУ КУКЛУ НАЗВАЛИ МАТРЁШКОЙ?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571320" y="1571400"/>
            <a:ext cx="7467480" cy="26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 дореволюционной провинции имя Матрена, Матреша считалось одним из наиболее распространенных русских имен в основе которого лежит латинское слово mater, означающее мать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9" name="Picture 2" descr="C:\Users\Liliya\Pictures\К МАТРЕШКЕ ФОТО\2.JPG"/>
          <p:cNvPicPr/>
          <p:nvPr/>
        </p:nvPicPr>
        <p:blipFill>
          <a:blip r:embed="rId1"/>
          <a:stretch/>
        </p:blipFill>
        <p:spPr>
          <a:xfrm>
            <a:off x="1258920" y="3645000"/>
            <a:ext cx="583416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 Black"/>
              </a:rPr>
              <a:t>КАК ПОЯВИЛАСЬ МАТРЁШКА?</a:t>
            </a: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Arial Black"/>
              </a:rPr>
              <a:t> КТО ПРИДУМАЛ ОБРАЗ МАТРЁШКИ?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213840" y="1571400"/>
            <a:ext cx="4714920" cy="487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entury Schoolbook"/>
              </a:rPr>
              <a:t>      </a:t>
            </a:r>
            <a:r>
              <a:rPr b="0" lang="ru-RU" sz="1700" spc="-1" strike="noStrike">
                <a:solidFill>
                  <a:srgbClr val="000000"/>
                </a:solidFill>
                <a:latin typeface="Century Schoolbook"/>
              </a:rPr>
              <a:t>В 1890 году в усадьбе Мамонтова в</a:t>
            </a:r>
            <a:r>
              <a:rPr b="0" lang="en-US" sz="17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0" lang="ru-RU" sz="1700" spc="-1" strike="noStrike">
                <a:solidFill>
                  <a:srgbClr val="000000"/>
                </a:solidFill>
                <a:latin typeface="Century Schoolbook"/>
              </a:rPr>
              <a:t>подмосковном Абрамцеве </a:t>
            </a:r>
            <a:r>
              <a:rPr b="0" lang="en-US" sz="1700" spc="-1" strike="noStrike">
                <a:solidFill>
                  <a:srgbClr val="000000"/>
                </a:solidFill>
                <a:latin typeface="Century Schoolbook"/>
              </a:rPr>
              <a:t>                   </a:t>
            </a:r>
            <a:r>
              <a:rPr b="0" lang="ru-RU" sz="1700" spc="-1" strike="noStrike">
                <a:solidFill>
                  <a:srgbClr val="000000"/>
                </a:solidFill>
                <a:latin typeface="Century Schoolbook"/>
              </a:rPr>
              <a:t>хозяйка   усадьбы   привезла с японского острова Хонсю игрушку- забавного старичка с секретом, которого звали Фукуруму. Секрет заключался в том, что  в нём пряталась вся его семья.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entury Schoolbook"/>
              </a:rPr>
              <a:t>     </a:t>
            </a:r>
            <a:r>
              <a:rPr b="0" lang="ru-RU" sz="1700" spc="-1" strike="noStrike">
                <a:solidFill>
                  <a:srgbClr val="000000"/>
                </a:solidFill>
                <a:latin typeface="Century Schoolbook"/>
              </a:rPr>
              <a:t>Однажды в усадьбу приехала художественная элита, хозяйка показала всем забавную фигурку. Разъемная игрушка заинтересовала художника Сергея Малютина, и он решил сделать нечто подобное. Японское божество он, конечно, повторять не стал, а сделал эскиз круглолицей крестьянской барышни в цветастом платочке. Таким образом, появлению русской матрешки способствовал её  японский родственник. (</a:t>
            </a:r>
            <a:r>
              <a:rPr b="1" lang="ru-RU" sz="1700" spc="-1" strike="noStrike">
                <a:solidFill>
                  <a:srgbClr val="000000"/>
                </a:solidFill>
                <a:latin typeface="Century Schoolbook"/>
              </a:rPr>
              <a:t>Из </a:t>
            </a:r>
            <a:r>
              <a:rPr b="0" lang="ru-RU" sz="1700" spc="-1" strike="noStrike">
                <a:solidFill>
                  <a:srgbClr val="000000"/>
                </a:solidFill>
                <a:latin typeface="Century Schoolbook"/>
              </a:rPr>
              <a:t>книги Н.Н. Алексахина "Матрешка»)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2" name="Picture 3" descr=""/>
          <p:cNvPicPr/>
          <p:nvPr/>
        </p:nvPicPr>
        <p:blipFill>
          <a:blip r:embed="rId1"/>
          <a:stretch/>
        </p:blipFill>
        <p:spPr>
          <a:xfrm>
            <a:off x="5646600" y="4500720"/>
            <a:ext cx="2936880" cy="214308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4" descr=""/>
          <p:cNvPicPr/>
          <p:nvPr/>
        </p:nvPicPr>
        <p:blipFill>
          <a:blip r:embed="rId2"/>
          <a:stretch/>
        </p:blipFill>
        <p:spPr>
          <a:xfrm>
            <a:off x="5929200" y="1525680"/>
            <a:ext cx="2365560" cy="275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08T09:41:03Z</dcterms:created>
  <dc:creator>User</dc:creator>
  <dc:description/>
  <dc:language>en-US</dc:language>
  <cp:lastModifiedBy>Л</cp:lastModifiedBy>
  <dcterms:modified xsi:type="dcterms:W3CDTF">2016-08-09T12:02:35Z</dcterms:modified>
  <cp:revision>70</cp:revision>
  <dc:subject/>
  <dc:title>Исследовательская  работа   обучающегося 2 класса  МБОУ «Никифоровская средняя общеобразовательная школа №2»</dc:title>
</cp:coreProperties>
</file>