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D9AB-2D31-4D60-A8C9-5BB5A964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E4C-1C63-40B7-8163-D3E19EEA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2E6E-BB9F-4286-805A-CBCA27A9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7A7F-B270-4BAB-9E0D-B15CC625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4681-BCC5-4C29-9EDC-4F976FAB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362-FCDB-4494-BF64-1AB6CECD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E44-1EF7-400E-BDB0-EA6D1450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2E1-ED89-4141-B04E-1A269C55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F6E8-2C8F-4FF1-8F99-14012156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84D9-FCCD-4842-8AE3-FD308E78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356-DDF5-44AE-AC85-00682F22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0B04-2916-4E91-B85A-11137908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1081-A1D2-4A3C-9990-1081497F4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340000" y="549360"/>
            <a:ext cx="4228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ст по теме: 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жазовая музыка.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00240"/>
            <a:ext cx="9705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 какой стране зародился джаз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1019160"/>
            <a:ext cx="842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0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 каком инструменте играл Луи Армстронг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76560" y="5194440"/>
            <a:ext cx="441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874800"/>
            <a:ext cx="8280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1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кая самая известная песня Рея Чарльз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56200" y="497664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9640" y="1305000"/>
            <a:ext cx="8136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зовите несколько отличительных черт джаз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458136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93440" y="1233360"/>
            <a:ext cx="4804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ценив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 вопросов –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-10 вопросов –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-12 вопросов -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340000" y="549360"/>
            <a:ext cx="4228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ст по теме: 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жазовая музыка.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100240"/>
            <a:ext cx="9705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 какой стране зародился джаз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79480" y="5051520"/>
            <a:ext cx="635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 С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9640" y="1341360"/>
            <a:ext cx="8426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кой город стал центром   джазовой музы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87480" y="4960800"/>
            <a:ext cx="606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овый Орле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4000" y="1378080"/>
            <a:ext cx="882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кие две культуры соединили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 джазовой музы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476100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Европейская и Афроамерикан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9640" y="1162080"/>
            <a:ext cx="835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к произошло зарождение джаз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0133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Африканцев-рабов перевозили в трюмах кораблей в Амери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 заставляли петь, чтобы они не сговаривались и не поднимали мяте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х пение было очень необычно и привлекало колонизато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4360" y="1090440"/>
            <a:ext cx="82389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зовите  3 истока джа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Спиричуэ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Блю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Регтай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9640" y="1666800"/>
            <a:ext cx="804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Что такое спиричуэ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4456080"/>
            <a:ext cx="813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уховная песня афроамериканцев с религиозным сюже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1341360"/>
            <a:ext cx="8426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кой город стал центром   джазовой музы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5280" y="896760"/>
            <a:ext cx="8497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 вопро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ак назывались трудовые песни раб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 грустным печальным характер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7120" y="5553000"/>
            <a:ext cx="592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Блю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68360" y="87480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Регтайм в переводе означает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4689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Ломаный ритм, ломаное 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24000" y="803160"/>
            <a:ext cx="842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т какого бытового танца произошел регтай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553068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ake Walk –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огулка с пироже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50920" y="1019160"/>
            <a:ext cx="842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0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 каком инструменте играл Луи Армстронг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76560" y="5194440"/>
            <a:ext cx="441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Тру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68360" y="874800"/>
            <a:ext cx="8280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1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кая самая известная песня Рея Чарльз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17120" y="4976640"/>
            <a:ext cx="52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it the road J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9640" y="1305000"/>
            <a:ext cx="8136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зовите несколько отличительных черт джаз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16520" y="4600440"/>
            <a:ext cx="5423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жный рит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юзовая мелодия и гармо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кценты, синко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би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кач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ые, ударные инструменты и контраб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пров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1378080"/>
            <a:ext cx="882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кие две культуры соединили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 джазовой музы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4761000"/>
            <a:ext cx="856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1162080"/>
            <a:ext cx="835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к произошло зарождение джаз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01336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4360" y="1090440"/>
            <a:ext cx="8238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зовите  3 истока джа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9640" y="1666800"/>
            <a:ext cx="804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Что такое спиричуэ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4456080"/>
            <a:ext cx="8134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95280" y="896760"/>
            <a:ext cx="8497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 вопро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ак назывались трудовые песни раб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 грустным печальным характер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7120" y="5553000"/>
            <a:ext cx="5924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68360" y="87480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Регтайм в переводе означает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689360"/>
            <a:ext cx="882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4000" y="803160"/>
            <a:ext cx="842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т какого бытового танца произошел регтай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5530680"/>
            <a:ext cx="874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17:41:15Z</dcterms:created>
  <dc:creator>ACER</dc:creator>
  <dc:description/>
  <dc:language>en-US</dc:language>
  <cp:lastModifiedBy>ACER</cp:lastModifiedBy>
  <dcterms:modified xsi:type="dcterms:W3CDTF">2016-03-13T17:13:22Z</dcterms:modified>
  <cp:revision>3</cp:revision>
  <dc:subject/>
  <dc:title>Слайд 1</dc:title>
</cp:coreProperties>
</file>