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BE37-7B9F-4015-BFE4-4A25707F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83D-A1FD-4A24-9825-1F96D57E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89D6-F69A-469B-BFA6-8839158F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3A23-F678-4CE6-89FD-7333E666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5ADB-8274-4E1B-A96D-233AEFC2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F559-F483-4FEE-A31B-4D14CEB1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5B0D-32B7-4163-B76C-727AA432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83E7-6953-4D50-889F-36444976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CAFE-D65D-4C57-BEBB-715DFE28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55F9-E381-4E03-BBD2-A1B07AD2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58EC-56A4-4F68-A975-133900D0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C24A-A9B2-4CEF-B8E8-F3C314BF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51E0-66C2-4530-B0E6-8D77CD653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340000" y="549360"/>
            <a:ext cx="4228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ст по теме: 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жазовая музыка.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00240"/>
            <a:ext cx="9705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 какой стране зародился джаз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1019160"/>
            <a:ext cx="842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0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 каком инструменте играл Луи Армстронг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76560" y="5194440"/>
            <a:ext cx="441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874800"/>
            <a:ext cx="8280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1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кая самая известная песня Рея Чарльз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56200" y="497664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9640" y="1305000"/>
            <a:ext cx="8136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зовите несколько отличительных черт джаз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458136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93440" y="1233360"/>
            <a:ext cx="4804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ценив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 вопросов –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-10 вопросов –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-12 вопросов -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340000" y="549360"/>
            <a:ext cx="4228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ст по теме: 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жазовая музыка.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100240"/>
            <a:ext cx="9705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 какой стране зародился джаз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79480" y="5051520"/>
            <a:ext cx="635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 С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9640" y="1341360"/>
            <a:ext cx="8426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кой город стал центром   джазовой музы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87480" y="4960800"/>
            <a:ext cx="606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овый Орле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4000" y="1378080"/>
            <a:ext cx="882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кие две культуры соединили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 джазовой музы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476100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Европейская и Афроамерикан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9640" y="1162080"/>
            <a:ext cx="835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к произошло зарождение джаз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0133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Африканцев-рабов перевозили в трюмах кораблей в Амери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 заставляли петь, чтобы они не сговаривались и не поднимали мяте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х пение было очень необычно и привлекало колонизато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4360" y="1090440"/>
            <a:ext cx="82389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зовите  3 истока джа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Спиричуэ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Блю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Регтай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9640" y="1666800"/>
            <a:ext cx="804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Что такое спиричуэ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4456080"/>
            <a:ext cx="813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уховная песня афроамериканцев с религиозным сюже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1341360"/>
            <a:ext cx="8426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кой город стал центром   джазовой музы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5280" y="896760"/>
            <a:ext cx="8497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 вопро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ак назывались трудовые песни раб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 грустным печальным характер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7120" y="5553000"/>
            <a:ext cx="592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Блю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68360" y="87480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Регтайм в переводе означает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4689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Ломаный ритм, ломаное 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24000" y="803160"/>
            <a:ext cx="842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т какого бытового танца произошел регтай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553068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ake Walk –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огулка с пироже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50920" y="1019160"/>
            <a:ext cx="842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0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 каком инструменте играл Луи Армстронг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76560" y="5194440"/>
            <a:ext cx="441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Тру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68360" y="874800"/>
            <a:ext cx="8280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1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кая самая известная песня Рея Чарльз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17120" y="4976640"/>
            <a:ext cx="52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it the road J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9640" y="1305000"/>
            <a:ext cx="8136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зовите несколько отличительных черт джаз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16520" y="4600440"/>
            <a:ext cx="5423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жный рит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юзовая мелодия и гармо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кценты, синко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би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кач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ые, ударные инструменты и контраб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пров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1378080"/>
            <a:ext cx="882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кие две культуры соединили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 джазовой музы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4761000"/>
            <a:ext cx="856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1162080"/>
            <a:ext cx="835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к произошло зарождение джаз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01336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4360" y="1090440"/>
            <a:ext cx="8238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зовите  3 истока джа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9640" y="1666800"/>
            <a:ext cx="804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Что такое спиричуэ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4456080"/>
            <a:ext cx="8134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95280" y="896760"/>
            <a:ext cx="8497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 вопро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ак назывались трудовые песни раб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 грустным печальным характер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7120" y="5553000"/>
            <a:ext cx="5924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68360" y="87480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Регтайм в переводе означает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689360"/>
            <a:ext cx="882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4000" y="803160"/>
            <a:ext cx="842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т какого бытового танца произошел регтай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5530680"/>
            <a:ext cx="874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17:41:15Z</dcterms:created>
  <dc:creator>ACER</dc:creator>
  <dc:description/>
  <dc:language>en-US</dc:language>
  <cp:lastModifiedBy>ACER</cp:lastModifiedBy>
  <dcterms:modified xsi:type="dcterms:W3CDTF">2016-03-13T17:13:22Z</dcterms:modified>
  <cp:revision>3</cp:revision>
  <dc:subject/>
  <dc:title>Слайд 1</dc:title>
</cp:coreProperties>
</file>