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85D-1919-4EAB-A00C-C74FB780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AA0-7DED-4B10-84B8-7B62659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F04-F9D2-49EB-BFDA-EEFFF4D6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B96-6EC9-4BF6-BE01-60DD0851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2EC8-F7B0-41F8-B168-CF60EEB1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EE9B-2138-4BC3-8E47-2D790F03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DF42-9422-40A0-8B7C-9FE6DE7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46D3-06CF-4E07-ABB5-3F30AFA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5244-E616-414E-8869-57048C29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AB49-2BAA-4CA8-942A-E9D275A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C26-E58A-4DD6-B4EA-CE7E9F4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39D-0B62-4BDD-835F-B1476FA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39E4-1ED3-4444-8F6D-4A8C12CE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A08C-359A-4629-916F-5BBCC44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819E-3E8B-46A8-A181-591FDB5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72DC-B2E5-4DAF-83AE-B70FC22C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B34D-AE34-4747-8A63-80BCDBEA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4F57-9A53-4B38-9512-3B25D79C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49B2-D656-44A0-A602-1F53036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A05A-521E-4E46-9A06-BA31FC0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D2BE-2FED-476A-9F2E-F6545C81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549F-0033-4EE6-81CA-67E10A9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A1D-B4CD-4A4E-9D21-EE14A76D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AB08-B041-4D8B-9D29-558BAB4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225F-5D35-43CB-B0C1-F0E2430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B8E6-2364-4141-BFAF-40F8C43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E134E-1AA2-4CA7-AB2E-4EDB983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6079-02C5-4009-879A-359A5064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E922-CF90-4DEC-969D-EF2FBFE9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CBAB-A481-409E-8428-D042C277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945-E709-4F94-8161-EB1FAD2B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22D-A5E8-45FF-9E25-5EAFE8D1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7A6-B665-45AA-8930-490401A2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122-CF14-45CA-8739-85271F6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E0F-ADD8-4A86-BC06-DCB1141A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8B5-0C31-4981-8914-134F525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9E3F61-496B-4455-BA67-34E0711CA5E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D51918-7F5D-41F5-9013-75F8B8628C4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27D147-AC1F-4718-8BF5-B8842008CB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3240" y="12600"/>
            <a:ext cx="9140400" cy="6845040"/>
          </a:xfrm>
          <a:prstGeom prst="rect">
            <a:avLst/>
          </a:prstGeom>
          <a:ln w="0">
            <a:noFill/>
          </a:ln>
        </p:spPr>
      </p:pic>
      <p:sp>
        <p:nvSpPr>
          <p:cNvPr id="126" name="Picture 4"/>
          <p:cNvSpPr/>
          <p:nvPr/>
        </p:nvSpPr>
        <p:spPr>
          <a:xfrm>
            <a:off x="0" y="2133000"/>
            <a:ext cx="6355440" cy="440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icture 2"/>
          <p:cNvSpPr/>
          <p:nvPr/>
        </p:nvSpPr>
        <p:spPr>
          <a:xfrm>
            <a:off x="4212000" y="260640"/>
            <a:ext cx="4443840" cy="4146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mamamia.by/files/prostokvashino.jpg"/>
          <p:cNvPicPr/>
          <p:nvPr/>
        </p:nvPicPr>
        <p:blipFill>
          <a:blip r:embed="rId1"/>
          <a:stretch/>
        </p:blipFill>
        <p:spPr>
          <a:xfrm>
            <a:off x="1763640" y="620640"/>
            <a:ext cx="5377320" cy="5805000"/>
          </a:xfrm>
          <a:prstGeom prst="rect">
            <a:avLst/>
          </a:prstGeom>
          <a:ln w="0">
            <a:noFill/>
          </a:ln>
        </p:spPr>
      </p:pic>
      <p:pic>
        <p:nvPicPr>
          <p:cNvPr id="129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9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playcast.ru/uploads/2015/02/02/11910928.png"/>
          <p:cNvPicPr/>
          <p:nvPr/>
        </p:nvPicPr>
        <p:blipFill>
          <a:blip r:embed="rId1"/>
          <a:stretch/>
        </p:blipFill>
        <p:spPr>
          <a:xfrm>
            <a:off x="1259640" y="1124640"/>
            <a:ext cx="3673080" cy="2446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img0.reactor.cc/pics/comment/Anime-Lucky-Star-%D0%BA%D0%B0%D0%BA-%D0%B5%D0%B4%D1%8F%D1%82-%D1%88%D0%BE%D0%BA%D0%BE%D0%BB%D0%B0%D0%B4%D0%BD%D1%8B%D0%B9-%D1%80%D0%BE%D0%B3%D0%B0%D0%BB%D0%B8%D0%BA-1437054.jpeg"/>
          <p:cNvPicPr/>
          <p:nvPr/>
        </p:nvPicPr>
        <p:blipFill>
          <a:blip r:embed="rId2"/>
          <a:srcRect l="0" t="0" r="0" b="3958"/>
          <a:stretch/>
        </p:blipFill>
        <p:spPr>
          <a:xfrm>
            <a:off x="4932000" y="1268640"/>
            <a:ext cx="2160000" cy="199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www.korzinka.uz/upload/iblock/aa7/aa7a1f4df77fa399333746f37c95a426.jpeg"/>
          <p:cNvPicPr/>
          <p:nvPr/>
        </p:nvPicPr>
        <p:blipFill>
          <a:blip r:embed="rId3"/>
          <a:srcRect l="12854" t="18142" r="11545" b="25154"/>
          <a:stretch/>
        </p:blipFill>
        <p:spPr>
          <a:xfrm>
            <a:off x="1691640" y="3501000"/>
            <a:ext cx="2952000" cy="221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http://ipovar.su/wp-content/uploads/2015/10/klubnika.jpg"/>
          <p:cNvPicPr/>
          <p:nvPr/>
        </p:nvPicPr>
        <p:blipFill>
          <a:blip r:embed="rId4"/>
          <a:stretch/>
        </p:blipFill>
        <p:spPr>
          <a:xfrm>
            <a:off x="4500000" y="3501000"/>
            <a:ext cx="3011040" cy="2258280"/>
          </a:xfrm>
          <a:prstGeom prst="rect">
            <a:avLst/>
          </a:prstGeom>
          <a:ln w="0">
            <a:noFill/>
          </a:ln>
        </p:spPr>
      </p:pic>
      <p:pic>
        <p:nvPicPr>
          <p:cNvPr id="134" name="Объект 3" descr=""/>
          <p:cNvPicPr/>
          <p:nvPr/>
        </p:nvPicPr>
        <p:blipFill>
          <a:blip r:embed="rId5"/>
          <a:stretch/>
        </p:blipFill>
        <p:spPr>
          <a:xfrm>
            <a:off x="0" y="-63360"/>
            <a:ext cx="9143640" cy="69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i.allday.ru/uploads/posts/2009-06/1245703744_cheese02.jpg"/>
          <p:cNvPicPr/>
          <p:nvPr/>
        </p:nvPicPr>
        <p:blipFill>
          <a:blip r:embed="rId1"/>
          <a:srcRect l="0" t="0" r="596" b="3522"/>
          <a:stretch/>
        </p:blipFill>
        <p:spPr>
          <a:xfrm>
            <a:off x="2339640" y="1484640"/>
            <a:ext cx="2160000" cy="203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sfera.fm/content/7141dc6c90e847c9925c39ec9d25d13b.jpg"/>
          <p:cNvPicPr/>
          <p:nvPr/>
        </p:nvPicPr>
        <p:blipFill>
          <a:blip r:embed="rId2"/>
          <a:srcRect l="11556" t="0" r="12189" b="0"/>
          <a:stretch/>
        </p:blipFill>
        <p:spPr>
          <a:xfrm>
            <a:off x="4356000" y="1700640"/>
            <a:ext cx="2170080" cy="194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e-h-b-zdorov.ru/wp-content/uploads/2014/09/1.jpg"/>
          <p:cNvPicPr/>
          <p:nvPr/>
        </p:nvPicPr>
        <p:blipFill>
          <a:blip r:embed="rId3"/>
          <a:stretch/>
        </p:blipFill>
        <p:spPr>
          <a:xfrm>
            <a:off x="4500000" y="3501000"/>
            <a:ext cx="2088000" cy="208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dieta-kremlin.ru/netcat_files/108/151/iog25.jpg"/>
          <p:cNvPicPr/>
          <p:nvPr/>
        </p:nvPicPr>
        <p:blipFill>
          <a:blip r:embed="rId4"/>
          <a:stretch/>
        </p:blipFill>
        <p:spPr>
          <a:xfrm>
            <a:off x="2411640" y="357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39" name="Объект 3" descr=""/>
          <p:cNvPicPr/>
          <p:nvPr/>
        </p:nvPicPr>
        <p:blipFill>
          <a:blip r:embed="rId5"/>
          <a:stretch/>
        </p:blipFill>
        <p:spPr>
          <a:xfrm>
            <a:off x="0" y="-63360"/>
            <a:ext cx="9143640" cy="69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specialfood.ru/wp-content/uploads/2015/10/shutterstock_129827573-900x725.jpg"/>
          <p:cNvPicPr/>
          <p:nvPr/>
        </p:nvPicPr>
        <p:blipFill>
          <a:blip r:embed="rId1"/>
          <a:stretch/>
        </p:blipFill>
        <p:spPr>
          <a:xfrm>
            <a:off x="1882440" y="1556640"/>
            <a:ext cx="2554560" cy="2057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vsesamfo.ru/images/sypi/borsh.jpg"/>
          <p:cNvPicPr/>
          <p:nvPr/>
        </p:nvPicPr>
        <p:blipFill>
          <a:blip r:embed="rId2"/>
          <a:stretch/>
        </p:blipFill>
        <p:spPr>
          <a:xfrm>
            <a:off x="2051640" y="3717000"/>
            <a:ext cx="2706480" cy="180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img0.reactor.cc/pics/post/full/%D0%9C%D0%BE%D1%8F-%D0%A3%D0%BA%D1%80%D0%B0%D1%97%D0%BD%D0%B0-%D1%80%D0%B0%D0%B7%D0%BD%D0%BE%D0%B5-%D0%B2%D0%B0%D1%80%D0%B5%D0%BD%D0%B8%D0%BA%D0%B8-%D0%B5%D0%B4%D0%B0-1479566.jpeg"/>
          <p:cNvPicPr/>
          <p:nvPr/>
        </p:nvPicPr>
        <p:blipFill>
          <a:blip r:embed="rId3"/>
          <a:stretch/>
        </p:blipFill>
        <p:spPr>
          <a:xfrm>
            <a:off x="4644000" y="1628640"/>
            <a:ext cx="265752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gemorroyplus2016.ru/articles/wp-content/uploads/2016/01/38486850-mannaya-kasha-pri-gemorroe.jpg"/>
          <p:cNvPicPr/>
          <p:nvPr/>
        </p:nvPicPr>
        <p:blipFill>
          <a:blip r:embed="rId4"/>
          <a:stretch/>
        </p:blipFill>
        <p:spPr>
          <a:xfrm>
            <a:off x="4905360" y="3636720"/>
            <a:ext cx="2459880" cy="1645560"/>
          </a:xfrm>
          <a:prstGeom prst="rect">
            <a:avLst/>
          </a:prstGeom>
          <a:ln w="0">
            <a:noFill/>
          </a:ln>
        </p:spPr>
      </p:pic>
      <p:pic>
        <p:nvPicPr>
          <p:cNvPr id="144" name="Объект 3" descr=""/>
          <p:cNvPicPr/>
          <p:nvPr/>
        </p:nvPicPr>
        <p:blipFill>
          <a:blip r:embed="rId5"/>
          <a:stretch/>
        </p:blipFill>
        <p:spPr>
          <a:xfrm>
            <a:off x="0" y="0"/>
            <a:ext cx="9154800" cy="69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two-worlds.ru/wp-content/uploads/2015/03/3508.jpg"/>
          <p:cNvPicPr/>
          <p:nvPr/>
        </p:nvPicPr>
        <p:blipFill>
          <a:blip r:embed="rId1"/>
          <a:stretch/>
        </p:blipFill>
        <p:spPr>
          <a:xfrm>
            <a:off x="2400120" y="3439080"/>
            <a:ext cx="2232000" cy="154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kofe-kofe.ru/img/186/186745.jpg"/>
          <p:cNvPicPr/>
          <p:nvPr/>
        </p:nvPicPr>
        <p:blipFill>
          <a:blip r:embed="rId2"/>
          <a:srcRect l="26701" t="0" r="21581" b="0"/>
          <a:stretch/>
        </p:blipFill>
        <p:spPr>
          <a:xfrm>
            <a:off x="2339640" y="1484640"/>
            <a:ext cx="2808000" cy="2019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estisib.ru/wp-content/uploads/2011/09/tomat-806.jpg"/>
          <p:cNvPicPr/>
          <p:nvPr/>
        </p:nvPicPr>
        <p:blipFill>
          <a:blip r:embed="rId3"/>
          <a:srcRect l="9170" t="9172" r="12883" b="0"/>
          <a:stretch/>
        </p:blipFill>
        <p:spPr>
          <a:xfrm>
            <a:off x="4644000" y="3285000"/>
            <a:ext cx="2448000" cy="213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static.chance.ru/sites/default/files/styles/big_photo_gallery/public/images/luk.jpg?itok=oYtcwD9f"/>
          <p:cNvPicPr/>
          <p:nvPr/>
        </p:nvPicPr>
        <p:blipFill>
          <a:blip r:embed="rId4"/>
          <a:srcRect l="29995" t="0" r="23327" b="13331"/>
          <a:stretch/>
        </p:blipFill>
        <p:spPr>
          <a:xfrm>
            <a:off x="5292000" y="1196640"/>
            <a:ext cx="1007640" cy="1872000"/>
          </a:xfrm>
          <a:prstGeom prst="rect">
            <a:avLst/>
          </a:prstGeom>
          <a:ln w="0">
            <a:noFill/>
          </a:ln>
        </p:spPr>
      </p:pic>
      <p:pic>
        <p:nvPicPr>
          <p:cNvPr id="149" name="Объект 3" descr=""/>
          <p:cNvPicPr/>
          <p:nvPr/>
        </p:nvPicPr>
        <p:blipFill>
          <a:blip r:embed="rId5"/>
          <a:stretch/>
        </p:blipFill>
        <p:spPr>
          <a:xfrm>
            <a:off x="0" y="0"/>
            <a:ext cx="9154800" cy="69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pics.ru/wp-content/uploads/2015/11/matros.jpg"/>
          <p:cNvPicPr/>
          <p:nvPr/>
        </p:nvPicPr>
        <p:blipFill>
          <a:blip r:embed="rId1"/>
          <a:stretch/>
        </p:blipFill>
        <p:spPr>
          <a:xfrm>
            <a:off x="395640" y="836640"/>
            <a:ext cx="8195760" cy="564480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cs6.pikabu.ru/images/big_size_comm/2015-05_2/14311793496504.jpg"/>
          <p:cNvPicPr/>
          <p:nvPr/>
        </p:nvPicPr>
        <p:blipFill>
          <a:blip r:embed="rId1"/>
          <a:stretch/>
        </p:blipFill>
        <p:spPr>
          <a:xfrm>
            <a:off x="971640" y="0"/>
            <a:ext cx="7128360" cy="6708960"/>
          </a:xfrm>
          <a:prstGeom prst="rect">
            <a:avLst/>
          </a:prstGeom>
          <a:ln w="0">
            <a:noFill/>
          </a:ln>
        </p:spPr>
      </p:pic>
      <p:pic>
        <p:nvPicPr>
          <p:cNvPr id="153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mir-skazok.net/wp-content/uploads/2012/02/371.jpg"/>
          <p:cNvPicPr/>
          <p:nvPr/>
        </p:nvPicPr>
        <p:blipFill>
          <a:blip r:embed="rId1"/>
          <a:srcRect l="0" t="27981" r="0" b="18525"/>
          <a:stretch/>
        </p:blipFill>
        <p:spPr>
          <a:xfrm>
            <a:off x="0" y="548640"/>
            <a:ext cx="8928720" cy="6045480"/>
          </a:xfrm>
          <a:prstGeom prst="rect">
            <a:avLst/>
          </a:prstGeom>
          <a:ln w="0">
            <a:noFill/>
          </a:ln>
        </p:spPr>
      </p:pic>
      <p:pic>
        <p:nvPicPr>
          <p:cNvPr id="155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8:48:27Z</dcterms:created>
  <dc:creator>Снежана</dc:creator>
  <dc:description/>
  <dc:language>en-US</dc:language>
  <cp:lastModifiedBy>Microsoft</cp:lastModifiedBy>
  <dcterms:modified xsi:type="dcterms:W3CDTF">2016-05-21T09:44:37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