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524-1EF1-4D7A-96B2-E22CA6F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3AC-7ACE-4F50-980E-23618CF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977-49CB-4DA1-8D13-B0623588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DDE-7E09-4BD8-A6F4-3D660926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538-DDAE-4FAC-B06C-5CF601F6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18BD-D31F-4283-A5C5-6C6731A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28D5-F2A2-432E-BC53-A75653E5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C6D3-5C02-41AC-99E8-EA1505B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1A4-7E3C-4D95-91F4-7308712F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A2EC-1E6D-413F-B98A-FF9AEC9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F7F-4486-425B-90E8-95F1976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731-A31E-4EBF-825A-6F0C279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64D3-EDF8-4812-B4DB-192DE94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23C-7940-4D79-BC12-5CE2BC7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C717-82A5-4C3B-9A50-D4F8866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A618-E999-4802-AB2C-8BE35289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C3C-97AD-4A22-B73F-8A1C45D7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985A-D5EF-458F-9DF6-5728484E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E11C-44EF-411F-AFE9-5CCC53FB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194F-7DB2-404D-8342-7DEA11C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28D2-C62D-408D-A0B6-7E35C28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30E4-05B0-40E3-B5DD-A82FE70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8CE-F31E-4A77-9F02-7C61A10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10B2-3629-4DB2-843F-3B5EDCA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A664-E520-4CA3-8481-90C8203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F055-3E38-4296-A9BC-0EAC46C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FCC4-44FC-4407-B931-9933432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4167-F136-4F96-B2A3-2818DAE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AE95-A4AF-4D74-8A24-1CAAA19D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59BF-C411-4524-81FF-6B24D310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1D8-5C49-46BF-9606-5247837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930-203C-40D4-A618-7180F2E0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74D-718A-4825-AA13-5F603D2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1D4-0F11-45A7-AF34-41BB8DD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820-7832-460E-8D87-D04C74CD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F4-58E5-4988-8907-2111C633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4B0E31-B73D-46B2-9FE1-691742E50B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EC0DAF-17F2-4384-BBBF-A58B5A1F49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1E023F-F2E2-4600-BA65-BD4C5962A0A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3240" y="12600"/>
            <a:ext cx="9140400" cy="6845040"/>
          </a:xfrm>
          <a:prstGeom prst="rect">
            <a:avLst/>
          </a:prstGeom>
          <a:ln w="0">
            <a:noFill/>
          </a:ln>
        </p:spPr>
      </p:pic>
      <p:sp>
        <p:nvSpPr>
          <p:cNvPr id="126" name="Picture 4"/>
          <p:cNvSpPr/>
          <p:nvPr/>
        </p:nvSpPr>
        <p:spPr>
          <a:xfrm>
            <a:off x="0" y="2133000"/>
            <a:ext cx="6355440" cy="440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icture 2"/>
          <p:cNvSpPr/>
          <p:nvPr/>
        </p:nvSpPr>
        <p:spPr>
          <a:xfrm>
            <a:off x="4212000" y="260640"/>
            <a:ext cx="4443840" cy="4146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mamamia.by/files/prostokvashino.jpg"/>
          <p:cNvPicPr/>
          <p:nvPr/>
        </p:nvPicPr>
        <p:blipFill>
          <a:blip r:embed="rId1"/>
          <a:stretch/>
        </p:blipFill>
        <p:spPr>
          <a:xfrm>
            <a:off x="1763640" y="620640"/>
            <a:ext cx="5377320" cy="5805000"/>
          </a:xfrm>
          <a:prstGeom prst="rect">
            <a:avLst/>
          </a:prstGeom>
          <a:ln w="0">
            <a:noFill/>
          </a:ln>
        </p:spPr>
      </p:pic>
      <p:pic>
        <p:nvPicPr>
          <p:cNvPr id="129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playcast.ru/uploads/2015/02/02/11910928.png"/>
          <p:cNvPicPr/>
          <p:nvPr/>
        </p:nvPicPr>
        <p:blipFill>
          <a:blip r:embed="rId1"/>
          <a:stretch/>
        </p:blipFill>
        <p:spPr>
          <a:xfrm>
            <a:off x="1259640" y="1124640"/>
            <a:ext cx="3673080" cy="244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img0.reactor.cc/pics/comment/Anime-Lucky-Star-%D0%BA%D0%B0%D0%BA-%D0%B5%D0%B4%D1%8F%D1%82-%D1%88%D0%BE%D0%BA%D0%BE%D0%BB%D0%B0%D0%B4%D0%BD%D1%8B%D0%B9-%D1%80%D0%BE%D0%B3%D0%B0%D0%BB%D0%B8%D0%BA-1437054.jpeg"/>
          <p:cNvPicPr/>
          <p:nvPr/>
        </p:nvPicPr>
        <p:blipFill>
          <a:blip r:embed="rId2"/>
          <a:srcRect l="0" t="0" r="0" b="3958"/>
          <a:stretch/>
        </p:blipFill>
        <p:spPr>
          <a:xfrm>
            <a:off x="4932000" y="1268640"/>
            <a:ext cx="2160000" cy="199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www.korzinka.uz/upload/iblock/aa7/aa7a1f4df77fa399333746f37c95a426.jpeg"/>
          <p:cNvPicPr/>
          <p:nvPr/>
        </p:nvPicPr>
        <p:blipFill>
          <a:blip r:embed="rId3"/>
          <a:srcRect l="12854" t="18142" r="11545" b="25154"/>
          <a:stretch/>
        </p:blipFill>
        <p:spPr>
          <a:xfrm>
            <a:off x="1691640" y="3501000"/>
            <a:ext cx="2952000" cy="221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ttp://ipovar.su/wp-content/uploads/2015/10/klubnika.jpg"/>
          <p:cNvPicPr/>
          <p:nvPr/>
        </p:nvPicPr>
        <p:blipFill>
          <a:blip r:embed="rId4"/>
          <a:stretch/>
        </p:blipFill>
        <p:spPr>
          <a:xfrm>
            <a:off x="4500000" y="3501000"/>
            <a:ext cx="3011040" cy="225828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3" descr=""/>
          <p:cNvPicPr/>
          <p:nvPr/>
        </p:nvPicPr>
        <p:blipFill>
          <a:blip r:embed="rId5"/>
          <a:stretch/>
        </p:blipFill>
        <p:spPr>
          <a:xfrm>
            <a:off x="0" y="-6336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i.allday.ru/uploads/posts/2009-06/1245703744_cheese02.jpg"/>
          <p:cNvPicPr/>
          <p:nvPr/>
        </p:nvPicPr>
        <p:blipFill>
          <a:blip r:embed="rId1"/>
          <a:srcRect l="0" t="0" r="596" b="3522"/>
          <a:stretch/>
        </p:blipFill>
        <p:spPr>
          <a:xfrm>
            <a:off x="2339640" y="1484640"/>
            <a:ext cx="2160000" cy="203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sfera.fm/content/7141dc6c90e847c9925c39ec9d25d13b.jpg"/>
          <p:cNvPicPr/>
          <p:nvPr/>
        </p:nvPicPr>
        <p:blipFill>
          <a:blip r:embed="rId2"/>
          <a:srcRect l="11556" t="0" r="12189" b="0"/>
          <a:stretch/>
        </p:blipFill>
        <p:spPr>
          <a:xfrm>
            <a:off x="4356000" y="1700640"/>
            <a:ext cx="2170080" cy="194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e-h-b-zdorov.ru/wp-content/uploads/2014/09/1.jpg"/>
          <p:cNvPicPr/>
          <p:nvPr/>
        </p:nvPicPr>
        <p:blipFill>
          <a:blip r:embed="rId3"/>
          <a:stretch/>
        </p:blipFill>
        <p:spPr>
          <a:xfrm>
            <a:off x="4500000" y="3501000"/>
            <a:ext cx="2088000" cy="20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dieta-kremlin.ru/netcat_files/108/151/iog25.jpg"/>
          <p:cNvPicPr/>
          <p:nvPr/>
        </p:nvPicPr>
        <p:blipFill>
          <a:blip r:embed="rId4"/>
          <a:stretch/>
        </p:blipFill>
        <p:spPr>
          <a:xfrm>
            <a:off x="2411640" y="357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Объект 3" descr=""/>
          <p:cNvPicPr/>
          <p:nvPr/>
        </p:nvPicPr>
        <p:blipFill>
          <a:blip r:embed="rId5"/>
          <a:stretch/>
        </p:blipFill>
        <p:spPr>
          <a:xfrm>
            <a:off x="0" y="-6336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specialfood.ru/wp-content/uploads/2015/10/shutterstock_129827573-900x725.jpg"/>
          <p:cNvPicPr/>
          <p:nvPr/>
        </p:nvPicPr>
        <p:blipFill>
          <a:blip r:embed="rId1"/>
          <a:stretch/>
        </p:blipFill>
        <p:spPr>
          <a:xfrm>
            <a:off x="1882440" y="1556640"/>
            <a:ext cx="2554560" cy="205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vsesamfo.ru/images/sypi/borsh.jpg"/>
          <p:cNvPicPr/>
          <p:nvPr/>
        </p:nvPicPr>
        <p:blipFill>
          <a:blip r:embed="rId2"/>
          <a:stretch/>
        </p:blipFill>
        <p:spPr>
          <a:xfrm>
            <a:off x="2051640" y="3717000"/>
            <a:ext cx="2706480" cy="180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img0.reactor.cc/pics/post/full/%D0%9C%D0%BE%D1%8F-%D0%A3%D0%BA%D1%80%D0%B0%D1%97%D0%BD%D0%B0-%D1%80%D0%B0%D0%B7%D0%BD%D0%BE%D0%B5-%D0%B2%D0%B0%D1%80%D0%B5%D0%BD%D0%B8%D0%BA%D0%B8-%D0%B5%D0%B4%D0%B0-1479566.jpeg"/>
          <p:cNvPicPr/>
          <p:nvPr/>
        </p:nvPicPr>
        <p:blipFill>
          <a:blip r:embed="rId3"/>
          <a:stretch/>
        </p:blipFill>
        <p:spPr>
          <a:xfrm>
            <a:off x="4644000" y="1628640"/>
            <a:ext cx="265752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gemorroyplus2016.ru/articles/wp-content/uploads/2016/01/38486850-mannaya-kasha-pri-gemorroe.jpg"/>
          <p:cNvPicPr/>
          <p:nvPr/>
        </p:nvPicPr>
        <p:blipFill>
          <a:blip r:embed="rId4"/>
          <a:stretch/>
        </p:blipFill>
        <p:spPr>
          <a:xfrm>
            <a:off x="4905360" y="3636720"/>
            <a:ext cx="2459880" cy="1645560"/>
          </a:xfrm>
          <a:prstGeom prst="rect">
            <a:avLst/>
          </a:prstGeom>
          <a:ln w="0">
            <a:noFill/>
          </a:ln>
        </p:spPr>
      </p:pic>
      <p:pic>
        <p:nvPicPr>
          <p:cNvPr id="144" name="Объект 3" descr=""/>
          <p:cNvPicPr/>
          <p:nvPr/>
        </p:nvPicPr>
        <p:blipFill>
          <a:blip r:embed="rId5"/>
          <a:stretch/>
        </p:blipFill>
        <p:spPr>
          <a:xfrm>
            <a:off x="0" y="0"/>
            <a:ext cx="9154800" cy="69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two-worlds.ru/wp-content/uploads/2015/03/3508.jpg"/>
          <p:cNvPicPr/>
          <p:nvPr/>
        </p:nvPicPr>
        <p:blipFill>
          <a:blip r:embed="rId1"/>
          <a:stretch/>
        </p:blipFill>
        <p:spPr>
          <a:xfrm>
            <a:off x="2400120" y="3439080"/>
            <a:ext cx="2232000" cy="154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kofe-kofe.ru/img/186/186745.jpg"/>
          <p:cNvPicPr/>
          <p:nvPr/>
        </p:nvPicPr>
        <p:blipFill>
          <a:blip r:embed="rId2"/>
          <a:srcRect l="26701" t="0" r="21581" b="0"/>
          <a:stretch/>
        </p:blipFill>
        <p:spPr>
          <a:xfrm>
            <a:off x="2339640" y="1484640"/>
            <a:ext cx="2808000" cy="2019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estisib.ru/wp-content/uploads/2011/09/tomat-806.jpg"/>
          <p:cNvPicPr/>
          <p:nvPr/>
        </p:nvPicPr>
        <p:blipFill>
          <a:blip r:embed="rId3"/>
          <a:srcRect l="9170" t="9172" r="12883" b="0"/>
          <a:stretch/>
        </p:blipFill>
        <p:spPr>
          <a:xfrm>
            <a:off x="4644000" y="3285000"/>
            <a:ext cx="2448000" cy="213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static.chance.ru/sites/default/files/styles/big_photo_gallery/public/images/luk.jpg?itok=oYtcwD9f"/>
          <p:cNvPicPr/>
          <p:nvPr/>
        </p:nvPicPr>
        <p:blipFill>
          <a:blip r:embed="rId4"/>
          <a:srcRect l="29995" t="0" r="23327" b="13331"/>
          <a:stretch/>
        </p:blipFill>
        <p:spPr>
          <a:xfrm>
            <a:off x="5292000" y="1196640"/>
            <a:ext cx="1007640" cy="1872000"/>
          </a:xfrm>
          <a:prstGeom prst="rect">
            <a:avLst/>
          </a:prstGeom>
          <a:ln w="0">
            <a:noFill/>
          </a:ln>
        </p:spPr>
      </p:pic>
      <p:pic>
        <p:nvPicPr>
          <p:cNvPr id="149" name="Объект 3" descr=""/>
          <p:cNvPicPr/>
          <p:nvPr/>
        </p:nvPicPr>
        <p:blipFill>
          <a:blip r:embed="rId5"/>
          <a:stretch/>
        </p:blipFill>
        <p:spPr>
          <a:xfrm>
            <a:off x="0" y="0"/>
            <a:ext cx="9154800" cy="69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pics.ru/wp-content/uploads/2015/11/matros.jpg"/>
          <p:cNvPicPr/>
          <p:nvPr/>
        </p:nvPicPr>
        <p:blipFill>
          <a:blip r:embed="rId1"/>
          <a:stretch/>
        </p:blipFill>
        <p:spPr>
          <a:xfrm>
            <a:off x="395640" y="836640"/>
            <a:ext cx="8195760" cy="564480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cs6.pikabu.ru/images/big_size_comm/2015-05_2/14311793496504.jpg"/>
          <p:cNvPicPr/>
          <p:nvPr/>
        </p:nvPicPr>
        <p:blipFill>
          <a:blip r:embed="rId1"/>
          <a:stretch/>
        </p:blipFill>
        <p:spPr>
          <a:xfrm>
            <a:off x="971640" y="0"/>
            <a:ext cx="7128360" cy="6708960"/>
          </a:xfrm>
          <a:prstGeom prst="rect">
            <a:avLst/>
          </a:prstGeom>
          <a:ln w="0">
            <a:noFill/>
          </a:ln>
        </p:spPr>
      </p:pic>
      <p:pic>
        <p:nvPicPr>
          <p:cNvPr id="153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mir-skazok.net/wp-content/uploads/2012/02/371.jpg"/>
          <p:cNvPicPr/>
          <p:nvPr/>
        </p:nvPicPr>
        <p:blipFill>
          <a:blip r:embed="rId1"/>
          <a:srcRect l="0" t="27981" r="0" b="18525"/>
          <a:stretch/>
        </p:blipFill>
        <p:spPr>
          <a:xfrm>
            <a:off x="0" y="548640"/>
            <a:ext cx="8928720" cy="6045480"/>
          </a:xfrm>
          <a:prstGeom prst="rect">
            <a:avLst/>
          </a:prstGeom>
          <a:ln w="0">
            <a:noFill/>
          </a:ln>
        </p:spPr>
      </p:pic>
      <p:pic>
        <p:nvPicPr>
          <p:cNvPr id="155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8:48:27Z</dcterms:created>
  <dc:creator>Снежана</dc:creator>
  <dc:description/>
  <dc:language>en-US</dc:language>
  <cp:lastModifiedBy>Microsoft</cp:lastModifiedBy>
  <dcterms:modified xsi:type="dcterms:W3CDTF">2016-05-21T09:44:37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