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488-3605-4100-90CF-94463BC5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5D2F-E675-4894-9B71-828D0754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BAAB-F500-4EE1-AB9E-766A0DF4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2D39-006B-4AF1-BF11-2678FEF3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E7FB-1856-4AD7-B1E7-D6FEA5EB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6C21-CF66-4A5B-BFC7-15172C54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B999-AB14-4727-9F61-9466B368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EB66-5553-4198-96B1-D76BA10F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4031-94F0-4C0E-9E33-108EC500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2865-02AB-40EC-AF75-83F73552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E398-5B0E-47BA-B519-79C1E2F2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D3ED-21B3-4C39-8C28-276F3226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1352-021E-45F2-91C0-7DF46060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1966-E658-4AA5-9F86-18F3045B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9DC3-CAAD-44CA-A958-480B6E6B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BF0E-7A09-4E94-99B2-CB8D697C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7673-DAB8-4AE7-9614-7DFAE8ED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81CF-4A8D-4825-A878-60D59B11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208-CC61-4C03-B35D-168DC2F1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EC5-F702-42FF-AAD4-AF65DA1D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DFC0-B843-4380-A7D1-BA471C1C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58B7-E88A-4A71-9B96-D9F78427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63E-2DF9-422F-91B4-F71301C9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08B-3F73-4DE0-BE0A-B6D92024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DAEE-C6E2-44E5-8223-24D3A95272F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B52C-B439-46B5-AD3D-DB3CA1BEC68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2268000" y="5373720"/>
            <a:ext cx="511524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ГКОУ МО для детей-сирот и детей, оставшихся без попечения родителей, «Непоседы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333360"/>
            <a:ext cx="669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  <a:ea typeface="Arial"/>
              </a:rPr>
              <a:t>МЕТОД СОЦИОМЕТРИЧЕСКИХ ИЗМЕРЕНИЙ (СОЦИОМЕТРИЯ)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10400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-360" y="620640"/>
            <a:ext cx="81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Первый шаг – составление социоматриц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Вначале следует построить простейшую социоматрицу. Пример показан на рисунке (см. ниже)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Результаты выборов разносятся по матрице с помощью условных обозначений (+ и -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74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2" descr="&amp;Pcy;&amp;rcy;&amp;icy;&amp;mcy;&amp;iecy;&amp;rcy; &amp;scy;&amp;ocy;&amp;tscy;&amp;icy;&amp;ocy;&amp;mcy;&amp;acy;&amp;tcy;&amp;rcy;&amp;icy;&amp;tscy;&amp;ycy; &amp;dcy;&amp;lcy;&amp;yacy; &amp;gcy;&amp;rcy;&amp;ucy;&amp;pcy;&amp;pcy;&amp;ycy; &amp;ucy;&amp;chcy;&amp;acy;&amp;scy;&amp;tcy;&amp;ncy;&amp;icy;&amp;kcy;&amp;ocy;&amp;vcy;"/>
          <p:cNvPicPr/>
          <p:nvPr/>
        </p:nvPicPr>
        <p:blipFill>
          <a:blip r:embed="rId1"/>
          <a:stretch/>
        </p:blipFill>
        <p:spPr>
          <a:xfrm>
            <a:off x="2556000" y="1700280"/>
            <a:ext cx="6019560" cy="4981680"/>
          </a:xfrm>
          <a:prstGeom prst="rect">
            <a:avLst/>
          </a:prstGeom>
          <a:ln w="0">
            <a:noFill/>
          </a:ln>
        </p:spPr>
      </p:pic>
      <p:sp>
        <p:nvSpPr>
          <p:cNvPr id="180" name="Подзаголовок 2"/>
          <p:cNvSpPr/>
          <p:nvPr/>
        </p:nvSpPr>
        <p:spPr>
          <a:xfrm>
            <a:off x="539640" y="115920"/>
            <a:ext cx="741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80"/>
                </a:solidFill>
                <a:latin typeface="Comic Sans MS"/>
                <a:ea typeface="Arial"/>
              </a:rPr>
              <a:t>ОБРОБОТКА ДАННЫХ</a:t>
            </a:r>
            <a:r>
              <a:rPr b="0" lang="en-US" sz="30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11280" y="620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Социоматрица – это таблица, в которую вносятся результаты опроса . В эту таблицу вносятся имена всех членов группы, присваиваются им номера по порядку в списке. Данные номера заносятся в таблицу по горизонтали и вертикали, клетки пересечения одинаковых номеров заштриховывают. На основании матрицы путем подсчета выборов определяется, какое количество выборов получил каждый член группы и сколько взаимных выборов он имеет. Взаимные выборы обводятся кружком или полукругом (если взаимность неполная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Подзаголовок 2"/>
          <p:cNvSpPr/>
          <p:nvPr/>
        </p:nvSpPr>
        <p:spPr>
          <a:xfrm>
            <a:off x="539640" y="115920"/>
            <a:ext cx="741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Comic Sans MS"/>
                <a:ea typeface="Arial"/>
              </a:rPr>
              <a:t>ОБРОБОТКА ДАННЫХ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771640" y="4221000"/>
            <a:ext cx="329256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Анализ полученных дает представление о социометрической структуре группы, которая заключается в распределении членов группы по четырем статусным категориям: «звезды» (более 5 выборов), «предпочитаемые» (от 3 до 5 выборов), «принятые» (1 – 2 выбора), «изолированные» (не имеют ни одного выбора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Первые две категории считаются благоприятными, две последние – неблагоприятными. Соотношение суммарных величин благоприятных и неблагоприятных статусных категорий дает представление об уровне благополучия взаимоотношений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59280" y="2924280"/>
            <a:ext cx="3384720" cy="2259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195640" y="5300640"/>
            <a:ext cx="2286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Если большинство детей группы оказывается в благоприятных статусных категориях уровень благополучия взаимоотношений определяется как высокий; при одинаковом взаимоотношении – как средний; при преобладании в группе членов с неблагоприятным статусом – как низк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Низкий уровень благополучия взаимоотношений является сигналом тревоги, означающим эмоциональное неблагополучие большинства детей в системе взаимоотношений со сверстниками в групп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908000" y="4467240"/>
            <a:ext cx="2880000" cy="19479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078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0" y="40428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Анализ социоматрицы по каждому критерию дает достаточно наглядную картину взаимоотношений в групп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Могут быть построены суммарные социоматрицы, дающие картину выборов по нескольким критериям, а также социоматрицы по данным межгрупповых выборов. (В качестве перспективной задачи - возможность объединения данных по двум и более критериям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Comic Sans MS"/>
              </a:rPr>
              <a:t>Основное достоинство социоматрицы 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- возможность представить выборы в числовом виде, что в свою очередь позволяет проранжировать членов группы по числу полученных и отданных выборов, установить порядок влияний в группе. На основе социоматрицы строится социограмма - карта социометрических выборов (социометрическая карта), производится расчет социометрических индекс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771640" y="4292640"/>
            <a:ext cx="32212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0" y="620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ffe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ef66"/>
                </a:solidFill>
                <a:latin typeface="Comic Sans MS"/>
              </a:rPr>
              <a:t>Социограмма - схематическое изображение реакции испытуемых друг на друга при ответах на социометрический критерий. Социограмма позволяет произвести сравнительный анализ структуры взаимоотношений в группе в пространстве на некоторой плоскости («щите») с помощью специальных знаков (см. рис.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2" descr="&amp;Pcy;&amp;rcy;&amp;icy;&amp;mcy;&amp;iecy;&amp;rcy; &amp;scy;&amp;ocy;&amp;tscy;&amp;icy;&amp;ocy;&amp;gcy;&amp;rcy;&amp;acy;&amp;mcy;&amp;mcy;&amp;ycy;, &amp;pcy;&amp;ocy;&amp;lcy;&amp;ucy;&amp;chcy;&amp;iecy;&amp;ncy;&amp;ncy;&amp;ycy;&amp;jcy; &amp;scy; &amp;pcy;&amp;ocy;&amp;mcy;&amp;ocy;&amp;shchcy;&amp;softcy;&amp;yucy; SociometryPro"/>
          <p:cNvPicPr/>
          <p:nvPr/>
        </p:nvPicPr>
        <p:blipFill>
          <a:blip r:embed="rId1"/>
          <a:stretch/>
        </p:blipFill>
        <p:spPr>
          <a:xfrm>
            <a:off x="1979640" y="2351160"/>
            <a:ext cx="5045040" cy="4506840"/>
          </a:xfrm>
          <a:prstGeom prst="rect">
            <a:avLst/>
          </a:prstGeom>
          <a:ln w="0">
            <a:noFill/>
          </a:ln>
        </p:spPr>
      </p:pic>
      <p:sp>
        <p:nvSpPr>
          <p:cNvPr id="194" name="Подзаголовок 2"/>
          <p:cNvSpPr/>
          <p:nvPr/>
        </p:nvSpPr>
        <p:spPr>
          <a:xfrm>
            <a:off x="539640" y="115920"/>
            <a:ext cx="741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Comic Sans MS"/>
                <a:ea typeface="Arial"/>
              </a:rPr>
              <a:t>СОЦИОГРАММА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Times New Roman"/>
              </a:rPr>
              <a:t>Социограммная техника является существенным дополнением к табличному подходу в анализе социометрического материала, ибо она дает возможность более глубокого качественного описания и наглядного представления групповых явле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Times New Roman"/>
              </a:rPr>
              <a:t>Анализ социограммы начинается с отыскания центральных, наиболее влиятельных членов, затем взаимных пар и группировок. Группировки составляются из взаимосвязанных лиц, стремящихся выбирать друг друга. Наиболее часто в социометрических измерениях встречаются положительные группировки из 2, 3 членов, реже из 4 и более членов ( см. рис.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843280" y="3500280"/>
            <a:ext cx="2871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78920" y="620640"/>
            <a:ext cx="7696440" cy="57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Важным диагностическим коэффициентом, характеризующим отношения, существующие в группе, является показатель удовлетворенности детей своими отношениями со сверстниками. Он определяется как процентное отношение детей, имеющих взаимные выборы, к общему количеству детей в группе. Полученный результат сравнивается с нормативными показателями уровней коэффициентов удовлетворенности отношениями со сверстникам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1. низкий уровень – коэффициент удовлетворенности 33% и ниже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2. средний уровень - коэффициент удовлетворенности 34 – 49 %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3. высокий уровень - коэффициент удовлетворенности 50 – 65%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4. сверхвысокий уровень - коэффициент удовлетворенности 66% и выш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Соотношение количества изолированных детей к общему числу членов группы позволяет установить коэффициент изолированности, который рассматривается как диагностический показатель успешности работы педагога по воспитанию дружеских взаимоотношений дет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r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Согласно результатам исследований, группу можно считать благополучной, если в нет изолированных или коэффициент изолированности в пределах 6%; менее благополучной – при индексе до 25% и неблагополучной, если индекс изолированности выше 25%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Подзаголовок 2"/>
          <p:cNvSpPr/>
          <p:nvPr/>
        </p:nvSpPr>
        <p:spPr>
          <a:xfrm>
            <a:off x="539640" y="115920"/>
            <a:ext cx="741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  <a:ea typeface="Arial"/>
              </a:rPr>
              <a:t>ПОКАЗАТЕЛЬ УДОВЛЕТВОРЕННОСТИ ДЕТЕЙ СВОИМИ ОТНОШЕНИЯМИ СО СВЕРСТНИКАМ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0" y="475920"/>
            <a:ext cx="84088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Различают персональные социометрические индексы и групповые. Первые характеризуют индивидуальные социально - психологические свойства личности в роли члена группы. Вторые дают числовые характеристики целостной социометрической конфигурации выборов в группе. Они описывают свойства групповых структур общ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mic Sans MS"/>
              </a:rPr>
              <a:t>Социометрический статус 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- это свойство личности как элемента социометрические структуры занимать определенную пространственную позицию (локус) в ней, т. е. определенным образом соотноситься с другими элементами. Такое свойство развито у элементов групповой структуры неравномерно и для сравнительных целей может быть измерено числом - </a:t>
            </a:r>
            <a:r>
              <a:rPr b="1" lang="en-US" sz="1800" spc="-1" strike="noStrike">
                <a:solidFill>
                  <a:srgbClr val="990000"/>
                </a:solidFill>
                <a:latin typeface="Comic Sans MS"/>
              </a:rPr>
              <a:t>индексом социометрического статуса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. Элементы социометрической структуры - это личности, члены группы. Каждый из них в той или иной мере взаимодействует с каждым, общается, непосредственно обменивается информацией и т.д. В то же время каждый член группы, являясь частью целого (группы), своим поведением воздействует на свойства целого. Реализация этого воздействия протекает через различные социально-психологические формы взаимовлияния. Субъективную меру этого влияния подчеркивает величина социометрического статуса. Но личность может влиять на других двояко - либо положительно, либо отрицательно. Поэтому принято говорить о положительном и отрицательном статус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Подзаголовок 2"/>
          <p:cNvSpPr/>
          <p:nvPr/>
        </p:nvSpPr>
        <p:spPr>
          <a:xfrm>
            <a:off x="539640" y="115920"/>
            <a:ext cx="741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80"/>
                </a:solidFill>
                <a:latin typeface="Comic Sans MS"/>
                <a:ea typeface="Arial"/>
              </a:rPr>
              <a:t>СОЦИОМЕТРИЧЕСКИЕ ИНДЕКСЫ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6729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СОЦИОМЕТРИЧЕСКИЕ ИНДЕКС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Статус тоже измеряет потенциальную способность человека к лидерству. Чтобы высчитать социометрический статус, необходимо воспользоваться данными социоматриц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Возможен расчет С+ положительного и С- - отрицательного статуса в группах малой численности (N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Надежность рассмотренной процедуры зависит, прежде всего, от правильного отбора критериев социометрии, что диктуется программой исследования и предварительным знакомством со спецификой группы. Использование социометрического теста позволяет проводить измерение авторитета формального и неформального лидеров для перегруппировки людей в классах или группах так, чтобы снизить напряженность в коллективе, возникающую из-за взаимной неприязни некоторых членов групп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 algn="r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Социометрическая методика проводится групповым методом, ее проведение не требует больших временных затрат (до 15 мин.). Она весьма полезна в прикладных исследованиях, особенно в работах по совершенствованию отношений в коллектив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6600"/>
                </a:solidFill>
                <a:latin typeface="Comic Sans MS"/>
              </a:rPr>
              <a:t>Основной целью социометрического теста является диагностика эмоциональных связей, т. е. взаимных симпатий между членами группы.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6600"/>
                </a:solidFill>
                <a:latin typeface="Comic Sans MS"/>
              </a:rPr>
              <a:t>Социометрический тест решает следующие задачи: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6600"/>
                </a:solidFill>
                <a:latin typeface="Comic Sans MS"/>
              </a:rPr>
              <a:t>А) измерение степени сплоченности – разобщенности в группе;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6600"/>
                </a:solidFill>
                <a:latin typeface="Comic Sans MS"/>
              </a:rPr>
              <a:t>Б) выявление относительного авторитета членов группы по признакам симпатии – антипатии (лидеры, звезды, отвергнутые);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6600"/>
                </a:solidFill>
                <a:latin typeface="Comic Sans MS"/>
              </a:rPr>
              <a:t>В) обнаружение внутригрупповых сплоченных образований во главе с неформальными лидерами.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одзаголовок 2"/>
          <p:cNvSpPr/>
          <p:nvPr/>
        </p:nvSpPr>
        <p:spPr>
          <a:xfrm>
            <a:off x="1763640" y="404640"/>
            <a:ext cx="511488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  <a:ea typeface="Arial"/>
              </a:rPr>
              <a:t>ЦЕЛИ СОЦИОМЕТРИИ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627280" y="4941720"/>
            <a:ext cx="41036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Comic Sans MS"/>
              </a:rPr>
              <a:t>Индекс социометрического статуса i-члена группы определяется по формул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Comic Sans MS"/>
              </a:rPr>
              <a:t>где Сi — социометрический статус i-члена, R+ и R- — полученные i-членом выборы, Z — знак алгебраического суммирования числа полученных выборов i-члена, N— число членов группы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Comic Sans MS"/>
              </a:rPr>
              <a:t>Индекс социометрического статуса i-члена группы определяется по формуле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2" descr="http://proektmetod.narod.ru/mor102.gif"/>
          <p:cNvPicPr/>
          <p:nvPr/>
        </p:nvPicPr>
        <p:blipFill>
          <a:blip r:embed="rId1"/>
          <a:stretch/>
        </p:blipFill>
        <p:spPr>
          <a:xfrm>
            <a:off x="2268360" y="284040"/>
            <a:ext cx="3719520" cy="1489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http://proektmetod.narod.ru/mor2.gif"/>
          <p:cNvPicPr/>
          <p:nvPr/>
        </p:nvPicPr>
        <p:blipFill>
          <a:blip r:embed="rId2"/>
          <a:stretch/>
        </p:blipFill>
        <p:spPr>
          <a:xfrm>
            <a:off x="4859280" y="4437000"/>
            <a:ext cx="345600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78920" y="475920"/>
            <a:ext cx="7993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Термин «социометрия» означает измерение межличностных отношений в группе. Основоположником социометрии считается известный американский психиатр и социальный психолог Дж. Морено. Совокупность межличностных отношений в группе составляет, по Дж. Морено, ту первичную социально-психологическую структуру, характеристики которой во многом определяют не только целостные характеристики группы, но и душевное состояние челове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Социометрическая техника применяется для диагностики межличностных и межгрупповых отношений в целях их изменения, улучшения и совершенствования. С помощью социометрии можно изучать типологию социального поведения людей в условиях групповой деятельности, судить о социально-психологической совместимости членов конкретных групп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одзаголовок 2"/>
          <p:cNvSpPr/>
          <p:nvPr/>
        </p:nvSpPr>
        <p:spPr>
          <a:xfrm>
            <a:off x="1763640" y="115920"/>
            <a:ext cx="504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  <a:ea typeface="Arial"/>
              </a:rPr>
              <a:t>СОЦИОМЕТРИЯ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04000" y="4076640"/>
            <a:ext cx="1639800" cy="2449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195640" y="47242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Социометрическая техника применяется для диагностики межличностных и межгрупповых отношений в целях их изменения, улучшения и совершенствования. С помощью социометрии можно изучать типологию социального поведения людей в условиях групповой деятельности, судить о социально-психологической совместимости членов конкретных групп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Наиболее общей задачей социометрии является изучение неофициального структурного аспекта социальной группы и царящей в ней психологической атмосфер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08000" y="4365720"/>
            <a:ext cx="32385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78408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0000"/>
                </a:solidFill>
                <a:latin typeface="Comic Sans MS"/>
              </a:rPr>
              <a:t>Социометрическая процедура. Общая схема действий при социометрическом исследовании заключается в следующем. После постановки задач исследования и выбора объектов измерений формулируются основные гипотезы и положения, касающиеся возможных критериев опроса членов групп. Здесь не может быть полной анонимности, иначе социометрия окажется малоэффективной. Требование раскрыть свои симпатии или антипатии нередко вызывает внутренние затруднения у опрашиваемых и проявляется у некоторых людей в нежелании участвовать в опросе. Когда вопросы или критерии социометрии выбраны, они заносятся на специальную карточку или предлагаются в устном виде по типу интервью. Каждый член группы обязан отвечать на них, выбирая тех или иных членов группы в зависимости от большей или меньшей склонности, предпочтительности их по сравнению с другими, симпатий или, наоборот, антипатий, доверия, или недоверия и т.д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0000"/>
                </a:solidFill>
                <a:latin typeface="Comic Sans MS"/>
              </a:rPr>
              <a:t>Методика позволяет сделать моментальный срез с динамики внутригрупповых отношений, с тем, чтобы впоследствии использовать полученные результаты для переструктурирования групп, повышения их сплоченности и эффективности деятельности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84720" y="5084640"/>
            <a:ext cx="225612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400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Comic Sans MS"/>
              </a:rPr>
              <a:t>Материалы: бланк социометрического опроса, список членов группы, социоматрица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0000"/>
                </a:solidFill>
                <a:latin typeface="Comic Sans MS"/>
              </a:rPr>
              <a:t>Обследованию может подвергнуться любая группа лиц любого возраста, начиная от дошкольного, имеющая некоторый опыт взаимодействия и общения. В зависимости от задач, которые призвано решить исследование, и от особенностей (возрастных ) изучаемых групп формируются критерии социометрического выбора.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Comic Sans MS"/>
              </a:rPr>
              <a:t>Критерий</a:t>
            </a:r>
            <a:r>
              <a:rPr b="0" lang="ru-RU" sz="1700" spc="-1" strike="noStrike">
                <a:solidFill>
                  <a:srgbClr val="000066"/>
                </a:solidFill>
                <a:latin typeface="Comic Sans MS"/>
              </a:rPr>
              <a:t> – это вид деятельности, для выполнения которой индивиду нужно выбрать или отвергнуть одного или нескольких членов группы. Он формулируется в виде определенного вопроса социометрического теста. По содержанию критерии могут быть формальными и неформальными.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0000"/>
                </a:solidFill>
                <a:latin typeface="Comic Sans MS"/>
              </a:rPr>
              <a:t>С помощью первых измеряются отношения по поводу совместной деятельности, ради выполнения которой создана группа. Вторые служат для измерения эмоционально-личностных взаимоотношений, не связанных с совместной деятельностью (например, выбор товарища для досуга).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Comic Sans MS"/>
              </a:rPr>
              <a:t>В зависимости от ориентации критерии делятся на позитивные («С кем бы вы хотели учиться (играть)?») и негативные («С кем бы вы не хотели учиться (играть)?»)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0000"/>
                </a:solidFill>
                <a:latin typeface="Comic Sans MS"/>
              </a:rPr>
              <a:t>После выбора и формулировки критериев составляется опросник, содержащий инструкцию и перечень критериев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Подзаголовок 2"/>
          <p:cNvSpPr/>
          <p:nvPr/>
        </p:nvSpPr>
        <p:spPr>
          <a:xfrm>
            <a:off x="539640" y="260280"/>
            <a:ext cx="741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80"/>
                </a:solidFill>
                <a:latin typeface="Comic Sans MS"/>
                <a:ea typeface="Arial"/>
              </a:rPr>
              <a:t>ПОДГОТОВКА К ИССЛЕДОВАНИЮ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00720" y="5229360"/>
            <a:ext cx="1295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0" y="620280"/>
            <a:ext cx="82296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Составляется на заключительном этапе разработки программы. В ней каждый член группы должен указать свое отношение к другим членам группы по выделенным критериям (например, с точки зрения совместной работы, участия в решении деловой задачи, проведения досуга, в игре и т. д.). Критерии определяются в зависимости от программы данного исследования: изучаются ли отношения в производственной группе, группе досуга, во временной или стабильной группе и т.д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79280" y="2781360"/>
          <a:ext cx="8218440" cy="2800080"/>
        </p:xfrm>
        <a:graphic>
          <a:graphicData uri="http://schemas.openxmlformats.org/drawingml/2006/table">
            <a:tbl>
              <a:tblPr/>
              <a:tblGrid>
                <a:gridCol w="576360"/>
                <a:gridCol w="718920"/>
                <a:gridCol w="6050160"/>
                <a:gridCol w="873000"/>
              </a:tblGrid>
              <a:tr h="5270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Крит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Выб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3652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Уче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).  С кем Вы предпочли вместе сидеть за одной партой на уроке?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). С кем Вы не хотели вместе сидеть за одной партой на урок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3652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Дос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). Кого бы Вы хотели пригласить на празднование Нового Года?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). Кого бы Вы не хотели приглашать на празднование Нового Год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170" name="TextBox 4"/>
          <p:cNvSpPr/>
          <p:nvPr/>
        </p:nvSpPr>
        <p:spPr>
          <a:xfrm>
            <a:off x="2050920" y="5661000"/>
            <a:ext cx="633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Trebuchet MS"/>
              </a:rPr>
              <a:t>Когда социометрические карточки заполнены и собраны, начинается этап их математической обработки. Простейшими способами количественной обработки являются табличный, графический и индексологический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Подзаголовок 2"/>
          <p:cNvSpPr/>
          <p:nvPr/>
        </p:nvSpPr>
        <p:spPr>
          <a:xfrm>
            <a:off x="539640" y="115920"/>
            <a:ext cx="741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Comic Sans MS"/>
                <a:ea typeface="Arial"/>
              </a:rPr>
              <a:t>СОЦИОМЕТРИЧЕСКАЯ АНКЕТА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08000" y="692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Перед началом опроса проводится инструктаж тестируемой группы. В ходе него следует объяснить группе цель исследования, подчеркнуть важность его результатов для группы, показать, как нужно выполнять задания, гарантировать сохранение тайны ответ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Необходимо постараться установить атмосферу доверия в отношениях с группой. Отсутствие доверия к экспериментатору, подозрения в том, что результаты опроса могут быть использованы во вред испытуемому, приводят к отказу выполнять задание в целом либо к отказу осуществить негативный выбор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После этого начинается непосредственно опрос. Ему подвергаются все члены группы. Респонденты должны записать фамилии членов группы, выбранных ими по тому или иному критерию, в опросный лист и указать свою фамилию. В процессе опроса необходимо следить за тем, чтобы опрашиваемые не общались между собой, постоянно подчеркивать и напоминать об обязательности ответов на все вопросы. Не следует торопиться, подгонять испытуемых с ответами. В то же время, если испытуемые не имеют списка членов группы, не следует препятствовать визуальным контактам. Фамилии отсутствующих желательно написать на доск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Подзаголовок 2"/>
          <p:cNvSpPr/>
          <p:nvPr/>
        </p:nvSpPr>
        <p:spPr>
          <a:xfrm>
            <a:off x="539640" y="115920"/>
            <a:ext cx="741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Comic Sans MS"/>
                <a:ea typeface="Arial"/>
              </a:rPr>
              <a:t>ПОРЯДОК ИССЛЕДОВАНИЯ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796000" y="4797360"/>
            <a:ext cx="26636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11280" y="5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. Количество выборов ограничивается от 2 до 5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. Разрешается полная свобода выбора (каждый может записать столько решений, сколько пожелает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. Испытуемый ранжирует всех членов группы в зависимости от предложенного критер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С точки зрения простоты и удобства обработки результатов предпочтительнее первый способ. С точки зрения надежности и достоверности полученных результатов – третий. Кроме того, методом ранжирования удается снять опасения за отрицательный выбо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Вашему вниманию предлагается пример обследования группы при помощи первого способа выбора, то есть каждый респондент имеет право выбрать только двух человек. Вопросы в прямой форме составлены по позитивному критери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Подзаголовок 2"/>
          <p:cNvSpPr/>
          <p:nvPr/>
        </p:nvSpPr>
        <p:spPr>
          <a:xfrm>
            <a:off x="539640" y="115920"/>
            <a:ext cx="741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Comic Sans MS"/>
                <a:ea typeface="Arial"/>
              </a:rPr>
              <a:t>3 ОСНОВНЫХ СПОСОБА ВЫБОРА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716360" y="4221000"/>
            <a:ext cx="374328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1:10:37Z</dcterms:created>
  <dc:creator>Алла</dc:creator>
  <dc:description/>
  <dc:language>en-US</dc:language>
  <cp:lastModifiedBy>Oxana</cp:lastModifiedBy>
  <dcterms:modified xsi:type="dcterms:W3CDTF">2016-08-12T23:17:57Z</dcterms:modified>
  <cp:revision>66</cp:revision>
  <dc:subject/>
  <dc:title>Метод социометрических измерений (социометрия)</dc:title>
</cp:coreProperties>
</file>