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768A-A0B0-4B6F-A631-521781387B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FE03-37E7-4EC5-B6A8-D958D456FB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9CDB-2FA1-4970-9176-9431D1494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3B55-2283-4A14-9521-42726F97D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4C77-5B56-47AF-BC61-0E259D71A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D99-2DA4-434A-8A76-214940AB6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FC2-CFCB-4E00-8E53-8BBFEBD4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A0B-1D47-44DA-BC3E-A9203BC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483-DB43-4775-AEE6-4A9BA0E0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75E-9F2D-40AE-A65A-989DB496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8760-4E15-4255-93AA-98056AA2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DA00-9D8A-4A8B-8636-460DEFB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849E-C107-4BC2-8DD7-740224BB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3D7E-8FB9-4FB2-A658-F25A6524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AA6-B61E-46E4-A9AC-FDEA1E7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86E5-9912-4798-8BA3-8B6255D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461-2932-4CF3-AC91-1535243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2B-F0D2-4575-9283-8F6D7B1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22D6-7A1F-45B1-A8BA-B4A6A48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980-7E09-44EC-AE82-69913E9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FEBD-8FC2-4AD7-90C5-0231367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8B34-36AF-4FD1-9571-4CAAF978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4FC-CDEE-4E07-AA9C-9944E5AF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B7C08-FF62-4A2C-9140-10E475A8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D6561-CAA0-4967-8778-63B0FF3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48C75-305A-4273-A379-B3ADF118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81020-ADC6-440B-9329-1865EE5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86D2A-DC0A-4139-A052-4D0C5018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4CF-7101-4B11-B0F6-6B0238B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8BAAF-3D47-469B-805B-895091BB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C7787-E4EC-44F6-A505-840C838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5427D-774C-493E-9685-02993E9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D43F7-BE2F-42C6-8C02-A6EA2F7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7B344-9891-40DF-B3D6-6173D69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2935E-A4C7-470A-9EF0-417306BD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4018C-7171-438D-8A47-794B11E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55C5D-69E6-4361-8E7F-95A4872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C93FC-A74F-44E0-A39E-B351CF8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7805A5-3590-49AC-8A34-8C0BE865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D04-195A-4AE0-B205-F7A12C0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49926-8E8D-422F-A2AD-0C4EC502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F2085-B964-4017-A4E2-F24A3051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24DE3-BEA8-40D1-A013-44155862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5DDA8-DF35-460C-B9AE-3FA20CF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8FFDE-235A-4CBA-8249-048F0FD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E8BBC-C4FC-4FFD-81F4-A700899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583A9-7763-4F94-AD7A-3A7A150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1B346-41BB-4A59-A410-58913053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76E39-1AC2-44C1-9297-6B4BF8BA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68821-FC66-4B00-A44F-153C0F61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EEA-891A-4881-9A6C-61BAD00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CB0FC-F76D-44B0-9280-B1FFF0CB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A6BA0-3DF0-40BC-BE53-7D8C288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3F6C5-7CE8-4193-8F76-D8491D1D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444E6-57D7-4ED4-9E80-E42E42E2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9FBDE-8B70-4499-822E-56148E6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B28DA-6F87-4364-AAFC-67EC7C9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ACE30-B272-498F-BFB5-92F2E5CB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E60B3-4E47-4151-8F7D-38B28E8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88D9A-E88A-49CA-8A29-C545359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D6AF4-6A30-4B0B-9B93-D4E3F40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938-13C9-46EA-81AE-38BBE14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4C1F0-F31F-409B-8645-A1EE94CF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BBA1-91EE-44C0-BC79-5CA429AB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D9049-FB82-4C2D-9801-1F97A28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3C9C-78F0-4612-A036-4BAB2A0A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03D0-D602-4497-9413-8E8D501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0A513-19E4-4779-B3BC-DE57B62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3E7B-E109-4155-A7F7-60AC9002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F0ED-AA7F-49E0-A74A-74581F1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CA19B-F6E4-4BFD-B86C-5227B11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6E6F3-23F5-489F-9D58-B3C9A42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20B-D408-4FCF-8D33-EEC9671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EF53-4881-4A70-B7B6-44ABED8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2471-09E2-4F5B-B516-CBC4D340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9624-E454-4E76-8DFF-0516905C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A4F49-8136-4FAA-9BD6-7DAAF5E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7B37F-6E24-4898-A835-A7F3205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BD139-3E66-412B-A0C0-8C91A526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2B7F8-AF18-46EE-AB7A-22D28E1E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31185-49DF-4975-B87B-3FDA18E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90F6B-28C0-4461-AC90-CE07701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EBE53-FE1F-41C1-9E03-B97CA8A7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772-BEB6-40F7-8690-BB67730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CBE46-EF0A-4176-960C-B280339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25F41-2DC7-4E4B-861B-E16801D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E9A77-EE4F-4B5A-87C6-3DA92A9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4756F-0FE6-46E2-9C8F-4DC4D75A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B0A4F-5DFF-4879-8F53-9F77660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2C02A-AC53-4AC0-A496-94674C89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6F41-84B8-4B9F-BC46-14F9384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49F50-A44C-4675-982F-8EB6B13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EFB74-A767-43FC-A586-E426739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EEB0-7CBB-458B-B871-2800596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14F-6621-4EF8-9269-2CDB71E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12DD-C9EA-4CF6-95A7-1592343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2B3A-8FB4-438A-800C-705F606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4D5C-A209-4180-8DC8-F6CE09D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269A2-C6CB-4A67-B49A-AACC2D7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E16F-AB29-42E0-9208-AFF392FC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55C5-398F-428D-830A-BB7FA7CB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3AD9-199B-4D8E-A2F0-E555C2DD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14CF-9570-47DA-AAC7-EA4539B362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0F75-956D-49F3-ABF5-3FC63224D18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372-5D08-4D05-AF4A-C9774FAFA73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7D1-80C7-4A5B-B750-F940B81C48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973-38E3-4855-A3C7-40AC43DE2E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D30F-4BE5-4B95-AD3F-A880E989F27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94C1-64DF-4591-9CF8-2AA60F524EF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A0F-A67E-413A-A389-FFCFBB8581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USER\Desktop\Для презентация\0517f8a3160d.pn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600520"/>
          </a:xfrm>
          <a:prstGeom prst="rect">
            <a:avLst/>
          </a:prstGeom>
          <a:ln w="0">
            <a:noFill/>
          </a:ln>
        </p:spPr>
      </p:pic>
      <p:pic>
        <p:nvPicPr>
          <p:cNvPr id="358" name="Заголовок 1" descr=""/>
          <p:cNvPicPr/>
          <p:nvPr/>
        </p:nvPicPr>
        <p:blipFill>
          <a:blip r:embed="rId2"/>
          <a:stretch/>
        </p:blipFill>
        <p:spPr>
          <a:xfrm>
            <a:off x="1517760" y="781200"/>
            <a:ext cx="6808680" cy="2511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214800" y="550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рок литературы в 9-ом класс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Учитель: Панженская А.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biblestudy.pppst.com/bible_john_epistle.gif"/>
          <p:cNvPicPr/>
          <p:nvPr/>
        </p:nvPicPr>
        <p:blipFill>
          <a:blip r:embed="rId1"/>
          <a:stretch/>
        </p:blipFill>
        <p:spPr>
          <a:xfrm>
            <a:off x="0" y="2071800"/>
            <a:ext cx="4452840" cy="4252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5800" y="2214720"/>
            <a:ext cx="46436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Как правило, авторские тексты произведений до нас не дошли, а сохранились их более поздние списки, подчас отстоящие от времени написания оригинала на сто, двести и более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285800" y="1571760"/>
            <a:ext cx="46436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пример, «Повесть временных лет», созданная Нестором в 1111—1113 гг., вовсе не сохранилась, а редакция «повести» Сильвестра (1116) известна только в составе Лаврентьевской летописи 1377 г. «Слово о полку Игореве», написанное в конце 80-х годов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, было найдено в списке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http://fs213.rover.info/show/44152213/44152213.jpg?800"/>
          <p:cNvPicPr/>
          <p:nvPr/>
        </p:nvPicPr>
        <p:blipFill>
          <a:blip r:embed="rId2"/>
          <a:stretch/>
        </p:blipFill>
        <p:spPr>
          <a:xfrm>
            <a:off x="357120" y="178596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57176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—первой половине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. основным писчим материалом был </a:t>
            </a:r>
            <a:r>
              <a:rPr b="1" lang="ru-RU" sz="2800" spc="-1" strike="noStrike">
                <a:solidFill>
                  <a:srgbClr val="800000"/>
                </a:solidFill>
                <a:latin typeface="Book Antiqua"/>
              </a:rPr>
              <a:t>пергамент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изготовлявшийся из кожи телят. Этот дорогостоящий материи был доступен только имущим клас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http://www.museum.ru/imgB.asp?77131"/>
          <p:cNvPicPr/>
          <p:nvPr/>
        </p:nvPicPr>
        <p:blipFill>
          <a:blip r:embed="rId2"/>
          <a:stretch/>
        </p:blipFill>
        <p:spPr>
          <a:xfrm>
            <a:off x="0" y="1660680"/>
            <a:ext cx="91803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79200" y="0"/>
            <a:ext cx="9064800" cy="2071800"/>
          </a:xfrm>
          <a:prstGeom prst="rect">
            <a:avLst/>
          </a:prstGeom>
          <a:ln w="0">
            <a:noFill/>
          </a:ln>
        </p:spPr>
      </p:pic>
      <p:pic>
        <p:nvPicPr>
          <p:cNvPr id="361" name="Заголовок 1" descr=""/>
          <p:cNvPicPr/>
          <p:nvPr/>
        </p:nvPicPr>
        <p:blipFill>
          <a:blip r:embed="rId2"/>
          <a:stretch/>
        </p:blipFill>
        <p:spPr>
          <a:xfrm>
            <a:off x="1566720" y="152280"/>
            <a:ext cx="5808960" cy="1390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1928880"/>
            <a:ext cx="4610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усская средневековая литература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является начальным этапом развития русской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е возникновение тесно связано с процессом формирования раннефеодального государ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4c4545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на по-своему отразила различные периоды развития общественных и социальных отношений на Руси </a:t>
            </a: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XI</a:t>
            </a: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—</a:t>
            </a:r>
            <a:r>
              <a:rPr b="1" lang="en-US" sz="2400" spc="-1" strike="noStrike">
                <a:solidFill>
                  <a:srgbClr val="800000"/>
                </a:solidFill>
                <a:latin typeface="Book Antiqua"/>
              </a:rPr>
              <a:t>XVII</a:t>
            </a: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 в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43280" y="1928880"/>
            <a:ext cx="4500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прос о хронологических границах древнерусской литературы окончательно не решен нашей нау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едставления об объеме древнерусской литературы до сих пор остаются непол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C:\Users\USER\Desktop\Для презентация\20.png"/>
          <p:cNvPicPr/>
          <p:nvPr/>
        </p:nvPicPr>
        <p:blipFill>
          <a:blip r:embed="rId3"/>
          <a:stretch/>
        </p:blipFill>
        <p:spPr>
          <a:xfrm>
            <a:off x="5989680" y="5072040"/>
            <a:ext cx="3154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USER\Desktop\Для презентация\0_7bb57_c94c8c81_orig.png"/>
          <p:cNvPicPr/>
          <p:nvPr/>
        </p:nvPicPr>
        <p:blipFill>
          <a:blip r:embed="rId1"/>
          <a:srcRect l="0" t="0" r="0" b="24620"/>
          <a:stretch/>
        </p:blipFill>
        <p:spPr>
          <a:xfrm>
            <a:off x="0" y="421488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79200" y="0"/>
            <a:ext cx="9064800" cy="1857240"/>
          </a:xfrm>
          <a:prstGeom prst="rect">
            <a:avLst/>
          </a:prstGeom>
          <a:ln w="0">
            <a:noFill/>
          </a:ln>
        </p:spPr>
      </p:pic>
      <p:pic>
        <p:nvPicPr>
          <p:cNvPr id="367" name="Заголовок 1" descr=""/>
          <p:cNvPicPr/>
          <p:nvPr/>
        </p:nvPicPr>
        <p:blipFill>
          <a:blip r:embed="rId3"/>
          <a:stretch/>
        </p:blipFill>
        <p:spPr>
          <a:xfrm>
            <a:off x="1706400" y="12600"/>
            <a:ext cx="5810400" cy="1389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-360" y="1714320"/>
            <a:ext cx="414324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Много произведений погибло </a:t>
            </a:r>
            <a:r>
              <a:rPr b="0" lang="ru-RU" sz="2500" spc="-1" strike="noStrike">
                <a:solidFill>
                  <a:srgbClr val="800000"/>
                </a:solidFill>
                <a:latin typeface="Book Antiqua"/>
              </a:rPr>
              <a:t>в огне бесчисленных пожаров</a:t>
            </a: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, во время опустошительных набегов степных кочевников, нашествия монголо-татарских захватчиков, польско-шведских интервентов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428720" y="1714320"/>
            <a:ext cx="4714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 Antiqua"/>
              </a:rPr>
              <a:t>Основными хранителями и переписчиками книг в Древней Руси были монахи, не заинтересованные в хранении и переписке книг мирского (светского) содержания. Поэтому большинство дошедших до нас произведений носит церковный характ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C:\Users\USER\Desktop\Для презентация\paper_texture274.jpg"/>
          <p:cNvPicPr/>
          <p:nvPr/>
        </p:nvPicPr>
        <p:blipFill>
          <a:blip r:embed="rId1"/>
          <a:srcRect l="69431" t="53143" r="0" b="0"/>
          <a:stretch/>
        </p:blipFill>
        <p:spPr>
          <a:xfrm>
            <a:off x="4643280" y="1857240"/>
            <a:ext cx="3000600" cy="4440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Users\USER\Desktop\Для презентация\paper_texture274.jpg"/>
          <p:cNvPicPr/>
          <p:nvPr/>
        </p:nvPicPr>
        <p:blipFill>
          <a:blip r:embed="rId2"/>
          <a:srcRect l="0" t="53143" r="69431" b="0"/>
          <a:stretch/>
        </p:blipFill>
        <p:spPr>
          <a:xfrm>
            <a:off x="1357200" y="1928880"/>
            <a:ext cx="3000600" cy="4440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USER\Desktop\Для презентация\paper_texture274.jpg"/>
          <p:cNvPicPr/>
          <p:nvPr/>
        </p:nvPicPr>
        <p:blipFill>
          <a:blip r:embed="rId3"/>
          <a:srcRect l="0" t="28614" r="0" b="46512"/>
          <a:stretch/>
        </p:blipFill>
        <p:spPr>
          <a:xfrm>
            <a:off x="79200" y="0"/>
            <a:ext cx="9064800" cy="18572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81532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роизведения древнерусской письменности разделялись на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 rot="21480000">
            <a:off x="1353240" y="2853720"/>
            <a:ext cx="307188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Book Antiqua"/>
              </a:rPr>
              <a:t>за исключением официальных юридических и исторических документов, объявлялись «суетным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 rot="120000">
            <a:off x="4489200" y="2765160"/>
            <a:ext cx="30034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Всячески поддерживались распространялись, так как содержали непреходящие религиозные цен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403992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и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5800" y="1571400"/>
            <a:ext cx="404172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Духо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C:\Users\USER\Desktop\Для презентация\Priest.jpg"/>
          <p:cNvPicPr/>
          <p:nvPr/>
        </p:nvPicPr>
        <p:blipFill>
          <a:blip r:embed="rId4"/>
          <a:srcRect l="17561" t="0" r="24754" b="0"/>
          <a:stretch/>
        </p:blipFill>
        <p:spPr>
          <a:xfrm>
            <a:off x="750096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USER\Desktop\Для презентация\13.jpg"/>
          <p:cNvPicPr/>
          <p:nvPr/>
        </p:nvPicPr>
        <p:blipFill>
          <a:blip r:embed="rId5"/>
          <a:srcRect l="10851" t="0" r="11290" b="10002"/>
          <a:stretch/>
        </p:blipFill>
        <p:spPr>
          <a:xfrm>
            <a:off x="0" y="4500720"/>
            <a:ext cx="163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Book Antiqua"/>
              </a:rPr>
              <a:t>Р у к о п и с н ы й  характер </a:t>
            </a:r>
            <a:r>
              <a:rPr b="0" lang="ru-RU" sz="2900" spc="-1" strike="noStrike">
                <a:solidFill>
                  <a:srgbClr val="000000"/>
                </a:solidFill>
                <a:latin typeface="Book Antiqua"/>
              </a:rPr>
              <a:t>ее бытования и распространения. При этом произведение существовало не в виде отдельной рукописи, а входило в состав </a:t>
            </a:r>
            <a:r>
              <a:rPr b="1" i="1" lang="ru-RU" sz="2900" spc="-1" strike="noStrike">
                <a:solidFill>
                  <a:srgbClr val="800000"/>
                </a:solidFill>
                <a:latin typeface="Book Antiqua"/>
              </a:rPr>
              <a:t>различных сборников</a:t>
            </a:r>
            <a:r>
              <a:rPr b="0" lang="ru-RU" sz="2900" spc="-1" strike="noStrike">
                <a:solidFill>
                  <a:srgbClr val="000000"/>
                </a:solidFill>
                <a:latin typeface="Book Antiqua"/>
              </a:rPr>
              <a:t>. Значение той или иной рукописной книги оценивалось с точки зрения ее практического назначения, полез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5960" y="3567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71840" y="1856880"/>
            <a:ext cx="6572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«Велика бо бываеть полза от ученья книжного, книгами бо кажеми и учими есмы пути покаянью, мудрость бо обретаем и въздержанье от словес книжных; се бо суть рекы, напаяюще вселеную, се суть исходищя мудрости, книгам бо есть неищетная глубина, сими бо в печали утешаемы есмы, си суть узда въздержанью... Аще бо поищеши в книгах мудрости прилежно, то обрящеши велику ползу души своей...» — </a:t>
            </a: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поучает летописец под 1037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11" descr="http://www.sb.by/_img/strana/matfei_2.jpg"/>
          <p:cNvPicPr/>
          <p:nvPr/>
        </p:nvPicPr>
        <p:blipFill>
          <a:blip r:embed="rId2"/>
          <a:srcRect l="0" t="0" r="15629" b="0"/>
          <a:stretch/>
        </p:blipFill>
        <p:spPr>
          <a:xfrm>
            <a:off x="214200" y="1857240"/>
            <a:ext cx="2616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USER\Desktop\Для презентация\paper_texture274.jpg"/>
          <p:cNvPicPr/>
          <p:nvPr/>
        </p:nvPicPr>
        <p:blipFill>
          <a:blip r:embed="rId1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71760" y="1752120"/>
            <a:ext cx="757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Book Antiqua"/>
              </a:rPr>
              <a:t>А н о н и м н о с т ь</a:t>
            </a:r>
            <a:r>
              <a:rPr b="0" lang="ru-RU" sz="2700" spc="-1" strike="noStrike">
                <a:solidFill>
                  <a:srgbClr val="000000"/>
                </a:solidFill>
                <a:latin typeface="Book Antiqua"/>
              </a:rPr>
              <a:t> произведений. Это следствие религиозно-христианского отношения к человеку, и в частности к труду писателя, художника, зодчего. В лучшем случае известны имена отдельных авторов, «списателей» книг, которые скромно ставят свое имя либо в конце рукописи, либо на ее полях, либо (гораздо реже) в заглавии. При этом писатель снабдит свое имя такими оценочными эпитетами, как </a:t>
            </a:r>
            <a:r>
              <a:rPr b="0" i="1" lang="ru-RU" sz="2700" spc="-1" strike="noStrike">
                <a:solidFill>
                  <a:srgbClr val="000000"/>
                </a:solidFill>
                <a:latin typeface="Book Antiqua"/>
              </a:rPr>
              <a:t>«худый», «недостойный», «многогрешны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http://znau.biz/wp-content/uploads/2014/03/Kak_IP_naniat_rabotneyka.jpg"/>
          <p:cNvPicPr/>
          <p:nvPr/>
        </p:nvPicPr>
        <p:blipFill>
          <a:blip r:embed="rId1"/>
          <a:srcRect l="6661" t="0" r="5008" b="0"/>
          <a:stretch/>
        </p:blipFill>
        <p:spPr>
          <a:xfrm>
            <a:off x="2786040" y="42148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 Antiqua"/>
              </a:rPr>
              <a:t>Биографические сведения о древнерусских писателях, объеме их творчества, характере очень малы.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этому если при изучении литературы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вв. широко привлекается биографический материал, раскрывается характер политических, философских, взглядов того или иного писателя, прослеживается история создания произведений, выявляется творческая индивидуальность, то к памятникам древнерусской письменности приходится подходить по-ин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C:\Users\USER\Desktop\Для презентация\middle-ages-clip-art-822629.gif"/>
          <p:cNvPicPr/>
          <p:nvPr/>
        </p:nvPicPr>
        <p:blipFill>
          <a:blip r:embed="rId1"/>
          <a:stretch/>
        </p:blipFill>
        <p:spPr>
          <a:xfrm>
            <a:off x="-214200" y="2071800"/>
            <a:ext cx="3776400" cy="4357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USER\Desktop\Для презентация\paper_texture274.jpg"/>
          <p:cNvPicPr/>
          <p:nvPr/>
        </p:nvPicPr>
        <p:blipFill>
          <a:blip r:embed="rId2"/>
          <a:srcRect l="0" t="28614" r="0" b="46512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228600"/>
            <a:ext cx="55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285720" y="178560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Bookman Old Style"/>
              </a:rPr>
              <a:t>Не существовало понятия авторского права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ереписчики выступали в роли редакторов и соавторов. Они изменяли идейную направленность, характер стиля, сокращали или распространяли текст в соответствии с запросами своего времени. Так создавались новые редакции памятников. Даже когда переписчик копировал текст, его список отличался: он допускал описки, пропуски слов и букв. В связи с этим в науке существует особый термин — </a:t>
            </a:r>
            <a:r>
              <a:rPr b="1" lang="ru-RU" sz="2200" spc="-1" strike="noStrike">
                <a:solidFill>
                  <a:srgbClr val="800000"/>
                </a:solidFill>
                <a:latin typeface="Bookman Old Style"/>
              </a:rPr>
              <a:t>«ИЗВОД»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укопись псковско-новгородского извода, московского, или болгарского, сербского и др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9T08:24:58Z</dcterms:created>
  <dc:creator>USER</dc:creator>
  <dc:description/>
  <dc:language>en-US</dc:language>
  <cp:lastModifiedBy>USER</cp:lastModifiedBy>
  <dcterms:modified xsi:type="dcterms:W3CDTF">2016-05-29T11:37:58Z</dcterms:modified>
  <cp:revision>6</cp:revision>
  <dc:subject/>
  <dc:title>Древнерусская литература</dc:title>
</cp:coreProperties>
</file>