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7078-67E7-48A3-8509-C04669F1F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840-8F2F-4C02-83A2-111212C77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D361-6C2A-4E84-8C54-7A17ECBFA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68B-85F6-4BF7-8DE3-AA40D6F16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EA8-7460-4128-B890-347439A35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D289-9ABA-424A-9CE5-05346CEC93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5B5-3318-4708-AADB-701CA649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966-5A50-4B78-9310-7919491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FA0-38EB-4264-8AAE-F1820A9C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68B-CBC7-4793-B679-A93FEBB7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D145-284B-41AE-AD71-60514998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2B5-1D98-43EC-A18E-761B7507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E527-21F6-470E-9DB1-78A09BA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4122-1281-4328-A3FF-506A1CD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58A-A27E-467A-886E-1C3A3D23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3D88-2824-4AD6-A915-08B7A011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EA2-2868-4C5B-83D5-FDAFBC2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C9A-9956-469B-883B-5CD4B47B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8477-FD4E-4723-B589-2DD34C4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2D5B-CED4-4760-9638-5EAB611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F84-248A-4F92-88A8-ED914CC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3D8-D8FC-450B-8A8D-65A6C508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6E1-9C67-401F-BA06-39DE36B6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1C14E-4D4B-4971-A244-4AF82AC9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26E71-8280-44CA-8001-A9AE713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EFB71-A7D2-43A1-9EF8-74FE5824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E12D5-BD0C-489F-A958-DE3AE353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5E9EE-E753-4DF7-BB56-C0A23B3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3EC-D663-4BA5-952F-2CD0581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9183-8247-4C77-B98A-010D1F2D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89F60-619A-418A-BFCF-6E74710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15D33-B97B-4510-92DB-5B3ED7F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023DB-F8EA-4A81-8266-7C50344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14AFE-0B15-47F9-B23E-9423AAEB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61A3F-7477-4635-8056-B8AB1D73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18E3B-D2BB-49C9-BB9F-FF1F04D8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CFF77-0157-4FD3-9772-A46C6CEC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01BE0-F0F8-4AFF-942B-BCF479A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21B26-92A1-4FF1-A1AD-0CCB1BD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B5D-47F5-4B97-8ABA-92113DE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04093-2E23-4422-BA96-326FAD2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5AC98-C2A1-4CC7-963A-6E1EB130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999B9-CF44-4F0A-BD49-EBCCF6B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BF944-393E-4596-91ED-B9F8848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343A1-81F6-4239-97C4-DFB28A8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18EE2-1216-450A-8066-1A32996C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2A958-2A5D-47D3-B47B-7DA1F468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3EF6E-2BC6-4A16-BD23-5948DB6E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544B0-72D0-45DC-9629-0DFCF35F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932E0-A4F7-4EAB-AE06-5E25FE6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7EF-F479-4FE9-8B92-F76DFDC4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1CD91-9151-46BF-8162-5F88477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69E83-4957-4FF0-A388-3DBF1C7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471A2-069B-494C-BCD5-47E5CFC6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A08E9-4DBC-4866-AE93-622F41F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4DE89-208B-4D31-8A6D-FC71634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49AFD-3A40-4972-9773-0EC2B2C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F16CD-9B06-42C8-9EF8-6400C69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2AEF9-F8DC-4E68-84A8-06B18A4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8C09A-EAB1-43D1-9E69-45423EE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7F9CD-0AC2-4621-A41B-DB089392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925-C406-4A15-B68C-20F7E8C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AAC4D-CD80-414E-BFB8-A256F312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A3BE-88F9-423A-8B86-67E0989B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8A00-CFDC-49B5-9C04-C6CE841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2230D-1848-4F2B-9701-6D9C6E1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5C9B-AC6E-4CF9-AB93-3F1567D8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772B-7C9F-42C9-A48F-B639467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03CD-BDE7-4C9E-A70F-4D596AC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B468F-9CA0-4F10-A6B6-5A94547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1FCE-F8D4-4363-84B2-39ECC60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E1FD-D23E-4A8B-AB74-212A04C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6EC-D65E-4DF9-86D1-E829D50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5D9D-67DC-4AB4-A018-9430B64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462C-C083-4EF7-AA9A-15674761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03DF-1C1A-4890-B9B0-74762160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44895-D95E-4D32-8B39-205BF2A8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17FD4-27B9-4CD5-BD88-4EF295A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9928C-0AC5-427C-BF3D-726615D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D3F51-DF79-44C2-A006-051BA9E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BA9A5-A14E-4146-A4C4-7DA25EF2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9C4E3-1271-48C1-83E8-754BE3F4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E19BE-6D2A-408E-9AD5-5FD6BE1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FF0-3CAA-4EAF-9AD6-71AD56D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4DEEB-13CE-49E2-B03E-5128056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7A9A8-D371-454E-BB95-4524C3C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EB561-6376-42DE-98BB-51A9E1D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D65C3-56F9-496E-BBCC-7F662DE8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276E5-0932-4CA8-864B-56C315D4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5F21-F5E6-4C9A-85AA-E1C30397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8C71-25F2-4F57-A408-1180C3B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F027-F70D-433C-BB7D-49B507A5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4A6B-3C99-4F99-A9B2-C5860D0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FC688-79EF-4918-8885-C38E58A4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E06-F2E7-4C01-A89B-1349331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3811E-B274-4788-BB10-DAAF059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C24CE-EEDA-4B20-803B-AF1A285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41BC0-FB07-4AA4-B1C4-0F431EA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C3C32-F328-4F19-B4E2-BDCF8E0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50A5-DB00-4A77-A4DC-A8EEBEB4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01175-C400-46DE-B9FF-5BD1C599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FA93F-AA14-4B14-BC4D-FA2A4378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21F-691B-4481-A864-D4B9711112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6EC-DC8D-42F5-A8F6-683EC8B36AAC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F3D-D86E-4AA8-8F3D-475A0B571847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5D4-3799-4DE3-9E14-9E0D4FA920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010-B6C5-4E03-A6EE-B2C01304ED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7DA-40AD-4C27-8E4D-3718F56102C2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F27-7DAD-4917-9E6D-E236DBAA861A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3FDF-63C5-4FC9-8D1C-B8B19E165C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USER\Desktop\Для презентация\0517f8a3160d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600520"/>
          </a:xfrm>
          <a:prstGeom prst="rect">
            <a:avLst/>
          </a:prstGeom>
          <a:ln w="0">
            <a:noFill/>
          </a:ln>
        </p:spPr>
      </p:pic>
      <p:pic>
        <p:nvPicPr>
          <p:cNvPr id="358" name="Заголовок 1" descr=""/>
          <p:cNvPicPr/>
          <p:nvPr/>
        </p:nvPicPr>
        <p:blipFill>
          <a:blip r:embed="rId2"/>
          <a:stretch/>
        </p:blipFill>
        <p:spPr>
          <a:xfrm>
            <a:off x="1517760" y="781200"/>
            <a:ext cx="6808680" cy="2511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214800" y="550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рок литературы в 9-ом класс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читель: Панженская А.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biblestudy.pppst.com/bible_john_epistle.gif"/>
          <p:cNvPicPr/>
          <p:nvPr/>
        </p:nvPicPr>
        <p:blipFill>
          <a:blip r:embed="rId1"/>
          <a:stretch/>
        </p:blipFill>
        <p:spPr>
          <a:xfrm>
            <a:off x="0" y="2071800"/>
            <a:ext cx="4452840" cy="4252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5800" y="2214720"/>
            <a:ext cx="46436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Как правило, авторские тексты произведений до нас не дошли, а сохранились их более поздние списки, подчас отстоящие от времени написания оригинала на сто, двести и более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285800" y="1571760"/>
            <a:ext cx="46436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пример, «Повесть временных лет», созданная Нестором в 1111—1113 гг., вовсе не сохранилась, а редакция «повести» Сильвестра (1116) известна только в составе Лаврентьевской летописи 1377 г. «Слово о полку Игореве», написанное в конце 80-х годов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, было найдено в списке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http://fs213.rover.info/show/44152213/44152213.jpg?800"/>
          <p:cNvPicPr/>
          <p:nvPr/>
        </p:nvPicPr>
        <p:blipFill>
          <a:blip r:embed="rId2"/>
          <a:stretch/>
        </p:blipFill>
        <p:spPr>
          <a:xfrm>
            <a:off x="357120" y="178596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57176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—перв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 основным писчим материалом был </a:t>
            </a: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пергамент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изготовлявшийся из кожи телят. Этот дорогостоящий материи был доступен только имущим клас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http://www.museum.ru/imgB.asp?77131"/>
          <p:cNvPicPr/>
          <p:nvPr/>
        </p:nvPicPr>
        <p:blipFill>
          <a:blip r:embed="rId2"/>
          <a:stretch/>
        </p:blipFill>
        <p:spPr>
          <a:xfrm>
            <a:off x="0" y="1660680"/>
            <a:ext cx="91803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79200" y="0"/>
            <a:ext cx="9064800" cy="2071800"/>
          </a:xfrm>
          <a:prstGeom prst="rect">
            <a:avLst/>
          </a:prstGeom>
          <a:ln w="0">
            <a:noFill/>
          </a:ln>
        </p:spPr>
      </p:pic>
      <p:pic>
        <p:nvPicPr>
          <p:cNvPr id="361" name="Заголовок 1" descr=""/>
          <p:cNvPicPr/>
          <p:nvPr/>
        </p:nvPicPr>
        <p:blipFill>
          <a:blip r:embed="rId2"/>
          <a:stretch/>
        </p:blipFill>
        <p:spPr>
          <a:xfrm>
            <a:off x="1566720" y="152280"/>
            <a:ext cx="5808960" cy="1390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1928880"/>
            <a:ext cx="4610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усская средневековая литература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является начальным этапом развития русской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е возникновение тесно связано с процессом формирования раннефеодального государ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на по-своему отразила различные периоды развития общественных и социальных отношений на Руси </a:t>
            </a: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XI</a:t>
            </a: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—</a:t>
            </a: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XVII</a:t>
            </a: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 в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3280" y="1928880"/>
            <a:ext cx="4500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прос о хронологических границах древнерусской литературы окончательно не решен нашей нау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едставления об объеме древнерусской литературы до сих пор остаются непол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C:\Users\USER\Desktop\Для презентация\20.png"/>
          <p:cNvPicPr/>
          <p:nvPr/>
        </p:nvPicPr>
        <p:blipFill>
          <a:blip r:embed="rId3"/>
          <a:stretch/>
        </p:blipFill>
        <p:spPr>
          <a:xfrm>
            <a:off x="5989680" y="5072040"/>
            <a:ext cx="3154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USER\Desktop\Для презентация\0_7bb57_c94c8c81_orig.png"/>
          <p:cNvPicPr/>
          <p:nvPr/>
        </p:nvPicPr>
        <p:blipFill>
          <a:blip r:embed="rId1"/>
          <a:srcRect l="0" t="0" r="0" b="24620"/>
          <a:stretch/>
        </p:blipFill>
        <p:spPr>
          <a:xfrm>
            <a:off x="0" y="421488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79200" y="0"/>
            <a:ext cx="9064800" cy="1857240"/>
          </a:xfrm>
          <a:prstGeom prst="rect">
            <a:avLst/>
          </a:prstGeom>
          <a:ln w="0">
            <a:noFill/>
          </a:ln>
        </p:spPr>
      </p:pic>
      <p:pic>
        <p:nvPicPr>
          <p:cNvPr id="367" name="Заголовок 1" descr=""/>
          <p:cNvPicPr/>
          <p:nvPr/>
        </p:nvPicPr>
        <p:blipFill>
          <a:blip r:embed="rId3"/>
          <a:stretch/>
        </p:blipFill>
        <p:spPr>
          <a:xfrm>
            <a:off x="1706400" y="12600"/>
            <a:ext cx="5810400" cy="1389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-360" y="1714320"/>
            <a:ext cx="414324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Много произведений погибло </a:t>
            </a:r>
            <a:r>
              <a:rPr b="0" lang="ru-RU" sz="2500" spc="-1" strike="noStrike">
                <a:solidFill>
                  <a:srgbClr val="800000"/>
                </a:solidFill>
                <a:latin typeface="Book Antiqua"/>
              </a:rPr>
              <a:t>в огне бесчисленных пожаров</a:t>
            </a: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, во время опустошительных набегов степных кочевников, нашествия монголо-татарских захватчиков, польско-шведских интервентов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428720" y="1714320"/>
            <a:ext cx="4714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Основными хранителями и переписчиками книг в Древней Руси были монахи, не заинтересованные в хранении и переписке книг мирского (светского) содержания. Поэтому большинство дошедших до нас произведений носит церковный характ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C:\Users\USER\Desktop\Для презентация\paper_texture274.jpg"/>
          <p:cNvPicPr/>
          <p:nvPr/>
        </p:nvPicPr>
        <p:blipFill>
          <a:blip r:embed="rId1"/>
          <a:srcRect l="69431" t="53143" r="0" b="0"/>
          <a:stretch/>
        </p:blipFill>
        <p:spPr>
          <a:xfrm>
            <a:off x="4643280" y="1857240"/>
            <a:ext cx="3000600" cy="4440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Users\USER\Desktop\Для презентация\paper_texture274.jpg"/>
          <p:cNvPicPr/>
          <p:nvPr/>
        </p:nvPicPr>
        <p:blipFill>
          <a:blip r:embed="rId2"/>
          <a:srcRect l="0" t="53143" r="69431" b="0"/>
          <a:stretch/>
        </p:blipFill>
        <p:spPr>
          <a:xfrm>
            <a:off x="1357200" y="1928880"/>
            <a:ext cx="3000600" cy="444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USER\Desktop\Для презентация\paper_texture274.jpg"/>
          <p:cNvPicPr/>
          <p:nvPr/>
        </p:nvPicPr>
        <p:blipFill>
          <a:blip r:embed="rId3"/>
          <a:srcRect l="0" t="28614" r="0" b="46512"/>
          <a:stretch/>
        </p:blipFill>
        <p:spPr>
          <a:xfrm>
            <a:off x="79200" y="0"/>
            <a:ext cx="9064800" cy="18572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81532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роизведения древнерусской письменности разделялись на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 rot="21480000">
            <a:off x="1353240" y="2853720"/>
            <a:ext cx="307188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Book Antiqua"/>
              </a:rPr>
              <a:t>за исключением официальных юридических и исторических документов, объявлялись «суетным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 rot="120000">
            <a:off x="4489200" y="2765160"/>
            <a:ext cx="30034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Всячески поддерживались распространялись, так как содержали непреходящие религиозные цен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403992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и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5800" y="1571400"/>
            <a:ext cx="404172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Духо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C:\Users\USER\Desktop\Для презентация\Priest.jpg"/>
          <p:cNvPicPr/>
          <p:nvPr/>
        </p:nvPicPr>
        <p:blipFill>
          <a:blip r:embed="rId4"/>
          <a:srcRect l="17561" t="0" r="24754" b="0"/>
          <a:stretch/>
        </p:blipFill>
        <p:spPr>
          <a:xfrm>
            <a:off x="750096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USER\Desktop\Для презентация\13.jpg"/>
          <p:cNvPicPr/>
          <p:nvPr/>
        </p:nvPicPr>
        <p:blipFill>
          <a:blip r:embed="rId5"/>
          <a:srcRect l="10851" t="0" r="11290" b="10002"/>
          <a:stretch/>
        </p:blipFill>
        <p:spPr>
          <a:xfrm>
            <a:off x="0" y="4500720"/>
            <a:ext cx="163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Book Antiqua"/>
              </a:rPr>
              <a:t>Р у к о п и с н ы й  характер </a:t>
            </a:r>
            <a:r>
              <a:rPr b="0" lang="ru-RU" sz="2900" spc="-1" strike="noStrike">
                <a:solidFill>
                  <a:srgbClr val="000000"/>
                </a:solidFill>
                <a:latin typeface="Book Antiqua"/>
              </a:rPr>
              <a:t>ее бытования и распространения. При этом произведение существовало не в виде отдельной рукописи, а входило в состав </a:t>
            </a:r>
            <a:r>
              <a:rPr b="1" i="1" lang="ru-RU" sz="2900" spc="-1" strike="noStrike">
                <a:solidFill>
                  <a:srgbClr val="800000"/>
                </a:solidFill>
                <a:latin typeface="Book Antiqua"/>
              </a:rPr>
              <a:t>различных сборников</a:t>
            </a:r>
            <a:r>
              <a:rPr b="0" lang="ru-RU" sz="2900" spc="-1" strike="noStrike">
                <a:solidFill>
                  <a:srgbClr val="000000"/>
                </a:solidFill>
                <a:latin typeface="Book Antiqua"/>
              </a:rPr>
              <a:t>. Значение той или иной рукописной книги оценивалось с точки зрения ее практического назначения, полез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596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71840" y="1856880"/>
            <a:ext cx="6572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«Велика бо бываеть полза от ученья книжного, книгами бо кажеми и учими есмы пути покаянью, мудрость бо обретаем и въздержанье от словес книжных; се бо суть рекы, напаяюще вселеную, се суть исходищя мудрости, книгам бо есть неищетная глубина, сими бо в печали утешаемы есмы, си суть узда въздержанью... Аще бо поищеши в книгах мудрости прилежно, то обрящеши велику ползу души своей...» — </a:t>
            </a: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поучает летописец под 1037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11" descr="http://www.sb.by/_img/strana/matfei_2.jpg"/>
          <p:cNvPicPr/>
          <p:nvPr/>
        </p:nvPicPr>
        <p:blipFill>
          <a:blip r:embed="rId2"/>
          <a:srcRect l="0" t="0" r="15629" b="0"/>
          <a:stretch/>
        </p:blipFill>
        <p:spPr>
          <a:xfrm>
            <a:off x="214200" y="1857240"/>
            <a:ext cx="2616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71760" y="1752120"/>
            <a:ext cx="757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Book Antiqua"/>
              </a:rPr>
              <a:t>А н о н и м н о с т ь</a:t>
            </a: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 произведений. Это следствие религиозно-христианского отношения к человеку, и в частности к труду писателя, художника, зодчего. В лучшем случае известны имена отдельных авторов, «списателей» книг, которые скромно ставят свое имя либо в конце рукописи, либо на ее полях, либо (гораздо реже) в заглавии. При этом писатель снабдит свое имя такими оценочными эпитетами, как </a:t>
            </a: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«худый», «недостойный», «многогрешны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http://znau.biz/wp-content/uploads/2014/03/Kak_IP_naniat_rabotneyka.jpg"/>
          <p:cNvPicPr/>
          <p:nvPr/>
        </p:nvPicPr>
        <p:blipFill>
          <a:blip r:embed="rId1"/>
          <a:srcRect l="6661" t="0" r="5008" b="0"/>
          <a:stretch/>
        </p:blipFill>
        <p:spPr>
          <a:xfrm>
            <a:off x="2786040" y="42148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Биографические сведения о древнерусских писателях, объеме их творчества, характере очень малы.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этому если при изучении литературы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вв. широко привлекается биографический материал, раскрывается характер политических, философских, взглядов того или иного писателя, прослеживается история создания произведений, выявляется творческая индивидуальность, то к памятникам древнерусской письменности приходится подходить по-ин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USER\Desktop\Для презентация\middle-ages-clip-art-822629.gif"/>
          <p:cNvPicPr/>
          <p:nvPr/>
        </p:nvPicPr>
        <p:blipFill>
          <a:blip r:embed="rId1"/>
          <a:stretch/>
        </p:blipFill>
        <p:spPr>
          <a:xfrm>
            <a:off x="-214200" y="2071800"/>
            <a:ext cx="3776400" cy="4357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285720" y="178560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Bookman Old Style"/>
              </a:rPr>
              <a:t>Не существовало понятия авторского права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ереписчики выступали в роли редакторов и соавторов. Они изменяли идейную направленность, характер стиля, сокращали или распространяли текст в соответствии с запросами своего времени. Так создавались новые редакции памятников. Даже когда переписчик копировал текст, его список отличался: он допускал описки, пропуски слов и букв. В связи с этим в науке существует особый термин — </a:t>
            </a:r>
            <a:r>
              <a:rPr b="1" lang="ru-RU" sz="2200" spc="-1" strike="noStrike">
                <a:solidFill>
                  <a:srgbClr val="800000"/>
                </a:solidFill>
                <a:latin typeface="Bookman Old Style"/>
              </a:rPr>
              <a:t>«ИЗВОД»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укопись псковско-новгородского извода, московского, или болгарского, сербского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9T08:24:58Z</dcterms:created>
  <dc:creator>USER</dc:creator>
  <dc:description/>
  <dc:language>en-US</dc:language>
  <cp:lastModifiedBy>USER</cp:lastModifiedBy>
  <dcterms:modified xsi:type="dcterms:W3CDTF">2016-05-29T11:37:58Z</dcterms:modified>
  <cp:revision>6</cp:revision>
  <dc:subject/>
  <dc:title>Древнерусская литература</dc:title>
</cp:coreProperties>
</file>