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FD9A-B269-4731-8A4D-BC3C1E7C2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5DD6-9C56-4233-8516-0D078876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6677-3EEC-4969-A6E3-1D0121379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C71C-2311-485E-B26A-63E995341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67D1-546A-460B-9FCA-97FC40F6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180E-A9B0-453D-94A4-FB384E1E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59ED-C5AE-4101-9C0B-5F0E646E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EA44-9991-476A-B2F8-BFAC745B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8E4C-0405-4721-9876-C49EE54C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B5C7-7550-4CFE-BCC2-415D0732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76CE-0D47-4377-BDA0-CCFB2205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155E-3205-4ADA-9A06-EE025706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4EB1-4C52-4B8F-9D09-44FEC69E91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кружающий мир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Если хочешь быть здоров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781000"/>
            <a:ext cx="6400800" cy="28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Этот орган похож на длинный извилистый «коридор». Пища в нём окончательно переваривается (превращается) в прозрачные растворы и впитывается в кров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печ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кишеч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желу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0007-007-Mozg"/>
          <p:cNvPicPr/>
          <p:nvPr/>
        </p:nvPicPr>
        <p:blipFill>
          <a:blip r:embed="rId1"/>
          <a:stretch/>
        </p:blipFill>
        <p:spPr>
          <a:xfrm>
            <a:off x="2664000" y="3938760"/>
            <a:ext cx="38145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Этот орган похож на длинный извилистый «коридор». Пища в нём окончательно переваривается (превращается) в прозрачные растворы и впитывается в кров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кишеч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0007-007-Mozg"/>
          <p:cNvPicPr/>
          <p:nvPr/>
        </p:nvPicPr>
        <p:blipFill>
          <a:blip r:embed="rId1"/>
          <a:stretch/>
        </p:blipFill>
        <p:spPr>
          <a:xfrm>
            <a:off x="2664000" y="3938760"/>
            <a:ext cx="38145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Этот орган находится справа от желудка и помогает переваривать пищ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лёг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печ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кишеч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0007-007-Mozg"/>
          <p:cNvPicPr/>
          <p:nvPr/>
        </p:nvPicPr>
        <p:blipFill>
          <a:blip r:embed="rId1"/>
          <a:stretch/>
        </p:blipFill>
        <p:spPr>
          <a:xfrm>
            <a:off x="2664000" y="3938760"/>
            <a:ext cx="38145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Этот орган находится справа от желудка и помогает переваривать пищ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печ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0007-007-Mozg"/>
          <p:cNvPicPr/>
          <p:nvPr/>
        </p:nvPicPr>
        <p:blipFill>
          <a:blip r:embed="rId1"/>
          <a:stretch/>
        </p:blipFill>
        <p:spPr>
          <a:xfrm>
            <a:off x="2664000" y="3938760"/>
            <a:ext cx="38145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. В какой строчке указаны слова, описывающие здорового челове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сутулый, крепкий, неуклюжий, высо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горбатый, бледный, хилый, низ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стройный, сильный, ловкий, румя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. В какой строчке указаны слова, описывающие здорового челове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стройный, сильный, ловкий, румя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. Зачем нужно знать свой организ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чтобы сохранять и укреплять здоров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чтобы человек мог мыслить, говорить, тру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. Зачем нужно знать свой организ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чтобы сохранять и укреплять здоров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golub120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d3365a70f643"/>
          <p:cNvPicPr/>
          <p:nvPr/>
        </p:nvPicPr>
        <p:blipFill>
          <a:blip r:embed="rId2">
            <a:lum bright="18000"/>
          </a:blip>
          <a:srcRect l="3675" t="0" r="0" b="0"/>
          <a:stretch/>
        </p:blipFill>
        <p:spPr>
          <a:xfrm>
            <a:off x="1187280" y="2421000"/>
            <a:ext cx="1873440" cy="170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d3365a70f643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6804000" y="476280"/>
            <a:ext cx="1871640" cy="1606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d3365a70f643"/>
          <p:cNvPicPr/>
          <p:nvPr/>
        </p:nvPicPr>
        <p:blipFill>
          <a:blip r:embed="rId4">
            <a:lum bright="18000"/>
          </a:blip>
          <a:srcRect l="3815" t="0" r="0" b="0"/>
          <a:stretch/>
        </p:blipFill>
        <p:spPr>
          <a:xfrm>
            <a:off x="539640" y="4797360"/>
            <a:ext cx="1800360" cy="1606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d3365a70f643"/>
          <p:cNvPicPr/>
          <p:nvPr/>
        </p:nvPicPr>
        <p:blipFill>
          <a:blip r:embed="rId5">
            <a:lum bright="18000"/>
          </a:blip>
          <a:srcRect l="3815" t="0" r="0" b="0"/>
          <a:stretch/>
        </p:blipFill>
        <p:spPr>
          <a:xfrm>
            <a:off x="395280" y="260280"/>
            <a:ext cx="1800360" cy="1606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d3365a70f643"/>
          <p:cNvPicPr/>
          <p:nvPr/>
        </p:nvPicPr>
        <p:blipFill>
          <a:blip r:embed="rId6">
            <a:lum bright="18000"/>
          </a:blip>
          <a:srcRect l="3903" t="0" r="0" b="0"/>
          <a:stretch/>
        </p:blipFill>
        <p:spPr>
          <a:xfrm>
            <a:off x="6732720" y="4869000"/>
            <a:ext cx="1798560" cy="1606320"/>
          </a:xfrm>
          <a:prstGeom prst="rect">
            <a:avLst/>
          </a:prstGeom>
          <a:ln w="0">
            <a:noFill/>
          </a:ln>
        </p:spPr>
      </p:pic>
      <p:pic>
        <p:nvPicPr>
          <p:cNvPr id="91" name="снеж1069.wav" descr=""/>
          <p:cNvPicPr/>
          <p:nvPr/>
        </p:nvPicPr>
        <p:blipFill>
          <a:blip r:embed="rId7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81 0.04325 L 0.33472 -0.23983 L 0.58681 0.04325 L 0.33472 0.32678 L 0.08281 0.04325 Z">
                                      <p:cBhvr>
                                        <p:cTn id="8" dur="5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82 0.04325 C 0.08282 -0.10985 0.17761 -0.23474 0.29393 -0.23474 C 0.41094 -0.23474 0.50591 -0.10985 0.50591 0.04325 C 0.50573 0.19611 0.4106 0.32123 0.29428 0.32123 C 0.17761 0.32123 0.08282 0.19611 0.08282 0.04325 Z">
                                      <p:cBhvr>
                                        <p:cTn id="11" dur="5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" nodeType="afterEffect" fill="hold" presetClass="pat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673 -0.33449 C 0.20486 -0.33449 0.14566 -0.25857 0.14566 -0.16528 C 0.14566 -0.05579 0.21111 -0.01621 0.25069 0.00046 L 0.30278 0.01782 C 0.34219 0.03495 0.40781 0.07685 0.40781 0.20069 C 0.40781 0.28032 0.34861 0.3706 0.27673 0.3706 C 0.20486 0.3706 0.14566 0.28032 0.14566 0.20069 C 0.14566 0.07685 0.21128 0.03495 0.25069 0.01782 L 0.30278 0.00046 C 0.34219 -0.01621 0.40781 -0.05579 0.40781 -0.16528 C 0.40781 -0.25857 0.34861 -0.33449 0.27673 -0.33449 Z">
                                      <p:cBhvr>
                                        <p:cTn id="14" dur="5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img544"/>
          <p:cNvPicPr/>
          <p:nvPr/>
        </p:nvPicPr>
        <p:blipFill>
          <a:blip r:embed="rId1"/>
          <a:stretch/>
        </p:blipFill>
        <p:spPr>
          <a:xfrm>
            <a:off x="179280" y="115920"/>
            <a:ext cx="87138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img546"/>
          <p:cNvPicPr/>
          <p:nvPr/>
        </p:nvPicPr>
        <p:blipFill>
          <a:blip r:embed="rId1"/>
          <a:stretch/>
        </p:blipFill>
        <p:spPr>
          <a:xfrm>
            <a:off x="468360" y="333360"/>
            <a:ext cx="83516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С помощью какого органа дышит челове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моз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лёг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желу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0007-007-Mozg"/>
          <p:cNvPicPr/>
          <p:nvPr/>
        </p:nvPicPr>
        <p:blipFill>
          <a:blip r:embed="rId1"/>
          <a:stretch/>
        </p:blipFill>
        <p:spPr>
          <a:xfrm>
            <a:off x="2664000" y="3938760"/>
            <a:ext cx="38145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С помощью какого органа дышит челове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лёг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0007-007-Mozg"/>
          <p:cNvPicPr/>
          <p:nvPr/>
        </p:nvPicPr>
        <p:blipFill>
          <a:blip r:embed="rId1"/>
          <a:stretch/>
        </p:blipFill>
        <p:spPr>
          <a:xfrm>
            <a:off x="2664000" y="3938760"/>
            <a:ext cx="38145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Что является главным отделением «внутренней кухн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лёг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печ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желу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0007-007-Mozg"/>
          <p:cNvPicPr/>
          <p:nvPr/>
        </p:nvPicPr>
        <p:blipFill>
          <a:blip r:embed="rId1"/>
          <a:stretch/>
        </p:blipFill>
        <p:spPr>
          <a:xfrm>
            <a:off x="2664000" y="3938760"/>
            <a:ext cx="38145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Что является главным отделением «внутренней кухн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желу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0007-007-Mozg"/>
          <p:cNvPicPr/>
          <p:nvPr/>
        </p:nvPicPr>
        <p:blipFill>
          <a:blip r:embed="rId1"/>
          <a:stretch/>
        </p:blipFill>
        <p:spPr>
          <a:xfrm>
            <a:off x="2664000" y="3938760"/>
            <a:ext cx="38145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Этот орган размером немногим больше кулака непрерывно сжимается и разжимается, гонит кровь в сосу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лёг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желу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серд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0007-007-Mozg"/>
          <p:cNvPicPr/>
          <p:nvPr/>
        </p:nvPicPr>
        <p:blipFill>
          <a:blip r:embed="rId1"/>
          <a:stretch/>
        </p:blipFill>
        <p:spPr>
          <a:xfrm>
            <a:off x="2664000" y="3938760"/>
            <a:ext cx="38145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Этот орган размером немногим больше кулака непрерывно сжимается и разжимается, гонит кровь в сосу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серд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0007-007-Mozg"/>
          <p:cNvPicPr/>
          <p:nvPr/>
        </p:nvPicPr>
        <p:blipFill>
          <a:blip r:embed="rId1"/>
          <a:stretch/>
        </p:blipFill>
        <p:spPr>
          <a:xfrm>
            <a:off x="2664000" y="3938760"/>
            <a:ext cx="38145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3T15:19:19Z</dcterms:created>
  <dc:creator>Customer</dc:creator>
  <dc:description/>
  <dc:language>en-US</dc:language>
  <cp:lastModifiedBy>admin</cp:lastModifiedBy>
  <dcterms:modified xsi:type="dcterms:W3CDTF">2016-08-19T08:38:03Z</dcterms:modified>
  <cp:revision>15</cp:revision>
  <dc:subject/>
  <dc:title>урок</dc:title>
</cp:coreProperties>
</file>