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D36-D024-4A92-AF97-8FFD7F1A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E61-7620-4719-B47A-2C683320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B90-5C31-4432-914A-79EA93D8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A51-C7A2-4BC5-87A8-E06A139A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A4B-1650-414F-8D2E-2A73CD10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449-8873-4819-B63A-08E057A8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79D-1C47-41B3-9667-DED4E99D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5E3-6EEE-4EB8-8FCC-2EA39036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167-4119-4DE8-98E6-EC246093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CF9-287C-404D-83B5-6C4B670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243-76C7-46CD-BEAA-A970FEAF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505-7AF2-4034-957B-AEB6637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826F-795C-4133-A51F-2523FBFE8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Если хочешь быть здор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тот орган похож на длинный извилистый «коридор». Пища в нём окончательно переваривается (превращается) в прозрачные растворы и впитывается в 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тот орган похож на длинный извилистый «коридор». Пища в нём окончательно переваривается (превращается) в прозрачные растворы и впитывается в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Этот орган находится справа от желудка и помогает переваривать пищ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Этот орган находится справа от желудка и помогает переваривать пищ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 какой строчке указаны слова, описывающие здоров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сутулый, крепкий, неуклюжий, высо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горбатый, бледный, хилый, низ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тройный, сильный, ловкий, румя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В какой строчке указаны слова, описывающие здоров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тройный, сильный, ловкий, румя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Зачем нужно знать свой организ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чтобы сохранять и укреплять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чтобы человек мог мыслить, говорить,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Зачем нужно знать свой организ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чтобы сохранять и укреплять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3365a70f643"/>
          <p:cNvPicPr/>
          <p:nvPr/>
        </p:nvPicPr>
        <p:blipFill>
          <a:blip r:embed="rId2">
            <a:lum bright="18000"/>
          </a:blip>
          <a:srcRect l="367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3365a70f643"/>
          <p:cNvPicPr/>
          <p:nvPr/>
        </p:nvPicPr>
        <p:blipFill>
          <a:blip r:embed="rId4">
            <a:lum bright="18000"/>
          </a:blip>
          <a:srcRect l="3815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d3365a70f643"/>
          <p:cNvPicPr/>
          <p:nvPr/>
        </p:nvPicPr>
        <p:blipFill>
          <a:blip r:embed="rId5">
            <a:lum bright="18000"/>
          </a:blip>
          <a:srcRect l="3815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d3365a70f643"/>
          <p:cNvPicPr/>
          <p:nvPr/>
        </p:nvPicPr>
        <p:blipFill>
          <a:blip r:embed="rId6">
            <a:lum bright="18000"/>
          </a:blip>
          <a:srcRect l="3903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91" name="снеж1069.wav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1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4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img544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g546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С помощью какого органа дышит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С помощью какого органа дышит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Что является главным отделением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Что является главным отделением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Этот орган размером немногим больше кулака непрерывно сжимается и разжимается, гонит кровь в с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Этот орган размером немногим больше кулака непрерывно сжимается и разжимается, гонит кровь в с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007-007-Mozg"/>
          <p:cNvPicPr/>
          <p:nvPr/>
        </p:nvPicPr>
        <p:blipFill>
          <a:blip r:embed="rId1"/>
          <a:stretch/>
        </p:blipFill>
        <p:spPr>
          <a:xfrm>
            <a:off x="2664000" y="3938760"/>
            <a:ext cx="3814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15:19:19Z</dcterms:created>
  <dc:creator>Customer</dc:creator>
  <dc:description/>
  <dc:language>en-US</dc:language>
  <cp:lastModifiedBy>admin</cp:lastModifiedBy>
  <dcterms:modified xsi:type="dcterms:W3CDTF">2016-08-19T08:38:03Z</dcterms:modified>
  <cp:revision>15</cp:revision>
  <dc:subject/>
  <dc:title>урок</dc:title>
</cp:coreProperties>
</file>