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FA4-48D0-4B27-B9E0-3F276154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286-D55D-4A4F-A97D-A17AA711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374-9A6F-47C8-BB41-FA4C721D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C87-F72E-41EA-8E2C-1C87C98F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099B-B814-47B8-9FF2-A35E4150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5BBB-2CD1-4638-82BD-12D5F17F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6A60-898A-4057-9AB7-99D8DBF2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9F9B-242B-4D12-84F3-44205A17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F831-F910-49F1-A1BC-C9640200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7FE7-3356-4E3A-9657-2CAE8C30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07B3-2D27-4F49-9C63-8B9DEE2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A22-8AF2-4D61-8276-B6B97502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3C86-76E1-436B-B459-F3C821CA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FF32-DD5E-4EBA-B2C8-26071EEC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435C-3B32-496E-A0A8-4AFC84C6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7CA8-04A6-42D1-A0AD-73E402A3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FA9C-17DD-4CD2-8221-8CF8760C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E01-0FE9-4780-BD02-03674E02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8B7-ADE7-428F-A3A7-A92BA561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9AF-6B46-46BD-94CB-8CB4BF36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3CB-FCD1-43F0-ADA2-3E5AF8A4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E24-7222-4B2D-B265-8AB88ED8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3EC-42FD-4A29-B65B-66445A1B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9D5-2D3D-414E-A2FA-5A756F66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47AD10-21EB-443B-8BCD-36605F39842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DE7340-4F9F-4128-9ACD-D9EB88E40C7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3399"/>
                </a:solidFill>
                <a:latin typeface="Garamond"/>
              </a:rPr>
              <a:t>Программирование циклов</a:t>
            </a:r>
            <a:endParaRPr b="0" lang="en-US" sz="6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14200" y="3959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араметром (д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едусловием (п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стусловием (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o … whi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6119640"/>
            <a:ext cx="65534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ь   Болгак Лидия Пав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с постусловием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удобно использ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ще называют этот вид цик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лючевые слова необходи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необходимы для организации цик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dur="indefinite" fill="hold">
                      <p:stCondLst>
                        <p:cond delay="0"/>
                      </p:stCondLst>
                      <p:childTnLst>
                        <p:par>
                          <p:cTn id="1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dur="indefinite" fill="hold">
                      <p:stCondLst>
                        <p:cond delay="indefinite"/>
                      </p:stCondLst>
                      <p:childTnLst>
                        <p:par>
                          <p:cTn id="1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dur="indefinite" fill="hold">
                      <p:stCondLst>
                        <p:cond delay="indefinite"/>
                      </p:stCondLst>
                      <p:childTnLst>
                        <p:par>
                          <p:cTn id="1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dur="indefinite" fill="hold">
                      <p:stCondLst>
                        <p:cond delay="indefinite"/>
                      </p:stCondLst>
                      <p:childTnLst>
                        <p:par>
                          <p:cTn id="1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</a:t>
            </a: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while 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– </a:t>
            </a: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ПОКА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97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, когда не известно точное количество повторов, и нет необходимости, чтобы цикл обязательно был выполн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492280"/>
            <a:ext cx="914400" cy="28908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2720" y="2997360"/>
            <a:ext cx="1295280" cy="3603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2720" y="3573360"/>
            <a:ext cx="1366920" cy="43200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ия команд тела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8720" y="4221000"/>
            <a:ext cx="914400" cy="28908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x +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60360" y="2205000"/>
            <a:ext cx="180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60360" y="2781360"/>
            <a:ext cx="18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60360" y="3357720"/>
            <a:ext cx="1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60360" y="4005360"/>
            <a:ext cx="18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176640"/>
            <a:ext cx="792000" cy="1511280"/>
          </a:xfrm>
          <a:custGeom>
            <a:avLst/>
            <a:gdLst/>
            <a:ahLst/>
            <a:rect l="l" t="t" r="r" b="b"/>
            <a:pathLst>
              <a:path w="499" h="952">
                <a:moveTo>
                  <a:pt x="499" y="861"/>
                </a:moveTo>
                <a:lnTo>
                  <a:pt x="499" y="952"/>
                </a:lnTo>
                <a:lnTo>
                  <a:pt x="0" y="952"/>
                </a:lnTo>
                <a:lnTo>
                  <a:pt x="0" y="0"/>
                </a:lnTo>
                <a:lnTo>
                  <a:pt x="9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60360" y="33577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63640" y="292428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24000" y="3176640"/>
            <a:ext cx="863640" cy="1871640"/>
          </a:xfrm>
          <a:custGeom>
            <a:avLst/>
            <a:gdLst/>
            <a:ahLst/>
            <a:rect l="l" t="t" r="r" b="b"/>
            <a:pathLst>
              <a:path w="544" h="1179">
                <a:moveTo>
                  <a:pt x="454" y="0"/>
                </a:moveTo>
                <a:lnTo>
                  <a:pt x="544" y="0"/>
                </a:lnTo>
                <a:lnTo>
                  <a:pt x="544" y="1043"/>
                </a:lnTo>
                <a:lnTo>
                  <a:pt x="0" y="1043"/>
                </a:lnTo>
                <a:lnTo>
                  <a:pt x="0" y="117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24000" y="4941720"/>
            <a:ext cx="1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66200" y="4687920"/>
            <a:ext cx="147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68360" y="321120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71640" y="2276640"/>
            <a:ext cx="6048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ile (x &lt;=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// серия команд тела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перат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x += 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1122480"/>
            <a:ext cx="8713800" cy="11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ядок работы цикл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048280"/>
            <a:ext cx="8640720" cy="17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адать до цикла начальное значение управляющей переменной цикла x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оверить условие окончания или продолжения цикла 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истин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ить команды с пунк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ложн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ерейти к выполнению команды, следующей за цик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ыполнить команды тела цик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Изменить значение управляющей переменной цикла x += h, перейти 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2349360"/>
            <a:ext cx="91440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2708280"/>
            <a:ext cx="201636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3357720"/>
            <a:ext cx="3959280" cy="7189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113360"/>
            <a:ext cx="107928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4581360"/>
            <a:ext cx="5032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dur="indefinite" fill="hold">
                      <p:stCondLst>
                        <p:cond delay="0"/>
                      </p:stCondLst>
                      <p:childTnLst>
                        <p:par>
                          <p:cTn id="1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1" dur="2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2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2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2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5" dur="2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dur="indefinite" fill="hold">
                      <p:stCondLst>
                        <p:cond delay="indefinite"/>
                      </p:stCondLst>
                      <p:childTnLst>
                        <p:par>
                          <p:cTn id="1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dur="indefinite" fill="hold">
                      <p:stCondLst>
                        <p:cond delay="indefinite"/>
                      </p:stCondLst>
                      <p:childTnLst>
                        <p:par>
                          <p:cTn id="15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dur="indefinite" fill="hold">
                      <p:stCondLst>
                        <p:cond delay="indefinite"/>
                      </p:stCondLst>
                      <p:childTnLst>
                        <p:par>
                          <p:cTn id="15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2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dur="indefinite" fill="hold">
                      <p:stCondLst>
                        <p:cond delay="indefinite"/>
                      </p:stCondLst>
                      <p:childTnLst>
                        <p:par>
                          <p:cTn id="15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7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dur="indefinite" fill="hold">
                      <p:stCondLst>
                        <p:cond delay="indefinite"/>
                      </p:stCondLst>
                      <p:childTnLst>
                        <p:par>
                          <p:cTn id="1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9" dur="5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dur="indefinite" fill="hold">
                      <p:stCondLst>
                        <p:cond delay="indefinite"/>
                      </p:stCondLst>
                      <p:childTnLst>
                        <p:par>
                          <p:cTn id="15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7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1" dur="50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5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3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219640" y="1305000"/>
            <a:ext cx="3600360" cy="3384360"/>
          </a:xfrm>
          <a:prstGeom prst="rect">
            <a:avLst/>
          </a:prstGeom>
          <a:gradFill rotWithShape="0">
            <a:gsLst>
              <a:gs pos="0">
                <a:srgbClr val="92d2d2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я до обеда, надо выкопать траншею от за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нтяйкин, выкопав очередные 12.3 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оверяет, не пора ли обе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раншеи выкопает Лентяйкин от "забора и до обеда"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3399"/>
                </a:solidFill>
                <a:latin typeface="Garamond"/>
              </a:rPr>
              <a:t>Копание траншеи от забора до обеда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546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har 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loat 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Подойди к забору\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Обед (y/n) 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hile(ch = getche() != 'y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 += 12.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\ts = " &lt;&lt; s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\ns = " &lt;&lt;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508720" y="4797360"/>
            <a:ext cx="2705040" cy="1314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24000" y="5805360"/>
            <a:ext cx="4103640" cy="79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c0e5e5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команды будут записаны в программе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222120"/>
            <a:ext cx="8569080" cy="79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c0e5e5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будет исполняться программ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2565360"/>
            <a:ext cx="3600360" cy="720720"/>
          </a:xfrm>
          <a:prstGeom prst="rect">
            <a:avLst/>
          </a:prstGeom>
          <a:gradFill rotWithShape="0">
            <a:gsLst>
              <a:gs pos="0">
                <a:srgbClr val="a9dcdc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 = 'y'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о цикла не выпол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1268280"/>
            <a:ext cx="3600360" cy="1224000"/>
          </a:xfrm>
          <a:prstGeom prst="rect">
            <a:avLst/>
          </a:prstGeom>
          <a:gradFill rotWithShape="0">
            <a:gsLst>
              <a:gs pos="0">
                <a:srgbClr val="7ccaca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йди к за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д (y/n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9800" y="3357720"/>
            <a:ext cx="3598920" cy="2089080"/>
          </a:xfrm>
          <a:prstGeom prst="rect">
            <a:avLst/>
          </a:prstGeom>
          <a:gradFill rotWithShape="0">
            <a:gsLst>
              <a:gs pos="0">
                <a:srgbClr val="7ccaca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йди к за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д (y/n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n        s = 1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n        s = 2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n        s = 36.90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s = 36.90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48360" y="5516640"/>
            <a:ext cx="3600360" cy="1081080"/>
          </a:xfrm>
          <a:prstGeom prst="rect">
            <a:avLst/>
          </a:prstGeom>
          <a:gradFill rotWithShape="0">
            <a:gsLst>
              <a:gs pos="0">
                <a:srgbClr val="87cece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 = '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капл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ход из цик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жат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dur="indefinite" fill="hold">
                      <p:stCondLst>
                        <p:cond delay="0"/>
                      </p:stCondLst>
                      <p:childTnLst>
                        <p:par>
                          <p:cTn id="16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dur="indefinite" fill="hold">
                      <p:stCondLst>
                        <p:cond delay="indefinite"/>
                      </p:stCondLst>
                      <p:childTnLst>
                        <p:par>
                          <p:cTn id="1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1000" fill="hold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3000" fill="hold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dur="indefinite" fill="hold">
                      <p:stCondLst>
                        <p:cond delay="indefinite"/>
                      </p:stCondLst>
                      <p:childTnLst>
                        <p:par>
                          <p:cTn id="16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dur="indefinite" fill="hold">
                      <p:stCondLst>
                        <p:cond delay="indefinite"/>
                      </p:stCondLst>
                      <p:childTnLst>
                        <p:par>
                          <p:cTn id="1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1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1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1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9" dur="1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 fill="hold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dur="indefinite" fill="hold">
                      <p:stCondLst>
                        <p:cond delay="indefinite"/>
                      </p:stCondLst>
                      <p:childTnLst>
                        <p:par>
                          <p:cTn id="17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dur="indefinite" fill="hold">
                      <p:stCondLst>
                        <p:cond delay="indefinite"/>
                      </p:stCondLst>
                      <p:childTnLst>
                        <p:par>
                          <p:cTn id="17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4" dur="1000" fill="hold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dur="indefinite" fill="hold">
                      <p:stCondLst>
                        <p:cond delay="indefinite"/>
                      </p:stCondLst>
                      <p:childTnLst>
                        <p:par>
                          <p:cTn id="17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dur="indefinite" fill="hold">
                      <p:stCondLst>
                        <p:cond delay="indefinite"/>
                      </p:stCondLst>
                      <p:childTnLst>
                        <p:par>
                          <p:cTn id="1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9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2" dur="5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dur="indefinite" fill="hold">
                      <p:stCondLst>
                        <p:cond delay="indefinite"/>
                      </p:stCondLst>
                      <p:childTnLst>
                        <p:par>
                          <p:cTn id="17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dur="indefinite" fill="hold">
                      <p:stCondLst>
                        <p:cond delay="indefinite"/>
                      </p:stCondLst>
                      <p:childTnLst>
                        <p:par>
                          <p:cTn id="17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dur="indefinite" fill="hold">
                      <p:stCondLst>
                        <p:cond delay="indefinite"/>
                      </p:stCondLst>
                      <p:childTnLst>
                        <p:par>
                          <p:cTn id="18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4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0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6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с предусловием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удобно использ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ще называют этот вид цик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лючевые слова необходи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необходимы для организации цик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типы циклов мы рассмотр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dur="indefinite" fill="hold">
                      <p:stCondLst>
                        <p:cond delay="0"/>
                      </p:stCondLst>
                      <p:childTnLst>
                        <p:par>
                          <p:cTn id="18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dur="indefinite" fill="hold">
                      <p:stCondLst>
                        <p:cond delay="indefinite"/>
                      </p:stCondLst>
                      <p:childTnLst>
                        <p:par>
                          <p:cTn id="18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dur="indefinite" fill="hold">
                      <p:stCondLst>
                        <p:cond delay="indefinite"/>
                      </p:stCondLst>
                      <p:childTnLst>
                        <p:par>
                          <p:cTn id="18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dur="indefinite" fill="hold">
                      <p:stCondLst>
                        <p:cond delay="indefinite"/>
                      </p:stCondLst>
                      <p:childTnLst>
                        <p:par>
                          <p:cTn id="18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0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dur="indefinite" fill="hold">
                      <p:stCondLst>
                        <p:cond delay="indefinite"/>
                      </p:stCondLst>
                      <p:childTnLst>
                        <p:par>
                          <p:cTn id="18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3399"/>
                </a:solidFill>
                <a:latin typeface="Garamond"/>
              </a:rPr>
              <a:t>Вложенные циклы</a:t>
            </a:r>
            <a:endParaRPr b="0" lang="en-US" sz="7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в цик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dur="indefinite" fill="hold">
                      <p:stCondLst>
                        <p:cond delay="0"/>
                      </p:stCondLst>
                      <p:childTnLst>
                        <p:par>
                          <p:cTn id="18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Вложенные циклы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онструкция, в которой внутрь одного цикла помещен другой ци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, если имеется два или более параметров, изменяющихся строго заданны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д начал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32148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гда пройдет 12 месяцев - сменится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на д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32148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гда пройдет 30 дней - сменится меся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на сут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32148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гда пройдет 24 часа - сменится д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на ча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1320" indent="-32148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гда пройдет 60 минут - сменится ча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dur="indefinite" fill="hold">
                      <p:stCondLst>
                        <p:cond delay="0"/>
                      </p:stCondLst>
                      <p:childTnLst>
                        <p:par>
                          <p:cTn id="18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dur="indefinite" fill="hold">
                      <p:stCondLst>
                        <p:cond delay="indefinite"/>
                      </p:stCondLst>
                      <p:childTnLst>
                        <p:par>
                          <p:cTn id="19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3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1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1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Не забывайте: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ы нигде не должны пересека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ий цикл всегда должен начинаться раньше и заканчиваться поздне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яющая переменная внешнего цикла изменяется медленн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ий цикл всегда должен начинаться позднее и заканчиваться раньш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яющая переменная внутреннего цикла изменяется быстр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dur="indefinite" fill="hold">
                      <p:stCondLst>
                        <p:cond delay="0"/>
                      </p:stCondLst>
                      <p:childTnLst>
                        <p:par>
                          <p:cTn id="19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6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8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Вложенные циклы </a:t>
            </a: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for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340000" y="1125360"/>
            <a:ext cx="6696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 умножения на 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t i, j, v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or(i = 3; i &lt; 5; i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or(j = 1; j &lt; 11; j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v = i * j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out &lt;&lt; i &lt;&lt; " * " &lt;&lt; j &lt;&lt; " = " &lt;&lt; v &lt;&lt; end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out &lt;&lt; end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08000" y="4437000"/>
            <a:ext cx="2390760" cy="14097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900000" y="1341360"/>
            <a:ext cx="914400" cy="3049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" y="1773360"/>
            <a:ext cx="1062000" cy="287280"/>
          </a:xfrm>
          <a:prstGeom prst="flowChartPrepara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= 3,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32000" y="184464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8720" y="2205000"/>
            <a:ext cx="1062000" cy="287280"/>
          </a:xfrm>
          <a:prstGeom prst="flowChartPrepara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 = 1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32000" y="227808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8560" y="2637000"/>
            <a:ext cx="91440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 = i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4560" y="3141720"/>
            <a:ext cx="1440000" cy="288720"/>
          </a:xfrm>
          <a:prstGeom prst="flowChartInputOutpu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, j,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3933720"/>
            <a:ext cx="914400" cy="3049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32000" y="1628640"/>
            <a:ext cx="144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206064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2492280"/>
            <a:ext cx="144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32000" y="2924280"/>
            <a:ext cx="144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234936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544" y="680"/>
                </a:moveTo>
                <a:lnTo>
                  <a:pt x="544" y="771"/>
                </a:lnTo>
                <a:lnTo>
                  <a:pt x="0" y="771"/>
                </a:lnTo>
                <a:lnTo>
                  <a:pt x="0" y="0"/>
                </a:lnTo>
                <a:lnTo>
                  <a:pt x="22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8920" y="1916280"/>
            <a:ext cx="1726920" cy="1800000"/>
          </a:xfrm>
          <a:custGeom>
            <a:avLst/>
            <a:gdLst/>
            <a:ahLst/>
            <a:rect l="l" t="t" r="r" b="b"/>
            <a:pathLst>
              <a:path w="1088" h="1134">
                <a:moveTo>
                  <a:pt x="952" y="273"/>
                </a:moveTo>
                <a:lnTo>
                  <a:pt x="1088" y="273"/>
                </a:lnTo>
                <a:lnTo>
                  <a:pt x="1088" y="1134"/>
                </a:lnTo>
                <a:lnTo>
                  <a:pt x="0" y="1134"/>
                </a:lnTo>
                <a:lnTo>
                  <a:pt x="0" y="0"/>
                </a:lnTo>
                <a:lnTo>
                  <a:pt x="31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1916280"/>
            <a:ext cx="863640" cy="2017440"/>
          </a:xfrm>
          <a:custGeom>
            <a:avLst/>
            <a:gdLst/>
            <a:ahLst/>
            <a:rect l="l" t="t" r="r" b="b"/>
            <a:pathLst>
              <a:path w="544" h="1271">
                <a:moveTo>
                  <a:pt x="363" y="0"/>
                </a:moveTo>
                <a:lnTo>
                  <a:pt x="544" y="0"/>
                </a:lnTo>
                <a:lnTo>
                  <a:pt x="544" y="590"/>
                </a:lnTo>
                <a:lnTo>
                  <a:pt x="544" y="1180"/>
                </a:lnTo>
                <a:lnTo>
                  <a:pt x="0" y="1180"/>
                </a:lnTo>
                <a:lnTo>
                  <a:pt x="0" y="12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8000" y="1268280"/>
            <a:ext cx="1297080" cy="25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fdfd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=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5 =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6 =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7 =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8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9 = 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0 =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1270080"/>
            <a:ext cx="1297080" cy="25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fdfd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=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5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6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7 =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8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9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0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12000" y="5084640"/>
            <a:ext cx="3097080" cy="1440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fdfd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внешнего цикла происходит только тогда, когда полностью отработает внутренний цик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80000" y="549360"/>
            <a:ext cx="2627640" cy="57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0f0f0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ыглядит таблиц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0" dur="indefinite" restart="never" nodeType="tmRoot">
          <p:childTnLst>
            <p:seq>
              <p:cTn id="1981" dur="indefinite" nodeType="mainSeq">
                <p:childTnLst>
                  <p:par>
                    <p:cTn id="1982" dur="indefinite" fill="hold">
                      <p:stCondLst>
                        <p:cond delay="0"/>
                      </p:stCondLst>
                      <p:childTnLst>
                        <p:par>
                          <p:cTn id="19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3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dur="indefinite" fill="hold">
                      <p:stCondLst>
                        <p:cond delay="indefinite"/>
                      </p:stCondLst>
                      <p:childTnLst>
                        <p:par>
                          <p:cTn id="19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2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dur="indefinite" fill="hold">
                      <p:stCondLst>
                        <p:cond delay="indefinite"/>
                      </p:stCondLst>
                      <p:childTnLst>
                        <p:par>
                          <p:cTn id="2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dur="indefinite" fill="hold">
                      <p:stCondLst>
                        <p:cond delay="indefinite"/>
                      </p:stCondLst>
                      <p:childTnLst>
                        <p:par>
                          <p:cTn id="20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1" dur="1000" fill="hold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6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10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dur="indefinite" fill="hold">
                      <p:stCondLst>
                        <p:cond delay="indefinite"/>
                      </p:stCondLst>
                      <p:childTnLst>
                        <p:par>
                          <p:cTn id="20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3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dur="indefinite" fill="hold">
                      <p:stCondLst>
                        <p:cond delay="indefinite"/>
                      </p:stCondLst>
                      <p:childTnLst>
                        <p:par>
                          <p:cTn id="20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0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4" dur="indefinite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10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8" dur="indefinite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11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dur="indefinite" fill="hold">
                      <p:stCondLst>
                        <p:cond delay="indefinite"/>
                      </p:stCondLst>
                      <p:childTnLst>
                        <p:par>
                          <p:cTn id="2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7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3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9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4" dur="1000" fill="hold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6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2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8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4" dur="10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0" dur="10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10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8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8" dur="1000" fill="hold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4" dur="1000" fill="hold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dur="indefinite" fill="hold">
                      <p:stCondLst>
                        <p:cond delay="indefinite"/>
                      </p:stCondLst>
                      <p:childTnLst>
                        <p:par>
                          <p:cTn id="2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8" dur="2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0" dur="2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2" dur="2000" fill="hold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dur="indefinite" fill="hold">
                      <p:stCondLst>
                        <p:cond delay="indefinite"/>
                      </p:stCondLst>
                      <p:childTnLst>
                        <p:par>
                          <p:cTn id="2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6" dur="2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8" dur="20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0" dur="20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Вложенные циклы </a:t>
            </a: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do…while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loat m, p = 900.; int n1 = 0, n2; randomiz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1++; m = 0; n2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 += 20 + random(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2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while(m &lt; 1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n1 &lt;&lt; '\t' &lt;&lt; p &lt;&lt; " - " &lt;&lt; m &lt;&lt; " = 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 -= 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p &lt;&lt; "\t - " &lt;&lt; n2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while(p &gt; 4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27640" y="1125360"/>
            <a:ext cx="2806920" cy="2664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d5d5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гру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0 кг, состоящий из объектов масс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20 до 50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бирая по несколько объектов суммарной массой не более 100 кг, добиться, чтобы оставшийся груз не превышал 400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32720" y="4221000"/>
            <a:ext cx="2160360" cy="1584360"/>
          </a:xfrm>
          <a:prstGeom prst="cloudCallout">
            <a:avLst>
              <a:gd name="adj1" fmla="val -5694"/>
              <a:gd name="adj2" fmla="val -72046"/>
            </a:avLst>
          </a:prstGeom>
          <a:gradFill rotWithShape="0">
            <a:gsLst>
              <a:gs pos="0">
                <a:srgbClr val="cfcfc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объектов надо отобрать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27640" y="1052640"/>
            <a:ext cx="2843280" cy="4681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fbfb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4 итерации внешне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900 - 114 = 786 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     786 - 135 = 651 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     651 - 128 = 523 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      523 - 129 = 394 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5 итераций внешне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900 - 110 = 790 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     790 - 104 = 686 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     686 - 143 = 543 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      543 - 119 = 424 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      424 - 102 = 322 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5950080"/>
            <a:ext cx="8567640" cy="765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d5d5d5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масс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кладываемые больше 100 к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вшаяся меньше 400 к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80000" y="907920"/>
            <a:ext cx="2087280" cy="1368720"/>
          </a:xfrm>
          <a:prstGeom prst="wedgeEllipseCallout">
            <a:avLst>
              <a:gd name="adj1" fmla="val -59430"/>
              <a:gd name="adj2" fmla="val 52666"/>
            </a:avLst>
          </a:prstGeom>
          <a:gradFill rotWithShape="0">
            <a:gsLst>
              <a:gs pos="0">
                <a:srgbClr val="dfdfdf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dur="indefinite" fill="hold">
                      <p:stCondLst>
                        <p:cond delay="0"/>
                      </p:stCondLst>
                      <p:childTnLst>
                        <p:par>
                          <p:cTn id="2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dur="indefinite" fill="hold">
                      <p:stCondLst>
                        <p:cond delay="indefinite"/>
                      </p:stCondLst>
                      <p:childTnLst>
                        <p:par>
                          <p:cTn id="2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7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dur="indefinite" fill="hold">
                      <p:stCondLst>
                        <p:cond delay="indefinite"/>
                      </p:stCondLst>
                      <p:childTnLst>
                        <p:par>
                          <p:cTn id="2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4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6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4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2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2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0" dur="2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4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6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2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2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2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2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8" dur="2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2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2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4" dur="2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8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8" dur="2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2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0" dur="2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9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20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20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20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dur="indefinite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9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2000" fill="hold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2000" fill="hold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2" dur="2000" fill="hold"/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0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20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20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8" dur="20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dur="indefinite" fill="hold">
                            <p:stCondLst>
                              <p:cond delay="26000"/>
                            </p:stCondLst>
                            <p:childTnLst>
                              <p:par>
                                <p:cTn id="231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20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20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20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dur="indefinite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1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8" dur="2000" fill="hold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2000" fill="hold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0" dur="2000" fill="hold"/>
                                        <p:tgtEl>
                                          <p:spTgt spid="3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dur="indefinite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2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2000" fill="hold"/>
                                        <p:tgtEl>
                                          <p:spTgt spid="3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6" dur="2000" fill="hold"/>
                                        <p:tgtEl>
                                          <p:spTgt spid="3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dur="indefinite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20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20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2" dur="20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3" dur="indefinite" fill="hold">
                            <p:stCondLst>
                              <p:cond delay="34000"/>
                            </p:stCondLst>
                            <p:childTnLst>
                              <p:par>
                                <p:cTn id="233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2000" fill="hold"/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2000" fill="hold"/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8" dur="2000" fill="hold"/>
                                        <p:tgtEl>
                                          <p:spTgt spid="3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dur="indefinite" fill="hold">
                      <p:stCondLst>
                        <p:cond delay="indefinite"/>
                      </p:stCondLst>
                      <p:childTnLst>
                        <p:par>
                          <p:cTn id="2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2" dur="2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4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5" dur="2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7" dur="2000" fill="hold"/>
                                        <p:tgtEl>
                                          <p:spTgt spid="3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dur="indefinite" fill="hold">
                      <p:stCondLst>
                        <p:cond delay="indefinite"/>
                      </p:stCondLst>
                      <p:childTnLst>
                        <p:par>
                          <p:cTn id="2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1" dur="2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3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4" dur="2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5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6" dur="2000" fill="hold"/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0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dur="indefinite" fill="hold">
                      <p:stCondLst>
                        <p:cond delay="indefinite"/>
                      </p:stCondLst>
                      <p:childTnLst>
                        <p:par>
                          <p:cTn id="2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6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9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4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dur="indefinite" fill="hold">
                      <p:stCondLst>
                        <p:cond delay="indefinite"/>
                      </p:stCondLst>
                      <p:childTnLst>
                        <p:par>
                          <p:cTn id="2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1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Вложенные циклы </a:t>
            </a: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while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518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graphics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dos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"..\\h\\init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it(); setbkcolor(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t x = 70,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hile(x &lt; 6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y = 6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hile(y &lt; 4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ircle(x, y, 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y += 50; delay(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x += 5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 closegrap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3652920" cy="2739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364000" y="981000"/>
            <a:ext cx="3529080" cy="2303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d5d5"/>
              </a:gs>
              <a:gs pos="100000">
                <a:srgbClr val="f7f7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ких элементарных фигур состоит орнамен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ли какая-нибудь закономерность в построении окружнос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данные меняются строго определенным образ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4" dur="indefinite" restart="never" nodeType="tmRoot">
          <p:childTnLst>
            <p:seq>
              <p:cTn id="2385" dur="indefinite" nodeType="mainSeq">
                <p:childTnLst>
                  <p:par>
                    <p:cTn id="2386" dur="indefinite" fill="hold">
                      <p:stCondLst>
                        <p:cond delay="0"/>
                      </p:stCondLst>
                      <p:childTnLst>
                        <p:par>
                          <p:cTn id="2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dur="indefinite" fill="hold">
                      <p:stCondLst>
                        <p:cond delay="indefinite"/>
                      </p:stCondLst>
                      <p:childTnLst>
                        <p:par>
                          <p:cTn id="2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0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8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dur="indefinite" fill="hold">
                      <p:stCondLst>
                        <p:cond delay="indefinite"/>
                      </p:stCondLst>
                      <p:childTnLst>
                        <p:par>
                          <p:cTn id="2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3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5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dur="indefinite" fill="hold">
                      <p:stCondLst>
                        <p:cond delay="indefinite"/>
                      </p:stCondLst>
                      <p:childTnLst>
                        <p:par>
                          <p:cTn id="2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dur="indefinite" fill="hold">
                      <p:stCondLst>
                        <p:cond delay="indefinite"/>
                      </p:stCondLst>
                      <p:childTnLst>
                        <p:par>
                          <p:cTn id="2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5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5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7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1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3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9" dur="1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5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1" dur="10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7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3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4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 fill="hold"/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9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5" dur="1000" fill="hold"/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1000" fill="hold"/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1" dur="1000" fill="hold"/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2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1000" fill="hold"/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7" dur="1000" fill="hold"/>
                                        <p:tgtEl>
                                          <p:spTgt spid="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0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3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3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3" dur="1000" fill="hold"/>
                                        <p:tgtEl>
                                          <p:spTgt spid="3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4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3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3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9" dur="1000" fill="hold"/>
                                        <p:tgtEl>
                                          <p:spTgt spid="3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2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3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3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5" dur="1000" fill="hold"/>
                                        <p:tgtEl>
                                          <p:spTgt spid="3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2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3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3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1" dur="1000" fill="hold"/>
                                        <p:tgtEl>
                                          <p:spTgt spid="3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3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3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3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7" dur="1000" fill="hold"/>
                                        <p:tgtEl>
                                          <p:spTgt spid="3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dur="indefinite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3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3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3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3" dur="1000" fill="hold"/>
                                        <p:tgtEl>
                                          <p:spTgt spid="3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с параметром </a:t>
            </a: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for</a:t>
            </a:r>
            <a:r>
              <a:rPr b="0" lang="en-US" sz="44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–</a:t>
            </a: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 ДЛЯ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, когда известно точное количество повторов, которое нужно выполнить (регулярный цик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492280"/>
            <a:ext cx="1295280" cy="289080"/>
          </a:xfrm>
          <a:prstGeom prst="flowChartPreparat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a, b,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4400" y="2565360"/>
            <a:ext cx="215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997360"/>
            <a:ext cx="1366920" cy="43164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ия команд тела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7080" y="2205000"/>
            <a:ext cx="144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2400" y="2781360"/>
            <a:ext cx="14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637000"/>
            <a:ext cx="863640" cy="936360"/>
          </a:xfrm>
          <a:custGeom>
            <a:avLst/>
            <a:gdLst/>
            <a:ahLst/>
            <a:rect l="l" t="t" r="r" b="b"/>
            <a:pathLst>
              <a:path w="544" h="590">
                <a:moveTo>
                  <a:pt x="544" y="499"/>
                </a:moveTo>
                <a:lnTo>
                  <a:pt x="544" y="590"/>
                </a:lnTo>
                <a:lnTo>
                  <a:pt x="0" y="59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63700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20760" y="2637000"/>
            <a:ext cx="863640" cy="129672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454" y="0"/>
                </a:moveTo>
                <a:lnTo>
                  <a:pt x="544" y="0"/>
                </a:lnTo>
                <a:lnTo>
                  <a:pt x="544" y="680"/>
                </a:lnTo>
                <a:lnTo>
                  <a:pt x="0" y="680"/>
                </a:lnTo>
                <a:lnTo>
                  <a:pt x="0" y="8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4000" y="3860640"/>
            <a:ext cx="14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2060640"/>
            <a:ext cx="518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(x = a; x &lt;= b; x += 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// серия команд тела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перат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221000"/>
            <a:ext cx="8351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адать начальное значение управляющей переменной цикла x =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ыполнить команды тела цик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Изменить значение управляющей переменной цикла x += 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роверить условие окончания или продолжения цикла x &lt;=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истин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ыполнить команды с пункта 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ло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ейти к выполнению команды, следующей за цик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81480" y="2133720"/>
            <a:ext cx="792000" cy="3585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852640"/>
            <a:ext cx="4319640" cy="792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4720" y="2133720"/>
            <a:ext cx="936720" cy="36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2133720"/>
            <a:ext cx="1008000" cy="36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789360"/>
            <a:ext cx="50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197000"/>
            <a:ext cx="8424720" cy="69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ядок работы цикл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Подумайте и скажите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ой цикл можно назвать вложенны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правила записи вложенных цикл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гут ли циклы пересекаться друг с друг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команды необходимы для организации циклов любого вид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4" dur="indefinite" restart="never" nodeType="tmRoot">
          <p:childTnLst>
            <p:seq>
              <p:cTn id="2545" dur="indefinite" nodeType="mainSeq">
                <p:childTnLst>
                  <p:par>
                    <p:cTn id="2546" dur="indefinite" fill="hold">
                      <p:stCondLst>
                        <p:cond delay="0"/>
                      </p:stCondLst>
                      <p:childTnLst>
                        <p:par>
                          <p:cTn id="2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dur="indefinite" fill="hold">
                      <p:stCondLst>
                        <p:cond delay="indefinite"/>
                      </p:stCondLst>
                      <p:childTnLst>
                        <p:par>
                          <p:cTn id="25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0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dur="indefinite" fill="hold">
                      <p:stCondLst>
                        <p:cond delay="indefinite"/>
                      </p:stCondLst>
                      <p:childTnLst>
                        <p:par>
                          <p:cTn id="25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dur="indefinite" fill="hold">
                      <p:stCondLst>
                        <p:cond delay="indefinite"/>
                      </p:stCondLst>
                      <p:childTnLst>
                        <p:par>
                          <p:cTn id="2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4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Значения функции 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y = sin(x)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765000"/>
            <a:ext cx="5986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3920">
              <a:spcBef>
                <a:spcPts val="64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числить для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яющегося о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шаг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3920"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3920"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math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3920"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3920"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7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float a = 0, b = 180, h = 10, x,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7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for(x = a; x &lt;= b; x += 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7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37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// тело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37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y = sin(x * M_PI / 18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37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out &lt;&lt; " sin(" &lt;&lt; x &lt;&lt; ") = " &lt;&lt; y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7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3920"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04000" y="1989000"/>
            <a:ext cx="1824120" cy="40878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6885000" y="1341360"/>
            <a:ext cx="1884240" cy="581040"/>
            <a:chOff x="6885000" y="1341360"/>
            <a:chExt cx="1884240" cy="581040"/>
          </a:xfrm>
        </p:grpSpPr>
        <p:sp>
          <p:nvSpPr>
            <p:cNvPr id="112" name=""/>
            <p:cNvSpPr/>
            <p:nvPr/>
          </p:nvSpPr>
          <p:spPr>
            <a:xfrm>
              <a:off x="8769240" y="1341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85000" y="176832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47120" y="1695600"/>
              <a:ext cx="2221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52000" y="1751040"/>
              <a:ext cx="0" cy="2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2320" y="1751040"/>
              <a:ext cx="0" cy="2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53280" y="1751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04040" y="175104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67560" y="1751040"/>
              <a:ext cx="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29600" y="1793880"/>
              <a:ext cx="2221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19920" y="1790640"/>
              <a:ext cx="2239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61040" y="1649520"/>
              <a:ext cx="2224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53400" y="175248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91360" y="175248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732720" y="2529000"/>
            <a:ext cx="2016000" cy="3315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3500280"/>
            <a:ext cx="2881440" cy="360360"/>
          </a:xfrm>
          <a:prstGeom prst="rect">
            <a:avLst/>
          </a:prstGeom>
          <a:noFill/>
          <a:ln w="28440">
            <a:solidFill>
              <a:srgbClr val="09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3068640"/>
            <a:ext cx="3745080" cy="3859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2925720"/>
            <a:ext cx="1439640" cy="517680"/>
          </a:xfrm>
          <a:prstGeom prst="rect">
            <a:avLst/>
          </a:prstGeom>
          <a:noFill/>
          <a:ln w="28440">
            <a:solidFill>
              <a:srgbClr val="09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4149720"/>
            <a:ext cx="4969080" cy="1224000"/>
          </a:xfrm>
          <a:prstGeom prst="rect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12000" y="3500280"/>
            <a:ext cx="1582560" cy="1729080"/>
          </a:xfrm>
          <a:prstGeom prst="rect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00" y="1773360"/>
            <a:ext cx="309564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исполняется программ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0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Концентрические окружности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59036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graphics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"..\\h\\init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tbkcolor(0); setlinestyle(1, 1, 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(i = 1; i &lt;= 15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tcolor(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ircle(300, 240, i * 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getch(); closegrap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553080" y="4184640"/>
            <a:ext cx="2394000" cy="2533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308720" y="1341360"/>
            <a:ext cx="914400" cy="304920"/>
          </a:xfrm>
          <a:prstGeom prst="flowChartTerminator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1846440"/>
            <a:ext cx="1422360" cy="360360"/>
          </a:xfrm>
          <a:prstGeom prst="flowChartPreparat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 = 1, 15,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81840" y="1917720"/>
            <a:ext cx="25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69120" y="2422440"/>
            <a:ext cx="1058760" cy="289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 = 1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2925720"/>
            <a:ext cx="151128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(300, 240, 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12000" y="1630440"/>
            <a:ext cx="18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12000" y="2206800"/>
            <a:ext cx="18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2709720"/>
            <a:ext cx="18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8360" y="2025720"/>
            <a:ext cx="863640" cy="1582560"/>
          </a:xfrm>
          <a:custGeom>
            <a:avLst/>
            <a:gdLst/>
            <a:ahLst/>
            <a:rect l="l" t="t" r="r" b="b"/>
            <a:pathLst>
              <a:path w="544" h="997">
                <a:moveTo>
                  <a:pt x="544" y="907"/>
                </a:moveTo>
                <a:lnTo>
                  <a:pt x="544" y="997"/>
                </a:lnTo>
                <a:lnTo>
                  <a:pt x="0" y="997"/>
                </a:lnTo>
                <a:lnTo>
                  <a:pt x="0" y="0"/>
                </a:lnTo>
                <a:lnTo>
                  <a:pt x="9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18200" y="3608280"/>
            <a:ext cx="147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948360" y="213192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2025720"/>
            <a:ext cx="936720" cy="1765080"/>
          </a:xfrm>
          <a:custGeom>
            <a:avLst/>
            <a:gdLst/>
            <a:ahLst/>
            <a:rect l="l" t="t" r="r" b="b"/>
            <a:pathLst>
              <a:path w="590" h="1134">
                <a:moveTo>
                  <a:pt x="454" y="0"/>
                </a:moveTo>
                <a:lnTo>
                  <a:pt x="590" y="0"/>
                </a:lnTo>
                <a:lnTo>
                  <a:pt x="590" y="1043"/>
                </a:lnTo>
                <a:lnTo>
                  <a:pt x="0" y="1043"/>
                </a:lnTo>
                <a:lnTo>
                  <a:pt x="0" y="113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80360" y="3790800"/>
            <a:ext cx="914400" cy="304920"/>
          </a:xfrm>
          <a:prstGeom prst="flowChartTerminator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1773360"/>
            <a:ext cx="309564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исполняется программ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dur="indefinite" fill="hold">
                      <p:stCondLst>
                        <p:cond delay="0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 fill="hold"/>
                                        <p:tgtEl>
                                          <p:spTgt spid="1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dur="indefinite" fill="hold">
                      <p:stCondLst>
                        <p:cond delay="indefinite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 fill="hold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Отрицательное значение шага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613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бы всех целых чисел в диапазоне от 5 до 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нечное значение управляющей переменной цикл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ее начального зна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 i, a = 5, b = -3,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or(i = a; i &gt;= b; i-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i * i *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ut &lt;&lt; "y = " &lt;&lt; i &lt;&lt; " * " &lt;&lt; i &lt;&lt; " * " &lt;&lt;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&lt; " = " &lt;&lt; y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2349360"/>
            <a:ext cx="2411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5 * 5 * 5 =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4 * 4 * 4 =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3 * 3 * 3 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2 * 2 * 2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1 * 1 * 1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0 * 0 * 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-1 * -1 * -1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-2 * -2 * -2 = 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 = -3 * -3 * -3 = 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5300640"/>
            <a:ext cx="79218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вод: значение управляющей переменной цикла можно как увеличивать, так и умень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2349360"/>
            <a:ext cx="309528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значения приме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349360"/>
            <a:ext cx="309528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будет выведен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dur="indefinite" fill="hold">
                      <p:stCondLst>
                        <p:cond delay="0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68" dur="1500" autoRev="1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69" dur="1500" autoRev="1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470" dur="1500" autoRev="1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dur="indefinite" fill="hold">
                      <p:stCondLst>
                        <p:cond delay="indefinite"/>
                      </p:stCondLst>
                      <p:childTnLst>
                        <p:par>
                          <p:cTn id="4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dur="indefinite" fill="hold">
                      <p:stCondLst>
                        <p:cond delay="indefinite"/>
                      </p:stCondLst>
                      <p:childTnLst>
                        <p:par>
                          <p:cTn id="5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dur="indefinite" fill="hold">
                      <p:stCondLst>
                        <p:cond delay="indefinite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dur="indefinite" fill="hold">
                      <p:stCondLst>
                        <p:cond delay="indefinite"/>
                      </p:stCondLst>
                      <p:childTnLst>
                        <p:par>
                          <p:cTn id="5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dur="indefinite" fill="hold">
                      <p:stCondLst>
                        <p:cond delay="indefinite"/>
                      </p:stCondLst>
                      <p:childTnLst>
                        <p:par>
                          <p:cTn id="5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56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dur="indefinite" fill="hold">
                      <p:stCondLst>
                        <p:cond delay="indefinite"/>
                      </p:stCondLst>
                      <p:childTnLst>
                        <p:par>
                          <p:cTn id="6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с параметром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удобно использ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еще называют этот вид цик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лючевые слова необходи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программный код надо написать для вывода на экран всех значений целых чисел от -2 до 5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обратном поряд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раз повторится 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(int i =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 i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dur="indefinite" fill="hold">
                      <p:stCondLst>
                        <p:cond delay="0"/>
                      </p:stCondLst>
                      <p:childTnLst>
                        <p:par>
                          <p:cTn id="6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dur="indefinite" fill="hold">
                      <p:stCondLst>
                        <p:cond delay="indefinite"/>
                      </p:stCondLst>
                      <p:childTnLst>
                        <p:par>
                          <p:cTn id="6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dur="indefinite" fill="hold">
                      <p:stCondLst>
                        <p:cond delay="indefinite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dur="indefinite" fill="hold">
                      <p:stCondLst>
                        <p:cond delay="indefinite"/>
                      </p:stCondLst>
                      <p:childTnLst>
                        <p:par>
                          <p:cTn id="6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dur="indefinite" fill="hold">
                      <p:stCondLst>
                        <p:cond delay="indefinite"/>
                      </p:stCondLst>
                      <p:childTnLst>
                        <p:par>
                          <p:cTn id="6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</a:t>
            </a: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do … while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– </a:t>
            </a: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цикл ДО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8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, когда не известно точное количество повторов, но цикл необходимо выполнить хотя бы один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постуслов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781360"/>
            <a:ext cx="914400" cy="28872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3286080"/>
            <a:ext cx="1366920" cy="43200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ия команд тела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3933720"/>
            <a:ext cx="914400" cy="289080"/>
          </a:xfrm>
          <a:prstGeom prst="flowChart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x +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3120" y="4438800"/>
            <a:ext cx="1295280" cy="36036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&gt;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20760" y="2494080"/>
            <a:ext cx="144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20760" y="3070080"/>
            <a:ext cx="14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24000" y="3718080"/>
            <a:ext cx="144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20760" y="4222800"/>
            <a:ext cx="14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3178080"/>
            <a:ext cx="826920" cy="1440000"/>
          </a:xfrm>
          <a:custGeom>
            <a:avLst/>
            <a:gdLst/>
            <a:ahLst/>
            <a:rect l="l" t="t" r="r" b="b"/>
            <a:pathLst>
              <a:path w="499" h="862">
                <a:moveTo>
                  <a:pt x="91" y="862"/>
                </a:moveTo>
                <a:lnTo>
                  <a:pt x="0" y="862"/>
                </a:lnTo>
                <a:lnTo>
                  <a:pt x="0" y="0"/>
                </a:lnTo>
                <a:lnTo>
                  <a:pt x="49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93840" y="4618080"/>
            <a:ext cx="147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95280" y="317628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24000" y="4797360"/>
            <a:ext cx="14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60360" y="479736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43657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2492280"/>
            <a:ext cx="6048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// серия команд тела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перат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x += 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} while (x &gt;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048280"/>
            <a:ext cx="8640720" cy="17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адать до цикла начальное значение управляющей переменной цикла x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ыполнить команды тела цик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Изменить значение управляющей переменной цикла x +=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роверить условие окончания или продолжения цикла 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лож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ить команды с пункта 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0360"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истин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ерейти к выполнению команды, следующей за цик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268280"/>
            <a:ext cx="8713800" cy="11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ядок работы цикл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… 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492280"/>
            <a:ext cx="91440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3357720"/>
            <a:ext cx="4103640" cy="6109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62200" y="3933720"/>
            <a:ext cx="108108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4292640"/>
            <a:ext cx="1800000" cy="3603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508640"/>
            <a:ext cx="50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dur="indefinite" fill="hold">
                      <p:stCondLst>
                        <p:cond delay="0"/>
                      </p:stCondLst>
                      <p:childTnLst>
                        <p:par>
                          <p:cTn id="6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6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77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77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78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dur="indefinite" fill="hold">
                      <p:stCondLst>
                        <p:cond delay="indefinite"/>
                      </p:stCondLst>
                      <p:childTnLst>
                        <p:par>
                          <p:cTn id="8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dur="indefinite" fill="hold">
                      <p:stCondLst>
                        <p:cond delay="indefinite"/>
                      </p:stCondLst>
                      <p:childTnLst>
                        <p:par>
                          <p:cTn id="8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dur="indefinite" fill="hold">
                      <p:stCondLst>
                        <p:cond delay="indefinite"/>
                      </p:stCondLst>
                      <p:childTnLst>
                        <p:par>
                          <p:cTn id="8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2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dur="indefinite" fill="hold">
                      <p:stCondLst>
                        <p:cond delay="indefinite"/>
                      </p:stCondLst>
                      <p:childTnLst>
                        <p:par>
                          <p:cTn id="8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4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dur="indefinite" fill="hold">
                      <p:stCondLst>
                        <p:cond delay="indefinite"/>
                      </p:stCondLst>
                      <p:childTnLst>
                        <p:par>
                          <p:cTn id="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dur="indefinite" fill="hold">
                      <p:stCondLst>
                        <p:cond delay="indefinite"/>
                      </p:stCondLst>
                      <p:childTnLst>
                        <p:par>
                          <p:cTn id="8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8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dur="indefinite" fill="hold">
                      <p:stCondLst>
                        <p:cond delay="indefinite"/>
                      </p:stCondLst>
                      <p:childTnLst>
                        <p:par>
                          <p:cTn id="8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Построение вложенных квадратов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39304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graphics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"..\\h\\init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getch(); closegrap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4920" y="1412640"/>
            <a:ext cx="554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построение квад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randomiz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etbkcolor(0); setlinestyle(1, 1, 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int x = 310, y = 230, c, h = 6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 = 2*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 = random(1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etcolor(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rectangle(x, y, x + a, y -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x -= 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y += 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 += 2 * 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} while(a &lt; 2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27640" y="34290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093080" y="1413000"/>
            <a:ext cx="914400" cy="30456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5661000"/>
            <a:ext cx="914400" cy="3049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1846440"/>
            <a:ext cx="1474920" cy="287280"/>
          </a:xfrm>
          <a:prstGeom prst="flowChartInputOutpu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, y,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278080"/>
            <a:ext cx="71928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= 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2709720"/>
            <a:ext cx="1582560" cy="28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генерировать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4720" y="3141720"/>
            <a:ext cx="180000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ть цвет ри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3573360"/>
            <a:ext cx="2232000" cy="358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рисовать прямоуг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4078440"/>
            <a:ext cx="719280" cy="50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= x 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= y +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56360" y="4726080"/>
            <a:ext cx="93672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= a + 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56360" y="5157720"/>
            <a:ext cx="914400" cy="35892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&lt;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12000" y="544500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59640" y="5013360"/>
            <a:ext cx="28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170028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13372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24720" y="256536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299736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342900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24720" y="393372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24720" y="458136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4720" y="501336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4720" y="55166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8720" y="2637000"/>
            <a:ext cx="1116000" cy="2703240"/>
          </a:xfrm>
          <a:custGeom>
            <a:avLst/>
            <a:gdLst/>
            <a:ahLst/>
            <a:rect l="l" t="t" r="r" b="b"/>
            <a:pathLst>
              <a:path w="726" h="1724">
                <a:moveTo>
                  <a:pt x="408" y="1724"/>
                </a:moveTo>
                <a:lnTo>
                  <a:pt x="0" y="1724"/>
                </a:lnTo>
                <a:lnTo>
                  <a:pt x="0" y="0"/>
                </a:lnTo>
                <a:lnTo>
                  <a:pt x="72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442200" y="5335560"/>
            <a:ext cx="147600" cy="1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05480" y="2779560"/>
            <a:ext cx="1800" cy="1461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4149720"/>
            <a:ext cx="3384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строение квад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5287680" y="4584600"/>
            <a:ext cx="152640" cy="1873080"/>
          </a:xfrm>
          <a:custGeom>
            <a:avLst/>
            <a:gdLst>
              <a:gd name="textAreaLeft" fmla="*/ 97560 w 152640"/>
              <a:gd name="textAreaRight" fmla="*/ 153000 w 1526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19640" y="5661000"/>
            <a:ext cx="287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dur="indefinite" fill="hold">
                      <p:stCondLst>
                        <p:cond delay="0"/>
                      </p:stCondLst>
                      <p:childTnLst>
                        <p:par>
                          <p:cTn id="8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dur="indefinite" fill="hold">
                      <p:stCondLst>
                        <p:cond delay="indefinite"/>
                      </p:stCondLst>
                      <p:childTnLst>
                        <p:par>
                          <p:cTn id="9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5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97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dur="indefinite" fill="hold">
                      <p:stCondLst>
                        <p:cond delay="indefinite"/>
                      </p:stCondLst>
                      <p:childTnLst>
                        <p:par>
                          <p:cTn id="9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4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dur="indefinite" fill="hold">
                      <p:stCondLst>
                        <p:cond delay="indefinite"/>
                      </p:stCondLst>
                      <p:childTnLst>
                        <p:par>
                          <p:cTn id="10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dur="indefinite" fill="hold">
                      <p:stCondLst>
                        <p:cond delay="indefinite"/>
                      </p:stCondLst>
                      <p:childTnLst>
                        <p:par>
                          <p:cTn id="10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3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3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3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3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3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3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3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3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3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Покупка по </a:t>
            </a: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x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4200" spc="-1" strike="noStrike">
                <a:solidFill>
                  <a:srgbClr val="003399"/>
                </a:solidFill>
                <a:latin typeface="Garamond"/>
              </a:rPr>
              <a:t>рублей на ≤ </a:t>
            </a: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p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#include&lt;iostrea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loat x, p, s, o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t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x = "; cin &gt;&gt;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p = "; cin &gt;&gt; 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 = 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k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k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 +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while(p - s &gt;= 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= p -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out &lt;&lt; "k = " &lt;&lt; k &lt;&lt; "\ts = " &lt;&lt; s &lt;&lt; "\to = " &lt;&lt; 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12000" y="1557360"/>
            <a:ext cx="914400" cy="3049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12000" y="5084640"/>
            <a:ext cx="914400" cy="3049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23280" y="1990800"/>
            <a:ext cx="1474560" cy="287280"/>
          </a:xfrm>
          <a:prstGeom prst="flowChartInputOutpu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,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12000" y="2422440"/>
            <a:ext cx="93528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= 0, k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83640" y="4222800"/>
            <a:ext cx="718920" cy="285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= p –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6360" y="3716280"/>
            <a:ext cx="1295280" cy="35892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– 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≥ 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51640" y="364500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44000" y="18446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44000" y="22780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4000" y="270972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44000" y="314172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44000" y="357336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44000" y="4078440"/>
            <a:ext cx="144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44000" y="4508640"/>
            <a:ext cx="1440" cy="14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44000" y="494172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450200" y="3897360"/>
            <a:ext cx="147600" cy="1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451640" y="2922480"/>
            <a:ext cx="1800" cy="1461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12000" y="2852640"/>
            <a:ext cx="93672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= k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12000" y="3284640"/>
            <a:ext cx="936720" cy="28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= s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51640" y="2781360"/>
            <a:ext cx="792360" cy="1116000"/>
          </a:xfrm>
          <a:custGeom>
            <a:avLst/>
            <a:gdLst/>
            <a:ahLst/>
            <a:rect l="l" t="t" r="r" b="b"/>
            <a:pathLst>
              <a:path w="590" h="680">
                <a:moveTo>
                  <a:pt x="182" y="680"/>
                </a:moveTo>
                <a:lnTo>
                  <a:pt x="0" y="680"/>
                </a:lnTo>
                <a:lnTo>
                  <a:pt x="0" y="0"/>
                </a:lnTo>
                <a:lnTo>
                  <a:pt x="59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400536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483320" y="4653000"/>
            <a:ext cx="1474920" cy="287280"/>
          </a:xfrm>
          <a:prstGeom prst="flowChartInputOutpu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, s,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1557360"/>
            <a:ext cx="3240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а 1 штуки тов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ющаяся су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k - колич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 - сто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 - остаток ден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5805360"/>
            <a:ext cx="3961080" cy="79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c0e5e5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чем нужны ком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0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222120"/>
            <a:ext cx="8569080" cy="79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c0e5e5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будет исполняться программ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8360" y="1341360"/>
            <a:ext cx="3600360" cy="3745080"/>
          </a:xfrm>
          <a:prstGeom prst="rect">
            <a:avLst/>
          </a:prstGeom>
          <a:gradFill rotWithShape="0">
            <a:gsLst>
              <a:gs pos="0">
                <a:srgbClr val="a3d9d9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x = 2.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p = 10.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k = 1   s = 2.21        o = 8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k = 2   s = 4.42        o = 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k = 3   s = 6.63        o = 4.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k = 4   s = 8.84        o = 1.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k = 4   s = 8.84        o = 1.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5805360"/>
            <a:ext cx="4103640" cy="79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c0e5e5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команды будут записаны в программе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dur="indefinite" fill="hold">
                      <p:stCondLst>
                        <p:cond delay="0"/>
                      </p:stCondLst>
                      <p:childTnLst>
                        <p:par>
                          <p:cTn id="10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dur="indefinite" fill="hold">
                      <p:stCondLst>
                        <p:cond delay="indefinite"/>
                      </p:stCondLst>
                      <p:childTnLst>
                        <p:par>
                          <p:cTn id="1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3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 fill="hold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dur="indefinite" fill="hold">
                      <p:stCondLst>
                        <p:cond delay="indefinite"/>
                      </p:stCondLst>
                      <p:childTnLst>
                        <p:par>
                          <p:cTn id="1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dur="indefinite" fill="hold">
                      <p:stCondLst>
                        <p:cond delay="indefinite"/>
                      </p:stCondLst>
                      <p:childTnLst>
                        <p:par>
                          <p:cTn id="1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dur="indefinite" fill="hold">
                      <p:stCondLst>
                        <p:cond delay="indefinite"/>
                      </p:stCondLst>
                      <p:childTnLst>
                        <p:par>
                          <p:cTn id="1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1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10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dur="indefinite" fill="hold">
                      <p:stCondLst>
                        <p:cond delay="indefinite"/>
                      </p:stCondLst>
                      <p:childTnLst>
                        <p:par>
                          <p:cTn id="1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 fill="hold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 fill="hold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dur="indefinite" fill="hold">
                      <p:stCondLst>
                        <p:cond delay="indefinite"/>
                      </p:stCondLst>
                      <p:childTnLst>
                        <p:par>
                          <p:cTn id="1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dur="indefinite" fill="hold">
                      <p:stCondLst>
                        <p:cond delay="indefinite"/>
                      </p:stCondLst>
                      <p:childTnLst>
                        <p:par>
                          <p:cTn id="1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dur="indefinite" fill="hold">
                      <p:stCondLst>
                        <p:cond delay="indefinite"/>
                      </p:stCondLst>
                      <p:childTnLst>
                        <p:par>
                          <p:cTn id="1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dur="indefinite" fill="hold">
                      <p:stCondLst>
                        <p:cond delay="indefinite"/>
                      </p:stCondLst>
                      <p:childTnLst>
                        <p:par>
                          <p:cTn id="1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dur="indefinite" fill="hold">
                      <p:stCondLst>
                        <p:cond delay="indefinite"/>
                      </p:stCondLst>
                      <p:childTnLst>
                        <p:par>
                          <p:cTn id="1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dur="indefinite" fill="hold">
                      <p:stCondLst>
                        <p:cond delay="indefinite"/>
                      </p:stCondLst>
                      <p:childTnLst>
                        <p:par>
                          <p:cTn id="1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dur="indefinite" fill="hold">
                      <p:stCondLst>
                        <p:cond delay="indefinite"/>
                      </p:stCondLst>
                      <p:childTnLst>
                        <p:par>
                          <p:cTn id="1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dur="indefinite" fill="hold">
                      <p:stCondLst>
                        <p:cond delay="indefinite"/>
                      </p:stCondLst>
                      <p:childTnLst>
                        <p:par>
                          <p:cTn id="1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3:09:29Z</dcterms:created>
  <dc:creator>WinXP</dc:creator>
  <dc:description/>
  <dc:language>en-US</dc:language>
  <cp:lastModifiedBy>WinXP</cp:lastModifiedBy>
  <dcterms:modified xsi:type="dcterms:W3CDTF">2012-01-08T19:54:46Z</dcterms:modified>
  <cp:revision>142</cp:revision>
  <dc:subject/>
  <dc:title>Программирование циклов</dc:title>
</cp:coreProperties>
</file>