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2A62-6702-400F-ADA5-045C69F99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5E01-DB7E-48BA-80F4-B3710C96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2C7C-7F2D-4279-9319-479E4235C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7494-CE86-41C9-8C60-7FEE401C7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41C9-A35F-4654-9E95-3C1CC1C9A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972D-4AC1-4498-85F9-5A6DF779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0069-6B68-450D-9F75-B20A6339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A6FE-9CCA-4003-A512-588576D0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2758-13AE-476C-8BED-4DA7797B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A300-8D52-4002-8B5E-AC85C661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36D5-18B7-48F9-BE9E-84A1AE01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7305-578C-4F04-B905-69000C29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C10D3-9A6F-4586-8638-D3E90EAB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3346-D8EE-414A-8E04-EB20C482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44DBD-8C82-4F4D-B03F-4B4297B2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18B1-53C1-44A2-927E-55D1D4501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4873-DEE5-4A3C-AB35-7B71785A2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7602-9551-4F22-9E66-38F3D778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3723-3037-4D4C-AD12-AEDEBE21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2A8C-9937-4D8D-BBE1-9CA1A5FB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5563-0218-4561-9A7B-7FC173DE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3662-BF2B-4811-962D-6F346271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C0A2-A52F-481E-923A-8B9B5CC4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FD1F-10F8-4A22-AC06-BC99DB59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EBE7-1152-4753-A1B9-553A31E7DA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000"/>
              <a:ext cx="3622680" cy="6129000"/>
              <a:chOff x="5407560" y="63000"/>
              <a:chExt cx="362268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160" y="348120"/>
                <a:ext cx="211644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400" y="1959840"/>
                <a:ext cx="90648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3800" y="297720"/>
              <a:ext cx="891360" cy="829440"/>
              <a:chOff x="5653800" y="29772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400" y="79632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64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5720" y="39744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1200" y="5253480"/>
              <a:ext cx="1062360" cy="833400"/>
              <a:chOff x="961200" y="5253480"/>
              <a:chExt cx="1062360" cy="8334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400" y="5520600"/>
                <a:ext cx="250920" cy="3016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8000" y="5730840"/>
                <a:ext cx="429480" cy="2505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560" y="5377680"/>
                <a:ext cx="448920" cy="127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7353-052B-47B8-B18C-426B2BA38D3A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826920" y="525960"/>
            <a:ext cx="726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КДОУ Нововоронежский детский сад № 8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826920" y="2155320"/>
            <a:ext cx="72662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ОГОРИТМИЧЕСКОЕ  ЗАНЯТИЕ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средней группе детского сад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заимосвязь учителя – логопеда и музыкального руководител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5148360" y="4440600"/>
            <a:ext cx="353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готовила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итель – логопед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ыткова Любовь Григорьевн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Picture 9" descr=""/>
          <p:cNvPicPr/>
          <p:nvPr/>
        </p:nvPicPr>
        <p:blipFill>
          <a:blip r:embed="rId1"/>
          <a:stretch/>
        </p:blipFill>
        <p:spPr>
          <a:xfrm>
            <a:off x="1187280" y="3860640"/>
            <a:ext cx="193536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"/>
          <p:cNvSpPr/>
          <p:nvPr/>
        </p:nvSpPr>
        <p:spPr>
          <a:xfrm>
            <a:off x="539640" y="47016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огопед: Дети, на нашей волшебной полянке слышатся и волшебные звуки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лышите…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зыкальный руководитель: Слушается «Арфа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то прозвучала «Арфа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 Арфы струн ужасно много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призна Арфа недотрога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тобы мелодию сыграт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се струны надо перебрать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2" name="Picture 5" descr="DSC_6399"/>
          <p:cNvPicPr/>
          <p:nvPr/>
        </p:nvPicPr>
        <p:blipFill>
          <a:blip r:embed="rId1"/>
          <a:stretch/>
        </p:blipFill>
        <p:spPr>
          <a:xfrm>
            <a:off x="1763640" y="2852640"/>
            <a:ext cx="5496120" cy="3654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900000" y="248040"/>
            <a:ext cx="734868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Упражнение на развитие слухового восприятия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огопед: Станьте сзади стульчиков  и внимательно слушайте музыку. Услышите одну нотку  - стоим. Услышите много ноток  - спрячемся за стульчики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4" name="Picture 5" descr="DSC_6401"/>
          <p:cNvPicPr/>
          <p:nvPr/>
        </p:nvPicPr>
        <p:blipFill>
          <a:blip r:embed="rId1"/>
          <a:stretch/>
        </p:blipFill>
        <p:spPr>
          <a:xfrm>
            <a:off x="1332000" y="2205000"/>
            <a:ext cx="6826320" cy="3911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"/>
          <p:cNvSpPr/>
          <p:nvPr/>
        </p:nvSpPr>
        <p:spPr>
          <a:xfrm>
            <a:off x="1042920" y="189000"/>
            <a:ext cx="75596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Речевая игра «Кто кричит?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огопед: Дети, пойдёмте дальше по дорожке в гости к ёжику. Ой, смотрите здесь сидят одни без мам детёныши животных. Берите: кто маленького козлёнка, кто маленького котёнка, кто маленького тигрёнка и садитесь на ковёр, поиграем с ними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-му-му – кто кричит?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бёнок – маленький телёнок (показывает игрушку) и т.п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огопед: Маленькие детки устали, давайте их покачаем. (звучит  «Колыбельная», музыка Е. Дружиноной)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6" name="Picture 5" descr="DSC_6402"/>
          <p:cNvPicPr/>
          <p:nvPr/>
        </p:nvPicPr>
        <p:blipFill>
          <a:blip r:embed="rId1"/>
          <a:stretch/>
        </p:blipFill>
        <p:spPr>
          <a:xfrm>
            <a:off x="1979640" y="3068640"/>
            <a:ext cx="5111640" cy="3398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4"/>
          <p:cNvSpPr/>
          <p:nvPr/>
        </p:nvSpPr>
        <p:spPr>
          <a:xfrm>
            <a:off x="611280" y="505440"/>
            <a:ext cx="7777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огопед: Дети, а вот и домик ёжика. Здравствуй, ёжик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ы пришли к тебе в гости. Заходи к нам в кружок, будем играть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огопед: С барабаном ходит ёжик  (стучит по барабану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ети: Бум-бум-бум (стучат кулачок об кулачок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елый день играет ёжик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ум-бум-бум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 барабаном за плечами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ум-бум-бум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Ёжик к нам забрёл случайно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ум-бум – бум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618480" y="189000"/>
            <a:ext cx="78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Упражнение на развитие чувства музыкального ритм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9" name="Picture 6" descr="DSC_6403"/>
          <p:cNvPicPr/>
          <p:nvPr/>
        </p:nvPicPr>
        <p:blipFill>
          <a:blip r:embed="rId1"/>
          <a:stretch/>
        </p:blipFill>
        <p:spPr>
          <a:xfrm>
            <a:off x="1908000" y="3284640"/>
            <a:ext cx="5064480" cy="3367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1"/>
          <p:cNvSpPr/>
          <p:nvPr/>
        </p:nvSpPr>
        <p:spPr>
          <a:xfrm>
            <a:off x="468360" y="259560"/>
            <a:ext cx="84978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Динамическая игр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огопед: Дети, а у ёжика в домике есть большой барабан и палочки. Сейчас мы на нём поиграем то тихо, то громко. А как стучать, палочками подскажет музыка. Слушайте внимательно.  (Игра на барабане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250920" y="1915560"/>
            <a:ext cx="85690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Фонопедическое упражнени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зыкальный руководитель: А сейчас мы все превращаемся в ёжиков. Дети выполняют движения под пьесу Кабалевского «Ёжик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Rectangle 27"/>
          <p:cNvSpPr/>
          <p:nvPr/>
        </p:nvSpPr>
        <p:spPr>
          <a:xfrm>
            <a:off x="615240" y="3357720"/>
            <a:ext cx="8110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Речедвигательная игра на регуляцию мышечного тонус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огопед: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т свернулся ёж в клубок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тому что он продрог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ети: Ох-ох, ох-ох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огопед: Лучик ёжика коснулся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Ёжик сладко потянулся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ети: Ай-ай, ай-ай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адятся на стульчики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539640" y="-2160"/>
            <a:ext cx="810576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Чистоговорки на развитие просодической стороны реч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Логопед: Дети, повторяйте вместе со мной 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Сначала громко: са-са-са, са-са-са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Прибежала к нам лиса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Теперь тихо: сы-сы-сы, сы-сы-сы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Больше нет у нас лисы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Спросим у гостей: су-су-су, су-су-су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Вы не видели лису?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Развитие ручной моторик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з-за ширмы показался ёжик ф-ф-ф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огопед: Дети, смотрите, к нам ещё один ёжик пришёл и солнышко принёс, потому что наш детский сад называется «Солнышко». У ёжика есть иголки, а у солнышка лучики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ейчас одни дети снимут иголки, а другие наденут. (Звучит спокойная музыка)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4" name="Picture 5" descr="DSC_6404"/>
          <p:cNvPicPr/>
          <p:nvPr/>
        </p:nvPicPr>
        <p:blipFill>
          <a:blip r:embed="rId1"/>
          <a:stretch/>
        </p:blipFill>
        <p:spPr>
          <a:xfrm>
            <a:off x="2987640" y="4221000"/>
            <a:ext cx="3695760" cy="2457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4"/>
          <p:cNvSpPr/>
          <p:nvPr/>
        </p:nvSpPr>
        <p:spPr>
          <a:xfrm>
            <a:off x="1042920" y="216000"/>
            <a:ext cx="768528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Координация речи с движение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огопед: Дети, осенью часто идёт дождик и у ёжика в лесу тоже. Становитесь все за мной. Сначала капли падают медленно, а потом быстро-быстро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пля раз, капля два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чень медленно сперв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 потом, потом, потом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се бегом, бегом, бегом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ы зонты свои раскрыли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 дождя себя укрыли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6" name="Picture 5" descr="DSC_6407"/>
          <p:cNvPicPr/>
          <p:nvPr/>
        </p:nvPicPr>
        <p:blipFill>
          <a:blip r:embed="rId1"/>
          <a:stretch/>
        </p:blipFill>
        <p:spPr>
          <a:xfrm>
            <a:off x="1979640" y="3141720"/>
            <a:ext cx="5064120" cy="3367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4"/>
          <p:cNvSpPr/>
          <p:nvPr/>
        </p:nvSpPr>
        <p:spPr>
          <a:xfrm>
            <a:off x="1209600" y="248040"/>
            <a:ext cx="64580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Игровая ритмопластик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ение с движением под фонограмму «Как, кап на дорожку»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8" name="Picture 5" descr="DSC_6405"/>
          <p:cNvPicPr/>
          <p:nvPr/>
        </p:nvPicPr>
        <p:blipFill>
          <a:blip r:embed="rId1"/>
          <a:stretch/>
        </p:blipFill>
        <p:spPr>
          <a:xfrm>
            <a:off x="4500720" y="1484280"/>
            <a:ext cx="4414680" cy="2935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09" name="Picture 6" descr="DSC_6406"/>
          <p:cNvPicPr/>
          <p:nvPr/>
        </p:nvPicPr>
        <p:blipFill>
          <a:blip r:embed="rId2"/>
          <a:stretch/>
        </p:blipFill>
        <p:spPr>
          <a:xfrm>
            <a:off x="179280" y="3332160"/>
            <a:ext cx="4200480" cy="2793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" descr="DSC_6408"/>
          <p:cNvPicPr/>
          <p:nvPr/>
        </p:nvPicPr>
        <p:blipFill>
          <a:blip r:embed="rId1"/>
          <a:stretch/>
        </p:blipFill>
        <p:spPr>
          <a:xfrm>
            <a:off x="2124000" y="2421000"/>
            <a:ext cx="5400720" cy="3591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11" name="Rectangle 5"/>
          <p:cNvSpPr/>
          <p:nvPr/>
        </p:nvSpPr>
        <p:spPr>
          <a:xfrm>
            <a:off x="1476360" y="451440"/>
            <a:ext cx="6983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огопед: Дети, вот и закончилось наше занятие. Давайте попрощаемся с озёрами, с цветочками, с гостями, с маленьким ёжиком, а большого ёжика мы приглашаем к нам в детский сад. Ой, смотрите, а ёжик приготовил нам угощение – целую корзину лесных грибочков. Угощение детей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 свидания, нам пора возвращаться в группу.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WordArt 6"/>
          <p:cNvSpPr txBox="1"/>
          <p:nvPr/>
        </p:nvSpPr>
        <p:spPr>
          <a:xfrm>
            <a:off x="3708360" y="6165720"/>
            <a:ext cx="28479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о свидания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Цель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Развитие слухомоторных координаций и речедвигательных навыков. Воспитание и коррекция двигательной сферы в сочетании со словами и музыкой. 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Задачи: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пражнять в удержании произвольного внимания; тренировать подвижность пальцев рук; развивать тонкую, общую  и артикуляционную моторику, пантомимику, мелодико – интонационную сторону речи, чувство ритма, слухо-двигательную координацию. Тренировать слухо – речевое восприятие, продолжительность речевого выдоха. Совершенствовать грамматический строй речи (образование существительных с суффиксами – онок, - ёнок). Формировать позитивное отношение к речевой и музыкально-ритмической деятельности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Оборудование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3 больших цветочка, бабочки на длинной ленте, 2 тазика с одой, 2 лодочки с парусом. Игрушки детёнышей животных (котёнок, тигрёнок, козлёнок, мышонок, поросёнок, утёнок, лягушонок, телёнок); шапочка ёжика, маленький барабан и палочка; большой барабан и палочки на каждого ребёнка; игрушка лиса; плоскостные изображения ёжика и солнышка с прищепками; зонтик; бумажные напальчники для пальчиковой игры (дедушка, бабушка), корзинка с грибами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Музыкальный репертуар: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.Г. Погорелова «Разминка»; Е. Теличеева «Лодочка»; А. Петров «Вальс»; В. Гаврилин «Вальс»; русская народная мелодия «Ах, вы сени»; слушание Р. Шуман «Арфа»; Е Дружинина «Колыбельная»; Д. Кабалевский «Ёжик»; А. Аверкин «Прогулка», М. Красев «Осенняя песенка»; П.И. Чайковский «Октябрь» (из цикла «Времена года»); В.А. Моцарт «Волшебные колокольчики»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640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Музыкально-ритмическое упражнени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ети под музыку Г. Погореловой «Весёлые игрушки» входят в зал, выполняя движения, соответствующие тексту «превращаясь в мишек, мячики»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огопед: Дети, к нам на занятие сегодня пришли гости. Давайте поздороваемся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 нас сегодня очень интересная прогулка. Мы пойдём в гости к ёжику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3" name="Picture 4" descr="DSC_6376"/>
          <p:cNvPicPr/>
          <p:nvPr/>
        </p:nvPicPr>
        <p:blipFill>
          <a:blip r:embed="rId1"/>
          <a:stretch/>
        </p:blipFill>
        <p:spPr>
          <a:xfrm>
            <a:off x="1332000" y="2060640"/>
            <a:ext cx="6334200" cy="4209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826920" y="123840"/>
            <a:ext cx="799308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Упражнения на развитие речевого дыхани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Шли мы и увидели озёра. Как нам переплыть на другой берег?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Правильно на лодочке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ети становятся вокруг тазиков с водой и дуют медленной, плавной воздушной струйкой в одну сторону, другие дети в другую и лодочка плывё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огопед: Вот мы и переправились на другой берег.</a:t>
            </a:r>
            <a:r>
              <a:rPr b="1" lang="ru-RU" sz="18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Picture 5" descr="DSC_6379"/>
          <p:cNvPicPr/>
          <p:nvPr/>
        </p:nvPicPr>
        <p:blipFill>
          <a:blip r:embed="rId1"/>
          <a:stretch/>
        </p:blipFill>
        <p:spPr>
          <a:xfrm>
            <a:off x="755640" y="2665440"/>
            <a:ext cx="4248000" cy="3065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77" name="Picture 6" descr="DSC_6381"/>
          <p:cNvPicPr/>
          <p:nvPr/>
        </p:nvPicPr>
        <p:blipFill>
          <a:blip r:embed="rId2"/>
          <a:stretch/>
        </p:blipFill>
        <p:spPr>
          <a:xfrm>
            <a:off x="5580000" y="2565360"/>
            <a:ext cx="2679840" cy="4030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539640" y="333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смотрите, какая перед нами красивая цветочная поляна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авайте понюхаем цветочки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ети становятся вокруг цветов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дох носом, на выдохе а-а-а-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дох носом, на выдохе – как хорошо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Picture 4" descr="DSC_6383"/>
          <p:cNvPicPr/>
          <p:nvPr/>
        </p:nvPicPr>
        <p:blipFill>
          <a:blip r:embed="rId1"/>
          <a:stretch/>
        </p:blipFill>
        <p:spPr>
          <a:xfrm>
            <a:off x="395280" y="2276640"/>
            <a:ext cx="4105440" cy="2728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80" name="Picture 5" descr="DSC_6387"/>
          <p:cNvPicPr/>
          <p:nvPr/>
        </p:nvPicPr>
        <p:blipFill>
          <a:blip r:embed="rId2"/>
          <a:stretch/>
        </p:blipFill>
        <p:spPr>
          <a:xfrm>
            <a:off x="4572000" y="3735360"/>
            <a:ext cx="4392720" cy="2919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огопед: Дети, посмотрите, какие красивые бабочки летают над цветочками (Поднимается длинная нитка с привязанными бабочками)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огопед: Возьмите бабочку на ладошку и медленно подуйте на неё. Бабочка улетела. И мы с вами превращаемся в бабочек и полетели в круг на стульчики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2" name="Picture 4" descr="DSC_6392"/>
          <p:cNvPicPr/>
          <p:nvPr/>
        </p:nvPicPr>
        <p:blipFill>
          <a:blip r:embed="rId1"/>
          <a:stretch/>
        </p:blipFill>
        <p:spPr>
          <a:xfrm>
            <a:off x="1692360" y="2060640"/>
            <a:ext cx="5832360" cy="3876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DSC_6393"/>
          <p:cNvPicPr/>
          <p:nvPr/>
        </p:nvPicPr>
        <p:blipFill>
          <a:blip r:embed="rId1"/>
          <a:stretch/>
        </p:blipFill>
        <p:spPr>
          <a:xfrm>
            <a:off x="2484360" y="260280"/>
            <a:ext cx="4537080" cy="3097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84" name="Picture 5" descr="DSC_6389"/>
          <p:cNvPicPr/>
          <p:nvPr/>
        </p:nvPicPr>
        <p:blipFill>
          <a:blip r:embed="rId2"/>
          <a:stretch/>
        </p:blipFill>
        <p:spPr>
          <a:xfrm>
            <a:off x="395280" y="3573360"/>
            <a:ext cx="4176720" cy="2897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85" name="Picture 6" descr="DSC_6395"/>
          <p:cNvPicPr/>
          <p:nvPr/>
        </p:nvPicPr>
        <p:blipFill>
          <a:blip r:embed="rId3"/>
          <a:stretch/>
        </p:blipFill>
        <p:spPr>
          <a:xfrm>
            <a:off x="4716360" y="3573360"/>
            <a:ext cx="4176720" cy="2847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Пальчиковая гимнастик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огопед: Дети мы с вами оказались на волшебной полянке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 нами захотели заниматься наши пальчики.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тот пальчик дедушка,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ти поочерёдно разгибают пальчики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тот пальчик бабушка,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тот пальчик папочка,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тот пальчик мамочка,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тот пальчик я,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от и вся моя семья.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Picture 5" descr="DSC_6396"/>
          <p:cNvPicPr/>
          <p:nvPr/>
        </p:nvPicPr>
        <p:blipFill>
          <a:blip r:embed="rId1"/>
          <a:stretch/>
        </p:blipFill>
        <p:spPr>
          <a:xfrm>
            <a:off x="250920" y="3114720"/>
            <a:ext cx="4465440" cy="2968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88" name="Picture 6" descr="DSC_6397"/>
          <p:cNvPicPr/>
          <p:nvPr/>
        </p:nvPicPr>
        <p:blipFill>
          <a:blip r:embed="rId2"/>
          <a:stretch/>
        </p:blipFill>
        <p:spPr>
          <a:xfrm>
            <a:off x="4859280" y="3213000"/>
            <a:ext cx="4033800" cy="2764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4"/>
          <p:cNvSpPr/>
          <p:nvPr/>
        </p:nvSpPr>
        <p:spPr>
          <a:xfrm>
            <a:off x="755640" y="333360"/>
            <a:ext cx="777708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Артикуляционно-мимические упражнения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огопед: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Улыбнитесь и покажите широкий язычок «Лопаточкой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Нахмурьте брови и покажите узкий язычок «Иголочкой»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Громко-тихо «Болтушка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Внимательно слушайте музыку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Сопряжённая гимнастик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огопед: Покусайте широкий язычок зубами и грубым голосом скажите: та-та-та, та-та-та (четыре пальчика соединяем с большими)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перь пошлёпайте по язычку  губами и скажем тоненьким голоском пя-пя-пя, пя-пя-пя (соединяем ладошки). 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tretch/>
        </p:blipFill>
        <p:spPr>
          <a:xfrm>
            <a:off x="3492360" y="4076640"/>
            <a:ext cx="27115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07:40:33Z</dcterms:created>
  <dc:creator>Customer</dc:creator>
  <dc:description/>
  <dc:language>en-US</dc:language>
  <cp:lastModifiedBy>I</cp:lastModifiedBy>
  <dcterms:modified xsi:type="dcterms:W3CDTF">2016-08-22T07:06:33Z</dcterms:modified>
  <cp:revision>14</cp:revision>
  <dc:subject/>
  <dc:title>Слайд 1</dc:title>
</cp:coreProperties>
</file>