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019-06B2-421A-B626-0FAD2737D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BFF-C4DF-4A50-949A-4087AFFCE4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083-CABA-4E20-B1DB-DE977D8C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A0E-5FEB-4BFE-AC3F-9F351A0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CC5-BC2A-4A7C-B9BA-B7535E91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412-2BA0-47A8-85D8-53583638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68C-C8DE-49BA-9A05-E891BFF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1A4-86CD-4D5F-8700-7ED6ED4B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AAC-6EE9-4F15-AED3-469498F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493-13FA-4EEA-8208-7D3A3313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422-2B89-4BE0-BE4E-A207F187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9F2-0504-455A-A9F0-16ACF22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8CE-02C3-4914-B6EF-9892857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890-5647-4B93-AD38-BBC57E1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538-B3D7-42EF-9B0C-1E7C7562B4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232-24D8-4A79-B06C-6730928F6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чет по теме самообраз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284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412-4443-4254-A7D3-DE01C824DA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F8C6-5D53-4A43-AEB8-0E61A5D55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878040" y="1676520"/>
            <a:ext cx="7716600" cy="427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DNS\Desktop\93.gif"/>
          <p:cNvPicPr/>
          <p:nvPr/>
        </p:nvPicPr>
        <p:blipFill>
          <a:blip r:embed="rId2"/>
          <a:stretch/>
        </p:blipFill>
        <p:spPr>
          <a:xfrm>
            <a:off x="900000" y="4797360"/>
            <a:ext cx="1704960" cy="1257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частие во всероссийских педагогических конкурсах: «Открытый урок», «Дистанционный урок», «Прояви себя», «Путь к знаниям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астие в семинарах, педсоветах, методических совещаниях, ШМ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B288-0E55-44CF-9321-DCCB02553C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D2F-C074-4ECA-80F0-B14BFAE41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5200" y="1412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7F69-2D95-4795-94F9-98D4D14188F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875-F384-4DE5-B88C-18AD9EFC7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DNS\Desktop\44.gif"/>
          <p:cNvPicPr/>
          <p:nvPr/>
        </p:nvPicPr>
        <p:blipFill>
          <a:blip r:embed="rId1"/>
          <a:stretch/>
        </p:blipFill>
        <p:spPr>
          <a:xfrm>
            <a:off x="2700360" y="3141720"/>
            <a:ext cx="3959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3200" y="-2556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…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йте же детям играть, пока игра их радует, влечет к себе и вместе с тем приносит им громадную пользу!...Своей игрой они служат и отечеству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. А. Покр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73E3-9525-4CCC-93B2-3CD3550B95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7FB-1F02-49B6-801D-13154E967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DNS\Desktop\school_boys.gif"/>
          <p:cNvPicPr/>
          <p:nvPr/>
        </p:nvPicPr>
        <p:blipFill>
          <a:blip r:embed="rId1"/>
          <a:stretch/>
        </p:blipFill>
        <p:spPr>
          <a:xfrm>
            <a:off x="755640" y="3067200"/>
            <a:ext cx="40291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-121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2" descr=""/>
          <p:cNvPicPr/>
          <p:nvPr/>
        </p:nvPicPr>
        <p:blipFill>
          <a:blip r:embed="rId1"/>
          <a:stretch/>
        </p:blipFill>
        <p:spPr>
          <a:xfrm>
            <a:off x="371520" y="500040"/>
            <a:ext cx="8461440" cy="5986440"/>
          </a:xfrm>
          <a:prstGeom prst="rect">
            <a:avLst/>
          </a:prstGeom>
          <a:ln w="0">
            <a:noFill/>
          </a:ln>
        </p:spPr>
      </p:pic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1076-1625-420F-9C36-A3F132B116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853-22C4-47D1-86EC-71B79502BA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89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4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вершенствовать технологии    проведения развивающих игр на уроках математики с целью всестороннего развития личности реб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BE4-412A-42A6-AC87-CBD38E808C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E5C9-B220-4E5B-8DB4-862640E60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DNS\Desktop\41.2.gif"/>
          <p:cNvPicPr/>
          <p:nvPr/>
        </p:nvPicPr>
        <p:blipFill>
          <a:blip r:embed="rId1"/>
          <a:stretch/>
        </p:blipFill>
        <p:spPr>
          <a:xfrm>
            <a:off x="5940360" y="4149720"/>
            <a:ext cx="2160720" cy="202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476280"/>
            <a:ext cx="8748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. Изучить методическую литературу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анному вопро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2. Апробировать в процессе обучения учащихся различные дидактические игры на уроках математ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. Использовать и внедрять в процесс обучения передовой педагогический опыт по данной тем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4. Повысить профессиональный уровень сво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5. Создать электронную  картотеку дидактических игр по мате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F87-78A9-46C4-80DF-10390DE9BB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3B6-187D-4C01-8320-BF2DD15F1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нула гипотезу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 педагог  будет систематически создавать условия для внедрения в процесс обучения развивающих игр, то всестороннее гармоничное развитие личности ребенка обеспече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844-CDF5-4CA0-AD3C-F90891096B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CA8F-2876-4DEC-A78B-C93999BB8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DNS\Desktop\568964665.gif"/>
          <p:cNvPicPr/>
          <p:nvPr/>
        </p:nvPicPr>
        <p:blipFill>
          <a:blip r:embed="rId1"/>
          <a:stretch/>
        </p:blipFill>
        <p:spPr>
          <a:xfrm>
            <a:off x="3708360" y="4437000"/>
            <a:ext cx="3343320" cy="188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гнатьев В.А. «Внеклассная работа по арифметике в начальной школе» Москва, «Просвещение» 1999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тов А.Я. «Вечера занимательной математики» Москва, «Просвещение» 2001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рокин П.И. «Занимательные задачи по математике» Москва, «Просвещение» 2004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тер  Г.Б. «Задачник» Москва, «Спарк-М» 1995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айрамукова П.У. «Внеклассная работа по математике» Москва, «Издат-школа «Райл» 2007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5699-64D2-4DCC-8D4E-ACABDCF5E1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5F91-31E6-4D1A-BFD8-5650BA94C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к  А.З. «600 игровых задач для развития логического мышления детей» Ярославль, «Академия развития» 1999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Журналы «Начальная школа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Тихомирова Л.Ф., Басов А.В. «Развитие логического мышления детей», 1997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ихомирова Л.Ф. «Развитие интеллектуальных способностей школьника», 1997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здательство «Академия», «Развитие творческого мышления детей»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Издательство «Академия», «И учеба, и игра; математика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актическое приложение: «Играем в числа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мирнов С.А., учебное пособие: «Педагогические теории, системы, технологии», 2000г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Истомина Н.Б., учебное пособие, «Методика обучения математике в начальной школе», 2000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21BF-A85A-4FFA-B478-7E121984AF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E283-04EE-49CE-B1C6-E2C336C54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равк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нварь, 2012 год – выступление на МО по теме самообразования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враль, 2013 год – открытый урок математики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ие детей в олимпиадах: «Кенгуру», «Эму», «Вот задачка», «Занимательная математик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C882-4F36-4219-9AC6-C49E1AB131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904-8297-4D10-944F-B6EEA5A12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28:52Z</dcterms:created>
  <dc:creator>User</dc:creator>
  <dc:description>http;//aida.ucoz.ru</dc:description>
  <dc:language>en-US</dc:language>
  <cp:lastModifiedBy>Инна Колмакова</cp:lastModifiedBy>
  <dcterms:modified xsi:type="dcterms:W3CDTF">2016-08-23T13:38:47Z</dcterms:modified>
  <cp:revision>60</cp:revision>
  <dc:subject/>
  <dc:title>Слайд 1</dc:title>
</cp:coreProperties>
</file>