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38B6-922C-4186-AF4D-7BD10F125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66EA-F1B3-4649-843D-6677F682A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9B4-C871-4AC8-9E7F-509F6F8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500-2EF5-4FAE-92A1-5AA8DE70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734-FC83-49D0-819A-63CCC70A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1B0-CB67-4590-88EE-D34BCFF4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6A3-19B1-47C9-B437-D8DA47F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AF6-560E-4D0D-BC76-F838758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D1F-E373-446D-84FF-D3C84989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538-E083-4139-A7D8-950EE8D4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E96-333E-4E95-8E60-C957ADC3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165-CF0A-4BA0-B3AC-0340243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06B-D31E-4F46-AEA0-A2F8238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9FD-01D1-46D6-AB98-4D6F848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8E3B-043A-42DC-863E-75A2D44759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072-AA53-41CF-9ADC-8B4945235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чет по теме самообраз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284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492-2B05-40BB-B130-B3B750EF6C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2A5C-B98D-4AAF-A3CE-7E9D367B4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878040" y="1676520"/>
            <a:ext cx="7716600" cy="427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DNS\Desktop\93.gif"/>
          <p:cNvPicPr/>
          <p:nvPr/>
        </p:nvPicPr>
        <p:blipFill>
          <a:blip r:embed="rId2"/>
          <a:stretch/>
        </p:blipFill>
        <p:spPr>
          <a:xfrm>
            <a:off x="900000" y="4797360"/>
            <a:ext cx="170496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частие во всероссийских педагогических конкурсах: «Открытый урок», «Дистанционный урок», «Прояви себя», «Путь к знаниям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астие в семинарах, педсоветах, методических совещаниях, ШМ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9E5-8ECC-4118-B62C-20D24F33EE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29F1-16CE-4DD4-9CF6-33AB36318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5200" y="1412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996-35FF-4D46-981B-BD4EB0D258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7DB-7A9A-4544-8C41-37E7F2088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DNS\Desktop\44.gif"/>
          <p:cNvPicPr/>
          <p:nvPr/>
        </p:nvPicPr>
        <p:blipFill>
          <a:blip r:embed="rId1"/>
          <a:stretch/>
        </p:blipFill>
        <p:spPr>
          <a:xfrm>
            <a:off x="2700360" y="3141720"/>
            <a:ext cx="3959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3200" y="-2556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…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йте же детям играть, пока игра их радует, влечет к себе и вместе с тем приносит им громадную пользу!...Своей игрой они служат и отечеству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. А. Покр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0C01-8992-4323-A98B-EBF8B9753D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98A5-CC5C-451A-BBC5-8A83E82A7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DNS\Desktop\school_boys.gif"/>
          <p:cNvPicPr/>
          <p:nvPr/>
        </p:nvPicPr>
        <p:blipFill>
          <a:blip r:embed="rId1"/>
          <a:stretch/>
        </p:blipFill>
        <p:spPr>
          <a:xfrm>
            <a:off x="755640" y="3067200"/>
            <a:ext cx="40291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-121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2" descr=""/>
          <p:cNvPicPr/>
          <p:nvPr/>
        </p:nvPicPr>
        <p:blipFill>
          <a:blip r:embed="rId1"/>
          <a:stretch/>
        </p:blipFill>
        <p:spPr>
          <a:xfrm>
            <a:off x="371520" y="500040"/>
            <a:ext cx="8461440" cy="5986440"/>
          </a:xfrm>
          <a:prstGeom prst="rect">
            <a:avLst/>
          </a:prstGeom>
          <a:ln w="0">
            <a:noFill/>
          </a:ln>
        </p:spPr>
      </p:pic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80E-9421-4799-9D95-71EEE5A94F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A82B-DAB5-4BCD-B2EE-D0B0EEE6F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89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4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вершенствовать технологии    проведения развивающих игр на уроках математики с целью всестороннего развития личности реб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6D8-00BF-47EC-A39A-1EC140C7D0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802-E09B-42AC-AC60-75E87B302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DNS\Desktop\41.2.gif"/>
          <p:cNvPicPr/>
          <p:nvPr/>
        </p:nvPicPr>
        <p:blipFill>
          <a:blip r:embed="rId1"/>
          <a:stretch/>
        </p:blipFill>
        <p:spPr>
          <a:xfrm>
            <a:off x="5940360" y="4149720"/>
            <a:ext cx="2160720" cy="202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476280"/>
            <a:ext cx="874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. Изучить методическую литературу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анному вопро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. Апробировать в процессе обучения учащихся различные дидактические игры на уроках математ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. Использовать и внедрять в процесс обучения передовой педагогический опыт по данной тем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4. Повысить профессиональный уровень сво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. Создать электронную  картотеку дидактических игр по мате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657-B395-4E32-A8AB-5E03B290E6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0C1C-718E-4557-8E6C-FA557EF5E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нула гипотезу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педагог  будет систематически создавать условия для внедрения в процесс обучения развивающих игр, то всестороннее гармоничное развитие личности ребенка обеспече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E7A-CE8A-46A1-B729-81AB77B06D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2D0-C5AF-4AC4-B502-8E31AF671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DNS\Desktop\568964665.gif"/>
          <p:cNvPicPr/>
          <p:nvPr/>
        </p:nvPicPr>
        <p:blipFill>
          <a:blip r:embed="rId1"/>
          <a:stretch/>
        </p:blipFill>
        <p:spPr>
          <a:xfrm>
            <a:off x="3708360" y="4437000"/>
            <a:ext cx="3343320" cy="188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гнатьев В.А. «Внеклассная работа по арифметике в начальной школе» Москва, «Просвещение» 1999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тов А.Я. «Вечера занимательной математики» Москва, «Просвещение» 2001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рокин П.И. «Занимательные задачи по математике» Москва, «Просвещение» 2004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тер  Г.Б. «Задачник» Москва, «Спарк-М» 1995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айрамукова П.У. «Внеклассная работа по математике» Москва, «Издат-школа «Райл» 2007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5265-6A04-4757-897B-2EED03806D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854-193A-4C5B-9E71-C187BF46A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к  А.З. «600 игровых задач для развития логического мышления детей» Ярославль, «Академия развития» 1999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Журналы «Начальная школа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Тихомирова Л.Ф., Басов А.В. «Развитие логического мышления детей», 1997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ихомирова Л.Ф. «Развитие интеллектуальных способностей школьника», 1997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здательство «Академия», «Развитие творческого мышления детей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Издательство «Академия», «И учеба, и игра; математика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актическое приложение: «Играем в числа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мирнов С.А., учебное пособие: «Педагогические теории, системы, технологии», 2000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Истомина Н.Б., учебное пособие, «Методика обучения математике в начальной школе», 2000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86D0-5601-4DE1-9F5B-96A5B8597A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6EE-A8FD-417D-80D5-BEE17B69F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равк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нварь, 2012 год – выступление на МО по теме самообразования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враль, 2013 год – открытый урок математики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ие детей в олимпиадах: «Кенгуру», «Эму», «Вот задачка», «Занимательная математик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2C3-C372-40F1-B90A-7029A6D8BB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18B-B380-4D50-B321-685226EAC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28:52Z</dcterms:created>
  <dc:creator>User</dc:creator>
  <dc:description>http;//aida.ucoz.ru</dc:description>
  <dc:language>en-US</dc:language>
  <cp:lastModifiedBy>Инна Колмакова</cp:lastModifiedBy>
  <dcterms:modified xsi:type="dcterms:W3CDTF">2016-08-23T13:38:47Z</dcterms:modified>
  <cp:revision>60</cp:revision>
  <dc:subject/>
  <dc:title>Слайд 1</dc:title>
</cp:coreProperties>
</file>