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15.wmf" ContentType="image/x-wmf"/>
  <Override PartName="/ppt/media/image7.gif" ContentType="image/gif"/>
  <Override PartName="/ppt/media/image12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4.png" ContentType="image/png"/>
  <Override PartName="/ppt/media/image11.gif" ContentType="image/gi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397-EDB6-4A42-A5DB-B66D621F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111-18A8-4908-B5E7-967DFCFC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C74-89F4-4241-8AFE-8398B3F6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EE6-3203-44F3-A6EA-48E847AF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2B0A-91BA-4933-A477-C652489B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6460-AA9E-4231-912E-53045F9A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4563-3572-4E25-AA38-8AA6424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E9EB-AA3B-43E0-BE76-F1628346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BD69-575E-4AAA-8136-D4F7CA9D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F79-8FFD-4FC4-A75A-5E38C6FD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2D67-5087-487D-9406-D7D8E05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314-2408-428C-A1A9-54600C0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698-FED8-4428-99FF-B81883C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C463-DB61-4952-B648-0EE5733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A5F1-51E6-459E-919E-E7C0E0B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2BDB-3BAF-4E45-B754-503B83B3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D6ED-7D11-4B0A-A507-3F642FC3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F5F4-BFF7-498D-B563-C6F5F14E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989B-D0B5-48CE-933F-350E298A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7837-EE07-4162-8EB1-008048A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190D-165F-443E-AF6F-0E4D638A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3D0C-D6DE-44F2-A8DA-1F0E5AFB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705-58CF-4ACB-B827-AE19425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E04F-AE7A-40B3-8CE6-B9694ADC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1273-AE5B-4063-8928-917E9C9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699A-DFB4-4CB9-B685-E7BD771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BD43-51F4-4A51-BD47-4A3935B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BF7D-20E6-44F2-AC5E-0F22EAA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B007-281A-4CBA-9F25-FC82E18A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B446-C82D-43E7-A7FB-9E60874C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2AD0-B629-4D03-A725-B30AF24D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22574-6E9E-4E96-A04C-ED5F12C6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A7B7-6D71-412E-A9ED-D34C097D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FDC-6542-440D-8CBF-85C708E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CF43-7D18-44B6-AF92-4602A29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8B66-38CD-4D39-9DB8-05B697B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80A5-3349-4296-9049-5C8B587C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9646-7FA2-49AF-9B74-D3BB92E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FB59-C872-4C54-88AE-D53F2F0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CF9E-3F8D-40C9-9B12-02DBE88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0D12-D642-4FA2-BD06-CB9E2A4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E620-E457-428B-BFA2-EC9B8249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186A-70C4-4BF3-A568-79607928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DBFA4-2454-47F8-B709-9FA6A37E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FD9-7C4C-43D2-B820-8B43D42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8FA8-5ED4-4C08-8D4A-FB2051A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0632A-4970-4123-91A7-429653E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117E-5B94-4AD1-89CB-153C9E1C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402E-900C-408A-B73B-F072C63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75B7-2970-4D54-A753-C8F91754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F5C4-EB65-4619-BEA2-732273C4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360F-94F5-456A-827B-D94A983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6282-3F9A-4967-9BAB-A794476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1706-5FDB-4B55-81B8-235F51AB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1A52-8A75-40E7-BFE4-5915625B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613-D662-4D54-B5E0-2F05EEF9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3215-83D8-4D61-98DD-68DE8B32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444F8-C9E8-4B86-AE26-FBA6AD02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BE1C-6D9B-4AC7-A208-74C9A583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B1C46-B3A7-4187-8003-E15C10B1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7703-659E-47B4-A7BC-7DF0904A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7A408-3298-43E9-85A0-C999730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409F-1C92-4912-B3DB-181AE46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25F80-732A-4210-8DC5-FB231A3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4962-92EE-4488-B2FB-1F2F3C20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2E9C9-6661-41A4-93EE-9BB9D5F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540-C57A-4340-93AF-BC9526D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939F-2D6A-44FE-969C-57235AA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E7FD-D2CB-470B-8007-99B85B77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439E2-BB92-47DF-96E0-F65B25C0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D86C-6E07-4D2A-930C-A34C0572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827B7-ECE9-4182-A0C1-7E92D84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C3AA-169F-409B-BC65-48CE14F6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1DF3-B497-4B1B-83DE-0E5D672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CE1A8-5DBE-49A9-9AF3-CE4B71C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BA62-C35E-4EE3-ABA7-081FDCDB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0438-961A-46F3-84EA-55BFE0D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480-42E6-425F-AAD7-EBB9B28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E9B6E-32E5-4750-89C5-6FC3AB6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AED8-9D93-4432-B5FF-35A2CA6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C9475-C260-4F71-BC1F-DC6AC734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3703-5134-44EE-988B-33AD9F87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00BE-486E-408B-A10F-EC9CD88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D06-8BD4-4767-962A-FEFEFD82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799-EC51-4839-A3B9-232DA5EEEC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9F45-35E0-4EDA-80F2-C3912DA312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4365-F466-4C77-B9C3-2F26050AF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8FA-40BB-401A-AEB7-FC6BF84AE9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EC7F-A2E9-432B-A345-7CFE48541E0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2807-A1F3-49A5-8B0F-9E91E9A26E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0EA4-6C54-417E-84F8-80CB28BB86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920" y="-17136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удности адап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иклассников в школ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5560920"/>
            <a:ext cx="4457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Рисунок 6" descr="C:\Users\DNS\Desktop\Документы, Инна\фотографии\фото, школа\Фото с открытого урока\IMG_5893.JPG"/>
          <p:cNvPicPr/>
          <p:nvPr/>
        </p:nvPicPr>
        <p:blipFill>
          <a:blip r:embed="rId1"/>
          <a:stretch/>
        </p:blipFill>
        <p:spPr>
          <a:xfrm>
            <a:off x="-590400" y="2541600"/>
            <a:ext cx="4132080" cy="31208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7" descr="C:\Users\DNS\Desktop\Документы, Инна\фотографии\фото, школа\Фото с открытого урока\IMG_6015.JPG"/>
          <p:cNvPicPr/>
          <p:nvPr/>
        </p:nvPicPr>
        <p:blipFill>
          <a:blip r:embed="rId2"/>
          <a:stretch/>
        </p:blipFill>
        <p:spPr>
          <a:xfrm>
            <a:off x="2498760" y="1663560"/>
            <a:ext cx="3968640" cy="29638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C:\Users\DNS\Desktop\Документы, Инна\фотографии\фото, школа\Фото с открытого урока\IMG_6044.JPG"/>
          <p:cNvPicPr/>
          <p:nvPr/>
        </p:nvPicPr>
        <p:blipFill>
          <a:blip r:embed="rId3"/>
          <a:stretch/>
        </p:blipFill>
        <p:spPr>
          <a:xfrm>
            <a:off x="5516640" y="2955960"/>
            <a:ext cx="4157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МАЛЬКИК"/>
          <p:cNvPicPr/>
          <p:nvPr/>
        </p:nvPicPr>
        <p:blipFill>
          <a:blip r:embed="rId1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slide0055_image07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people3026"/>
          <p:cNvPicPr/>
          <p:nvPr/>
        </p:nvPicPr>
        <p:blipFill>
          <a:blip r:embed="rId4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тказ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5" descr="gallery_2_388_4725"/>
          <p:cNvPicPr/>
          <p:nvPr/>
        </p:nvPicPr>
        <p:blipFill>
          <a:blip r:embed="rId1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bratz002"/>
          <p:cNvPicPr/>
          <p:nvPr/>
        </p:nvPicPr>
        <p:blipFill>
          <a:blip r:embed="rId2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27" name="Picture 3" descr="smileface3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SADFACE3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slide0089_image182"/>
          <p:cNvPicPr/>
          <p:nvPr/>
        </p:nvPicPr>
        <p:blipFill>
          <a:blip r:embed="rId1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Picture 4" descr="people1840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Регулярно беседуйте с учителями вашего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Помогайте ребенку выполнять домашние зад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могите ребенку почувствовать интерес к тому, что преподают в школ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Особенные усилия прилагайте для того, чтобы поддерживать спокойную и стабильную атмосферу в дом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PE02288_"/>
          <p:cNvPicPr/>
          <p:nvPr/>
        </p:nvPicPr>
        <p:blipFill>
          <a:blip r:embed="rId1"/>
          <a:stretch/>
        </p:blipFill>
        <p:spPr>
          <a:xfrm>
            <a:off x="77151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324000" y="404640"/>
            <a:ext cx="82296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70c0"/>
                </a:solidFill>
                <a:latin typeface="Arial Black"/>
              </a:rPr>
              <a:t>Благодарю </a:t>
            </a:r>
            <a:br>
              <a:rPr sz="6000"/>
            </a:br>
            <a:r>
              <a:rPr b="0" i="1" lang="ru-RU" sz="6000" spc="-1" strike="noStrike">
                <a:solidFill>
                  <a:srgbClr val="0070c0"/>
                </a:solidFill>
                <a:latin typeface="Arial Black"/>
              </a:rPr>
              <a:t>всех за внимани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Инна Колмакова</cp:lastModifiedBy>
  <dcterms:modified xsi:type="dcterms:W3CDTF">2015-04-13T04:50:41Z</dcterms:modified>
  <cp:revision>17</cp:revision>
  <dc:subject/>
  <dc:title>Слайд 1</dc:title>
</cp:coreProperties>
</file>