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9.gif" ContentType="image/gif"/>
  <Override PartName="/ppt/media/image15.wmf" ContentType="image/x-wmf"/>
  <Override PartName="/ppt/media/image7.gif" ContentType="image/gif"/>
  <Override PartName="/ppt/media/image12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4.png" ContentType="image/png"/>
  <Override PartName="/ppt/media/image11.gif" ContentType="image/gi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B49-98C8-43B3-BB83-EE44B446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7E5-92F2-4E36-8605-D6A96E3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756-F500-4478-88DF-B234AF04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252-D3A9-4318-84D7-83590BEB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9CF5-921D-46DE-A405-2F16CBBB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7DD3-5906-45B3-BA5E-84CB27AC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15D6-E3D3-4E6E-B27E-6C436730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953-8378-4F2F-B95B-0CAB0936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745E-7F71-49A6-973F-7F592CBC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6697-41E1-4546-BE4C-3F4AAD51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FC77-F2A9-45A4-85C6-0016672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D1B-1C2B-489C-A69B-70B271E1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0EA-4A9C-4C2A-B073-0EA5E33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E9A-591C-4E9F-A952-8A96100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0360-4608-4B9E-9F84-E21DD071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E0B8-8F43-4A0F-9286-5116A524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0C6F-1C24-4645-84AE-57831F27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BD31-A749-49DB-90E7-A8499DD7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09D6-F64B-4349-B50A-A8D85CC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1C29-39E2-4043-A07A-C4CDCA9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2130-EBBA-48B1-8D2F-8BB2D05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17B7-8820-4206-A4AF-1EA1B7EB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3A4-BC23-42D7-8D38-7097B133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5FEE-714D-410E-8D45-9FEE813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4CA2-19A8-459D-B0AE-D9CDEAD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F5A8-4BDB-49AF-95B2-762FA3B2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BEA8-B4CF-42BF-8C7D-5C07A10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5596-4E80-45FE-B6DA-120DE2C9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53DA-608D-4944-8CEC-901BC4B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F143-7B3D-4E4D-A105-24A242BB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AAE2-F400-43EA-8146-ECF77B45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B02C-DF14-4894-8EA0-42325E7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4A51-D872-4D12-BFDC-CF6FBAFB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1D1-642A-4C07-9953-F8B013E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8761-A9E3-4BCB-A9D6-D4155FEC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0806-FF3C-468B-A9FD-AA14474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2452-F4BF-431E-8EE5-B061022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F629-E043-4073-9D99-AE78D69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70695-6450-4563-92CE-FC58356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1E9F-69E8-479B-A1D4-CC89DA5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A7B8-2980-476A-8273-4A035B72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1102-7662-44BF-9D0F-FE99EDE3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FEDC-B412-4DBF-A01D-39607D01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651E0-8750-4A13-85CC-58FF44BD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16E-BB0C-4244-92ED-E8EEF433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469F-4763-4864-BEDE-C264368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22D4B-6CE2-414B-A671-AF2C41C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2281-D69B-4CC5-BD67-15D9EA2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953C-7136-401A-9A64-549CC9E2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02C7-9855-4933-B3FC-2EECC722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665E-1CA9-4074-8CEF-D5C3FAD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3C34-829D-4CBD-8309-93EF848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6D99-0092-4F20-AC34-3ACDAE5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89BB2-E154-4772-A979-D976DB73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F05BA-DB67-43DE-B247-406FE576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A31-836A-41CC-8315-F517918A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E77E-6016-4EE4-8258-47220ECB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2F5E-0E46-468F-AD28-A49CF7B3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132B-6783-4360-A1F5-4A8B0FE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D3914-756C-41AC-A3C4-E4236711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CC95-B1E7-48E2-970A-4A0B149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A75AA-CBC5-4103-BB3B-E984680C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A928D-CE64-4066-92E9-0B454E24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AEA5-370E-4D92-ABF4-99BECA2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6B36-4D31-4EF4-9A17-13465FF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F6D9-0FF5-4345-88D2-0CC0A74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D4D-D304-4149-BBA8-A35D77B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97B1A-BC5B-4E28-AD07-36657F82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B1E8-A916-40FC-8AA6-CA2906EE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44E7-FE06-441C-85AB-057DEBAD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425EB-339C-460B-8F6C-4DC3B12B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9494-5CFC-47A3-922A-947028DD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CC2E-E673-48A4-9C65-4AB9EBFA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7389B-65EE-4B0D-B5C4-0A99585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CEFC-0616-44DA-8D66-84F0436C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15D9-1F57-4C02-AD7E-7C64034D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8123-6CFF-4F4F-B39E-FD61F8F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C0C-0EC9-4CCA-8DED-BBD5D1E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9227-0D81-4F61-A763-CCB0A2D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F2B0A-06DE-4817-A522-546F3F3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2C40-F196-40E5-98BE-289A6F7C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36F6-2D35-4EFF-9AF1-F36ABD21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182A-9E78-4B31-9295-41C9EAB0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2D3-38DA-43BE-A847-06A7856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093-D71A-429B-8F21-F05894CEFE7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4E5-40C7-416F-AC79-5D7F87FADF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6CF-5858-4B41-8047-70A015286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305-2B18-4781-AFE7-C0F7FE17D0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7F99-B56A-4946-A21C-6F04D11B90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B61-1B2B-4B00-9A2E-569EB66A92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82C-99EF-4D73-9F07-CEFC170DDF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920" y="-17136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удности адап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иклассников в школ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5560920"/>
            <a:ext cx="4457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Рисунок 6" descr="C:\Users\DNS\Desktop\Документы, Инна\фотографии\фото, школа\Фото с открытого урока\IMG_5893.JPG"/>
          <p:cNvPicPr/>
          <p:nvPr/>
        </p:nvPicPr>
        <p:blipFill>
          <a:blip r:embed="rId1"/>
          <a:stretch/>
        </p:blipFill>
        <p:spPr>
          <a:xfrm>
            <a:off x="-590400" y="2541600"/>
            <a:ext cx="4132080" cy="31208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7" descr="C:\Users\DNS\Desktop\Документы, Инна\фотографии\фото, школа\Фото с открытого урока\IMG_6015.JPG"/>
          <p:cNvPicPr/>
          <p:nvPr/>
        </p:nvPicPr>
        <p:blipFill>
          <a:blip r:embed="rId2"/>
          <a:stretch/>
        </p:blipFill>
        <p:spPr>
          <a:xfrm>
            <a:off x="2498760" y="1663560"/>
            <a:ext cx="3968640" cy="29638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C:\Users\DNS\Desktop\Документы, Инна\фотографии\фото, школа\Фото с открытого урока\IMG_6044.JPG"/>
          <p:cNvPicPr/>
          <p:nvPr/>
        </p:nvPicPr>
        <p:blipFill>
          <a:blip r:embed="rId3"/>
          <a:stretch/>
        </p:blipFill>
        <p:spPr>
          <a:xfrm>
            <a:off x="5516640" y="2955960"/>
            <a:ext cx="4157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МАЛЬКИК"/>
          <p:cNvPicPr/>
          <p:nvPr/>
        </p:nvPicPr>
        <p:blipFill>
          <a:blip r:embed="rId1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slide0055_image07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people3026"/>
          <p:cNvPicPr/>
          <p:nvPr/>
        </p:nvPicPr>
        <p:blipFill>
          <a:blip r:embed="rId4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тказ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5" descr="gallery_2_388_4725"/>
          <p:cNvPicPr/>
          <p:nvPr/>
        </p:nvPicPr>
        <p:blipFill>
          <a:blip r:embed="rId1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bratz002"/>
          <p:cNvPicPr/>
          <p:nvPr/>
        </p:nvPicPr>
        <p:blipFill>
          <a:blip r:embed="rId2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27" name="Picture 3" descr="smileface3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SADFACE3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slide0089_image182"/>
          <p:cNvPicPr/>
          <p:nvPr/>
        </p:nvPicPr>
        <p:blipFill>
          <a:blip r:embed="rId1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Picture 4" descr="people1840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Регулярно беседуйте с учителями вашего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Помогайте ребенку выполнять домашние зад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могите ребенку почувствовать интерес к тому, что преподают в школ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Особенные усилия прилагайте для того, чтобы поддерживать спокойную и стабильную атмосферу в дом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PE02288_"/>
          <p:cNvPicPr/>
          <p:nvPr/>
        </p:nvPicPr>
        <p:blipFill>
          <a:blip r:embed="rId1"/>
          <a:stretch/>
        </p:blipFill>
        <p:spPr>
          <a:xfrm>
            <a:off x="77151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324000" y="404640"/>
            <a:ext cx="82296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70c0"/>
                </a:solidFill>
                <a:latin typeface="Arial Black"/>
              </a:rPr>
              <a:t>Благодарю </a:t>
            </a:r>
            <a:br>
              <a:rPr sz="6000"/>
            </a:br>
            <a:r>
              <a:rPr b="0" i="1" lang="ru-RU" sz="6000" spc="-1" strike="noStrike">
                <a:solidFill>
                  <a:srgbClr val="0070c0"/>
                </a:solidFill>
                <a:latin typeface="Arial Black"/>
              </a:rPr>
              <a:t>всех за внимани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Инна Колмакова</cp:lastModifiedBy>
  <dcterms:modified xsi:type="dcterms:W3CDTF">2015-04-13T04:50:41Z</dcterms:modified>
  <cp:revision>17</cp:revision>
  <dc:subject/>
  <dc:title>Слайд 1</dc:title>
</cp:coreProperties>
</file>