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033-6BC7-4114-AFD8-44D4BD6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CE8-4F32-42ED-A415-293292AD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5E5-5DCE-4CE9-BA8B-E81F5B97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396-BFFA-4240-B6F7-00EC345D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2D7F-051B-47B6-86A9-436D46ED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3720-C6F1-4D51-94F4-72248A6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8B7D-7D77-4A64-883D-21BE9506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0AB-2109-428B-8A56-D8B0DCF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3374-B914-44DC-A1E1-A09AEFF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78B9-469D-4F1A-B832-9236295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EFC6-9D3E-40C4-BABF-3837948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228-1B4C-4809-970C-E6C2E07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6A9D-DB95-4062-B7C2-06ACAF8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D12-81B2-47F8-8602-5EE3118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C0E6-7FEF-456F-BC23-FF66E39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4B8-1DC9-4411-83C8-22CCAACA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A2B-9C2D-4949-AB6B-6FF8CCA4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ACBF-DC2E-4CDE-B2A1-EFB367A4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0165-3833-4016-925F-07D2EF0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D4F3-D68D-42FC-A2D9-E67D486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FD51-D664-45CB-A810-64DDF07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A075-910F-4E00-AC16-88A58375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A8F-020E-4C99-BC94-9D1E0BC5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400E-F263-4191-BC45-5DA344F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455E-0175-4640-B8AF-2A8D7D4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02F1-E9F7-4811-9841-3279866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A8A5-9A1B-4CB4-A0F6-2F9CEA9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4C72-344B-4AD8-8AB1-110C4FA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F214-FD06-440C-BC6A-14E9794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068A-301A-4F60-855D-47A7D36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F3C0-C804-4FB2-9B50-93621877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B6D8-C129-4C07-8146-E515F521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8BC4-1287-491F-B542-AB6E2E4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911-73F4-4A78-95C7-26161E68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8A0D-4977-43D7-A00B-63B638C5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9C41-0788-49CD-A8DD-ACDC588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2075-F52B-45A0-97FD-DAEAFC4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6398-9C53-4D4F-AC55-B564795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7FCC-09C1-4C67-88FD-2B0446A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CE91-76A6-423F-9C1B-A9B3784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C71C-894F-4BB9-A558-FAA6DEB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7BF9-F548-42AF-AFDC-E84CA93E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D7D8-E2D5-4459-B7C7-D255F398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48FF-6CAA-495B-B37E-20BD8ABD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C89-EF64-46AE-8202-F793B99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D9E1-C993-4FAF-ABFC-4869D0D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526D-FE5C-40BA-B667-16CED37A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7611-FE08-4827-A853-AB71CD3B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596E-F73A-48A2-B7C3-54907E1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D63E-F95D-4D96-9B63-27072EE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86AE-53C8-4795-B0F2-B3EDAB0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EE5D-140F-4646-9C76-1D016DE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C72A-1113-4288-BAA9-69842DE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FF8C-8E92-4386-834B-502DEEF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8FD3-E737-432C-B5DB-1067AD28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C06-FF2B-4E56-B180-C02C5B5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5144-8883-4B75-9261-B32AE18C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4B61-4C99-44B4-BD7D-F4BBACC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D521-7776-4F5B-B494-CBFA16B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8859-C317-4664-9716-F986056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8D85-D7B8-4B57-9B1D-DA5EA8D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5EBDB-16EE-45E7-A37E-4FAFA9B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7B8F-BD0F-4E02-B3E2-A32F395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93B5E-F5F8-4BCE-A2A3-DDF08BF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F3F0-AC33-4657-9C63-EA2E274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6CB9-CA30-4376-87A8-BC18A981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117-B47D-45F1-B36D-5277A65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0AB6-0192-440D-ACB2-AA4496B3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A434-451B-43E8-96A8-2179CDAD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7277-857E-4C0E-B09D-A4A48FB4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2AA6-6D08-4E4A-B87A-2BBA5654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61E70-746C-442E-AE4A-45C9E2B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9840-80D0-48A4-8A1B-1241E41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C19B-0B55-4FBA-8186-811423F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F215-C9BC-4FD6-998B-73F6946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3FF88-FF6E-4B4A-9928-CC679AC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03D6-6492-4EB9-BC3C-3F8240A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BDC-585C-4FEA-A1DC-10D4ED2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3C6AB-2DFD-4CC7-9C66-191CDB5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436D-4090-49C3-B322-F29E075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A6E4-367B-4964-B818-91584A2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DE45-5E91-48A7-9A79-13C79BBA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C3E4-4186-4FF3-AA93-08B90D17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0103-AC7B-4976-9690-30765802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D7BA-EC81-4946-8679-5F6AD9FC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74ED-EE10-4685-B4B7-E92E2F1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9025C-63E1-4B69-8B56-F263B7AF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2804-C1BA-4090-B931-8DB5FAC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CE5-EC36-4248-89D3-0695956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19115-C3E9-417C-88A1-F287FDF4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6A29-09AB-4AC1-B1F1-A39C99B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6284-D0CD-4560-AA17-CFE6425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9B9DB-8881-4D87-B96F-3BE3CA4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58DEA-E82F-4F69-AECB-290FE41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1597-994E-4A7E-8A2F-717723C4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7D78-3711-4F59-810B-ECA5ABD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E0F-B873-4170-BC92-77983B3C74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E1B-951A-44A3-8307-58AE215096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642-A7DD-431A-828A-70E5D9DF10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67B-4CC5-4B82-B8F0-D727FFCF62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E38-AE63-4FE3-B642-DB058C8C7E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A148-4B4D-44F0-8F03-94616029E4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7CE2-671B-433A-8701-7698FC62EC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EB2-A36F-4082-ACEB-95B8F822FD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ufo.me/dal_a" TargetMode="External"/><Relationship Id="rId2" Type="http://schemas.openxmlformats.org/officeDocument/2006/relationships/hyperlink" Target="http://gufo.me/content_ushakov/pravda-143930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ufo.me/krilov_a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а Мартынова Поли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В предложении может быть: подлежащим, сказуемым, обстоятельством, дополнение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разеологизмы и устойчивые сочетания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семи правдами и неправдам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- Любыми доступными средствами , не стесняясь в выборе средств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е в глаза смотре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- Не бояться увидеть истинное положение вещ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 правде говоря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воря откровенно, искренне признаваяс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590920" y="274680"/>
            <a:ext cx="6095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 в огне не горит и в воде не тоне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да-то давно, в Средние века , подозреваемого в ереси или каких-то других прегрешениях публично проводили через огонь или связанного бросали в вод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человек оставался жив , то считалось , что он не виновен. В наши дни пословицу вспоминают , когда хотят подчеркнуть , что правда все равно выйдет наружу, «правда сама себя очистит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2610000" y="274680"/>
            <a:ext cx="6076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571320" y="1052640"/>
            <a:ext cx="8001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суда не боит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задушишь, не убьеш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тяжелее золота , а в воде не тон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спрячеш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 правду-матку и умереть сладк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мешного бояться - правды не люби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- свет разу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уничтожи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ир правдой держит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- свет разу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учше горькая правда, чем горькая лож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то правдой живет , тот добро нажив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ьги смогут много , а правда вс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м правды нет, в том добра мал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335320" y="-79200"/>
            <a:ext cx="63514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 глаза ко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ловеку всегда неприятно слышать критические,хотя исправедливые замечания в свой адре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-Ты что,Лидия Харитоновна,вздумала изгаляться над нами?-вызывающе спросила Мав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-На что это мне изгаляться?Правда глаза колет.Мужинек-то твой помалкивает.Да и ты знаешь о каком деле разговор.(К.А.Федин.Косте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лжи широкая дорог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правды-узкая троп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жь языков имеет мног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правда на слова скуп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ложь бежала в тьму страданий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брав с собой кровавый нож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тех пор вещают христиан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Правда победила лож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 Евангелие от Иоанна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6800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ывод: Слово «правда» является в русском языке  однозначным, общеупотребительным,исконно русским. Оно употребляется как в разговорном,так и в книжном стилях реч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Цель проек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нарисовать словесный «портрет» слова , обобщив его лингвистические признаки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проек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Определить лексическое значение, происхождение, сферу употребления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Определить морфологические признаки и фонетический облик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Наблюдать за синтаксической ролью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Обобщить лингвистические признаки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517840" y="249120"/>
            <a:ext cx="6168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То,что существует в действительности, соответствует реальному положению вещей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Сказать правд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Справедливость, честность, правое дело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Искать правды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3.То же ,что правота(разг.)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воя прав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4.Вводное слово. Утверждение истинност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5.Союз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Хотя и, следует признать, что(разг.).Погуляли хорошо, правда устал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6.Частица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ыражает утверждение , уверенное  подтверждение. Я правда уезжаю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Источни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Толковый словарь русского язык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.И. Ожогов и Н.Ю. Шведов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517840" y="212760"/>
            <a:ext cx="6168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истина на деле, истина во образе, во благе; правосудие, справедливость. Творите суд и правду. Стоят за правд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сточник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Толковый словарь Дал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Правд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—  1. То, что соответствует действительности, что есть на самом деле, истина (во 2 знач.). Открой мне всю правду, не бойся... 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олковый словарь Ушак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3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еславянское слово, образованное суффиксальным способом от правый – "истинный"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точник: 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Этимологический словарь Крыл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3"/>
          <p:cNvSpPr/>
          <p:nvPr/>
        </p:nvSpPr>
        <p:spPr>
          <a:xfrm>
            <a:off x="642960" y="50720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нонимы: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стин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еалистич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тоним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ожь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рань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правд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ривд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803680" y="274680"/>
            <a:ext cx="58831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лове «пра́вда»: слогов—2 (прав-да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→[п]:согласный, глухо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→[р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→[а]:гласный, удар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→[в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→[д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→[а]:гласный, безудар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укв—6, звуков—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371680" y="274680"/>
            <a:ext cx="63151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6000"/>
          </a:bodyPr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остав слова «правда»: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рень [правд] + окончание [а]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нова слова: правд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окоренные слов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ивы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 суффикс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ый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конч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правда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приставка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, правд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рень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ффикс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конч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иво- 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 суффикс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ффик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юб- 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юб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и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оединительная гласна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803680" y="115920"/>
            <a:ext cx="58831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имя существительное: неодушевлённое, нарицательно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динственное число, женский род,                            1 склоне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 частиц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союз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730600" y="274680"/>
            <a:ext cx="5956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6:33:17Z</dcterms:created>
  <dc:creator>www.MRMARKER.ru</dc:creator>
  <dc:description/>
  <dc:language>en-US</dc:language>
  <cp:lastModifiedBy>User</cp:lastModifiedBy>
  <dcterms:modified xsi:type="dcterms:W3CDTF">2016-01-15T17:57:25Z</dcterms:modified>
  <cp:revision>43</cp:revision>
  <dc:subject/>
  <dc:title>Прав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Тип работы">
    <vt:lpwstr>1</vt:lpwstr>
  </property>
</Properties>
</file>