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146-0393-4821-BA19-8596A92F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DB8-3ACE-410A-B3DC-652CBFD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E65-45C7-4DD1-AFF9-535D7011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2BE-00E6-4D30-A6CA-7D73F3CA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B1E-4CBA-4847-9FCB-136B82C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774F-2C19-4765-BF95-AC87823E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4EFC-8FEA-4C21-B204-3129FA4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4BA-9ACA-4F35-BA72-EB290E6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6A9E-56F9-4E54-A8AD-A2EFB7EB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79F-562F-4F12-8B8B-32FB424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2071-533B-47CD-851A-B416A98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05-80F8-4789-A611-3DC0511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47F6-F734-44C1-A959-8A8D859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04D-9337-40D9-99D4-376699B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9D07-E686-4FCD-8310-1BFD4D1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C955-85FC-4107-83F8-E67E48F3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3241-7B68-4B0F-A268-4177A463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7D6B-5499-4F18-A91E-563063A5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1AEE-397A-45BB-AF41-9CA7B94E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94AE-258D-4B72-B57C-FBB62551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B375-F861-449F-B4A3-5D645E8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1A92-1E6A-427C-9020-4B8C529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3C9-657F-4139-ADA6-F17FCC6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876C-78D8-4D86-B464-32E1CF26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6B53-8736-4016-BEFA-4E8C641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383A-60BD-447F-9F2B-E2D10F5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6944-4C77-49F2-8C74-635C628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3666-0F16-459A-8B5D-17B41AC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C787-9009-4EFB-8783-9318D1B1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B773-7576-4467-9791-82459D05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7636-F0C4-4301-9A8C-6AE14BA2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3B8C-9EA2-4138-8DD3-B047AFD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593EC-FAD9-4D2B-A0B3-CB3159A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0D9-1586-42FF-B34E-4382F57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766A-1E82-4784-B229-30FBC5D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EF3A-1D84-40CC-9F19-5BD39E5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F14C-3700-4EE8-ADC5-AB4EC5FE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A943-15A3-4156-BC5D-0086902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2736-C50C-4BA0-A52E-C8E0CA2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5DFC-25B9-44F9-8BBA-366849E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FEB2-10DA-4BA7-BD2E-7CAA742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5373-29D0-45F6-A46D-BCE08732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9CCD-7F0D-4ECE-B35D-D70096BC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108E-01D8-468D-BD24-BDF95D6C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5CD-AA17-4F7D-9EEF-A699488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BEBE-6B2F-4BB5-9FE1-284A22D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77F4-9BBC-4498-A58B-EFD8DF29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6691-CB2F-4A5B-8877-E6F8DCE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FD0A-D19A-458B-8A5C-63106F4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6161-0143-4577-BB3F-BE245B9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36CA-9929-4FD9-881C-3732FA5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FBFA-808F-45F9-B191-2185AFB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67FF9-EAC0-42BA-A0F8-2A185A79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17FB-3644-48C0-8E0F-40F2F4F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DAE5-F668-4132-A831-1A3B95AE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609-76B1-4309-9405-D0CEE1E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F7DB-0BEC-492E-885C-A5BE4FDD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19B8E-45FB-46C1-8915-95AF4DF1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95F8F-47B6-430F-BA2B-06A16AD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31ED-0045-4468-A51A-EFAE2EF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8C96-333B-431C-B73F-B8B76AC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DCE8-5A90-439C-AE23-D2AEDF53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21A3-E4E4-4D79-B3E3-736F64C7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EE61-0901-40EB-87BD-86C2D5C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5F49-9593-46C3-A766-3C6C710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52C8-3239-479B-83A4-CD69CC5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63E-2F75-4401-9485-953D00E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AF23-B743-4C85-A0CC-8F2006F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EBC3-E361-46A4-AC09-14F9D759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2140-D533-423D-BFCD-B76C883A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6F07D-79A4-4E07-83F6-8670AB83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CD56-43FE-4C7D-B5C5-CEFC28D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BFE1-9B73-441A-A6A4-1B5342AD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5FB2-35CF-436D-B1E2-FAD27D01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682A-295D-4504-9410-DBDDB8B7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7F2A-80D7-414D-BEE1-CE48927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D89B6-65D1-410C-A7ED-B1DA748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496-7561-4C17-9177-6833F07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4474-D941-4D98-9544-7CAFDF0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53A50-F872-4FE6-B1E6-DE743D9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3AB0-F77F-4675-9EF6-05F3CD02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CE9F-749C-4D0E-A880-120AAD99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3EA8-330D-43B2-9AC1-B1F070C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334A-A3EA-4FB1-A617-E017EC69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50B1D-389F-4BDF-881D-AA46EA8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D08B-3EEA-421A-BBA3-259D1A4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A4260-0127-4401-8759-C781FB1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C836-28E6-4A1D-8468-3238449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3E9-D98B-4399-BF9D-696EBF7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9F5EC-AA7E-447C-B861-D9B5E98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C95A-005A-4C2C-B0CF-559EDF6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AA4C-2FD0-4864-A01E-6D495B1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F9DE7-B969-4CBA-BDB4-95AC476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33498-4025-49F6-9171-900CA3E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B07D-61A4-42FE-831C-7DE44F15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55A3-5001-4503-ABFD-3C3CEC54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CCD-1C4A-488F-8442-3F116FB93C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E940-4510-4DE8-928A-A80FD405D2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6CE-1837-4C54-993A-C576CABCB4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1F0-E0F0-4022-9018-FF42EBF53E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E18-C613-46E9-83D8-3F81A7FA74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19F-1C20-48BB-AC1F-D9DD7165AD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369-6B64-4131-83A2-EB03043FE8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1C0-53D4-4671-AA9C-AF2DE2D417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ufo.me/dal_a" TargetMode="External"/><Relationship Id="rId2" Type="http://schemas.openxmlformats.org/officeDocument/2006/relationships/hyperlink" Target="http://gufo.me/content_ushakov/pravda-143930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ufo.me/krilov_a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а Мартынова Поли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В предложении может быть: подлежащим, сказуемым, обстоятельством, дополнение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разеологизмы и устойчивые сочетания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семи правдами и неправдам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- Любыми доступными средствами , не стесняясь в выборе средств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е в глаза смотре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- Не бояться увидеть истинное положение вещ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 правде говоря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воря откровенно, искренне признаваяс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590920" y="274680"/>
            <a:ext cx="6095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 в огне не горит и в воде не тоне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да-то давно, в Средние века , подозреваемого в ереси или каких-то других прегрешениях публично проводили через огонь или связанного бросали в вод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человек оставался жив , то считалось , что он не виновен. В наши дни пословицу вспоминают , когда хотят подчеркнуть , что правда все равно выйдет наружу, «правда сама себя очистит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2610000" y="274680"/>
            <a:ext cx="6076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571320" y="1052640"/>
            <a:ext cx="8001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суда не боит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задушишь, не убьеш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тяжелее золота , а в воде не тон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спрячеш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 правду-матку и умереть сладк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мешного бояться - правды не люби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 - свет разу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у не уничтожи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ир правдой держитс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вда- свет разум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учше горькая правда, чем горькая лож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то правдой живет , тот добро нажив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ьги смогут много , а правда вс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м правды нет, в том добра мал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335320" y="-79200"/>
            <a:ext cx="63514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 глаза ко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ловеку всегда неприятно слышать критические,хотя исправедливые замечания в свой адре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-Ты что,Лидия Харитоновна,вздумала изгаляться над нами?-вызывающе спросила Мав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-На что это мне изгаляться?Правда глаза колет.Мужинек-то твой помалкивает.Да и ты знаешь о каком деле разговор.(К.А.Федин.Косте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лжи широкая дорог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правды-узкая троп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жь языков имеет много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 правда на слова скуп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 ложь бежала в тьму страданий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брав с собой кровавый нож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тех пор вещают христиан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Правда победила лож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 Евангелие от Иоанна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6800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ывод: Слово «правда» является в русском языке  однозначным, общеупотребительным,исконно русским. Оно употребляется как в разговорном,так и в книжном стилях реч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Цель проек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нарисовать словесный «портрет» слова , обобщив его лингвистические признаки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проек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Определить лексическое значение, происхождение, сферу употребления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Определить морфологические признаки и фонетический облик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Наблюдать за синтаксической ролью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Обобщить лингвистические признаки сло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517840" y="249120"/>
            <a:ext cx="6168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То,что существует в действительности, соответствует реальному положению вещей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Сказать правд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Справедливость, честность, правое дело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Искать правды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3.То же ,что правота(разг.)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воя прав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4.Вводное слово. Утверждение истинност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5.Союз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Хотя и, следует признать, что(разг.).Погуляли хорошо, правда устал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6.Частица.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ыражает утверждение , уверенное  подтверждение. Я правда уезжаю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Источни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Толковый словарь русского язык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.И. Ожогов и Н.Ю. Шведов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517840" y="212760"/>
            <a:ext cx="61689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истина на деле, истина во образе, во благе; правосудие, справедливость. Творите суд и правду. Стоят за правд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сточник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Толковый словарь Дал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Правда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—  1. То, что соответствует действительности, что есть на самом деле, истина (во 2 знач.). Открой мне всю правду, не бойся... 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олковый словарь Ушак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3"/>
          <a:stretch/>
        </p:blipFill>
        <p:spPr>
          <a:xfrm>
            <a:off x="3024360" y="274680"/>
            <a:ext cx="5662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еславянское слово, образованное суффиксальным способом от правый – "истинный"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точник: 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Этимологический словарь Крыл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3"/>
          <p:cNvSpPr/>
          <p:nvPr/>
        </p:nvSpPr>
        <p:spPr>
          <a:xfrm>
            <a:off x="642960" y="507204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инонимы: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стин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еалистич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тонимы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ожь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рань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правд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ривд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803680" y="274680"/>
            <a:ext cx="58831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лове «пра́вда»: слогов—2 (прав-да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→[п]:согласный, глухо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→[р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→[а]:гласный, удар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→[в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→[д]:согласный, звонкий,  твёрд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→[а]:гласный, безударны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укв—6, звуков—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371680" y="274680"/>
            <a:ext cx="63151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6000"/>
          </a:bodyPr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остав слова «правда»: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рень [правд] + окончание [а]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снова слова: правд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окоренные слов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ивы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 суффикс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ый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конч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правда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приставка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, правд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рень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ффикс,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конч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иво- 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 суффикс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ффик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юб- прав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юб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орень и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оединительная гласна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803680" y="115920"/>
            <a:ext cx="58831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имя существительное: неодушевлённое, нарицательно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динственное число, женский род,                            1 склоне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 частиц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авд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—союз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730600" y="274680"/>
            <a:ext cx="5956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6:33:17Z</dcterms:created>
  <dc:creator>www.MRMARKER.ru</dc:creator>
  <dc:description/>
  <dc:language>en-US</dc:language>
  <cp:lastModifiedBy>User</cp:lastModifiedBy>
  <dcterms:modified xsi:type="dcterms:W3CDTF">2016-01-15T17:57:25Z</dcterms:modified>
  <cp:revision>43</cp:revision>
  <dc:subject/>
  <dc:title>Прав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Тип работы">
    <vt:lpwstr>1</vt:lpwstr>
  </property>
</Properties>
</file>