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6C4-4927-47E7-B862-7D4781BE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0D0-A11A-45E1-87DB-3F125D26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EE0-8438-4D35-B7B5-6B05B294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E29-67BE-4F88-9C44-98FEE7F4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2FE-FD55-4C58-84A2-0AB0E6BA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BF3-78C5-4408-B0B2-F56AB65D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348-15D5-4413-BF78-A8779849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F5F-4645-4D16-95F0-BAC0F307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BD7-0F9E-4001-9E8F-D34DE151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15E-280A-4165-BAD4-456617D0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35F-0474-4736-AA35-8615CADD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1A4-4983-4B78-90A9-AB4A988E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58E1-EA02-4FAE-B0F4-78D513D5B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шабл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9мая"/>
          <p:cNvPicPr/>
          <p:nvPr/>
        </p:nvPicPr>
        <p:blipFill>
          <a:blip r:embed="rId3"/>
          <a:stretch/>
        </p:blipFill>
        <p:spPr>
          <a:xfrm>
            <a:off x="395280" y="5157720"/>
            <a:ext cx="1352520" cy="17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1640" y="-25560"/>
            <a:ext cx="7412040" cy="2932920"/>
          </a:xfrm>
          <a:prstGeom prst="rect">
            <a:avLst/>
          </a:prstGeom>
          <a:noFill/>
          <a:ln w="0">
            <a:noFill/>
          </a:ln>
          <a:effectLst>
            <a:outerShdw dist="52300" dir="20763565" blurRad="0" rotWithShape="0">
              <a:srgbClr val="ff0066">
                <a:alpha val="50000"/>
              </a:srgbClr>
            </a:outerShdw>
          </a:effectLst>
        </p:spPr>
        <p:txBody>
          <a:bodyPr tIns="15228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6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ДЕТСТВО </a:t>
            </a:r>
            <a:br>
              <a:rPr sz="6600"/>
            </a:br>
            <a:r>
              <a:rPr b="1" lang="ru-RU" sz="6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В  ОККУПАЦИИ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16360" y="3789360"/>
            <a:ext cx="395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а: Тайченачева Екатерина, учащаяся 5 «Б» клас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: Анашева Г.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356000" y="566100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ш-Ага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1539360" y="1341360"/>
            <a:ext cx="720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АЯ  ЗНАЧ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ится великий славный праздник нашего народа –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 Победы! Нам нельзя забывать о героях войны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той цене, которую пришлось заплатить взрослым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етям, жившим в то страшное вре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1465920" y="3500280"/>
            <a:ext cx="747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АЯ ЗНАЧ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йна не прошла и мимо нашей семь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шей родне, как с маминой, так и с папиной стороны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 и фронтовики, воевавшие за наше Отечество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 и партизаны, и труженики тыла, и дети войн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 павшие, и те, кто уцелел в кровопролитной битв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нувшись с поб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1341360"/>
            <a:ext cx="72835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ложим, что опираясь на различные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источники, можно восстановить события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военного детства моего прадедушки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Романчука Александра Викентье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780000" y="3429000"/>
            <a:ext cx="19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476360" y="436572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становление событий военного детства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Романчука Александра Викентье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48000" y="260280"/>
            <a:ext cx="2881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409400" y="1197000"/>
            <a:ext cx="775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осить ближайших родственников прадеду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его детстве, проведённом в немецкой оккуп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Узнать о фактах оккупации Клецкого район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оруссии из исторических источников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интернет-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Узнать повседневно-бытовые реал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орусской деревни военн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Создать альбом иллюстраций жизни военног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тва прадед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Познакомить одноклассников с событиям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тва прадед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Поделиться собранным материалом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родствен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2480" y="-3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лоруссия в немецкой оккуп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В бомбоубежище"/>
          <p:cNvPicPr/>
          <p:nvPr/>
        </p:nvPicPr>
        <p:blipFill>
          <a:blip r:embed="rId1"/>
          <a:stretch/>
        </p:blipFill>
        <p:spPr>
          <a:xfrm>
            <a:off x="2268360" y="1052640"/>
            <a:ext cx="5977080" cy="4344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7" name="Text Box 7"/>
          <p:cNvSpPr/>
          <p:nvPr/>
        </p:nvSpPr>
        <p:spPr>
          <a:xfrm>
            <a:off x="2038680" y="5661000"/>
            <a:ext cx="678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ждом белорусском доме был подпол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прятались во время налётов немецкой ави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476360" y="260280"/>
            <a:ext cx="73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оруссия в немецкой оккуп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Фашист в доме"/>
          <p:cNvPicPr/>
          <p:nvPr/>
        </p:nvPicPr>
        <p:blipFill>
          <a:blip r:embed="rId1"/>
          <a:stretch/>
        </p:blipFill>
        <p:spPr>
          <a:xfrm>
            <a:off x="1979640" y="1052640"/>
            <a:ext cx="6192720" cy="4502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4935960" y="22050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аш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70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610360" y="18651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лор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763640" y="580536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шист из деревенского дома забирает проду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1470960" y="260280"/>
            <a:ext cx="72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оруссия в немецкой оккуп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Фашисты стреляют по детям"/>
          <p:cNvPicPr/>
          <p:nvPr/>
        </p:nvPicPr>
        <p:blipFill>
          <a:blip r:embed="rId1"/>
          <a:stretch/>
        </p:blipFill>
        <p:spPr>
          <a:xfrm>
            <a:off x="1979640" y="981000"/>
            <a:ext cx="6307200" cy="4584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6" name="Text Box 7"/>
          <p:cNvSpPr/>
          <p:nvPr/>
        </p:nvSpPr>
        <p:spPr>
          <a:xfrm>
            <a:off x="1972440" y="580536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шисты стреляют по детям с самолё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1470960" y="260280"/>
            <a:ext cx="72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оруссия в немецкой оккуп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117520" y="5805360"/>
            <a:ext cx="592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нь партизан. За годы войны тольк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лецком районе было убито 760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Казни партизан"/>
          <p:cNvPicPr/>
          <p:nvPr/>
        </p:nvPicPr>
        <p:blipFill>
          <a:blip r:embed="rId1"/>
          <a:stretch/>
        </p:blipFill>
        <p:spPr>
          <a:xfrm>
            <a:off x="2050920" y="1052640"/>
            <a:ext cx="6337440" cy="4606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3637440" y="404640"/>
            <a:ext cx="27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иду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Наши идут"/>
          <p:cNvPicPr/>
          <p:nvPr/>
        </p:nvPicPr>
        <p:blipFill>
          <a:blip r:embed="rId1"/>
          <a:stretch/>
        </p:blipFill>
        <p:spPr>
          <a:xfrm>
            <a:off x="2124000" y="1197000"/>
            <a:ext cx="5875560" cy="4270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2" name="Text Box 7"/>
          <p:cNvSpPr/>
          <p:nvPr/>
        </p:nvSpPr>
        <p:spPr>
          <a:xfrm>
            <a:off x="2116440" y="5661000"/>
            <a:ext cx="583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ские войска освободили Белорусси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фашистских захватчиков в июле 194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4:33:17Z</dcterms:created>
  <dc:creator>Сергей Маратканов</dc:creator>
  <dc:description/>
  <dc:language>en-US</dc:language>
  <cp:lastModifiedBy>админ</cp:lastModifiedBy>
  <dcterms:modified xsi:type="dcterms:W3CDTF">2016-08-25T10:38:47Z</dcterms:modified>
  <cp:revision>21</cp:revision>
  <dc:subject/>
  <dc:title>Слайд 1</dc:title>
</cp:coreProperties>
</file>