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AA2-63B9-41B7-A887-985E8A1E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8E3-6198-46D4-9417-6ACC5CA9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1AE-CC1A-411C-941B-4A441AF9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925-1DA2-4AEF-8B46-45FE4245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909-C3DD-41E1-9793-071BCC8F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05D-7CFA-4D2B-94B9-4F41FEFA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872-BCA7-43D0-B11C-55D482B0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7BC-6E26-4DEE-9A85-A5C3DF08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AF2-8910-4A37-8856-7EE5AF04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0C7-1FA0-4086-895C-D84AFC4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3C0-E0B1-44BF-82AF-1B4FDADC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016-5117-4387-8DF6-698E2552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66C8-6C21-4397-8870-44FC556DF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шабл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9мая"/>
          <p:cNvPicPr/>
          <p:nvPr/>
        </p:nvPicPr>
        <p:blipFill>
          <a:blip r:embed="rId3"/>
          <a:stretch/>
        </p:blipFill>
        <p:spPr>
          <a:xfrm>
            <a:off x="395280" y="5157720"/>
            <a:ext cx="1352520" cy="17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1640" y="-25560"/>
            <a:ext cx="7412040" cy="293292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ff0066">
                <a:alpha val="50000"/>
              </a:srgbClr>
            </a:outerShdw>
          </a:effectLst>
        </p:spPr>
        <p:txBody>
          <a:bodyPr tIns="15228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6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ДЕТСТВО </a:t>
            </a:r>
            <a:br>
              <a:rPr sz="6600"/>
            </a:br>
            <a:r>
              <a:rPr b="1" lang="ru-RU" sz="6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В  ОККУПАЦИИ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16360" y="3789360"/>
            <a:ext cx="395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а: Тайченачева Екатерина, учащаяся 5 «Б» клас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: Анашева Г.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356000" y="566100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ш-Ага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1539360" y="1341360"/>
            <a:ext cx="720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АЯ  ЗНАЧ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ится великий славный праздник нашего народа –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 Победы! Нам нельзя забывать о героях войны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той цене, которую пришлось заплатить взрослым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етям, жившим в то страшное вре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1465920" y="3500280"/>
            <a:ext cx="747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АЯ ЗНАЧ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йна не прошла и мимо нашей семь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шей родне, как с маминой, так и с папиной стороны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 и фронтовики, воевавшие за наше Отечество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 и партизаны, и труженики тыла, и дети войн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 павшие, и те, кто уцелел в кровопролитной битв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нувшись с поб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1341360"/>
            <a:ext cx="72835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ложим, что опираясь на различные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источники, можно восстановить события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военного детства моего прадедушки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Романчука Александра Викентье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780000" y="3429000"/>
            <a:ext cx="19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476360" y="436572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становление событий военного детства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Романчука Александра Викентье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48000" y="260280"/>
            <a:ext cx="2881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409400" y="1197000"/>
            <a:ext cx="775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осить ближайших родственников прадеду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его детстве, проведённом в немецкой оккуп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Узнать о фактах оккупации Клецкого район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оруссии из исторических источников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интернет-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Узнать повседневно-бытовые реал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орусской деревни военн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Создать альбом иллюстраций жизни военног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тва прадед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Познакомить одноклассников с событиям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тва прадед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Поделиться собранным материалом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родствен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2480" y="-3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лоруссия в немецкой оккуп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В бомбоубежище"/>
          <p:cNvPicPr/>
          <p:nvPr/>
        </p:nvPicPr>
        <p:blipFill>
          <a:blip r:embed="rId1"/>
          <a:stretch/>
        </p:blipFill>
        <p:spPr>
          <a:xfrm>
            <a:off x="2268360" y="1052640"/>
            <a:ext cx="5977080" cy="4344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7" name="Text Box 7"/>
          <p:cNvSpPr/>
          <p:nvPr/>
        </p:nvSpPr>
        <p:spPr>
          <a:xfrm>
            <a:off x="2038680" y="5661000"/>
            <a:ext cx="678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ждом белорусском доме был подпол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прятались во время налётов немецкой ави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476360" y="260280"/>
            <a:ext cx="73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оруссия в немецкой оккуп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Фашист в доме"/>
          <p:cNvPicPr/>
          <p:nvPr/>
        </p:nvPicPr>
        <p:blipFill>
          <a:blip r:embed="rId1"/>
          <a:stretch/>
        </p:blipFill>
        <p:spPr>
          <a:xfrm>
            <a:off x="1979640" y="1052640"/>
            <a:ext cx="6192720" cy="4502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4935960" y="22050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аш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70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610360" y="18651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лор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763640" y="580536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шист из деревенского дома забирает проду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1470960" y="260280"/>
            <a:ext cx="72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оруссия в немецкой оккуп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Фашисты стреляют по детям"/>
          <p:cNvPicPr/>
          <p:nvPr/>
        </p:nvPicPr>
        <p:blipFill>
          <a:blip r:embed="rId1"/>
          <a:stretch/>
        </p:blipFill>
        <p:spPr>
          <a:xfrm>
            <a:off x="1979640" y="981000"/>
            <a:ext cx="6307200" cy="4584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6" name="Text Box 7"/>
          <p:cNvSpPr/>
          <p:nvPr/>
        </p:nvSpPr>
        <p:spPr>
          <a:xfrm>
            <a:off x="1972440" y="580536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шисты стреляют по детям с самолё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1470960" y="260280"/>
            <a:ext cx="72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оруссия в немецкой оккуп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117520" y="5805360"/>
            <a:ext cx="592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нь партизан. За годы войны тольк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лецком районе было убито 760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Казни партизан"/>
          <p:cNvPicPr/>
          <p:nvPr/>
        </p:nvPicPr>
        <p:blipFill>
          <a:blip r:embed="rId1"/>
          <a:stretch/>
        </p:blipFill>
        <p:spPr>
          <a:xfrm>
            <a:off x="2050920" y="1052640"/>
            <a:ext cx="6337440" cy="4606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3637440" y="404640"/>
            <a:ext cx="27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иду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Наши идут"/>
          <p:cNvPicPr/>
          <p:nvPr/>
        </p:nvPicPr>
        <p:blipFill>
          <a:blip r:embed="rId1"/>
          <a:stretch/>
        </p:blipFill>
        <p:spPr>
          <a:xfrm>
            <a:off x="2124000" y="1197000"/>
            <a:ext cx="5875560" cy="4270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2" name="Text Box 7"/>
          <p:cNvSpPr/>
          <p:nvPr/>
        </p:nvSpPr>
        <p:spPr>
          <a:xfrm>
            <a:off x="2116440" y="5661000"/>
            <a:ext cx="583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ские войска освободили Белорусси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фашистских захватчиков в июле 194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4:33:17Z</dcterms:created>
  <dc:creator>Сергей Маратканов</dc:creator>
  <dc:description/>
  <dc:language>en-US</dc:language>
  <cp:lastModifiedBy>админ</cp:lastModifiedBy>
  <dcterms:modified xsi:type="dcterms:W3CDTF">2016-08-25T10:38:47Z</dcterms:modified>
  <cp:revision>21</cp:revision>
  <dc:subject/>
  <dc:title>Слайд 1</dc:title>
</cp:coreProperties>
</file>