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07A0-9577-4427-8622-94318DA115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0CE6-AF30-4156-BFE1-5C9807513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9D8-6DF9-4E8E-8E58-DB0A6C38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0DA-080E-499A-9D57-159883FC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3AB-ADE2-42AE-9128-C83B3BB4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DA8-FE51-4A00-939F-3DC85B96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4B36-5888-4C49-9BC1-E491DF42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B9C7-EAEC-4274-BE0C-4D59DB9A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6ED7-29C3-4449-A2AD-69D00578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35B0-C432-4D08-B7A9-DE841D53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CB36-B655-4DC5-B967-D2B58630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9C62-B2AD-4B94-816A-861E0467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34A-DFD7-4936-AFAE-E7F28E88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8D1-B6B8-430D-872D-6F5840AA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CB34-8DDD-478E-ABFE-0623B58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B447-D454-41AB-BFC6-1D7B3F66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781C-9C3D-4814-81CC-33832293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5DC5-8D68-446D-86FF-42852889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ADCD-4129-4284-ACF7-84898367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AFAD-95B8-40B2-9E1A-170A7874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0196-E1A5-4399-9C64-8F0FCE54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1513-F5F6-4931-9B4C-6162024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E018-03D0-498B-AA77-61B65807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0BBD-1E09-4F3D-9FAD-06E5B07E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055-D0B2-4434-B65B-05815DFF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13AF-AEA9-4CE6-A830-130C0BD0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0DBA-6A5F-469B-85A0-02DCEF52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B53E-60B0-4CB4-BA5C-1FE4EAB0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67A9-EDCA-41E6-8A57-8A486204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DF27-9483-4435-B64B-C63F783D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B952-39D8-4EC8-A784-47C15CA7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F775-8ABB-4F0D-AC0F-E8240870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8128-49FC-4B4F-8194-ACA60AD0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BB82-D592-44DC-907E-61297F85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A502-BEE1-4035-B691-B117379F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EA5-3E64-4B93-9430-9F3C4851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AF55-8867-450D-A937-747792F8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78EC-A44A-47B0-BCE9-AC9AD108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44A2-19E4-4242-86DF-AA55B69B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E09D-65C0-4987-9320-7F911752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D49F-4EC7-4D26-8E1C-641E2D36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1077-F435-4FCE-BC19-F452AAC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C155-188D-4A0B-839D-9BD83098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1CF5-1B72-4527-AE41-AF8248E3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F43D-CCA6-475D-92D9-CD1DDB32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B25-CF12-4C2C-BCE7-D7E4113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2E9-BBBA-4CAA-8A7F-B9568170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0F0-D6AE-4B3D-A91F-77664B00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390-A384-46F3-9A7F-A9736C71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22D-9AF2-4B23-BAB6-056099A6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52E-C3E0-4A17-B6D5-C504A7A2CD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9E3D-1E9B-4544-998E-B458473146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32DE-AFB5-4FB3-B492-AC6C536AE3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4964-5DD5-4977-8539-12147A6D53B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63640" y="907560"/>
            <a:ext cx="68407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Презентация на тему: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«Развитие познавательного интереса у школьников»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124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учителя родн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ОУ КГО ТСОШ №1 им. И.П.Крымшамха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айхановой Людмилы Магометов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6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Я стараюсь обеспечить ученика условиями для успешного выполнения задания (с учетом индивидуальных способностей и личностных качеств), заинтересовать ученика самим познавательным процессом.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Успех ученика, конечно же, зависит от того объема знаний по предмету, которым ученик владеет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6" name="Picture 8" descr="1392959667general_pages_21_February_2014_i5306_mejdunarodnyi_den_rodnogo_y"/>
          <p:cNvPicPr/>
          <p:nvPr/>
        </p:nvPicPr>
        <p:blipFill>
          <a:blip r:embed="rId1"/>
          <a:stretch/>
        </p:blipFill>
        <p:spPr>
          <a:xfrm>
            <a:off x="250920" y="2492280"/>
            <a:ext cx="1735200" cy="13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Цели, которые я ставлю перед собой в моей педагогической деятельности, следующие: подвести детей к предмету обучения, раскрывающему логику научных знаний; сформировать учебную деятельность.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Главной задачей является привитие интереса к учебным предметам и удержание интереса в дальнейшем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Итог учебной работы обычно сводится к отметке, что оказывается болезненным. Другими словами, ученик ждет, что оценят не только итог, но и его усилия в процессе деятельности.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чень важно отметить достижения ученика, показать свое уважительное отношение к труду, чтобы у него появилось желание с охотой учиться дальше.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обое внимания требуют к себе слабоуспевающие ученики, к которым можно применить завышенную оценку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Я верю в каждого ребенка, верю и люблю его такого, каков он есть, стремлюсь сохранить и вырастить в нем его индивидуальность, непохожесть на други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0" name="Picture 6" descr="takiye-podvigi-sovershal-moy-ded444445546-5"/>
          <p:cNvPicPr/>
          <p:nvPr/>
        </p:nvPicPr>
        <p:blipFill>
          <a:blip r:embed="rId1"/>
          <a:stretch/>
        </p:blipFill>
        <p:spPr>
          <a:xfrm>
            <a:off x="3059280" y="3284640"/>
            <a:ext cx="3960720" cy="28843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WP_20151030_008.jpg"/>
          <p:cNvPicPr/>
          <p:nvPr/>
        </p:nvPicPr>
        <p:blipFill>
          <a:blip r:embed="rId2"/>
          <a:stretch/>
        </p:blipFill>
        <p:spPr>
          <a:xfrm>
            <a:off x="3059280" y="2565360"/>
            <a:ext cx="41050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сходя из вышеизложенного можно сделать вывод, чтобы эффективность урока была «отличной» надо создать увлекательный урок. Чтобы он приносил пользу, надо знать, в какой клеточке урока что уместно, а что – нет, как соединить привычное с непривычным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Picture 6" descr="00001d1a"/>
          <p:cNvPicPr/>
          <p:nvPr/>
        </p:nvPicPr>
        <p:blipFill>
          <a:blip r:embed="rId1"/>
          <a:stretch/>
        </p:blipFill>
        <p:spPr>
          <a:xfrm>
            <a:off x="5867280" y="4365720"/>
            <a:ext cx="220500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Я всегда ставлю перед собой такие рекомендации, как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Умей радоваться маленьким успехам своих учеников и сопереживать их неудач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Ты очень близкий человек для своего ученика. Постарайся, чтобы он был всегда открыт для тебя. Стань ему другом и наставник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Не бойся признаться в сво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  <a:ea typeface="Arial"/>
              </a:rPr>
              <a:t>ё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м незнании какого-нибудь вопроса. Будь вместе с ними в поис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Постарайся вселить в ученика веру в себя, в его успех. Тогда многие вершины для него станут преодоли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Стремлюсь к тому, чтобы мои уроки не стали шаблонными, проведенными </a:t>
            </a:r>
            <a:r>
              <a:rPr b="0" lang="ru-RU" sz="4400" spc="-1" strike="noStrike">
                <a:solidFill>
                  <a:srgbClr val="006633"/>
                </a:solidFill>
                <a:latin typeface="Arial"/>
                <a:ea typeface="Arial"/>
              </a:rPr>
              <a:t>˝</a:t>
            </a: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по трафарету</a:t>
            </a:r>
            <a:r>
              <a:rPr b="0" lang="ru-RU" sz="4400" spc="-1" strike="noStrike">
                <a:solidFill>
                  <a:srgbClr val="006633"/>
                </a:solidFill>
                <a:latin typeface="Arial"/>
                <a:ea typeface="Arial"/>
              </a:rPr>
              <a:t>˝. Пусть на уроках свершаются открытия, рождаются истины, покоряются вершины, продолжаются поиски.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31640" y="404640"/>
            <a:ext cx="568980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ходи в класс с улыбкой. При встрече загляни каждому в глаза, узнай его настроение и поддержи, если ему грустно. Неси детям добрую энергию и всегда помни, что «ученик – это не сосуд, который необходимо наполнить, а факел, который надобно зажечь»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7" name="Picture 6" descr="0_53a4f_9d0cbb58_XL"/>
          <p:cNvPicPr/>
          <p:nvPr/>
        </p:nvPicPr>
        <p:blipFill>
          <a:blip r:embed="rId1"/>
          <a:stretch/>
        </p:blipFill>
        <p:spPr>
          <a:xfrm>
            <a:off x="539640" y="692280"/>
            <a:ext cx="23860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чу своих учеников трудиться. Не ищу легкого пути в обучении. Но помню, как важно поддержать, ободрить, быть рядом в трудной ситуации. Чувствую, где необходимо моё плечо, мои знания, мой опыт.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Если из двух баллов думаешь, какой выбрать, не сомневайся, поставь высший. Поверь в ребенка. Дай ему крылья. Дай ему надежду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Я знаю, двойка очень вредна и для формирования характера. Найди возможным не увлекаться этой отметкой.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Каждый мой урок должен быть пусть маленьким, но шагом вперед, к узнаванию нового.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Я помню о том, что ребенку должно быть интересно на уроке. Только когда интересно, ребенок становится внимательным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33"/>
                </a:solidFill>
                <a:latin typeface="Garamond"/>
              </a:rPr>
              <a:t>Мой верный друг!</a:t>
            </a:r>
            <a:br>
              <a:rPr sz="6600"/>
            </a:br>
            <a:r>
              <a:rPr b="1" i="1" lang="ru-RU" sz="6600" spc="-1" strike="noStrike">
                <a:solidFill>
                  <a:srgbClr val="006633"/>
                </a:solidFill>
                <a:latin typeface="Garamond"/>
              </a:rPr>
              <a:t>Мой враг коварный!</a:t>
            </a:r>
            <a:br>
              <a:rPr sz="6600"/>
            </a:br>
            <a:r>
              <a:rPr b="1" i="1" lang="ru-RU" sz="6600" spc="-1" strike="noStrike">
                <a:solidFill>
                  <a:srgbClr val="006633"/>
                </a:solidFill>
                <a:latin typeface="Garamond"/>
              </a:rPr>
              <a:t>Мой царь! Мой раб!</a:t>
            </a:r>
            <a:br>
              <a:rPr sz="6600"/>
            </a:br>
            <a:r>
              <a:rPr b="1" i="1" lang="ru-RU" sz="6600" spc="-1" strike="noStrike">
                <a:solidFill>
                  <a:srgbClr val="006633"/>
                </a:solidFill>
                <a:latin typeface="Garamond"/>
              </a:rPr>
              <a:t>Родной язык!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i="1" lang="ru-RU" sz="4400" spc="-1" strike="noStrike" u="sng">
                <a:solidFill>
                  <a:srgbClr val="006633"/>
                </a:solidFill>
                <a:uFillTx/>
                <a:latin typeface="Garamond"/>
              </a:rPr>
              <a:t>Берегите наш язык, наш прекрасный родной язык – это клад, переданное нам нашими предшественниками!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1" name="Picture 6" descr="5012"/>
          <p:cNvPicPr/>
          <p:nvPr/>
        </p:nvPicPr>
        <p:blipFill>
          <a:blip r:embed="rId1"/>
          <a:stretch/>
        </p:blipFill>
        <p:spPr>
          <a:xfrm>
            <a:off x="539640" y="3284640"/>
            <a:ext cx="2801880" cy="27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4248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бучение должно приносить радость познания, радость общения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Любой ребенок – личность, каждому нужно почувствовать радость успех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 радость обязательно вызовет интерес к учению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4" name="Picture 7" descr="sm"/>
          <p:cNvPicPr/>
          <p:nvPr/>
        </p:nvPicPr>
        <p:blipFill>
          <a:blip r:embed="rId1"/>
          <a:stretch/>
        </p:blipFill>
        <p:spPr>
          <a:xfrm>
            <a:off x="4716360" y="2421000"/>
            <a:ext cx="374976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8720" cy="58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Любой урок имеет огромный потенциал для решения новых задач. Но решаются эти задачи зачастую теми средствами, которые не могут привести к ожидаемому положительному результату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6" name="Picture 6" descr="i (2)"/>
          <p:cNvPicPr/>
          <p:nvPr/>
        </p:nvPicPr>
        <p:blipFill>
          <a:blip r:embed="rId1"/>
          <a:stretch/>
        </p:blipFill>
        <p:spPr>
          <a:xfrm>
            <a:off x="4211640" y="3844800"/>
            <a:ext cx="3664080" cy="22528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3" descr="WP_20151030_007.jpg"/>
          <p:cNvPicPr/>
          <p:nvPr/>
        </p:nvPicPr>
        <p:blipFill>
          <a:blip r:embed="rId2"/>
          <a:stretch/>
        </p:blipFill>
        <p:spPr>
          <a:xfrm>
            <a:off x="3924360" y="2349360"/>
            <a:ext cx="4176720" cy="37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Занимательность – необходимое средство возбуждать и поддерживать внимание и интерес к предмету.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У каждого учителя свои методические подходы, методические приемы, которые позволяют успешно проводить уроки. Но при подготовке и планировании урока он осуществляет целый комплекс действий, решает психологические, дидактические, методические , организационные задач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900" spc="-1" strike="noStrike">
                <a:solidFill>
                  <a:srgbClr val="006633"/>
                </a:solidFill>
                <a:latin typeface="Arial"/>
              </a:rPr>
              <a:t>Результат эффективности на уроке зависит от профессионализма учителя, а именно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633"/>
                </a:solidFill>
                <a:latin typeface="Arial"/>
              </a:rPr>
              <a:t>знания предмет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633"/>
                </a:solidFill>
                <a:latin typeface="Arial"/>
              </a:rPr>
              <a:t>культуры общени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633"/>
                </a:solidFill>
                <a:latin typeface="Arial"/>
              </a:rPr>
              <a:t>любви к детям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i (1)"/>
          <p:cNvPicPr/>
          <p:nvPr/>
        </p:nvPicPr>
        <p:blipFill>
          <a:blip r:embed="rId1"/>
          <a:stretch/>
        </p:blipFill>
        <p:spPr>
          <a:xfrm>
            <a:off x="5580000" y="3357720"/>
            <a:ext cx="260208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Проработав 28 лет в образовании, я поняла, что современный учитель сочетает в себе не только знание предмета и методики его преподавания, но и в какой-то мере социологии, психологии, педагогики. Не говоря о том, что хороший учитель должен обладать еще и высокими актерскими способностями. Работая по одной методике, невозможно добиться успеха, воспитать творческую личность. А положительная мотивация при изучении того или иного предмета – это залог успеха в его изучении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" name="Picture 7" descr="i"/>
          <p:cNvPicPr/>
          <p:nvPr/>
        </p:nvPicPr>
        <p:blipFill>
          <a:blip r:embed="rId1"/>
          <a:stretch/>
        </p:blipFill>
        <p:spPr>
          <a:xfrm>
            <a:off x="5435640" y="5300640"/>
            <a:ext cx="2592360" cy="7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Работая по традиционной программе, я стараюсь использовать на своих уроках элементы развивающего обучения и ставить перед собой цели, отличающиеся от традиционного урока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Я стараюсь учить ребят творчески мыслить, перестраивать известную им информацию, задавая все чаще вопросы: Почему? Зачем? Как? и т.д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Перед собой ставлю такие задачи, как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помочь ученику стать свободной творческой личност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вызвать и поддержать у ребенка желание учить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создать обстановку комфортности для учен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развивать способности мыслить свободно, без страха, творчес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дать возможность каждому расти настолько. Насколько он способе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Большой эффект в обучении дает живое слово учителя в  сочетании с наглядн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18:27:35Z</dcterms:created>
  <dc:creator>User</dc:creator>
  <dc:description/>
  <dc:language>en-US</dc:language>
  <cp:lastModifiedBy>User</cp:lastModifiedBy>
  <dcterms:modified xsi:type="dcterms:W3CDTF">2015-11-02T09:20:25Z</dcterms:modified>
  <cp:revision>10</cp:revision>
  <dc:subject/>
  <dc:title>Презентация на тему: «Развитие познавательного интереса у школьников».</dc:title>
</cp:coreProperties>
</file>