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F408-9C9E-445E-97B1-18AC260F50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1982-3A22-4C0C-963E-36A5EA2481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3AC-C7A4-4AC8-AEAA-20517ECD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AE8-5046-4C19-9EA2-7556D837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BF0-DE12-4325-BA9D-DE206D2D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C2A-1C8C-4F46-A5E1-73580861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3FC9-8D7F-41D2-9A64-CFE28D11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5807-984F-4306-B93E-FBBF1659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607C-1F5E-4915-A590-9EA44218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D169-EC41-463D-9024-E5824F4B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725F-5739-4F34-AB20-20AFF5DC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DBCA-6DC1-44EE-ABF1-7B01DBF1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8CEE-7C92-4A94-A426-777F49C4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473-F291-48E6-8FE9-F0673332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7263-7B72-466F-A879-85F088E3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4789-1887-4FE3-A09D-A557A65C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DE04-A919-4D58-8F1A-CE62DB9D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9854-29CB-4E8D-84E9-84F6F61B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AC43-E341-48D1-B0F0-A0C4072A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FEDD4-2E82-4FD4-9355-C279618B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E5EB-984D-4C56-A48C-96354772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41D4-47C1-48C0-9EF6-795508AB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A9280-5716-4281-BC00-0D7C41AB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8CE66-FA75-4047-846A-6EC1E69A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199-B8E0-4FAF-A2AA-735106E6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97DD9-6C90-4E45-803E-B73C0D86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B1C96-A034-472E-81E2-9A7B035C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380ED-769E-47CD-87F3-1CACDDC4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C4D3-F25C-40A9-89D8-3F58D4B3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CE452-7032-44E1-A70F-C7D5C30B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7AB9C-5D76-4B5B-AAB4-A0738EDB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2E85B-FFF2-43AD-A1BA-10B7E17F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0361E-AE0E-40EF-AAC2-87403F13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0A95F-AF4B-4CA0-BBA6-44633533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AEDEF-F1A3-4034-B7EF-BA75A773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402-A8E3-464D-9124-27DBDE2F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973E4-8651-4A7D-ADBE-4867B869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3DB65-ADB0-4521-B08A-23722C28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1F007-F9DA-4947-B2CC-186BFBB6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91A3A-729C-4184-A392-57757295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1F6A9-A625-4656-80C8-E028E8DC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B23BD-974F-48EE-9F39-FA263D3C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E1542-EAAC-4E66-8809-FFCB5C49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789EC-3DD6-4308-94F3-65DE6A12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C4B5D-AB23-4450-A9BE-11AB7F15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36D-FF7C-4021-88DE-D999FDE3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C13-EE28-4090-A4B8-E3279BCD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8E8-84AB-4339-BED8-B8F09524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E7D-BAE6-495E-933D-7593240F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316-672A-44BF-B746-963ADBB8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D900-47B6-4A38-92BF-10E898B1BA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2DE6-4D0F-480A-847F-56F62F6330C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07C8-F7CA-4537-B23B-F05099B303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9B17-6D12-4432-8CF5-67A7CEA6D2E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63640" y="907560"/>
            <a:ext cx="68407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Презентация на тему:</a:t>
            </a:r>
            <a:br>
              <a:rPr sz="4400"/>
            </a:b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«Развитие познавательного интереса у школьников»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1240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учителя родного я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ОУ КГО ТСОШ №1 им. И.П.Крымшамха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айхановой Людмилы Магометов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66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Я стараюсь обеспечить ученика условиями для успешного выполнения задания (с учетом индивидуальных способностей и личностных качеств), заинтересовать ученика самим познавательным процессом.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Успех ученика, конечно же, зависит от того объема знаний по предмету, которым ученик владеет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6" name="Picture 8" descr="1392959667general_pages_21_February_2014_i5306_mejdunarodnyi_den_rodnogo_y"/>
          <p:cNvPicPr/>
          <p:nvPr/>
        </p:nvPicPr>
        <p:blipFill>
          <a:blip r:embed="rId1"/>
          <a:stretch/>
        </p:blipFill>
        <p:spPr>
          <a:xfrm>
            <a:off x="250920" y="2492280"/>
            <a:ext cx="1735200" cy="13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Цели, которые я ставлю перед собой в моей педагогической деятельности, следующие: подвести детей к предмету обучения, раскрывающему логику научных знаний; сформировать учебную деятельность.</a:t>
            </a:r>
            <a:br>
              <a:rPr sz="3600"/>
            </a:b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Главной задачей является привитие интереса к учебным предметам и удержание интереса в дальнейшем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Итог учебной работы обычно сводится к отметке, что оказывается болезненным. Другими словами, ученик ждет, что оценят не только итог, но и его усилия в процессе деятельности.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чень важно отметить достижения ученика, показать свое уважительное отношение к труду, чтобы у него появилось желание с охотой учиться дальше.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обое внимания требуют к себе слабоуспевающие ученики, к которым можно применить завышенную оценку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Я верю в каждого ребенка, верю и люблю его такого, каков он есть, стремлюсь сохранить и вырастить в нем его индивидуальность, непохожесть на других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0" name="Picture 6" descr="takiye-podvigi-sovershal-moy-ded444445546-5"/>
          <p:cNvPicPr/>
          <p:nvPr/>
        </p:nvPicPr>
        <p:blipFill>
          <a:blip r:embed="rId1"/>
          <a:stretch/>
        </p:blipFill>
        <p:spPr>
          <a:xfrm>
            <a:off x="3059280" y="3284640"/>
            <a:ext cx="3960720" cy="28843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3" descr="WP_20151030_008.jpg"/>
          <p:cNvPicPr/>
          <p:nvPr/>
        </p:nvPicPr>
        <p:blipFill>
          <a:blip r:embed="rId2"/>
          <a:stretch/>
        </p:blipFill>
        <p:spPr>
          <a:xfrm>
            <a:off x="3059280" y="2565360"/>
            <a:ext cx="410508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Исходя из вышеизложенного можно сделать вывод, чтобы эффективность урока была «отличной» надо создать увлекательный урок. Чтобы он приносил пользу, надо знать, в какой клеточке урока что уместно, а что – нет, как соединить привычное с непривычным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3" name="Picture 6" descr="00001d1a"/>
          <p:cNvPicPr/>
          <p:nvPr/>
        </p:nvPicPr>
        <p:blipFill>
          <a:blip r:embed="rId1"/>
          <a:stretch/>
        </p:blipFill>
        <p:spPr>
          <a:xfrm>
            <a:off x="5867280" y="4365720"/>
            <a:ext cx="2205000" cy="16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Я всегда ставлю перед собой такие рекомендации, как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Умей радоваться маленьким успехам своих учеников и сопереживать их неудач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Ты очень близкий человек для своего ученика. Постарайся, чтобы он был всегда открыт для тебя. Стань ему другом и наставник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Не бойся признаться в сво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  <a:ea typeface="Arial"/>
              </a:rPr>
              <a:t>ё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м незнании какого-нибудь вопроса. Будь вместе с ними в поис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Постарайся вселить в ученика веру в себя, в его успех. Тогда многие вершины для него станут преодоли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Стремлюсь к тому, чтобы мои уроки не стали шаблонными, проведенными </a:t>
            </a:r>
            <a:r>
              <a:rPr b="0" lang="ru-RU" sz="4400" spc="-1" strike="noStrike">
                <a:solidFill>
                  <a:srgbClr val="006633"/>
                </a:solidFill>
                <a:latin typeface="Arial"/>
                <a:ea typeface="Arial"/>
              </a:rPr>
              <a:t>˝</a:t>
            </a: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по трафарету</a:t>
            </a:r>
            <a:r>
              <a:rPr b="0" lang="ru-RU" sz="4400" spc="-1" strike="noStrike">
                <a:solidFill>
                  <a:srgbClr val="006633"/>
                </a:solidFill>
                <a:latin typeface="Arial"/>
                <a:ea typeface="Arial"/>
              </a:rPr>
              <a:t>˝. Пусть на уроках свершаются открытия, рождаются истины, покоряются вершины, продолжаются поиски.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31640" y="404640"/>
            <a:ext cx="568980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ходи в класс с улыбкой. При встрече загляни каждому в глаза, узнай его настроение и поддержи, если ему грустно. Неси детям добрую энергию и всегда помни, что «ученик – это не сосуд, который необходимо наполнить, а факел, который надобно зажечь»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7" name="Picture 6" descr="0_53a4f_9d0cbb58_XL"/>
          <p:cNvPicPr/>
          <p:nvPr/>
        </p:nvPicPr>
        <p:blipFill>
          <a:blip r:embed="rId1"/>
          <a:stretch/>
        </p:blipFill>
        <p:spPr>
          <a:xfrm>
            <a:off x="539640" y="692280"/>
            <a:ext cx="23860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Учу своих учеников трудиться. Не ищу легкого пути в обучении. Но помню, как важно поддержать, ободрить, быть рядом в трудной ситуации. Чувствую, где необходимо моё плечо, мои знания, мой опыт.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Если из двух баллов думаешь, какой выбрать, не сомневайся, поставь высший. Поверь в ребенка. Дай ему крылья. Дай ему надежду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Я знаю, двойка очень вредна и для формирования характера. Найди возможным не увлекаться этой отметкой.</a:t>
            </a:r>
            <a:br>
              <a:rPr sz="3600"/>
            </a:b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Каждый мой урок должен быть пусть маленьким, но шагом вперед, к узнаванию нового.</a:t>
            </a:r>
            <a:br>
              <a:rPr sz="3600"/>
            </a:b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Я помню о том, что ребенку должно быть интересно на уроке. Только когда интересно, ребенок становится внимательным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33"/>
                </a:solidFill>
                <a:latin typeface="Garamond"/>
              </a:rPr>
              <a:t>Мой верный друг!</a:t>
            </a:r>
            <a:br>
              <a:rPr sz="6600"/>
            </a:br>
            <a:r>
              <a:rPr b="1" i="1" lang="ru-RU" sz="6600" spc="-1" strike="noStrike">
                <a:solidFill>
                  <a:srgbClr val="006633"/>
                </a:solidFill>
                <a:latin typeface="Garamond"/>
              </a:rPr>
              <a:t>Мой враг коварный!</a:t>
            </a:r>
            <a:br>
              <a:rPr sz="6600"/>
            </a:br>
            <a:r>
              <a:rPr b="1" i="1" lang="ru-RU" sz="6600" spc="-1" strike="noStrike">
                <a:solidFill>
                  <a:srgbClr val="006633"/>
                </a:solidFill>
                <a:latin typeface="Garamond"/>
              </a:rPr>
              <a:t>Мой царь! Мой раб!</a:t>
            </a:r>
            <a:br>
              <a:rPr sz="6600"/>
            </a:br>
            <a:r>
              <a:rPr b="1" i="1" lang="ru-RU" sz="6600" spc="-1" strike="noStrike">
                <a:solidFill>
                  <a:srgbClr val="006633"/>
                </a:solidFill>
                <a:latin typeface="Garamond"/>
              </a:rPr>
              <a:t>Родной язык!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i="1" lang="ru-RU" sz="4400" spc="-1" strike="noStrike" u="sng">
                <a:solidFill>
                  <a:srgbClr val="006633"/>
                </a:solidFill>
                <a:uFillTx/>
                <a:latin typeface="Garamond"/>
              </a:rPr>
              <a:t>Берегите наш язык, наш прекрасный родной язык – это клад, переданное нам нашими предшественниками!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1" name="Picture 6" descr="5012"/>
          <p:cNvPicPr/>
          <p:nvPr/>
        </p:nvPicPr>
        <p:blipFill>
          <a:blip r:embed="rId1"/>
          <a:stretch/>
        </p:blipFill>
        <p:spPr>
          <a:xfrm>
            <a:off x="539640" y="3284640"/>
            <a:ext cx="2801880" cy="27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4248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Обучение должно приносить радость познания, радость общения.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Любой ребенок – личность, каждому нужно почувствовать радость успеха.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 радость обязательно вызовет интерес к учению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4" name="Picture 7" descr="sm"/>
          <p:cNvPicPr/>
          <p:nvPr/>
        </p:nvPicPr>
        <p:blipFill>
          <a:blip r:embed="rId1"/>
          <a:stretch/>
        </p:blipFill>
        <p:spPr>
          <a:xfrm>
            <a:off x="4716360" y="2421000"/>
            <a:ext cx="3749760" cy="33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848720" cy="58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Любой урок имеет огромный потенциал для решения новых задач. Но решаются эти задачи зачастую теми средствами, которые не могут привести к ожидаемому положительному результату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6" name="Picture 6" descr="i (2)"/>
          <p:cNvPicPr/>
          <p:nvPr/>
        </p:nvPicPr>
        <p:blipFill>
          <a:blip r:embed="rId1"/>
          <a:stretch/>
        </p:blipFill>
        <p:spPr>
          <a:xfrm>
            <a:off x="4211640" y="3844800"/>
            <a:ext cx="3664080" cy="22528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3" descr="WP_20151030_007.jpg"/>
          <p:cNvPicPr/>
          <p:nvPr/>
        </p:nvPicPr>
        <p:blipFill>
          <a:blip r:embed="rId2"/>
          <a:stretch/>
        </p:blipFill>
        <p:spPr>
          <a:xfrm>
            <a:off x="3924360" y="2349360"/>
            <a:ext cx="4176720" cy="37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Занимательность – необходимое средство возбуждать и поддерживать внимание и интерес к предмету.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У каждого учителя свои методические подходы, методические приемы, которые позволяют успешно проводить уроки. Но при подготовке и планировании урока он осуществляет целый комплекс действий, решает психологические, дидактические, методические , организационные задачи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900" spc="-1" strike="noStrike">
                <a:solidFill>
                  <a:srgbClr val="006633"/>
                </a:solidFill>
                <a:latin typeface="Arial"/>
              </a:rPr>
              <a:t>Результат эффективности на уроке зависит от профессионализма учителя, а именно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6633"/>
                </a:solidFill>
                <a:latin typeface="Arial"/>
              </a:rPr>
              <a:t>знания предмет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6633"/>
                </a:solidFill>
                <a:latin typeface="Arial"/>
              </a:rPr>
              <a:t>культуры общени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6633"/>
                </a:solidFill>
                <a:latin typeface="Arial"/>
              </a:rPr>
              <a:t>любви к детям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i (1)"/>
          <p:cNvPicPr/>
          <p:nvPr/>
        </p:nvPicPr>
        <p:blipFill>
          <a:blip r:embed="rId1"/>
          <a:stretch/>
        </p:blipFill>
        <p:spPr>
          <a:xfrm>
            <a:off x="5580000" y="3357720"/>
            <a:ext cx="2602080" cy="24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Проработав 28 лет в образовании, я поняла, что современный учитель сочетает в себе не только знание предмета и методики его преподавания, но и в какой-то мере социологии, психологии, педагогики. Не говоря о том, что хороший учитель должен обладать еще и высокими актерскими способностями. Работая по одной методике, невозможно добиться успеха, воспитать творческую личность. А положительная мотивация при изучении того или иного предмета – это залог успеха в его изучении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2" name="Picture 7" descr="i"/>
          <p:cNvPicPr/>
          <p:nvPr/>
        </p:nvPicPr>
        <p:blipFill>
          <a:blip r:embed="rId1"/>
          <a:stretch/>
        </p:blipFill>
        <p:spPr>
          <a:xfrm>
            <a:off x="5435640" y="5300640"/>
            <a:ext cx="2592360" cy="7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Работая по традиционной программе, я стараюсь использовать на своих уроках элементы развивающего обучения и ставить перед собой цели, отличающиеся от традиционного урока</a:t>
            </a:r>
            <a:br>
              <a:rPr sz="3600"/>
            </a:b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Я стараюсь учить ребят творчески мыслить, перестраивать известную им информацию, задавая все чаще вопросы: Почему? Зачем? Как? и т.д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Перед собой ставлю такие задачи, как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помочь ученику стать свободной творческой личность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вызвать и поддержать у ребенка желание учитьс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создать обстановку комфортности для учени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развивать способности мыслить свободно, без страха, творчес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дать возможность каждому расти настолько. Насколько он способе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Большой эффект в обучении дает живое слово учителя в  сочетании с наглядность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1T18:27:35Z</dcterms:created>
  <dc:creator>User</dc:creator>
  <dc:description/>
  <dc:language>en-US</dc:language>
  <cp:lastModifiedBy>User</cp:lastModifiedBy>
  <dcterms:modified xsi:type="dcterms:W3CDTF">2015-11-02T09:20:25Z</dcterms:modified>
  <cp:revision>10</cp:revision>
  <dc:subject/>
  <dc:title>Презентация на тему: «Развитие познавательного интереса у школьников».</dc:title>
</cp:coreProperties>
</file>