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37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558-F8FA-475F-8ECA-157076D3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EE6-09E8-4708-A461-476BB19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545-55BD-4232-836E-6DD8D114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624-B53E-469A-A47E-DDABA53E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0A2A-20BC-4B6C-844A-BD0A8C53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2491-AEFB-454E-B174-5275AC0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CED0-F136-4DAC-9C90-568B99F1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5893-F003-44E5-B38E-8DFD7C0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CD0-722D-40DE-B5A6-B4459B59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6DF-EC9C-4586-A104-548E853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7E55-D379-4472-96E4-4773DF6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FBA-3EB5-4730-89CD-48FD1183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F95-43FE-4564-8484-5DA603D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A46-CDF2-4BAB-994D-B5DBB6D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64F1-CBFD-4A3B-B274-4E77C2A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7A64-1E4C-4388-9A25-6B681D2C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E19-FA44-44BA-AE36-377124BB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676-8385-4C76-AA41-3FD0172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D76-A090-40EE-812E-1AA45E50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2F1-5CCE-4149-BFE2-9CA774C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64E-C621-4F0E-B836-29EC3252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F05-CCB9-4BBE-98E0-F5580D2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955-8514-4F5D-A791-F4313C2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083-E7F8-44F1-8937-C4AF6FC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792-F105-46CC-8A28-571709748DF3}" type="datetime">
              <a:rPr b="0" lang="ru-RU" sz="1200" spc="-1" strike="noStrike">
                <a:solidFill>
                  <a:srgbClr val="d9d4c7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CA7-5A55-4E7B-A29F-FBA2963EA492}" type="slidenum">
              <a:rPr b="0" lang="ru-RU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45E-E9BC-42A5-BA71-F39F0B94F341}" type="datetime">
              <a:rPr b="0" lang="ru-RU" sz="1200" spc="-1" strike="noStrike">
                <a:solidFill>
                  <a:srgbClr val="d9d4c7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E41-1741-4E0C-A742-A5CCC8E68744}" type="slidenum">
              <a:rPr b="0" lang="ru-RU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0_1605f8_a2d26b71_orig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214200" y="1071720"/>
            <a:ext cx="8715600" cy="578628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347760" y="-6480"/>
            <a:ext cx="828972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160" y="2071440"/>
            <a:ext cx="78548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натомо-физиологические  особенности недоношенного ребенка и организация ухода за ни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ла: преподаватель педиатр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лова Ольга Борис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523800" y="208080"/>
            <a:ext cx="8199360" cy="846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500800" y="1071360"/>
            <a:ext cx="3643200" cy="54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недоношенных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 –II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епени: кожа розового цвета, нет пушка на лице (при рождении на 33-й нед гестации), а позже и на туловище. Пупок расположен несколько выше над лоном, голова составляет примерно 1/4 часть длины тела. У детей, рождённых на сроке более 34 нед  гестации, появляются первые изгибы на ушных раковинах, более заметны соски и околососковые кружки, у мальчиков яички находятся у входа в мошонку, у девочек половая щель почти закры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C:\Users\Настя\Desktop\недоношенные\prezhdevremennye-rody.jpg"/>
          <p:cNvPicPr/>
          <p:nvPr/>
        </p:nvPicPr>
        <p:blipFill>
          <a:blip r:embed="rId2"/>
          <a:stretch/>
        </p:blipFill>
        <p:spPr>
          <a:xfrm>
            <a:off x="0" y="1071720"/>
            <a:ext cx="5500800" cy="492912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Настя\Desktop\недоношенные\neonatal_baby.jpg"/>
          <p:cNvPicPr/>
          <p:nvPr/>
        </p:nvPicPr>
        <p:blipFill>
          <a:blip r:embed="rId1"/>
          <a:stretch/>
        </p:blipFill>
        <p:spPr>
          <a:xfrm>
            <a:off x="4857840" y="4500720"/>
            <a:ext cx="4286160" cy="235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0280" y="157320"/>
            <a:ext cx="8184960" cy="19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000" spc="-1" strike="noStrike">
              <a:solidFill>
                <a:srgbClr val="6e9d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5000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лубоко недоношенный ребёнок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II- IV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степени (масса тела менее 1500 г) имеет тонкую морщинистую кожу тёмно-красного цвета, обильно покрытую сыровидной смазкой и пушком 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(lanugo).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остая эритема держится до 2-3 нед. Подкожно-жировой слой не выражен, соски и околососковые кружки грудных желёз едва заметны; ушные раковины плоские, бесформенные, мягкие, прижатые к голове; ногти тонкие и не всегда доходят до края ногтевого ложа; пупок расположен в нижней трети живота. Голова относительно большая и составляет 1/3 от длины тела; конечности короткие. Швы черепа и роднички (большой и малый) открыты. Кости черепа тонкие. У девочек половая щель зияет в результате недоразвития больших половых губ, клитор выступает; у мальчиков яички не опущены в мошонку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0280" y="785520"/>
            <a:ext cx="8113680" cy="578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ля недоношенных характерны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ышечная гипотон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нижение физиологических рефлексов, двигательной активности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рушение терморегуляции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лабый крик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осательный, глотательный и другие рефлексы у него отсутствуют или слабо выражен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ервые 2-3 нед жизни может быть непостоянный тремор, негрубое и непостоянное косоглазие, горизонтальный нистагм при перемене положения те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Нижний колонтитул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0280" y="928800"/>
            <a:ext cx="81136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ыхание у недоношенных детей поверхностное со значительными колебаниями ЧДД (от 36 до 76 в минуту), с тенденцией к тахипноэ и апноэ продолжительностью 5-10 с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ЧСС у недоношенных детей отличается большой лабильностью (от 100 до 180 в минуту), тонус сосудов снижен, систолическое АД не превышает 60-70 мм рт.ст. Повышенная проницаемость сосудистых стенок может привести к нарушению мозгового кровообращения и кровоизлиянию в моз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 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ферменты ЖКТ, необходимые для переваривания грудного молока, синтезируются, но отличаются низкой активностью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 недоношенных детей отсутствует взаимосвязь между интенсивностью желтухи и степенью транзиторной гипербилирубинемии, что нередко приводит к недооценке последне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Настя\Desktop\недоношенные\neonato-sulla-bilancia.jpg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4929120" y="4143240"/>
            <a:ext cx="4214880" cy="271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0280" y="785520"/>
            <a:ext cx="818496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собенности физического развития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Физическое развитие недоношенных характеризуется более высокими темпами нарастания массы и длины тела в течение первого года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жизни. Чем меньше масса и длина тела недоношенного при рождении, тем интенсивнее увеличиваются эти показатели в течение год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   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К концу первого года жизни масса тела увеличивается следующим образом: при недоношенности IV степени в 8-10 раз, III степени - в 6-7 раз, II степени - в 5-7 раз, I степени - в 4-5 раз. Масса тела нарастает неравномерно. Первый месяц жизни является наиболее сложным периодом адаптации. Первоначальная масса тела уменьшается на 8-12%; восстановление происходит медленно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 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Длина тела недоношенного к концу первого года жизни составляет 65-75 см, т.е. увеличивается на 30-35 см, в то время как у доношенного длина тела увеличивается на 25 см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Несмотря на высокие темпы развития, в первые 2-3 года жизни недоношенные дети отстают от сверстников, родившихся доношенными. Выравнивание происходит после третьего года жизни, нередко в 5-6 лет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286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2" descr="C:\Users\Настя\Desktop\недоношенные\pribavka-v-vese.jpg"/>
          <p:cNvPicPr/>
          <p:nvPr/>
        </p:nvPicPr>
        <p:blipFill>
          <a:blip r:embed="rId1"/>
          <a:stretch/>
        </p:blipFill>
        <p:spPr>
          <a:xfrm>
            <a:off x="444600" y="1574640"/>
            <a:ext cx="8254800" cy="370872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C:\Users\Настя\Desktop\недоношенные\malysh.jpg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500040" y="2286000"/>
            <a:ext cx="3357720" cy="45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Настя\Desktop\недоношенные\content_77_list-1336133574.jpg"/>
          <p:cNvPicPr/>
          <p:nvPr/>
        </p:nvPicPr>
        <p:blipFill>
          <a:blip r:embed="rId2">
            <a:lum contrast="-40000"/>
          </a:blip>
          <a:stretch/>
        </p:blipFill>
        <p:spPr>
          <a:xfrm>
            <a:off x="671508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146" name="Заголовок 1" descr=""/>
          <p:cNvPicPr/>
          <p:nvPr/>
        </p:nvPicPr>
        <p:blipFill>
          <a:blip r:embed="rId3"/>
          <a:stretch/>
        </p:blipFill>
        <p:spPr>
          <a:xfrm>
            <a:off x="414360" y="781200"/>
            <a:ext cx="8553600" cy="699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сихомоторном развитии здоровые недоношенные сравниваются со своими доношенными сверстниками значительно раньше, чем в физическом. Дети с недоношенностью II-III степени начинают фиксировать взор, удерживать голову, переворачиваться, самостоятельно вставать и ходить, произносить первые слова на 1-3 мес. позже доношенных. Недоношенные дети «догоняют» доношенных сверстников по психомоторному развитию на втором году жизни; с недоношенностью I степени - к концу первого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26960" y="208080"/>
            <a:ext cx="8388360" cy="772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0280" y="1213920"/>
            <a:ext cx="8184960" cy="53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хаживание недоношенных детей осуществляют в три этапа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родильном доме;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пециализированном отделени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тем ребёнок поступает под наблюдение поликлини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Picture 4" descr="C:\Users\Настя\Desktop\недоношенные\rawImage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0672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642680"/>
            <a:ext cx="2743200" cy="4605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ле рождения недоношенного ребёнка следует поместить в стерильные тёплые пелёнки («оптимальный комфорт»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Users\Настя\Desktop\недоношенные\print_643000_886318.jpg"/>
          <p:cNvPicPr/>
          <p:nvPr/>
        </p:nvPicPr>
        <p:blipFill>
          <a:blip r:embed="rId1"/>
          <a:stretch/>
        </p:blipFill>
        <p:spPr>
          <a:xfrm>
            <a:off x="3575160" y="1571760"/>
            <a:ext cx="5111640" cy="40939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48320" y="78588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первые дни жизни глубоко недоношенных детей или недоношенных в тяжёлом состоянии содержат в кувезах. В них поддерживают постоянную температуру (от 30 до 35 C с учётом индивидуальных особенностей ребёнка), влажность (в первые сутки до 90%, а затем до 60-55%), концентрацию кислорода (около 30%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7" name="Picture 2" descr="C:\Users\Настя\Desktop\недоношенные\51294875.jpg"/>
          <p:cNvPicPr/>
          <p:nvPr/>
        </p:nvPicPr>
        <p:blipFill>
          <a:blip r:embed="rId1"/>
          <a:stretch/>
        </p:blipFill>
        <p:spPr>
          <a:xfrm>
            <a:off x="357120" y="1285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3200"/>
            <a:ext cx="7864560" cy="920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блема недоношенности является одной из актуальнейших в современной педиатрии. За последнее десятилетие профилактика недоношенности и организация выхаживания недоношенных детей стали более совершенными. В специализированных отделениях применяют высокотехнологичные методы диагностики и лечения. В выхаживании недоношенных детей значительная роль принадлежит медицинским сестрам. Поэтому  при изучении данной темы особую роль будем уделять формированию профессиональных компетенций и  воспитанию у них заботливого, доброго отношения к детя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500040" y="78588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ературу тела ребёнка можно поддерживать и в кроватке с обогревом или в обычной кроватке с помощью грелок, так как чем длительнее пребывание в кувезе, тем больше вероятность инфицирования ребёнка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тимальная температура воздуха в помещении -25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Users\Настя\Desktop\недоношенные\kanmed-3.png"/>
          <p:cNvPicPr/>
          <p:nvPr/>
        </p:nvPicPr>
        <p:blipFill>
          <a:blip r:embed="rId1"/>
          <a:stretch/>
        </p:blipFill>
        <p:spPr>
          <a:xfrm>
            <a:off x="2428920" y="2286000"/>
            <a:ext cx="6500880" cy="441180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57120" y="7142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поддерживать адаптационные реакции ребёнка с помощью закапывания в рот из пипетки нативного материнского молока, подогретых пелёнок, длительного пребывания на груди матери (типа «кенгуру»), спокойного голоса медицинской сестры, поглаживающих движений её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" descr="C:\Users\Настя\Desktop\недоношенные\1338024412_prezhdevremennye-rody.jpg"/>
          <p:cNvPicPr/>
          <p:nvPr/>
        </p:nvPicPr>
        <p:blipFill>
          <a:blip r:embed="rId1"/>
          <a:stretch/>
        </p:blipFill>
        <p:spPr>
          <a:xfrm>
            <a:off x="1500120" y="2071800"/>
            <a:ext cx="6072120" cy="46814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ded1"/>
                </a:solidFill>
                <a:latin typeface="Calibri"/>
              </a:rPr>
              <a:t>ОСОБЕННОСТИ ВСКАРМЛИВАНИЯ НЕДОНОШЕННЫХ</a:t>
            </a:r>
            <a:endParaRPr b="0" lang="en-US" sz="32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енности вскармливания недоношенных обусловлены их повышенной потребностью в питательных веществах в связи с интенсивным физическим развитием,  а также функциональной и морфологической незрелостью ЖКТ, в связи с чем пищу следует вводить осторожно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99800"/>
            <a:ext cx="2743200" cy="2714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етям со слабым сосательным рефлексом грудное молоко вводят через желудочный зон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2" descr="C:\Users\Настя\Desktop\недоношенные\кормление  ребёнка  через  зонд.jpg"/>
          <p:cNvPicPr/>
          <p:nvPr/>
        </p:nvPicPr>
        <p:blipFill>
          <a:blip r:embed="rId1"/>
          <a:stretch/>
        </p:blipFill>
        <p:spPr>
          <a:xfrm>
            <a:off x="3575160" y="2046240"/>
            <a:ext cx="5111640" cy="383220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44720" y="2499840"/>
            <a:ext cx="4041720" cy="3861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и удовлетворительном общем состоянии, достаточно выраженном сосательном рефлексе и массе тела при рождении более 1800 г прикладывать к груди можно через 3- 4 дня. При отсутствии молока у матери назначают специализированные смеси для недоношенны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Настя\Desktop\недоношенные\Relieving-and-Treating-Engorged-Breast.jpg"/>
          <p:cNvPicPr/>
          <p:nvPr/>
        </p:nvPicPr>
        <p:blipFill>
          <a:blip r:embed="rId1"/>
          <a:stretch/>
        </p:blipFill>
        <p:spPr>
          <a:xfrm>
            <a:off x="457200" y="2500200"/>
            <a:ext cx="4257720" cy="3786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ded1"/>
                </a:solidFill>
                <a:latin typeface="Calibri"/>
              </a:rPr>
              <a:t>При отсутствии молока у матери назначают специализированные смеси для недоношенных</a:t>
            </a:r>
            <a:endParaRPr b="0" lang="en-US" sz="2400" spc="-1" strike="noStrike">
              <a:solidFill>
                <a:srgbClr val="e3ded1"/>
              </a:solidFill>
              <a:latin typeface="Calibri"/>
            </a:endParaRPr>
          </a:p>
        </p:txBody>
      </p:sp>
      <p:pic>
        <p:nvPicPr>
          <p:cNvPr id="175" name="Picture 2" descr="C:\Users\Настя\Desktop\недоношенные\877355_1.jpg"/>
          <p:cNvPicPr/>
          <p:nvPr/>
        </p:nvPicPr>
        <p:blipFill>
          <a:blip r:embed="rId1"/>
          <a:stretch/>
        </p:blipFill>
        <p:spPr>
          <a:xfrm>
            <a:off x="457200" y="21193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Настя\Desktop\недоношенные\a-image-data-iblock-fcd-fcda65c3f2a685d4757a30e93bfadb43-800x800.jpg"/>
          <p:cNvPicPr/>
          <p:nvPr/>
        </p:nvPicPr>
        <p:blipFill>
          <a:blip r:embed="rId2"/>
          <a:stretch/>
        </p:blipFill>
        <p:spPr>
          <a:xfrm>
            <a:off x="4648320" y="21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ded1"/>
                </a:solidFill>
                <a:latin typeface="Calibri"/>
              </a:rPr>
              <a:t>ОТДАЛЁННЫЕ ПОСЛЕДСТВИЯ НЕДОНОШЕННОСТИ </a:t>
            </a:r>
            <a:endParaRPr b="0" lang="en-US" sz="24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рубые психоневрологические нарушения в форме детского церебрального паралича, снижения интеллекта, нарушения слуха и зрения, эпилептических припадков возникают у 13-27% недоношенных дет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недоношенных в 10-12 раз чаще выявляют пороки развития. Для них характерно непропорциональное развитие скелета, преимущественно с отклонениями в сторону астенизации. У многих из них в дальнейшем повышен риск «школьной дезадаптации». Среди родившихся недоношенными чаще наблюдают синдром дефицита внимания с гиперактивность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женщин, родившихся глубоко недоношенными, в дальнейшем нередко наблюдают нарушения менструального цикла, признаки полового инфантилизма, угрозу прерывания беременности и преждевременные ро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Calibri"/>
              </a:rPr>
              <a:t>ПРОФИЛАКТИКА ПРЕЖДЕВРЕМЕННОГО РОЖДЕНИЯ ДЕТЕЙ</a:t>
            </a:r>
            <a:endParaRPr b="0" lang="en-US" sz="28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филактика преждевременного рождения детей предусматривает 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храну здоровья будущей матер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дупреждение медицинских абортов, особенно у женщин с нарушениями менструального цикла и нейроэндокринными заболеваниям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благоприятных условий для беременных в семье и на производстве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евременное выявление групп риска и активное наблюдение за течением беременности у этих женщ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3ded1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pic>
        <p:nvPicPr>
          <p:cNvPr id="185" name="Picture 2" descr="C:\Users\Настя\Desktop\недоношенные\preemieinhandsiStock_000001534683Small.jpg"/>
          <p:cNvPicPr/>
          <p:nvPr/>
        </p:nvPicPr>
        <p:blipFill>
          <a:blip r:embed="rId1"/>
          <a:stretch/>
        </p:blipFill>
        <p:spPr>
          <a:xfrm>
            <a:off x="928800" y="2000160"/>
            <a:ext cx="6786360" cy="4470480"/>
          </a:xfrm>
          <a:prstGeom prst="rect">
            <a:avLst/>
          </a:prstGeom>
          <a:ln w="0">
            <a:noFill/>
          </a:ln>
        </p:spPr>
      </p:pic>
      <p:sp>
        <p:nvSpPr>
          <p:cNvPr id="18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7785000" cy="987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0280" y="17143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К 1; ОК 2; ОК 6; ОК 7; ОК 11; ОК 1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К 2.2; ПК 2.3; ПК 2.4; ПК 2.5; ПК 2.6;   ПК 2.7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3840" y="713880"/>
            <a:ext cx="4286520" cy="5534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едоношенные дети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дети, родившиеся в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оке  от  28 до 37 недель внутриутробного развития и имеющие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ссу тела ниже 2500 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лину 45 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м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и мене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Рисунок 4" descr="hi-premature-baby-852-cp-38.jpg"/>
          <p:cNvPicPr/>
          <p:nvPr/>
        </p:nvPicPr>
        <p:blipFill>
          <a:blip r:embed="rId1"/>
          <a:stretch/>
        </p:blipFill>
        <p:spPr>
          <a:xfrm>
            <a:off x="4714920" y="2525760"/>
            <a:ext cx="4429080" cy="28731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Настя\Desktop\недоношенные\724de9ca60782f1e7b3d17b90fa9777b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00040" y="357120"/>
            <a:ext cx="7524720" cy="609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2000160"/>
            <a:ext cx="8110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отделах ЗАГС регистрируются  де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ждённые живыми  и мертвыми  дети с 28-й недели гестации, массой 1000 г и выше и длиной тела 35 см и более. Также дети из двоен с массой менее 1000 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 родившихся живыми с массой тела 500-999 г подлежат регистрации новорождённые, которые прожили 7 сут после рожд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Users\Настя\Desktop\недоношенные\33b25ec85c.jpg"/>
          <p:cNvPicPr/>
          <p:nvPr/>
        </p:nvPicPr>
        <p:blipFill>
          <a:blip r:embed="rId1"/>
          <a:stretch/>
        </p:blipFill>
        <p:spPr>
          <a:xfrm>
            <a:off x="642960" y="3754440"/>
            <a:ext cx="3714840" cy="265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Настя\Desktop\недоношенные\i (4).jpg"/>
          <p:cNvPicPr/>
          <p:nvPr/>
        </p:nvPicPr>
        <p:blipFill>
          <a:blip r:embed="rId2"/>
          <a:stretch/>
        </p:blipFill>
        <p:spPr>
          <a:xfrm>
            <a:off x="642960" y="1071720"/>
            <a:ext cx="3722760" cy="25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Настя\Desktop\недоношенные\i (3).jpg"/>
          <p:cNvPicPr/>
          <p:nvPr/>
        </p:nvPicPr>
        <p:blipFill>
          <a:blip r:embed="rId3"/>
          <a:stretch/>
        </p:blipFill>
        <p:spPr>
          <a:xfrm>
            <a:off x="5214960" y="221472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4"/>
          <a:stretch/>
        </p:blipFill>
        <p:spPr>
          <a:xfrm>
            <a:off x="523800" y="-16524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0280" y="1071720"/>
            <a:ext cx="81136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оцент рождаемости недоношенных детей в различных регионах России колеблется, в среднем составляет 5-14%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. Социально - экономические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тсутствие или недостаточный медицинский уход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лохое питание (недостаток минералов и витаминов), даже за несколько месяцев до предполагаемых родов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вредных привычек (курение, наркомания, алкоголь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ильные стрессы за несколько недель, или отсутствие жела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редное или опасное рабочее место (пыль, радиация, монотонная работа, поднятие тяжестей, не нормированный рабочий день или неделя). Работа без выходных несколько недель подряд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статочное образование родите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:\Users\Настя\Desktop\недоношенные\SP00-0905.jpg"/>
          <p:cNvPicPr/>
          <p:nvPr/>
        </p:nvPicPr>
        <p:blipFill>
          <a:blip r:embed="rId1"/>
          <a:stretch/>
        </p:blipFill>
        <p:spPr>
          <a:xfrm>
            <a:off x="571680" y="857160"/>
            <a:ext cx="446220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Настя\Desktop\недоношенные\55c8f5dea2dc3.jpg"/>
          <p:cNvPicPr/>
          <p:nvPr/>
        </p:nvPicPr>
        <p:blipFill>
          <a:blip r:embed="rId2"/>
          <a:stretch/>
        </p:blipFill>
        <p:spPr>
          <a:xfrm>
            <a:off x="5072040" y="3643200"/>
            <a:ext cx="37148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0280" y="356760"/>
            <a:ext cx="8184960" cy="628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2. Социально - биологические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зраст беременной женщины (до 18 или после 35) может стать причиной недоноше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зраст отца (до 18 или после 45) может стать причиной недоноше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тягощенный акушерско- гинекологический анамнез (прерывание беременности, выкидыш, криминальный аборт за несколько месяцев, ЭКО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енетическая предрасположенность или заболевания родителе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рак между родственника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Настя\Desktop\недоношенные\62526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857160"/>
            <a:ext cx="4786200" cy="3071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Настя\Desktop\недоношенные\comment-soigner-mon-impatience-en-10-lecons-3160704rwywf.jp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5072040" y="3500280"/>
            <a:ext cx="392904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0280" y="428400"/>
            <a:ext cx="8113680" cy="607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3. Различные заболевания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хронических заболевания матери, которые могли обостриться во время беременност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еренесенные острые инфекционные заболевания, возможные осложнения после ОРВИ, гриппа, сильной простуды, краснухи, ветряной оспы и так далее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о стороны плода также могут быть различные аномалии в развитии сердечно-сосудистой системы, внутренних органов, его положении; гормональные дисфункции, преждевременное излитие вод, хромосомные дефекты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и развитие внутриутробных инфекций: хламидии, микоплазма, уреплазма, цитомегаловирус.   Или другие, не выявленные или не долеченные венерические заболевания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статочный вес матери (менее 48 кг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ложнения после прививк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ношенный ребенок  может появится на свет из-за постоянных стресс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785360" cy="847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57176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2" descr="C:\Users\Настя\Desktop\недоношенные\mb4.png"/>
          <p:cNvPicPr/>
          <p:nvPr/>
        </p:nvPicPr>
        <p:blipFill>
          <a:blip r:embed="rId2"/>
          <a:stretch/>
        </p:blipFill>
        <p:spPr>
          <a:xfrm>
            <a:off x="214200" y="1928880"/>
            <a:ext cx="8715600" cy="4572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13:09:36Z</dcterms:created>
  <dc:creator>Настя</dc:creator>
  <dc:description/>
  <dc:language>en-US</dc:language>
  <cp:lastModifiedBy>Ольга</cp:lastModifiedBy>
  <dcterms:modified xsi:type="dcterms:W3CDTF">2016-08-27T21:09:33Z</dcterms:modified>
  <cp:revision>27</cp:revision>
  <dc:subject/>
  <dc:title>ГБПОУ   НО «Нижегородский медицинский колледж». МДК 02.01.03 Сестринский уход при различных заболеваниях и состояниях в педиатрии.</dc:title>
</cp:coreProperties>
</file>