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3.jpeg" ContentType="image/jpeg"/>
  <Override PartName="/ppt/media/image12.png" ContentType="image/png"/>
  <Override PartName="/ppt/media/image22.jpeg" ContentType="image/jpeg"/>
  <Override PartName="/ppt/media/image21.jpeg" ContentType="image/jpeg"/>
  <Override PartName="/ppt/media/image19.png" ContentType="image/png"/>
  <Override PartName="/ppt/media/image20.jpeg" ContentType="image/jpeg"/>
  <Override PartName="/ppt/media/image18.png" ContentType="image/png"/>
  <Override PartName="/ppt/media/image7.jpeg" ContentType="image/jpeg"/>
  <Override PartName="/ppt/media/image28.jpeg" ContentType="image/jpeg"/>
  <Override PartName="/ppt/media/image34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.png" ContentType="image/png"/>
  <Override PartName="/ppt/media/image35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24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2.png" ContentType="image/png"/>
  <Override PartName="/ppt/media/image25.jpeg" ContentType="image/jpeg"/>
  <Override PartName="/ppt/media/image3.jpeg" ContentType="image/jpeg"/>
  <Override PartName="/ppt/media/image37.jpeg" ContentType="image/jpeg"/>
  <Override PartName="/ppt/media/image31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3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26F9-3174-450A-93C4-14E7D34F9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B808-E213-4B78-B05B-270B57B92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7C9A-32E0-44A1-9CE5-AE65BAADF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92C5-4F7E-4C94-93C1-343A53418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0D1E4-64FD-4B59-962B-36C3D7107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8EC39-AA80-4E42-8077-B4E5B4CBC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37BC2-F8CD-4E88-978B-89A3C03E5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36FE5-BF45-4946-9041-423421407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BE09B-A351-4222-A5E9-A1BF5A0F3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408DF-BEE6-42C3-A62C-30283FE27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D66AA-BE41-4FCA-86B4-DB6513FD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2EF3-83E4-4689-906A-B0D96DFA8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71611-3B89-450D-9934-358161C6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C76B8-0805-4CA3-91EB-72611A6EA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09820-A2FD-41AF-B11A-48919B827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17C96-9057-48CA-B899-77D04CF70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89A4C-F0AF-4606-8F04-7C67789EF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7E02-2297-42C8-B0AC-EFCE22CC7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52F9-484C-4958-97F1-0404E96C4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897F-9D39-41AE-8BB0-FD10F84BF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51C0-BC6B-4381-AE40-57903EA68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5635-F382-465F-BD49-1FA8F0987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FF3D-F68B-4606-B83D-469965B28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25E4-B5FF-45E7-8724-CBDA1FA53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c121e">
                  <a:alpha val="45098"/>
                </a:srgbClr>
              </a:gs>
              <a:gs pos="100000">
                <a:srgbClr val="00558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64164">
                  <a:alpha val="45098"/>
                </a:srgbClr>
              </a:gs>
              <a:gs pos="100000">
                <a:srgbClr val="a00e1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3ded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293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1b587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4e854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9d4c7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872E1-2E87-4FB3-A073-23E22C3E4113}" type="datetime">
              <a:rPr b="0" lang="ru-RU" sz="1200" spc="-1" strike="noStrike">
                <a:solidFill>
                  <a:srgbClr val="d9d4c7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9d4c7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9d4c7"/>
                </a:solidFill>
                <a:latin typeface="Constantia"/>
              </a:rPr>
              <a:t>Веселова Ольга Борис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9d4c7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20405-046D-463D-95C8-A7AC9FFF9CF1}" type="slidenum">
              <a:rPr b="0" lang="ru-RU" sz="1200" spc="-1" strike="noStrike">
                <a:solidFill>
                  <a:srgbClr val="d9d4c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c121e">
                  <a:alpha val="45098"/>
                </a:srgbClr>
              </a:gs>
              <a:gs pos="100000">
                <a:srgbClr val="00558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64164">
                  <a:alpha val="45098"/>
                </a:srgbClr>
              </a:gs>
              <a:gs pos="100000">
                <a:srgbClr val="a00e1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3ded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293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1b587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4e854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9d4c7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DABB3-2EF6-41BD-BF5F-2082A3C01439}" type="datetime">
              <a:rPr b="0" lang="ru-RU" sz="1200" spc="-1" strike="noStrike">
                <a:solidFill>
                  <a:srgbClr val="d9d4c7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9d4c7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9d4c7"/>
                </a:solidFill>
                <a:latin typeface="Constantia"/>
              </a:rPr>
              <a:t>Веселова Ольга Борис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9d4c7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5B968-D08D-49F8-98EA-40290F985121}" type="slidenum">
              <a:rPr b="0" lang="ru-RU" sz="1200" spc="-1" strike="noStrike">
                <a:solidFill>
                  <a:srgbClr val="d9d4c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Рисунок 3" descr="0_1605f8_a2d26b71_orig.jpg"/>
          <p:cNvPicPr/>
          <p:nvPr/>
        </p:nvPicPr>
        <p:blipFill>
          <a:blip r:embed="rId1">
            <a:lum contrast="-30000"/>
          </a:blip>
          <a:stretch/>
        </p:blipFill>
        <p:spPr>
          <a:xfrm>
            <a:off x="214200" y="1071720"/>
            <a:ext cx="8715600" cy="5786280"/>
          </a:xfrm>
          <a:prstGeom prst="rect">
            <a:avLst/>
          </a:prstGeom>
          <a:ln w="0">
            <a:noFill/>
          </a:ln>
        </p:spPr>
      </p:pic>
      <p:pic>
        <p:nvPicPr>
          <p:cNvPr id="96" name="Заголовок 1" descr=""/>
          <p:cNvPicPr/>
          <p:nvPr/>
        </p:nvPicPr>
        <p:blipFill>
          <a:blip r:embed="rId2"/>
          <a:stretch/>
        </p:blipFill>
        <p:spPr>
          <a:xfrm>
            <a:off x="347760" y="-6480"/>
            <a:ext cx="8289720" cy="36576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533160" y="2071440"/>
            <a:ext cx="7854840" cy="47862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Анатомо-физиологические  особенности недоношенного ребенка и организация ухода за ним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дготовила: преподаватель педиатрии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еселова Ольга Борисовн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Заголовок 1" descr=""/>
          <p:cNvPicPr/>
          <p:nvPr/>
        </p:nvPicPr>
        <p:blipFill>
          <a:blip r:embed="rId1"/>
          <a:stretch/>
        </p:blipFill>
        <p:spPr>
          <a:xfrm>
            <a:off x="523800" y="208080"/>
            <a:ext cx="8199360" cy="846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5500800" y="1071360"/>
            <a:ext cx="3643200" cy="5429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6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У недоношенных 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I –II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степени: кожа розового цвета, нет пушка на лице (при рождении на 33-й нед гестации), а позже и на туловище. Пупок расположен несколько выше над лоном, голова составляет примерно 1/4 часть длины тела. У детей, рождённых на сроке более 34 нед  гестации, появляются первые изгибы на ушных раковинах, более заметны соски и околососковые кружки, у мальчиков яички находятся у входа в мошонку, у девочек половая щель почти закрыта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28" name="Picture 2" descr="C:\Users\Настя\Desktop\недоношенные\prezhdevremennye-rody.jpg"/>
          <p:cNvPicPr/>
          <p:nvPr/>
        </p:nvPicPr>
        <p:blipFill>
          <a:blip r:embed="rId2"/>
          <a:stretch/>
        </p:blipFill>
        <p:spPr>
          <a:xfrm>
            <a:off x="0" y="1071720"/>
            <a:ext cx="5500800" cy="4929120"/>
          </a:xfrm>
          <a:prstGeom prst="rect">
            <a:avLst/>
          </a:prstGeom>
          <a:ln w="0">
            <a:noFill/>
          </a:ln>
        </p:spPr>
      </p:pic>
      <p:sp>
        <p:nvSpPr>
          <p:cNvPr id="129" name="Нижний колонтитул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9d4c7"/>
                </a:solidFill>
                <a:latin typeface="Constantia"/>
              </a:rPr>
              <a:t>Веселова Ольга Борисо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C:\Users\Настя\Desktop\недоношенные\neonatal_baby.jpg"/>
          <p:cNvPicPr/>
          <p:nvPr/>
        </p:nvPicPr>
        <p:blipFill>
          <a:blip r:embed="rId1"/>
          <a:stretch/>
        </p:blipFill>
        <p:spPr>
          <a:xfrm>
            <a:off x="4857840" y="4500720"/>
            <a:ext cx="4286160" cy="23572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0280" y="157320"/>
            <a:ext cx="8184960" cy="199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000" spc="-1" strike="noStrike">
              <a:solidFill>
                <a:srgbClr val="6e9d66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85480" y="500040"/>
            <a:ext cx="8643960" cy="614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 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Глубоко недоношенный ребёнок </a:t>
            </a: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III- IV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 степени (масса тела менее 1500 г) имеет тонкую морщинистую кожу тёмно-красного цвета, обильно покрытую сыровидной смазкой и пушком </a:t>
            </a:r>
            <a:r>
              <a:rPr b="0" i="1" lang="ru-RU" sz="2200" spc="-1" strike="noStrike">
                <a:solidFill>
                  <a:srgbClr val="ffffff"/>
                </a:solidFill>
                <a:latin typeface="Constantia"/>
              </a:rPr>
              <a:t>(lanugo). 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Простая эритема держится до 2-3 нед. Подкожно-жировой слой не выражен, соски и околососковые кружки грудных желёз едва заметны; ушные раковины плоские, бесформенные, мягкие, прижатые к голове; ногти тонкие и не всегда доходят до края ногтевого ложа; пупок расположен в нижней трети живота. Голова относительно большая и составляет 1/3 от длины тела; конечности короткие. Швы черепа и роднички (большой и малый) открыты. Кости черепа тонкие. У девочек половая щель зияет в результате недоразвития больших половых губ, клитор выступает; у мальчиков яички не опущены в мошонку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Нижний колонтитул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9d4c7"/>
                </a:solidFill>
                <a:latin typeface="Constantia"/>
              </a:rPr>
              <a:t>Веселова Ольга Борисо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530280" y="785520"/>
            <a:ext cx="8113680" cy="578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Для недоношенных характерны :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1b587c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мышечная гипотония,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1b587c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снижение физиологических рефлексов, двигательной активности,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1b587c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нарушение терморегуляции,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1b587c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слабый крик;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1b587c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сосательный, глотательный и другие рефлексы у него отсутствуют или слабо выражены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1b587c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в первые 2-3 нед жизни может быть непостоянный тремор, негрубое и непостоянное косоглазие, горизонтальный нистагм при перемене положения тела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5" name="Нижний колонтитул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9d4c7"/>
                </a:solidFill>
                <a:latin typeface="Constantia"/>
              </a:rPr>
              <a:t>Веселова Ольга Борисо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530280" y="928800"/>
            <a:ext cx="8113680" cy="557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>
              <a:lnSpc>
                <a:spcPct val="90000"/>
              </a:lnSpc>
              <a:spcBef>
                <a:spcPts val="550"/>
              </a:spcBef>
              <a:buClr>
                <a:srgbClr val="1b587c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  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Дыхание у недоношенных детей поверхностное со значительными колебаниями ЧДД (от 36 до 76 в минуту), с тенденцией к тахипноэ и апноэ продолжительностью 5-10 с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1b587c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  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ЧСС у недоношенных детей отличается большой лабильностью (от 100 до 180 в минуту), тонус сосудов снижен, систолическое АД не превышает 60-70 мм рт.ст. Повышенная проницаемость сосудистых стенок может привести к нарушению мозгового кровообращения и кровоизлиянию в мозг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1b587c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   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Все ферменты ЖКТ, необходимые для переваривания грудного молока, синтезируются, но отличаются низкой активностью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1b587c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У недоношенных детей отсутствует взаимосвязь между интенсивностью желтухи и степенью транзиторной гипербилирубинемии, что нередко приводит к недооценке последней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Нижний колонтитул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9d4c7"/>
                </a:solidFill>
                <a:latin typeface="Constantia"/>
              </a:rPr>
              <a:t>Веселова Ольга Борисо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C:\Users\Настя\Desktop\недоношенные\neonato-sulla-bilancia.jpg"/>
          <p:cNvPicPr/>
          <p:nvPr/>
        </p:nvPicPr>
        <p:blipFill>
          <a:blip r:embed="rId1">
            <a:lum contrast="-40000"/>
          </a:blip>
          <a:stretch/>
        </p:blipFill>
        <p:spPr>
          <a:xfrm>
            <a:off x="4929120" y="4143240"/>
            <a:ext cx="4214880" cy="271476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530280" y="785520"/>
            <a:ext cx="8184960" cy="571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1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Особенности физического развития.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Физическое развитие недоношенных характеризуется более высокими темпами нарастания массы и длины тела в течение первого года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жизни. Чем меньше масса и длина тела недоношенного при рождении, тем интенсивнее увеличиваются эти показатели в течение года.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476"/>
              </a:spcBef>
              <a:buClr>
                <a:srgbClr val="1b587c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      </a:t>
            </a: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К концу первого года жизни масса тела увеличивается следующим образом: при недоношенности IV степени в 8-10 раз, III степени - в 6-7 раз, II степени - в 5-7 раз, I степени - в 4-5 раз. Масса тела нарастает неравномерно. Первый месяц жизни является наиболее сложным периодом адаптации. Первоначальная масса тела уменьшается на 8-12%; восстановление происходит медленно. 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476"/>
              </a:spcBef>
              <a:buClr>
                <a:srgbClr val="1b587c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    </a:t>
            </a: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Длина тела недоношенного к концу первого года жизни составляет 65-75 см, т.е. увеличивается на 30-35 см, в то время как у доношенного длина тела увеличивается на 25 см.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Несмотря на высокие темпы развития, в первые 2-3 года жизни недоношенные дети отстают от сверстников, родившихся доношенными. Выравнивание происходит после третьего года жизни, нередко в 5-6 лет. 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Нижний колонтитул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9d4c7"/>
                </a:solidFill>
                <a:latin typeface="Constantia"/>
              </a:rPr>
              <a:t>Веселова Ольга Борисо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571680" y="999720"/>
            <a:ext cx="8286480" cy="52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42" name="Picture 2" descr="C:\Users\Настя\Desktop\недоношенные\pribavka-v-vese.jpg"/>
          <p:cNvPicPr/>
          <p:nvPr/>
        </p:nvPicPr>
        <p:blipFill>
          <a:blip r:embed="rId1"/>
          <a:stretch/>
        </p:blipFill>
        <p:spPr>
          <a:xfrm>
            <a:off x="444600" y="1574640"/>
            <a:ext cx="8254800" cy="3708720"/>
          </a:xfrm>
          <a:prstGeom prst="rect">
            <a:avLst/>
          </a:prstGeom>
          <a:ln w="0">
            <a:noFill/>
          </a:ln>
        </p:spPr>
      </p:pic>
      <p:sp>
        <p:nvSpPr>
          <p:cNvPr id="143" name="Нижний колонтитул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9d4c7"/>
                </a:solidFill>
                <a:latin typeface="Constantia"/>
              </a:rPr>
              <a:t>Веселова Ольга Борисо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3" descr="C:\Users\Настя\Desktop\недоношенные\malysh.jpg"/>
          <p:cNvPicPr/>
          <p:nvPr/>
        </p:nvPicPr>
        <p:blipFill>
          <a:blip r:embed="rId1">
            <a:lum contrast="-40000"/>
          </a:blip>
          <a:stretch/>
        </p:blipFill>
        <p:spPr>
          <a:xfrm>
            <a:off x="500040" y="2286000"/>
            <a:ext cx="3357720" cy="4572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C:\Users\Настя\Desktop\недоношенные\content_77_list-1336133574.jpg"/>
          <p:cNvPicPr/>
          <p:nvPr/>
        </p:nvPicPr>
        <p:blipFill>
          <a:blip r:embed="rId2">
            <a:lum contrast="-40000"/>
          </a:blip>
          <a:stretch/>
        </p:blipFill>
        <p:spPr>
          <a:xfrm>
            <a:off x="6715080" y="4500720"/>
            <a:ext cx="2428920" cy="2357280"/>
          </a:xfrm>
          <a:prstGeom prst="rect">
            <a:avLst/>
          </a:prstGeom>
          <a:ln w="0">
            <a:noFill/>
          </a:ln>
        </p:spPr>
      </p:pic>
      <p:pic>
        <p:nvPicPr>
          <p:cNvPr id="146" name="Заголовок 1" descr=""/>
          <p:cNvPicPr/>
          <p:nvPr/>
        </p:nvPicPr>
        <p:blipFill>
          <a:blip r:embed="rId3"/>
          <a:stretch/>
        </p:blipFill>
        <p:spPr>
          <a:xfrm>
            <a:off x="414360" y="781200"/>
            <a:ext cx="8553600" cy="69984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571320" y="1856880"/>
            <a:ext cx="8327880" cy="5000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     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В психомоторном развитии здоровые недоношенные сравниваются со своими доношенными сверстниками значительно раньше, чем в физическом. Дети с недоношенностью II-III степени начинают фиксировать взор, удерживать голову, переворачиваться, самостоятельно вставать и ходить, произносить первые слова на 1-3 мес. позже доношенных. Недоношенные дети «догоняют» доношенных сверстников по психомоторному развитию на втором году жизни; с недоношенностью I степени - к концу первого года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Нижний колонтитул 5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9d4c7"/>
                </a:solidFill>
                <a:latin typeface="Constantia"/>
              </a:rPr>
              <a:t>Веселова Ольга Борисо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Заголовок 1" descr=""/>
          <p:cNvPicPr/>
          <p:nvPr/>
        </p:nvPicPr>
        <p:blipFill>
          <a:blip r:embed="rId1"/>
          <a:stretch/>
        </p:blipFill>
        <p:spPr>
          <a:xfrm>
            <a:off x="426960" y="208080"/>
            <a:ext cx="8388360" cy="7729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530280" y="1213920"/>
            <a:ext cx="8184960" cy="53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Выхаживание недоношенных детей осуществляют в три этапа: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1b587c"/>
              </a:buClr>
              <a:buSzPct val="95000"/>
              <a:buFont typeface="Constanti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в родильном доме; 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1b587c"/>
              </a:buClr>
              <a:buSzPct val="95000"/>
              <a:buFont typeface="Constanti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специализированном отделении;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1b587c"/>
              </a:buClr>
              <a:buSzPct val="95000"/>
              <a:buFont typeface="Constanti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затем ребёнок поступает под наблюдение поликлиники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51" name="Picture 4" descr="C:\Users\Настя\Desktop\недоношенные\rawImage.jpg"/>
          <p:cNvPicPr/>
          <p:nvPr/>
        </p:nvPicPr>
        <p:blipFill>
          <a:blip r:embed="rId2"/>
          <a:stretch/>
        </p:blipFill>
        <p:spPr>
          <a:xfrm>
            <a:off x="4572000" y="3429000"/>
            <a:ext cx="4572000" cy="3067200"/>
          </a:xfrm>
          <a:prstGeom prst="rect">
            <a:avLst/>
          </a:prstGeom>
          <a:ln w="0">
            <a:noFill/>
          </a:ln>
        </p:spPr>
      </p:pic>
      <p:sp>
        <p:nvSpPr>
          <p:cNvPr id="152" name="Нижний колонтитул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9d4c7"/>
                </a:solidFill>
                <a:latin typeface="Constantia"/>
              </a:rPr>
              <a:t>Веселова Ольга Борисо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5800" y="1642680"/>
            <a:ext cx="2743200" cy="460548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После рождения недоношенного ребёнка следует поместить в стерильные тёплые пелёнки («оптимальный комфорт»). 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54" name="Picture 2" descr="C:\Users\Настя\Desktop\недоношенные\print_643000_886318.jpg"/>
          <p:cNvPicPr/>
          <p:nvPr/>
        </p:nvPicPr>
        <p:blipFill>
          <a:blip r:embed="rId1"/>
          <a:stretch/>
        </p:blipFill>
        <p:spPr>
          <a:xfrm>
            <a:off x="3575160" y="1571760"/>
            <a:ext cx="5111640" cy="4093920"/>
          </a:xfrm>
          <a:prstGeom prst="rect">
            <a:avLst/>
          </a:prstGeom>
          <a:ln w="0">
            <a:noFill/>
          </a:ln>
        </p:spPr>
      </p:pic>
      <p:sp>
        <p:nvSpPr>
          <p:cNvPr id="155" name="Нижний колонтитул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9d4c7"/>
                </a:solidFill>
                <a:latin typeface="Constantia"/>
              </a:rPr>
              <a:t>Веселова Ольга Борисо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4648320" y="785880"/>
            <a:ext cx="40384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В первые дни жизни глубоко недоношенных детей или недоношенных в тяжёлом состоянии содержат в кувезах. В них поддерживают постоянную температуру (от 30 до 35 C с учётом индивидуальных особенностей ребёнка), влажность (в первые сутки до 90%, а затем до 60-55%), концентрацию кислорода (около 30%). 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57" name="Picture 2" descr="C:\Users\Настя\Desktop\недоношенные\51294875.jpg"/>
          <p:cNvPicPr/>
          <p:nvPr/>
        </p:nvPicPr>
        <p:blipFill>
          <a:blip r:embed="rId1"/>
          <a:stretch/>
        </p:blipFill>
        <p:spPr>
          <a:xfrm>
            <a:off x="357120" y="1285920"/>
            <a:ext cx="4429080" cy="4429080"/>
          </a:xfrm>
          <a:prstGeom prst="rect">
            <a:avLst/>
          </a:prstGeom>
          <a:ln w="0">
            <a:noFill/>
          </a:ln>
        </p:spPr>
      </p:pic>
      <p:sp>
        <p:nvSpPr>
          <p:cNvPr id="158" name="Нижний колонтитул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9d4c7"/>
                </a:solidFill>
                <a:latin typeface="Constantia"/>
              </a:rPr>
              <a:t>Веселова Ольга Борисо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1"/>
          <a:stretch/>
        </p:blipFill>
        <p:spPr>
          <a:xfrm>
            <a:off x="530280" y="133200"/>
            <a:ext cx="7864560" cy="9208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28760" y="1356840"/>
            <a:ext cx="8286480" cy="4929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облема недоношенности является одной из актуальнейших в современной педиатрии. За последнее десятилетие профилактика недоношенности и организация выхаживания недоношенных детей стали более совершенными. В специализированных отделениях применяют высокотехнологичные методы диагностики и лечения. В выхаживании недоношенных детей значительная роль принадлежит медицинским сестрам. Поэтому  при изучении данной темы особую роль будем уделять формированию профессиональных компетенций и  воспитанию у них заботливого, доброго отношения к детям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Прямоугольник 1"/>
          <p:cNvSpPr/>
          <p:nvPr/>
        </p:nvSpPr>
        <p:spPr>
          <a:xfrm>
            <a:off x="500040" y="785880"/>
            <a:ext cx="8429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мпературу тела ребёнка можно поддерживать и в кроватке с обогревом или в обычной кроватке с помощью грелок, так как чем длительнее пребывание в кувезе, тем больше вероятность инфицирования ребёнка.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тимальная температура воздуха в помещении -25 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2" descr="C:\Users\Настя\Desktop\недоношенные\kanmed-3.png"/>
          <p:cNvPicPr/>
          <p:nvPr/>
        </p:nvPicPr>
        <p:blipFill>
          <a:blip r:embed="rId1"/>
          <a:stretch/>
        </p:blipFill>
        <p:spPr>
          <a:xfrm>
            <a:off x="2428920" y="2286000"/>
            <a:ext cx="6500880" cy="4411800"/>
          </a:xfrm>
          <a:prstGeom prst="rect">
            <a:avLst/>
          </a:prstGeom>
          <a:ln w="0">
            <a:noFill/>
          </a:ln>
        </p:spPr>
      </p:pic>
      <p:sp>
        <p:nvSpPr>
          <p:cNvPr id="161" name="Нижний колонтитул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9d4c7"/>
                </a:solidFill>
                <a:latin typeface="Constantia"/>
              </a:rPr>
              <a:t>Веселова Ольга Борисо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Прямоугольник 1"/>
          <p:cNvSpPr/>
          <p:nvPr/>
        </p:nvSpPr>
        <p:spPr>
          <a:xfrm>
            <a:off x="357120" y="714240"/>
            <a:ext cx="83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обходимо поддерживать адаптационные реакции ребёнка с помощью закапывания в рот из пипетки нативного материнского молока, подогретых пелёнок, длительного пребывания на груди матери (типа «кенгуру»), спокойного голоса медицинской сестры, поглаживающих движений её ру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1" descr="C:\Users\Настя\Desktop\недоношенные\1338024412_prezhdevremennye-rody.jpg"/>
          <p:cNvPicPr/>
          <p:nvPr/>
        </p:nvPicPr>
        <p:blipFill>
          <a:blip r:embed="rId1"/>
          <a:stretch/>
        </p:blipFill>
        <p:spPr>
          <a:xfrm>
            <a:off x="1500120" y="2071800"/>
            <a:ext cx="6072120" cy="4681440"/>
          </a:xfrm>
          <a:prstGeom prst="rect">
            <a:avLst/>
          </a:prstGeom>
          <a:ln w="0">
            <a:noFill/>
          </a:ln>
        </p:spPr>
      </p:pic>
      <p:sp>
        <p:nvSpPr>
          <p:cNvPr id="164" name="Нижний колонтитул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9d4c7"/>
                </a:solidFill>
                <a:latin typeface="Constantia"/>
              </a:rPr>
              <a:t>Веселова Ольга Борисо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3ded1"/>
                </a:solidFill>
                <a:latin typeface="Calibri"/>
              </a:rPr>
              <a:t>ОСОБЕННОСТИ ВСКАРМЛИВАНИЯ НЕДОНОШЕННЫХ</a:t>
            </a:r>
            <a:endParaRPr b="0" lang="en-US" sz="32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собенности вскармливания недоношенных обусловлены их повышенной потребностью в питательных веществах в связи с интенсивным физическим развитием,  а также функциональной и морфологической незрелостью ЖКТ, в связи с чем пищу следует вводить осторожно. 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Нижний колонтитул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9d4c7"/>
                </a:solidFill>
                <a:latin typeface="Constantia"/>
              </a:rPr>
              <a:t>Веселова Ольга Борисо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685800" y="1999800"/>
            <a:ext cx="2743200" cy="27147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Детям со слабым сосательным рефлексом грудное молоко вводят через желудочный зонд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69" name="Picture 2" descr="C:\Users\Настя\Desktop\недоношенные\кормление  ребёнка  через  зонд.jpg"/>
          <p:cNvPicPr/>
          <p:nvPr/>
        </p:nvPicPr>
        <p:blipFill>
          <a:blip r:embed="rId1"/>
          <a:stretch/>
        </p:blipFill>
        <p:spPr>
          <a:xfrm>
            <a:off x="3575160" y="2046240"/>
            <a:ext cx="5111640" cy="3832200"/>
          </a:xfrm>
          <a:prstGeom prst="rect">
            <a:avLst/>
          </a:prstGeom>
          <a:ln w="0">
            <a:noFill/>
          </a:ln>
        </p:spPr>
      </p:pic>
      <p:sp>
        <p:nvSpPr>
          <p:cNvPr id="170" name="Нижний колонтитул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9d4c7"/>
                </a:solidFill>
                <a:latin typeface="Constantia"/>
              </a:rPr>
              <a:t>Веселова Ольга Борисо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644720" y="2499840"/>
            <a:ext cx="4041720" cy="3861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4000"/>
          </a:bodyPr>
          <a:p>
            <a:pPr marL="256320" indent="-256320">
              <a:spcBef>
                <a:spcPts val="550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 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При удовлетворительном общем состоянии, достаточно выраженном сосательном рефлексе и массе тела при рождении более 1800 г прикладывать к груди можно через 3- 4 дня. При отсутствии молока у матери назначают специализированные смеси для недоношенных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2" name="Picture 2" descr="C:\Users\Настя\Desktop\недоношенные\Relieving-and-Treating-Engorged-Breast.jpg"/>
          <p:cNvPicPr/>
          <p:nvPr/>
        </p:nvPicPr>
        <p:blipFill>
          <a:blip r:embed="rId1"/>
          <a:stretch/>
        </p:blipFill>
        <p:spPr>
          <a:xfrm>
            <a:off x="457200" y="2500200"/>
            <a:ext cx="4257720" cy="3786480"/>
          </a:xfrm>
          <a:prstGeom prst="rect">
            <a:avLst/>
          </a:prstGeom>
          <a:ln w="0">
            <a:noFill/>
          </a:ln>
        </p:spPr>
      </p:pic>
      <p:sp>
        <p:nvSpPr>
          <p:cNvPr id="173" name="Нижний колонтитул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9d4c7"/>
                </a:solidFill>
                <a:latin typeface="Constantia"/>
              </a:rPr>
              <a:t>Веселова Ольга Борисо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3ded1"/>
                </a:solidFill>
                <a:latin typeface="Calibri"/>
              </a:rPr>
              <a:t>При отсутствии молока у матери назначают специализированные смеси для недоношенных</a:t>
            </a:r>
            <a:endParaRPr b="0" lang="en-US" sz="2400" spc="-1" strike="noStrike">
              <a:solidFill>
                <a:srgbClr val="e3ded1"/>
              </a:solidFill>
              <a:latin typeface="Calibri"/>
            </a:endParaRPr>
          </a:p>
        </p:txBody>
      </p:sp>
      <p:pic>
        <p:nvPicPr>
          <p:cNvPr id="175" name="Picture 2" descr="C:\Users\Настя\Desktop\недоношенные\877355_1.jpg"/>
          <p:cNvPicPr/>
          <p:nvPr/>
        </p:nvPicPr>
        <p:blipFill>
          <a:blip r:embed="rId1"/>
          <a:stretch/>
        </p:blipFill>
        <p:spPr>
          <a:xfrm>
            <a:off x="457200" y="2119320"/>
            <a:ext cx="4038480" cy="40384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C:\Users\Настя\Desktop\недоношенные\a-image-data-iblock-fcd-fcda65c3f2a685d4757a30e93bfadb43-800x800.jpg"/>
          <p:cNvPicPr/>
          <p:nvPr/>
        </p:nvPicPr>
        <p:blipFill>
          <a:blip r:embed="rId2"/>
          <a:stretch/>
        </p:blipFill>
        <p:spPr>
          <a:xfrm>
            <a:off x="4648320" y="211932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177" name="Нижний колонтитул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9d4c7"/>
                </a:solidFill>
                <a:latin typeface="Constantia"/>
              </a:rPr>
              <a:t>Веселова Ольга Борисо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50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3ded1"/>
                </a:solidFill>
                <a:latin typeface="Calibri"/>
              </a:rPr>
              <a:t>ОТДАЛЁННЫЕ ПОСЛЕДСТВИЯ НЕДОНОШЕННОСТИ </a:t>
            </a:r>
            <a:endParaRPr b="0" lang="en-US" sz="24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42848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•  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Грубые психоневрологические нарушения в форме детского церебрального паралича, снижения интеллекта, нарушения слуха и зрения, эпилептических припадков возникают у 13-27% недоношенных детей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•  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У недоношенных в 10-12 раз чаще выявляют пороки развития. Для них характерно непропорциональное развитие скелета, преимущественно с отклонениями в сторону астенизации. У многих из них в дальнейшем повышен риск «школьной дезадаптации». Среди родившихся недоношенными чаще наблюдают синдром дефицита внимания с гиперактивностью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•  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У женщин, родившихся глубоко недоношенными, в дальнейшем нередко наблюдают нарушения менструального цикла, признаки полового инфантилизма, угрозу прерывания беременности и преждевременные роды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spcBef>
                <a:spcPts val="499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0" name="Нижний колонтитул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9d4c7"/>
                </a:solidFill>
                <a:latin typeface="Constantia"/>
              </a:rPr>
              <a:t>Веселова Ольга Борисо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3ded1"/>
                </a:solidFill>
                <a:latin typeface="Calibri"/>
              </a:rPr>
              <a:t>ПРОФИЛАКТИКА ПРЕЖДЕВРЕМЕННОГО РОЖДЕНИЯ ДЕТЕЙ</a:t>
            </a:r>
            <a:endParaRPr b="0" lang="en-US" sz="28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 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офилактика преждевременного рождения детей предусматривает 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храну здоровья будущей матери;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едупреждение медицинских абортов, особенно у женщин с нарушениями менструального цикла и нейроэндокринными заболеваниями;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здание благоприятных условий для беременных в семье и на производстве;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воевременное выявление групп риска и активное наблюдение за течением беременности у этих женщин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3" name="Нижний колонтитул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9d4c7"/>
                </a:solidFill>
                <a:latin typeface="Constantia"/>
              </a:rPr>
              <a:t>Веселова Ольга Борисо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e3ded1"/>
                </a:solidFill>
                <a:latin typeface="Calibri"/>
              </a:rPr>
              <a:t>Спасибо за внимание!</a:t>
            </a: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pic>
        <p:nvPicPr>
          <p:cNvPr id="185" name="Picture 2" descr="C:\Users\Настя\Desktop\недоношенные\preemieinhandsiStock_000001534683Small.jpg"/>
          <p:cNvPicPr/>
          <p:nvPr/>
        </p:nvPicPr>
        <p:blipFill>
          <a:blip r:embed="rId1"/>
          <a:stretch/>
        </p:blipFill>
        <p:spPr>
          <a:xfrm>
            <a:off x="928800" y="2000160"/>
            <a:ext cx="6786360" cy="4470480"/>
          </a:xfrm>
          <a:prstGeom prst="rect">
            <a:avLst/>
          </a:prstGeom>
          <a:ln w="0">
            <a:noFill/>
          </a:ln>
        </p:spPr>
      </p:pic>
      <p:sp>
        <p:nvSpPr>
          <p:cNvPr id="186" name="Нижний колонтитул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9d4c7"/>
                </a:solidFill>
                <a:latin typeface="Constantia"/>
              </a:rPr>
              <a:t>Веселова Ольга Борисо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Заголовок 1" descr=""/>
          <p:cNvPicPr/>
          <p:nvPr/>
        </p:nvPicPr>
        <p:blipFill>
          <a:blip r:embed="rId1"/>
          <a:stretch/>
        </p:blipFill>
        <p:spPr>
          <a:xfrm>
            <a:off x="523800" y="281160"/>
            <a:ext cx="7785000" cy="9871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30280" y="1714320"/>
            <a:ext cx="7772400" cy="4429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ОК 1; ОК 2; ОК 6; ОК 7; ОК 11; ОК 12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ПК 2.2; ПК 2.3; ПК 2.4; ПК 2.5; ПК 2.6;   ПК 2.7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Нижний колонтитул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9d4c7"/>
                </a:solidFill>
                <a:latin typeface="Constantia"/>
              </a:rPr>
              <a:t>Веселова Ольга Борисо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13840" y="713880"/>
            <a:ext cx="4286520" cy="553428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Недоношенные дети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- дети, родившиеся в 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сроке  от  28 до 37 недель внутриутробного развития и имеющие 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массу тела ниже 2500 </a:t>
            </a: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г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длину 45 </a:t>
            </a: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см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 и мене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04" name="Рисунок 4" descr="hi-premature-baby-852-cp-38.jpg"/>
          <p:cNvPicPr/>
          <p:nvPr/>
        </p:nvPicPr>
        <p:blipFill>
          <a:blip r:embed="rId1"/>
          <a:stretch/>
        </p:blipFill>
        <p:spPr>
          <a:xfrm>
            <a:off x="4714920" y="2525760"/>
            <a:ext cx="4429080" cy="2873160"/>
          </a:xfrm>
          <a:prstGeom prst="rect">
            <a:avLst/>
          </a:prstGeom>
          <a:ln w="0">
            <a:noFill/>
          </a:ln>
        </p:spPr>
      </p:pic>
      <p:sp>
        <p:nvSpPr>
          <p:cNvPr id="105" name="Нижний колонтитул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9d4c7"/>
                </a:solidFill>
                <a:latin typeface="Constantia"/>
              </a:rPr>
              <a:t>Веселова Ольга Борисо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C:\Users\Настя\Desktop\недоношенные\724de9ca60782f1e7b3d17b90fa9777b.jpg"/>
          <p:cNvPicPr/>
          <p:nvPr/>
        </p:nvPicPr>
        <p:blipFill>
          <a:blip r:embed="rId1">
            <a:lum contrast="-30000"/>
          </a:blip>
          <a:stretch/>
        </p:blipFill>
        <p:spPr>
          <a:xfrm>
            <a:off x="500040" y="357120"/>
            <a:ext cx="7524720" cy="60962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3160" y="2000160"/>
            <a:ext cx="8110440" cy="45007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 отделах ЗАГС регистрируются  дети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1b587c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Рождённые живыми  и мертвыми  дети с 28-й недели гестации, массой 1000 г и выше и длиной тела 35 см и более. Также дети из двоен с массой менее 1000 г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1b587c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з родившихся живыми с массой тела 500-999 г подлежат регистрации новорождённые, которые прожили 7 сут после рождения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C:\Users\Настя\Desktop\недоношенные\33b25ec85c.jpg"/>
          <p:cNvPicPr/>
          <p:nvPr/>
        </p:nvPicPr>
        <p:blipFill>
          <a:blip r:embed="rId1"/>
          <a:stretch/>
        </p:blipFill>
        <p:spPr>
          <a:xfrm>
            <a:off x="642960" y="3754440"/>
            <a:ext cx="3714840" cy="2654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C:\Users\Настя\Desktop\недоношенные\i (4).jpg"/>
          <p:cNvPicPr/>
          <p:nvPr/>
        </p:nvPicPr>
        <p:blipFill>
          <a:blip r:embed="rId2"/>
          <a:stretch/>
        </p:blipFill>
        <p:spPr>
          <a:xfrm>
            <a:off x="642960" y="1071720"/>
            <a:ext cx="3722760" cy="2500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C:\Users\Настя\Desktop\недоношенные\i (3).jpg"/>
          <p:cNvPicPr/>
          <p:nvPr/>
        </p:nvPicPr>
        <p:blipFill>
          <a:blip r:embed="rId3"/>
          <a:stretch/>
        </p:blipFill>
        <p:spPr>
          <a:xfrm>
            <a:off x="5214960" y="2214720"/>
            <a:ext cx="3429000" cy="2928960"/>
          </a:xfrm>
          <a:prstGeom prst="rect">
            <a:avLst/>
          </a:prstGeom>
          <a:ln w="0">
            <a:noFill/>
          </a:ln>
        </p:spPr>
      </p:pic>
      <p:pic>
        <p:nvPicPr>
          <p:cNvPr id="111" name="Заголовок 1" descr=""/>
          <p:cNvPicPr/>
          <p:nvPr/>
        </p:nvPicPr>
        <p:blipFill>
          <a:blip r:embed="rId4"/>
          <a:stretch/>
        </p:blipFill>
        <p:spPr>
          <a:xfrm>
            <a:off x="523800" y="-165240"/>
            <a:ext cx="7785000" cy="11588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530280" y="1071720"/>
            <a:ext cx="8113680" cy="557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       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Процент рождаемости недоношенных детей в различных регионах России колеблется, в среднем составляет 5-14%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                      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1</a:t>
            </a:r>
            <a:r>
              <a:rPr b="1" lang="ru-RU" sz="2200" spc="-1" strike="noStrike" u="sng">
                <a:solidFill>
                  <a:srgbClr val="ffffff"/>
                </a:solidFill>
                <a:uFillTx/>
                <a:latin typeface="Constantia"/>
              </a:rPr>
              <a:t>. Социально - экономические: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1b587c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Отсутствие или недостаточный медицинский уход;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1b587c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Плохое питание (недостаток минералов и витаминов), даже за несколько месяцев до предполагаемых родов;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1b587c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Наличие вредных привычек (курение, наркомания, алкоголь);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1b587c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Сильные стрессы за несколько недель, или отсутствие желанности ребенка;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1b587c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Вредное или опасное рабочее место (пыль, радиация, монотонная работа, поднятие тяжестей, не нормированный рабочий день или неделя). Работа без выходных несколько недель подряд;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1b587c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Недостаточное образование родителей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" name="Нижний колонтитул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9d4c7"/>
                </a:solidFill>
                <a:latin typeface="Constantia"/>
              </a:rPr>
              <a:t>Веселова Ольга Борисо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C:\Users\Настя\Desktop\недоношенные\SP00-0905.jpg"/>
          <p:cNvPicPr/>
          <p:nvPr/>
        </p:nvPicPr>
        <p:blipFill>
          <a:blip r:embed="rId1"/>
          <a:stretch/>
        </p:blipFill>
        <p:spPr>
          <a:xfrm>
            <a:off x="571680" y="857160"/>
            <a:ext cx="4462200" cy="2928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C:\Users\Настя\Desktop\недоношенные\55c8f5dea2dc3.jpg"/>
          <p:cNvPicPr/>
          <p:nvPr/>
        </p:nvPicPr>
        <p:blipFill>
          <a:blip r:embed="rId2"/>
          <a:stretch/>
        </p:blipFill>
        <p:spPr>
          <a:xfrm>
            <a:off x="5072040" y="3643200"/>
            <a:ext cx="3714840" cy="285768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530280" y="356760"/>
            <a:ext cx="8184960" cy="6286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                       </a:t>
            </a:r>
            <a:r>
              <a:rPr b="0" lang="ru-RU" sz="2200" spc="-1" strike="noStrike" u="sng">
                <a:solidFill>
                  <a:srgbClr val="ffffff"/>
                </a:solidFill>
                <a:uFillTx/>
                <a:latin typeface="Constantia"/>
              </a:rPr>
              <a:t>  </a:t>
            </a:r>
            <a:r>
              <a:rPr b="0" lang="ru-RU" sz="2200" spc="-1" strike="noStrike" u="sng">
                <a:solidFill>
                  <a:srgbClr val="ffffff"/>
                </a:solidFill>
                <a:uFillTx/>
                <a:latin typeface="Constantia"/>
              </a:rPr>
              <a:t>2. Социально - биологические: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1b587c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Возраст беременной женщины (до 18 или после 35) может стать причиной недоношенности ребенка;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1b587c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Возраст отца (до 18 или после 45) может стать причиной недоношенности ребенка;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1b587c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Отягощенный акушерско- гинекологический анамнез (прерывание беременности, выкидыш, криминальный аборт за несколько месяцев, ЭКО);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1b587c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Генетическая предрасположенность или заболевания родителей;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1b587c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Брак между родственниками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Нижний колонтитул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9d4c7"/>
                </a:solidFill>
                <a:latin typeface="Constantia"/>
              </a:rPr>
              <a:t>Веселова Ольга Борисо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3" descr="C:\Users\Настя\Desktop\недоношенные\62526.jpg"/>
          <p:cNvPicPr/>
          <p:nvPr/>
        </p:nvPicPr>
        <p:blipFill>
          <a:blip r:embed="rId1">
            <a:lum contrast="-30000"/>
          </a:blip>
          <a:stretch/>
        </p:blipFill>
        <p:spPr>
          <a:xfrm>
            <a:off x="0" y="857160"/>
            <a:ext cx="4786200" cy="30718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C:\Users\Настя\Desktop\недоношенные\comment-soigner-mon-impatience-en-10-lecons-3160704rwywf.jpg"/>
          <p:cNvPicPr/>
          <p:nvPr/>
        </p:nvPicPr>
        <p:blipFill>
          <a:blip r:embed="rId2">
            <a:lum contrast="-30000"/>
          </a:blip>
          <a:stretch/>
        </p:blipFill>
        <p:spPr>
          <a:xfrm>
            <a:off x="5072040" y="3500280"/>
            <a:ext cx="3929040" cy="33577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530280" y="428400"/>
            <a:ext cx="8113680" cy="607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5000"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                                   </a:t>
            </a:r>
            <a:r>
              <a:rPr b="0" lang="ru-RU" sz="2200" spc="-1" strike="noStrike" u="sng">
                <a:solidFill>
                  <a:srgbClr val="ffffff"/>
                </a:solidFill>
                <a:uFillTx/>
                <a:latin typeface="Constantia"/>
              </a:rPr>
              <a:t>  </a:t>
            </a:r>
            <a:r>
              <a:rPr b="0" lang="ru-RU" sz="2200" spc="-1" strike="noStrike" u="sng">
                <a:solidFill>
                  <a:srgbClr val="ffffff"/>
                </a:solidFill>
                <a:uFillTx/>
                <a:latin typeface="Constantia"/>
              </a:rPr>
              <a:t>3. Различные заболевания: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1b587c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Наличие хронических заболевания матери, которые могли обостриться во время беременности;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1b587c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Перенесенные острые инфекционные заболевания, возможные осложнения после ОРВИ, гриппа, сильной простуды, краснухи, ветряной оспы и так далее;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1b587c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Со стороны плода также могут быть различные аномалии в развитии сердечно-сосудистой системы, внутренних органов, его положении; гормональные дисфункции, преждевременное излитие вод, хромосомные дефекты;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1b587c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Наличие и развитие внутриутробных инфекций: хламидии, микоплазма, уреплазма, цитомегаловирус.   Или другие, не выявленные или не долеченные венерические заболевания;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1b587c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Недостаточный вес матери (менее 48 кг);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1b587c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Осложнения после прививки;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1b587c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Недоношенный ребенок  может появится на свет из-за постоянных стрессов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1" name="Нижний колонтитул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9d4c7"/>
                </a:solidFill>
                <a:latin typeface="Constantia"/>
              </a:rPr>
              <a:t>Веселова Ольга Борисо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Заголовок 1" descr=""/>
          <p:cNvPicPr/>
          <p:nvPr/>
        </p:nvPicPr>
        <p:blipFill>
          <a:blip r:embed="rId1"/>
          <a:stretch/>
        </p:blipFill>
        <p:spPr>
          <a:xfrm>
            <a:off x="566640" y="420840"/>
            <a:ext cx="7785360" cy="8474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71680" y="1571760"/>
            <a:ext cx="82152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24" name="Picture 2" descr="C:\Users\Настя\Desktop\недоношенные\mb4.png"/>
          <p:cNvPicPr/>
          <p:nvPr/>
        </p:nvPicPr>
        <p:blipFill>
          <a:blip r:embed="rId2"/>
          <a:stretch/>
        </p:blipFill>
        <p:spPr>
          <a:xfrm>
            <a:off x="214200" y="1928880"/>
            <a:ext cx="8715600" cy="4572000"/>
          </a:xfrm>
          <a:prstGeom prst="rect">
            <a:avLst/>
          </a:prstGeom>
          <a:ln w="0">
            <a:noFill/>
          </a:ln>
        </p:spPr>
      </p:pic>
      <p:sp>
        <p:nvSpPr>
          <p:cNvPr id="125" name="Нижний колонтитул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9d4c7"/>
                </a:solidFill>
                <a:latin typeface="Constantia"/>
              </a:rPr>
              <a:t>Веселова Ольга Борисо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09T13:09:36Z</dcterms:created>
  <dc:creator>Настя</dc:creator>
  <dc:description/>
  <dc:language>en-US</dc:language>
  <cp:lastModifiedBy>Ольга</cp:lastModifiedBy>
  <dcterms:modified xsi:type="dcterms:W3CDTF">2016-08-27T21:09:33Z</dcterms:modified>
  <cp:revision>27</cp:revision>
  <dc:subject/>
  <dc:title>ГБПОУ   НО «Нижегородский медицинский колледж». МДК 02.01.03 Сестринский уход при различных заболеваниях и состояниях в педиатрии.</dc:title>
</cp:coreProperties>
</file>