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DCF-8261-48AD-BDE5-9B1C8177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0F8-92A8-416A-BD0F-E746CE06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DD4-31B9-4B38-89E3-543B40F7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34E-17D8-4D67-A026-C83234A2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424B-3D8C-4080-91AE-4AE95ECA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C1E1-CB19-45B2-85B5-B7C0E8E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96A-C5F6-45A6-AEB3-4A4C5D21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817B-2386-40B6-B717-1A1D48C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6E6-41FA-4467-96F6-A6ECEB36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5CCD-B2D3-4F51-93F7-FE620A21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8D7-6A06-47EC-83E5-A582D69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829-CCCD-48C2-9986-7C43F45E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0DE-AF6D-4623-A393-9393887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14AD-47DE-4FD4-8DD4-63F07F5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DCE-8AD0-4274-AF76-6095295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5A50-DB7B-453A-A779-7748B5A6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482-0A10-474C-B602-017CFA57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353-EAF2-40F8-B80A-4D0F3ACF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3AC-DA73-46D4-9C0B-C151913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F03-FD81-44D1-A75D-055C670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000-194D-4D34-8A27-B22A4D5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86-DB5E-4544-95B4-B99D0F8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E5C-7543-4749-AE72-BB5ED12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7FD-55D5-4760-B09D-9AD44E4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3B2-0DED-4004-9884-54DB31E5305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E37-05C3-4C9C-B940-7C9EE316404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втоматизация 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[р]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в  середине  слов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н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79800" y="198108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фарту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ермо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рбуз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рде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ерси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0200" y="1981080"/>
            <a:ext cx="41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49640" y="198108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ширм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одарк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20:43Z</dcterms:created>
  <dc:creator>Алексей</dc:creator>
  <dc:description/>
  <dc:language>en-US</dc:language>
  <cp:lastModifiedBy>user</cp:lastModifiedBy>
  <dcterms:modified xsi:type="dcterms:W3CDTF">2015-03-12T07:22:25Z</dcterms:modified>
  <cp:revision>3</cp:revision>
  <dc:subject/>
  <dc:title>Автоматизация  [р]  в середине  слова</dc:title>
</cp:coreProperties>
</file>