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202-7A93-4317-80AB-939FE581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EF4-C229-44ED-9CDB-76242ED7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79ED-56D0-4A09-908E-E76F81B9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78C-AB3F-4C02-8216-CA120B95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C885-8F79-4743-AEB4-B30EEFE4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3B7E-C1DC-406A-94A4-933DFA61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7972-66F5-4718-A7F6-3543C54F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A8FC-6117-400D-BCD7-53755EDA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C3E5-EDE3-4962-A0CC-CECBE1AB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FBB5-F0E2-4E87-801D-8FA81765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3BEE-861E-4743-B430-90B4D709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E6BD-EEB8-4EB6-8357-FA884CD0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D1AF-CD6F-4E5A-86E8-2B0CC4A5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E268-5CEE-45AF-BF98-AE9A5A70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881D-05EF-4896-BF62-5F8E33D8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FC75-87C6-4FD7-B14B-1AB03D27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5B80-209B-4A8D-A518-03EE5880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899-1453-4905-883B-CB909F31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975-2E1B-469B-8B91-7A2E44BC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EBBF-9EC0-4A16-8924-DD0D326A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40CA-4AD6-4795-88FA-ACEF1194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B53-2A32-4071-B72E-0E1F6600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EC0-9216-4085-8434-E90C00AB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CF6-A9F6-4566-9220-DAFE69F3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DE4B-F8B0-4578-9FE4-7C84CA161EA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E655-46E6-4858-A09F-40354DBCD19D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Автоматизация 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[р] 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в  середине  слов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норк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79800" y="1981080"/>
            <a:ext cx="4782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фартук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термос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арбуз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836720" y="1981080"/>
            <a:ext cx="546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карт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382840" y="1981080"/>
            <a:ext cx="437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орден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484360" y="1981080"/>
            <a:ext cx="4173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ерсик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0200" y="1981080"/>
            <a:ext cx="4143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горк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149640" y="1981080"/>
            <a:ext cx="2843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арт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954080" y="1981080"/>
            <a:ext cx="523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корк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11160" y="1981080"/>
            <a:ext cx="551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ширм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836720" y="1981080"/>
            <a:ext cx="546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одарк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811160" y="1981080"/>
            <a:ext cx="551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4T08:20:43Z</dcterms:created>
  <dc:creator>Алексей</dc:creator>
  <dc:description/>
  <dc:language>en-US</dc:language>
  <cp:lastModifiedBy>user</cp:lastModifiedBy>
  <dcterms:modified xsi:type="dcterms:W3CDTF">2015-03-12T07:22:25Z</dcterms:modified>
  <cp:revision>3</cp:revision>
  <dc:subject/>
  <dc:title>Автоматизация  [р]  в середине  слова</dc:title>
</cp:coreProperties>
</file>