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C9F-8BA6-41CA-976B-A4C1F4E4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21E-71B2-422B-8820-88714A6B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169-3742-463A-84CD-BFAFA958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3FE-3F2A-4088-9845-E0EE4A0C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DF02-95D3-421E-BE28-441AD989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6B12-6D53-4E8C-B98D-3990E22D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2F99-8CAA-4A83-A47F-650A5ACA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3724-0DB6-49AB-91B5-EE8218C7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1508-09AB-408B-8FF4-0D8C4358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8FA3-4504-46A1-B98C-8E3E8665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71A2-FF94-46F2-8C67-45F7EC19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4B9-59B1-42CF-A24B-7DEEDC8E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9D87-2EA5-4B0D-9E98-249E8012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B871-2C68-4D79-9250-08E24B99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F31A-9EE6-46C7-904D-EA83E983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A901-17E4-4F1B-B380-46081BF7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21E9-5EA0-4D5E-83C6-D900B337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8C97-EA27-4B38-B0F4-3E3F69EC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BE2-4F86-408C-B848-8ECBB8D9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FC7-D70F-4AD8-B44C-CEF3D9B9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2CB-D5FB-427A-AE5B-F8CF2359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506-7FE3-4903-9B78-9B4D20C6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AF7-93D3-4D23-8574-BD2D41BF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FC0-97A8-48A8-8706-9D19C6EB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DE70-754D-42AD-8407-D88081CA63B1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8A33-AD76-4DA2-A87A-5C2505832DF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Автоматизация 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[ш]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в начале  сло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пингал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95480" y="177156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танг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95480" y="177156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арман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710160" y="1771560"/>
            <a:ext cx="248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окола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92400" y="1771560"/>
            <a:ext cx="551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пина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182760" y="1771560"/>
            <a:ext cx="353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ваб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95480" y="177156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пал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17600" y="177156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мел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60680" y="1771560"/>
            <a:ext cx="4782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иш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21040" y="1771560"/>
            <a:ext cx="406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ланг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129120" y="1771560"/>
            <a:ext cx="364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ля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39840" y="1771560"/>
            <a:ext cx="562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пател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41520" y="1771560"/>
            <a:ext cx="502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20:04:57Z</dcterms:created>
  <dc:creator>Алексей</dc:creator>
  <dc:description/>
  <dc:language>en-US</dc:language>
  <cp:lastModifiedBy>user</cp:lastModifiedBy>
  <dcterms:modified xsi:type="dcterms:W3CDTF">2015-03-12T07:32:44Z</dcterms:modified>
  <cp:revision>3</cp:revision>
  <dc:subject/>
  <dc:title>Автоматизация [ш]  в начале слова</dc:title>
</cp:coreProperties>
</file>