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3456-38AA-498D-BAE8-E503D7945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8223-F64B-407B-919F-0E64B82D8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1825-DCB6-48C0-AA3F-7542E83D2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A3D8-2509-4B7E-AA5D-820547C04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31923-C537-40C9-9F9C-7284FBE9D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37ED6-5888-4265-B24B-7935EF071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2844E-DB87-4856-A30D-B2B4D7C7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2AED2-331F-475B-89FC-EA4CC3984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D1AE5-BC78-4E19-B876-C39421FF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8E8DB-0F69-4EAB-83AC-9BF60E343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33D3F-03AB-4081-8088-F84853B2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E68A-CA45-40B5-A1AC-D01D6DA71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25A6C-CDFA-40B8-9190-C4B3C0E2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CB187-76A0-47B5-A07A-3F5DB8C4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E84E2-0CF2-4600-B399-004810C19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38BE0-4759-40F4-BE4C-3DCCE0FAC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21254-490B-4DE4-8A69-5EBCEF800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A6F6-4F9A-45D2-81D6-F5B177895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A3AD-0546-4DC6-863C-B4626138A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562F-90DD-441E-ABB2-86A120F18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3397-B3D7-4E8A-B2FA-718FD6DBF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2FC1-B0FC-4062-993F-08C0A5B5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7ADB-992B-4C14-8EBD-8353F814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C7E9-5F42-4470-A7FD-7B3BEF99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E2696-A2AF-4113-9F87-6FB687C5CFB6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902B7-2DE5-422A-996D-7EA620D64146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Автоматизация 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[ш] 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в начале  слов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шпингалет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895480" y="177156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штанг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895480" y="177156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шарманк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710160" y="1771560"/>
            <a:ext cx="2485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шоколад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92400" y="1771560"/>
            <a:ext cx="5519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шпинат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182760" y="1771560"/>
            <a:ext cx="3538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швабр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895480" y="177156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шпалы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217600" y="1771560"/>
            <a:ext cx="5469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шмель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60680" y="1771560"/>
            <a:ext cx="4782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шишк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921040" y="1771560"/>
            <a:ext cx="4062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шланг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129120" y="1771560"/>
            <a:ext cx="3647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шляп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139840" y="1771560"/>
            <a:ext cx="5626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шпатель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441520" y="1771560"/>
            <a:ext cx="5021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1T20:04:57Z</dcterms:created>
  <dc:creator>Алексей</dc:creator>
  <dc:description/>
  <dc:language>en-US</dc:language>
  <cp:lastModifiedBy>user</cp:lastModifiedBy>
  <dcterms:modified xsi:type="dcterms:W3CDTF">2015-03-12T07:32:44Z</dcterms:modified>
  <cp:revision>3</cp:revision>
  <dc:subject/>
  <dc:title>Автоматизация [ш]  в начале слова</dc:title>
</cp:coreProperties>
</file>