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06B-F959-48F6-A501-0EE279D9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720-4CAC-418F-ABB2-7C9A96A7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57B-7BB5-4C42-898D-94CCA36E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1F9-B06F-488D-9B72-4D7343A8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1F4C6-6B23-46B7-998F-89D1DA8E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ED247-C440-4CEB-9164-82FE4E9B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FF580-698A-4784-8CF3-4E8FA700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B5FA0-5255-449B-B63E-D82DDC80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346CC-B62A-4657-8D47-15C48E62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80448-3D5E-472D-BBFA-06216462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3408A-9052-4632-881B-5275177D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9EA-2FE0-4778-8718-269ED52F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8B9AD-14EF-4399-8E90-8AE69309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9D299-7A16-4B74-83E7-5F744FCF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C8702-16A2-46EC-B434-535692E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EB0FB-4FF7-4420-A066-DF4B312E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7E82E-4A99-4E7F-813D-F61B93ED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420-C2A1-44ED-B6A0-DAADB364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FCC-0C53-43A6-A074-8AE38CBC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381-AA8C-4AC8-8BCD-2A36B4EF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FF4-0635-4AF8-BC13-8C0BA0F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1A0-DA54-4A15-9AA6-306522D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6BB-D290-441B-8F45-4C85A2C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2CC-0BAA-4444-AC7B-AC274CC7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8EF3-98B9-40EE-BF52-F7ACE346F3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12FA-5ED7-46B7-82EB-CEDBD4A025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СТОРИЯ РЫЦАРСТВ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807696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УЧЕНИКА 3 «А» КЛАССА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ОШ №41»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ДРАШОВА ЕГ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: Зараева И.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4" descr="1a36633a4411fbfb6959ba861ca9ced0"/>
          <p:cNvPicPr/>
          <p:nvPr/>
        </p:nvPicPr>
        <p:blipFill>
          <a:blip r:embed="rId1"/>
          <a:stretch/>
        </p:blipFill>
        <p:spPr>
          <a:xfrm>
            <a:off x="1905120" y="31240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0504117"/>
          <p:cNvPicPr/>
          <p:nvPr/>
        </p:nvPicPr>
        <p:blipFill>
          <a:blip r:embed="rId1"/>
          <a:stretch/>
        </p:blipFill>
        <p:spPr>
          <a:xfrm>
            <a:off x="1981080" y="2743200"/>
            <a:ext cx="4286520" cy="2095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0504118"/>
          <p:cNvPicPr/>
          <p:nvPr/>
        </p:nvPicPr>
        <p:blipFill>
          <a:blip r:embed="rId2"/>
          <a:stretch/>
        </p:blipFill>
        <p:spPr>
          <a:xfrm>
            <a:off x="1219320" y="609480"/>
            <a:ext cx="68770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следование – это поиск, познание нового, интересного, один из видов познавательной деятельности чело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гда мы говорим об истории Средних веков, особое внимание занимает эпоха рыцарства. Доблесть рыцарей, рыцарские турниры, Крестовые пох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м всем известно, что рыцарь – это воин, но не просто воин, а всадник на коне, но не просто всадник на коне, а всадник в металлических доспех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воей работе я решил проанализировать основы рыцарства, формирование их традиций, виды рыцарских движений. Их эпохальный вклад в историю Средневековья не только как  профессиональных воинов,  участвовавших в Крестовых походах, но и как элементы политической системы того  времени. Мне стало  интересно кто такие тамплиеры, госпитальеры и т.д. и я решил рассказать также о них в своей работ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« … Ты был прекраснейшим из рыцарей, а для</a:t>
            </a:r>
            <a:br>
              <a:rPr sz="1600"/>
            </a:b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                                 смертельного врага – суровейшим</a:t>
            </a:r>
            <a:br>
              <a:rPr sz="1600"/>
            </a:b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                                 противником, когда-либо сжимавшим в </a:t>
            </a:r>
            <a:br>
              <a:rPr sz="1600"/>
            </a:b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                                 руке копьё»</a:t>
            </a:r>
            <a:br>
              <a:rPr sz="4000"/>
            </a:b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38648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то такие рыцари? Это люди, жившие в замках, смело и доблестно сражавшиеся в битвах и турнирах верхом на могучих кон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тория рыцарства представляет собой одну из наиболее ярких страниц Европейского Средневековья. При этом, рыцарей в  средние века было немного – не более 3% населения страны. Не смотря на это, роль рыцарей в жизни общества была огромной. Рыцари – реальная военная сила. Рыцари являлись опорой королевской вл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ово «рыцарь» происходит от немецкого слова «риттер» и означает всадник. В  средние века в Европе так называли профессиональных воин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сословие рыцари появились в 8 веке. Причиной появления рыцарства послужило потребность в конной профессиональной дружине. Главной функцией рыцарей было военное дело, потому что рыцари владели тактикой боя, боевыми операциями и вооружением того времени.  Рыцарское войско представляло собой мощную силу, закованная в железные доспехи  рыцарская конница играла особую роль в бою. Сплоченное рыцарское войско поддерживало королевскую власть  и стояло на страже королевских земе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оме этого, традиция требовала от рыцарей знания норм придворного этикета, умение ездить на коне, фехтовать, владеть копьем и другим оружием, плавать, охотиться, играть в шашки, сочинять и исполнять пес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e3e3ff"/>
                </a:solidFill>
                <a:latin typeface="Arial"/>
              </a:rPr>
              <a:t>Воспитание будущего рыцаря.  Посвящение в рыцарей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в семье рыцаря рождался мальчик, его детство обычно заканчивалось в 7-8 лет и начиналось мужское воспитание: физическая подготовка, обучению плаванию и верховой езде, военному делу и навыкам охоты – обращение с соколом, умению носить его на руке, напускать птицу и  охотиться собаками. Мальчик учился действовать мечом и копьем. Драться из лука и арбале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этого, мальчиков отдавали ко двору крупных феодалов, где они учились придворному этикету и правилам хорошего 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обучения юношу посвящали в рыцари.   Церемония посвящения в рыцари была очень торжественной со своими обрядами. Она  означала наступление мужества и делала юношу членом рыцарского отря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, перед церемонией, юноша соблюдал строгий пост и молился. В день церемонии юноша одевал белую рубашку, золотые шпоры на сапогах, один из старейших рыцарей опоясывал юношу мечом. Потом, юношу приводили к присяге и вручали ему боевые шпоры, кольчугу и другие элементы вооружения ,после чего юноша становился на колени.Старейший рыцарь совершал акколаду – три раза ударял мечом по плечу и рукой по шее юноши и при этом говорил слова: «Жалую тебя в рыцари; будь храбр, учтив и предан». После этого посвященный в рыцари получал шлем, щит и копьё, а затем вскакивал на коня  и демонстрировал свою ловкость  и ум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920" y="685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" descr="i?id=165986487-52-72"/>
          <p:cNvPicPr/>
          <p:nvPr/>
        </p:nvPicPr>
        <p:blipFill>
          <a:blip r:embed="rId1"/>
          <a:stretch/>
        </p:blipFill>
        <p:spPr>
          <a:xfrm>
            <a:off x="5867280" y="12952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842128"/>
          <p:cNvPicPr/>
          <p:nvPr/>
        </p:nvPicPr>
        <p:blipFill>
          <a:blip r:embed="rId2"/>
          <a:stretch/>
        </p:blipFill>
        <p:spPr>
          <a:xfrm>
            <a:off x="5029200" y="685800"/>
            <a:ext cx="36766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Рыцарский Кодекс Чести.</a:t>
            </a:r>
            <a:br>
              <a:rPr sz="1600"/>
            </a:br>
            <a:r>
              <a:rPr b="1" i="1" lang="ru-RU" sz="1600" spc="-1" strike="noStrike">
                <a:solidFill>
                  <a:srgbClr val="e3e3ff"/>
                </a:solidFill>
                <a:latin typeface="Arial"/>
              </a:rPr>
              <a:t>       Кодекс Чести – свод этических и моральных норм, которые соблюдал рыцарь.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2-14 веках сложились нормы поведения – «правила чести», которых должен придерживаться каждый истинный рыцарь. Рыцарский Кодекс Чести обязывал рыцаря быть храбрым воином, предано служить своему сеньору, отважно защищать слабых и бороться за вер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«Верность -  сеньору, честь – никому!»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такой девиз закреплён в Кодексе Чести рыцар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ыцари приносили клятву  верности своему  сеньору и нарушение клятвы считалось одним из самых тяжких преступлений.  Честь рыцаря  не позволяла ему двигаться назад   - только вперед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гласно Кодексу Чести,  церемония присяги на верность своему сеньору была торжественной. Во время которой, рыцарь стоял на коленях перед  своим сеньором, без оружия, без шлема, свои руки вкладывал в руки сеньора и просил принять его в вассалы. Клятву верности рыцарь произносил положа свою руку на Библию или Святые Мощ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посвящения Кодекс Чести рыцаря предписывал: свято хранить верность своему  сеньору, быть смелым и сильным воином, который «одним ударом меча разрубает врага на коне» и  «без труда разгибает четыре подковы» и при этом дорожит своей репутаци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тобы защитить свою  честь и достоинство рыцарь мог вызвать на поединок равного себе, бросая свою перчатку и оглашая свои обвинения, а другой рыцарь – ответчик, принимая вызов, бросал свою перчатку. После этого, сеньор или король назначали время и оружие поединка. В назначенный час оба противника являлись в полном рыцарском вооружении. Перед крестом и Библией они клялись в правоте своего дела, а также что не будут пользоваться колдовством. На глазах зрителей противники сражались не на жизнь, а на смерть и победитель имел право добить поверженного врага. Побежденного рыцаря лишали рыцарского достоинства, шлем и щит разламывали на ча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2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ГЕРБ И ДЕВИЗ РЫЦАРЕЙ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 различия рыцарей возникла система рыцарских эмблем – геральд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ждый рыцарь имел  свой герб – родовую эмблему, которую изображали на щите, флаге и личной печати рыцаря. Герб и печать передавались от отца к сы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Щит изображался в разных формах, имел несколько частей и каждая часть имела свой цвет. Обычно использовалось пять цветов: красный, голубой, зеленый, черный и пурпур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щите изображались различные знаки, обозначающие заслуги рыцаря, его обязанности, таланты. Например, если на щите изображена рука или рукопожатие – это означало согласие и верность рыцаря; хлеб – благотворительность; пчелиные соты – гостеприимств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д щитом изображался шлем, у королей и принцев – шлем с короно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память о каких-то подвигах, традициях  внизу щита помещался девиз. Девиз происходил из боевого клича, который объединял всех воинов в бою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 время битв или турниров рыцари были одеты во все свои доспехи с головы до ног.  Различить  их можно было только по личной эмблеме, изображенной на щит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10552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2deeb7948d59"/>
          <p:cNvPicPr/>
          <p:nvPr/>
        </p:nvPicPr>
        <p:blipFill>
          <a:blip r:embed="rId1"/>
          <a:stretch/>
        </p:blipFill>
        <p:spPr>
          <a:xfrm>
            <a:off x="5638680" y="1295280"/>
            <a:ext cx="284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e3e3ff"/>
                </a:solidFill>
                <a:latin typeface="Arial"/>
              </a:rPr>
              <a:t>Тамплиеры </a:t>
            </a:r>
            <a:r>
              <a:rPr b="1" i="1" lang="ru-RU" sz="1400" spc="-1" strike="noStrike">
                <a:solidFill>
                  <a:srgbClr val="e3e3ff"/>
                </a:solidFill>
                <a:latin typeface="Arial"/>
              </a:rPr>
              <a:t>«… Не просто осознать могущество</a:t>
            </a:r>
            <a:br>
              <a:rPr sz="1400"/>
            </a:br>
            <a:r>
              <a:rPr b="1" i="1" lang="ru-RU" sz="1400" spc="-1" strike="noStrike">
                <a:solidFill>
                  <a:srgbClr val="e3e3ff"/>
                </a:solidFill>
                <a:latin typeface="Arial"/>
              </a:rPr>
              <a:t>        и богатства тамплиеров, ибо они   возглавляли свои замки повсюду…»</a:t>
            </a:r>
            <a:br>
              <a:rPr sz="2800"/>
            </a:br>
            <a:endParaRPr b="0" lang="en-US" sz="1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духовно-рыцарский орден. Тамплиеры – рыцари храма. Они носили белые плащи  с нашитыми на них красным крестом.  Крест – символ христианской в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цари – тамплиеры отличались сплоченностью и строгой дисциплиной. Тамплиеры за счет даров и приношений владели огромными богатствами: замками, крепостями, земельными угодьями. Подчинялись только Папе Римскому, отсюда их мощ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цари-тамплиеры были самой могущественной военной силой Восточной Европы. Главой рыцарей тамплиеров был Великий Магистр. Рыцари перед принятием их  Орден давали клятву защищать христиан и людей, нуждающихся в помощи. Орден тамплиеров занимался благотворительностью. Имея большие деньги в казне, тамплиеры тратили их на развитие науки, на поддержку художников, музыкантов и поэ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ме этого, рыцари-тамплиеры владели боевыми знаниями. Тамплиеры оказывали огромную поддержку королю в войне с мусульманами – сарацинами, особенно во Втором Крестовом похо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щи и власти тамплиеров завидовали многие короли Европы. Среди них был король Франции Филипп 4 Красивый. После Седьмого Крестового похода, когда сарацины захватили Акру, именно Филипп Красивый обвинил тамплиеров в ужасных преступлениях – ереси, в том что отдали земли Акры сарацинам и отреклись от Бога. Тамплиеров арестовали, бросили в тюрьмы, пытали  и после длительного следствия 54 рыцарей-тамплиеров публично сожгли  на костре.  Богатство тамплиеров было конфискова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4" descr="1245307614_c5d081ea"/>
          <p:cNvPicPr/>
          <p:nvPr/>
        </p:nvPicPr>
        <p:blipFill>
          <a:blip r:embed="rId1"/>
          <a:stretch/>
        </p:blipFill>
        <p:spPr>
          <a:xfrm>
            <a:off x="762120" y="1523880"/>
            <a:ext cx="35622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ОСПИТАЛЬ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ден госпитальеров возник на основе госпиталя святого Иоанна – приюта для паломников. Основатель ордена госпитальеров  - рыцарь Жерар де Торн. Орден имел религиозно-военную направленност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мволом госпитальеров   являлся белый крест, четыре направления креста напоминали  о главных христианских добродетелях – справедливость, благоразумие, терпение и ве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цари-госпитальеры носили плащи  черного цвета с нашитым белым крестом. Госпитальеры подразделялись на рыцарей – воинов и на рыцарей-лекарей, которые обеспечивали уход за больными и раненными рыцар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б-квартира госпитальеров находилась  в Акре. Госпитальеры вели ожесточенные бои  с пиратами. Госпитальеры отбили нападение турецких воинов  в течение  6 месяцев отчаянно сражаясь за свои земли. За такую храбрость, могучие и доблесть, турецкий Султан Великолепный великодушно отпустил достойных соперников рыцарей-госпитальеров,  позволив им отплыть в Италию. После чего германский император пожаловал госпитальерам  остров Мальту, с тех пор орден стал называться мальтийским. Мальтийский Орден существует и в настоящее время. Члены Мальтийского Ордена также помогают больным и малоимущим оказывают  медицинскую помощ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4" descr="Hospitallers"/>
          <p:cNvPicPr/>
          <p:nvPr/>
        </p:nvPicPr>
        <p:blipFill>
          <a:blip r:embed="rId1"/>
          <a:stretch/>
        </p:blipFill>
        <p:spPr>
          <a:xfrm>
            <a:off x="457200" y="1447920"/>
            <a:ext cx="39625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втонский орде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190 году основан был в Палестине Тевтонский орден – объединение немецких рыцарей, чьим символом стал черный крест на белом плащ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дачей ордена  входила забота о больных и немощных, а также борьба с врагами католической церк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ъединившись с орденом меченосцев, рыцари тевтонского ордена начали захватывать польские, литовские и русские земли. В 1240 году крестоносцы захватили Псков, затем двинулись на Новгород. Князь Александр начал борьбу с врагами, но главная битва была еще впереди. Так, не доходя 18 верст до границ Новгорода, ливонские рыцари победили небольшой отряд русских воинов. Ливонские рыцари обрадовались такой победе и недооценили мощь русских воинов в целом,  ливонцы настроились на легкую победу. Рыцари были одеты в железные доспех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итва на Чудском озере началась 05 апреля 1242 года. Князь Александр выстроил русский отряд  клином, впереди клина стояли воины-лучники, которые приняли на себя основной удар, но рыцарям удалось проникнуть вглубь русского войска. Начался рукопашный бой, в разгар которого с правого и левого направления клина в середину ворвались русские воины с новыми силами, чего не ожидали рыцари-враги, которые пустились в бегство. Русские воины гнали их по льду Чудского озера еще 7 вёрст. Часть рыцарей, от тяжелых доспехах потонули в озер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этого, Тевтонский Орден запросил мира у русских. Орденские монахи-рыцари отказались от русских захваченных земел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довое побоище вошло в историю как образец военной тактики и стратегии. Князь Александр получил название Невск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2:08:20Z</dcterms:created>
  <dc:creator>User</dc:creator>
  <dc:description/>
  <dc:language>en-US</dc:language>
  <cp:lastModifiedBy>ZARAEV</cp:lastModifiedBy>
  <dcterms:modified xsi:type="dcterms:W3CDTF">2016-08-29T17:10:5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