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27.wmf" ContentType="image/x-wmf"/>
  <Override PartName="/ppt/media/image26.wmf" ContentType="image/x-wmf"/>
  <Override PartName="/ppt/media/image24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9.gif" ContentType="image/gif"/>
  <Override PartName="/ppt/media/image1.png" ContentType="image/png"/>
  <Override PartName="/ppt/media/image21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303-A5F3-44DC-AA3F-AA96C6C6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41F-E9FB-4F65-BEC4-5935B87A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F653D-8FCD-41AB-94CB-F65A7E0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9751B-1250-417A-94F5-6F10F9B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850A0-2C1B-46C9-9BB7-396A890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A7016-7415-4188-8D32-63D8F2A7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6765-AC41-4B6F-ABE3-8E3FE025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75653-577D-47D2-B9A3-426676C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E583D-EE9C-4ED7-8FC4-C0BAB24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E2193-FFF1-4137-AAE6-2C27D07A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67C23-37FB-42E9-9270-7F9A3D93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D3C87-42BA-4965-8007-5F821AB7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FDC-15A3-4B7D-B7BA-002D4CC0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7C7EA-D03B-42B9-A963-79E119E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6B86-591F-4DF8-A4B3-59ADE65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2FF4C-F06D-46A4-8D9A-6DF6458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C5227-BD3D-4041-B6E3-ADF353F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E0324-DEE6-4736-88B9-F1FCFC9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03359-DFA9-429A-A155-2DC5ADC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1DDBD-2CBA-46B8-8F2C-FF4FEE7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A6107-F811-40C1-9405-EBED8254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DA70-2694-467E-92D2-0FB3C76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D58E9-4238-4648-9F61-66753DC1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DC3-BA0A-412A-993E-10810A40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3C488-2B56-49ED-B8D4-4151043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E596-FE63-47EC-B196-83CE91CF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EE31-D1FF-47A4-A28E-B3C35264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D3D1C-BD70-4BC8-911F-97A99AD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6D075-4553-4555-A0B9-93CCBFE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80CB6-7A3F-4E2B-8113-7EC2A6F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E4E1B-3C78-4577-84E7-6C85ADFF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333AC-284B-4637-9DA7-EF20649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13AE6-24A4-43D4-BFFC-1E0826B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0FD8-7DFD-4C32-9F47-ACD68670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7A97-C828-424B-A13C-0C9BBC3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AFAA7-5FDD-42EC-9B57-9B7838F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3EC57-A57E-4E7A-BE42-4E061077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0D91B-8E7E-409B-9303-244F8159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3D15F-8CA3-4E72-973B-A1EA8C3F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01007-9F47-4149-B578-7CBAB36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9F44E-EED7-4E00-9AB6-9B01657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820B-FFF5-4B0F-A5F8-A0E30421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BB25-6B3D-45C5-AC02-9A64FE5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50BA1-C402-42D7-A845-72F2FCF0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08968-FD3D-4452-8B50-BA6A870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1EE-7CF1-4230-8E52-27DEB40E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E1E3E-0059-4525-ABAB-F2AD717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11CB0-C2D3-4F44-9A34-158A291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81F6F-EB32-4D56-B010-92B128F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C0C7D-2ADF-4BB4-A7A8-04D85A6B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9E355-91F3-47BC-AFAC-EDBDB4F9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AC375-7555-449C-B69A-758B059A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70110-2A61-4B5E-B340-A373512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7A69A-FC53-41BE-B562-1F64B1C0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CA452-4C54-42B9-8D05-F7C76E0A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5A939-3F03-484B-B9BA-6D47769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8D4D-7DD8-458B-88B5-FFDF5BE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0CE7A-EB13-458F-9DAB-B8441272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AD685-F288-415C-AD1E-6E6D5F9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08E8B-6865-4656-8CA8-0C2C4BF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1AFFE-1B66-4A9B-AA99-8827F91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430FD-C729-4B80-AA0F-07A4F40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E3EFF-1A26-465A-BA19-D7E8B2EE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222B1-6D8F-4F7F-8B25-89E85861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89A57-09D0-4AB3-B8F5-8E635A78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86E41-BBF3-449E-A1A7-D8901F5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D85B6-294B-4E02-AB68-31DFCE3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4986-A65E-47EA-A099-3FB240A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54ADC-D783-4B50-A511-E6CF16B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A5691-7E76-4298-AFAA-B8D9598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9B231-C4B7-4F94-93EF-10322B7F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739F5-5DB1-4A1D-85A4-20D89D2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78CA7-DBCA-4591-9D8B-66B67A3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41B29-2F63-472D-933C-83F97DEF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A5E44-FAF9-4371-BD77-9FFE4EC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3F843-C6C1-4499-83BB-6DF55E27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0ED54-1155-4DF7-A743-905D9B1F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974AC-E5FF-461C-AE40-DC435C74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2AD4-2A40-4501-8188-0518BB3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CD8CD-7222-417E-B393-2D5E5AA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2A2C5-8CF5-4F3B-B97A-7146466A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8B58C-7B7A-4719-BD5C-5A9692DD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14B91-203D-42E9-B91F-4BF87D3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583E0-A5CF-4F9B-A731-C8DA6E54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D9FDF-3368-437C-B2D9-0035F39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7624A-AD4E-479B-A64D-4252DD5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959F3-01F3-4AC6-A6EB-0C4A1CD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6E552-A37B-49BE-9128-423ADCB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5FEFF-ECA6-41EC-8937-F7864E7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4363-BC8D-4738-803D-A0019C7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07CDE-FAC4-4CB3-B266-E665B759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EDD-230B-479F-95E6-367E31B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728-EC41-467E-A4C2-4DAD702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FBEF-D19B-41E6-B86C-547A7EF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667F-C637-4F38-8895-45B9A8D4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D6D-4C06-4723-A42D-208D34D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3344-9CB8-4F9C-8872-5DB48818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20ED-BFA3-4C2C-9866-3D77C988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E46E-E5B6-4844-A176-FD465FB4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C66A-D951-447A-A3A5-475B4442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6038-85D3-44D3-B9EF-2A97306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A8A1-65A5-47B6-946A-B81B085F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1541E-FAB9-4042-9F59-25944CC2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ED0-E4BC-40B3-BAA6-001A91BB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E728-86C6-4691-AE45-08DB5E50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F5C2-10F9-4333-BAD3-B41D02D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3BE0-2C86-4513-AC5B-344DBD5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5F3F-CB08-43F4-B6A3-8EAAC415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F410-7DB3-4D23-BEFF-6C98206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8453-5172-48A6-9AF5-C853E92D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91BF-2BB4-46D7-B0F8-1B7DD222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A69A-F8CB-4BD0-A6B3-60B2AD0D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BE57-BB93-4FA3-9717-872E54BF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FD42-9A48-421B-BC6F-7B42530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A4C-7692-4CB5-AD70-231F3CA5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3AA5-4E4D-458D-8085-02F49FFF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CF25E-04AD-4531-BDC0-ACC2BD5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E349-69AC-49A5-AED4-E241B0CC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286A-E1F1-4BFC-8FB4-A12F139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ABAFF-A3FF-452A-823F-C029BC2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9EBF-3F37-4D97-A5D6-6B6A1C7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61D9-BE18-4D0A-8AD0-1234C7B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7E3C-59C5-476D-B4D1-1C6B1A3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B09E-0B36-48D8-9FDA-D61634AA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0058-DB74-4E2A-8151-0DCCE7F1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E09-5249-402D-A42F-3B11BE02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C0E1-050C-4AA7-9CE9-225FEC6A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82D4-A7ED-441C-8120-634074F2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8C020-6425-4CA7-BD7B-B7B60B7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8835-BCD9-41D7-95BA-43B89AD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F220-8868-472B-9AAC-5B325C7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75C5-3B6A-499E-A338-E790310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D771-EB9C-4F15-A112-5264F03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DBA7-05D3-463B-B1E1-E9FFD02B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AA46-2FD0-4667-B244-BFE5B722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A20F-B148-4661-AE2C-5E195023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84E-1BB0-4A2E-9EC8-D98A1B1C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D4F0-9733-4AAA-AB83-8B32D192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1113-8189-4E5E-BA22-B68B4CBF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9EA3-1A51-4E26-9F7A-C4325EA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D1D7-D9A3-4C5E-87A4-677A6EC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E0D9-DC4B-436D-A03B-87DFB9D9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C212-E492-44BD-9DD0-4019C1B7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17D8-C316-4659-A0E8-81EC7D6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0AF0-0C49-4D23-ACBE-D019FEC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C320-B230-4756-9AB2-1E0D170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EBB32-CBF4-4590-B696-158BDE96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17E-FBA2-4461-9FD8-E10E630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3BE2-72AA-4DAE-9DCD-7F7B9CDD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76631-9990-419F-93F2-F568D0CA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E8CA4-722B-4FDE-9D63-073D5368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4B41-742F-409A-B43F-3C3CFBD6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84D3-8B99-4E62-AC28-8A1A9D0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C111-DBC9-4B88-BEA7-28873C4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E09B-42FC-4942-A94A-ABDAC944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A3AE-9969-45CE-8B67-AAA7A7B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B06B7-5C55-44C5-AAFC-8D3992E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82CE-3282-40E4-8A0A-62E87C0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12E-1040-4562-A5DD-851B4B9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FA1C-1A29-4F0A-B6D9-32A5ED37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9ECF7-2DA2-4BD1-9774-1F61887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C71F-B6BD-4301-936A-9741AFDE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5CE03-49B9-4C95-B81E-5B5C2F44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0DC6-EF72-456D-9EC9-737F6C2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B26B3-5BBE-4D50-AFA6-542AF143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D41D-B414-449B-BC65-0598684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8242-8BFD-4D8B-A751-EBDB831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0AAD-2325-45B5-A080-E547310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A4342-4283-4CD9-9353-22587D7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27A-BD8A-4250-A7BD-308B8C7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3359F-F606-40A4-B220-C39A508A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30BA-CAA3-4E06-8619-8746BDF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4116-0635-4C64-8954-7026020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81C67-9E57-4DCD-B4B8-87E48FD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B7AB-E8FF-4C81-BDDE-EFF047F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57A6-1A08-4C9E-B1C5-B36EBB24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23945-8074-475F-9DA3-0FEAD288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C6560-E556-41B2-9E89-098206F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8105F-40F6-4F5F-8A1D-F208B599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62142-0F3F-4515-95D6-1AE9706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317-C0E1-46A5-9933-BCB81EED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E16A-045A-4E33-BD4D-282AEEAE958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6C0-93C1-4206-B024-B46D815578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F33A-5EBF-4B63-9FD7-942C4260830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E8A-8BD0-4B82-849D-CF7BB22BF70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8990-99FF-45E1-81D4-19CB208B633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BB4-0E47-4973-95A6-AF9ACC7417B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6FBF-147A-4D07-8DE2-63511B18F14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5B0-F767-44E5-8765-28BE3D5E55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B808-2D5E-4C38-8B93-6F7B3C546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C3C-DC60-4CFE-8189-1A78775932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BA97-13FC-45A1-8506-978EEFC5D9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9221-32F3-477D-9983-5F27BCF302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DEE-6FBA-4EDD-9054-517BE5333B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823-FC01-4DD9-9156-06C35C5E37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TextBox 4"/>
          <p:cNvGrpSpPr/>
          <p:nvPr/>
        </p:nvGrpSpPr>
        <p:grpSpPr>
          <a:xfrm>
            <a:off x="549360" y="5132520"/>
            <a:ext cx="8277120" cy="957240"/>
            <a:chOff x="549360" y="5132520"/>
            <a:chExt cx="8277120" cy="957240"/>
          </a:xfrm>
        </p:grpSpPr>
        <p:pic>
          <p:nvPicPr>
            <p:cNvPr id="674" name="TextBox 4" descr=""/>
            <p:cNvPicPr/>
            <p:nvPr/>
          </p:nvPicPr>
          <p:blipFill>
            <a:blip r:embed="rId1"/>
            <a:stretch/>
          </p:blipFill>
          <p:spPr>
            <a:xfrm>
              <a:off x="549360" y="5132520"/>
              <a:ext cx="8277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09480" y="518652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МБОУ гимназия имени А.В. Кольц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Егорова Кристина Василь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3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2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39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47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1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66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44"/>
            <p:cNvSpPr/>
            <p:nvPr/>
          </p:nvSpPr>
          <p:spPr>
            <a:xfrm>
              <a:off x="6123960" y="2590920"/>
              <a:ext cx="2600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контролируйте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ыполнение всех заданий по предмет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47"/>
          <p:cNvSpPr/>
          <p:nvPr/>
        </p:nvSpPr>
        <p:spPr>
          <a:xfrm>
            <a:off x="3657600" y="243828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игите только то, что он не может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Критерии оценок. Первая оценка и как к ней относиться. Советы родителя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Организация учебно-воспитательного процесса во 2 класс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Организация исследовательской деятельности в начальной школ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4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4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5-7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 ошибки, но не в зад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3-4 вычислительные ошибки; но ход решения задачи ве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не решена задача или более 4 груб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крис</cp:lastModifiedBy>
  <dcterms:modified xsi:type="dcterms:W3CDTF">2016-08-28T22:03:38Z</dcterms:modified>
  <cp:revision>83</cp:revision>
  <dc:subject/>
  <dc:title>PowerPoint Template</dc:title>
</cp:coreProperties>
</file>