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27.wmf" ContentType="image/x-wmf"/>
  <Override PartName="/ppt/media/image26.wmf" ContentType="image/x-wmf"/>
  <Override PartName="/ppt/media/image24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9.gif" ContentType="image/gif"/>
  <Override PartName="/ppt/media/image1.png" ContentType="image/png"/>
  <Override PartName="/ppt/media/image21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74D-AC00-4AC7-83F6-ED83533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4EB-6975-4752-8589-E67A210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A491-A6DA-4391-B0BC-14098422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7299-E8EA-4301-BCD2-CCCD828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B2FE7-DB86-4B9E-883C-F41F509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96AE-5F71-457B-B070-840A68FD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0176-4313-4C21-9A05-08FE223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7EB6-C47C-4252-9FD2-B7DB1A1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FB6A-0B8F-407D-A8BA-6DE6647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FFB8C-47E5-49D7-9FBA-2C33A563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E977-883E-4879-A3E9-756817B4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F6F6D-AA82-4FF9-97DD-90E57566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DA1-5A7D-41C5-8C22-204EE649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F38D5-439D-416A-B2CA-3754AD7A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E6E71-7E49-4802-910F-BC5106E4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FB255-767E-42CF-832B-33093191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5D177-CC82-458A-ADC0-CB7AB1E8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14411-F391-4D9A-A4C7-300FF1C3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FBA48-4366-4E73-91C3-3EFF9CE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9939C-D4F1-4778-A57B-1123543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2AAD-5347-42CA-82D6-E9C88AA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35B8E-F134-4626-B74B-B1B8440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1519D-D589-497A-B652-E0CFDA16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9D2-FB67-4E44-BA2A-E1ED4E03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DF042-6F5E-4694-84C0-DB7737A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C797B-F6B3-410E-888E-909F3E24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35BA0-BFB9-406B-9733-EA8E6CC0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4A08E-B30B-4D3A-ACF3-C1FC597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EF6AF-6285-4125-BD05-1C81579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A17A7-2CBC-46A1-BE10-395C587D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5361F-F087-4050-9881-583AC93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596A0-ABEA-4761-B4D4-1D7F5FC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49948-5887-4248-9F4E-0A9BFB3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2343E-A2DC-4AA2-B27D-A433539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543-C73A-41C0-97FD-B8844B7B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F8FB0-3207-4E9B-9E4F-619205F8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32BF7-B5C8-4DB9-9DD3-9EB64EE2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50A38-39CC-41C8-BBEF-6A3E96B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44CFB-F8FF-404E-A731-C3984B39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428CE-6D96-4A37-8C56-68571E1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B2216-928C-4EEA-B514-2DD4F06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B6FD0-8877-46DC-ABF4-EAAC56D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28D61-FEFE-4FFD-AF97-1F3097A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04FA5-3071-4E5A-8329-813857B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4676C-8EA2-4948-99ED-85192EB0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C540-66F3-424F-9989-E426D2D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1FF39-D768-40DE-A18E-E8C86EC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74769-0066-416B-8907-DB28AF6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6F036-62A8-4E14-A0A4-0E1D697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A2227-2BC0-4FBC-818C-39BF6747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0C703-6F2E-4EA1-85A1-023C3E29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2802B-3F32-4F88-B7F9-005E1644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6EB10-D3A8-4DF6-B759-C25D8D4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F23E7-865D-468D-BACF-10A81AE7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31054-7CC8-4D9C-BB87-929BEC8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7022F-6A07-4C7F-8C24-EE957206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26E3-E80E-4BF9-A5A3-B8D9883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023A7-A9EF-4F18-9231-AEC33DA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D0D2C-1F78-4658-B7FD-03ED1BE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6EC65-3AEB-4497-936A-E2BD88E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1D207-F47B-4AB2-9D9D-6BE163C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58C0F-6ED7-4356-98A9-B0A0558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5A505-0865-474C-8D17-3B5D39A7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D2A63-DFA1-4165-9E8B-4309988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368C5-DCF4-4465-A638-B46B5054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72CCC-778D-4286-9D11-75F88B5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18F7B-6C28-4A01-BCC0-E7E55AED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E62A-0169-4010-AE21-26F4D39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4EF6A-8DDA-45C2-BDB2-2A631C27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17AF4-34F3-4C3D-AA8D-84938F6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6A094-D66C-4703-B07E-44F62E7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D6870-A1C4-4AC6-BFEA-5A9EF9F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DC0AF-60DF-45B1-ADE0-33C74DF0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E05F5-9231-4A9B-B276-B39BC315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F481C-07A0-43B6-BD51-7F124CC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04B67-0FBD-4058-9875-B042FD4C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A1BB0-55AE-4640-8C98-4A0E5C3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25C7C-3954-4662-8627-E5BC4593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9E4F-FDA4-4795-9409-CDBCC66F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621A6-B949-4BDE-B5E1-FA88E2A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43831-2151-4915-9650-7E1EBC7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BE506-5AE7-4F9C-97C6-F4DA6F1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D44E7-72F8-43D6-8058-B2599D25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47A2F-6D65-46DB-8295-236DD168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F6DED-5052-4C47-8B4F-389B9A2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AD1BF-EE9F-452B-93CB-A3339BF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5EE4D-04E6-4837-B82A-42E53C1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23025-1179-4D79-BDE3-FEF2963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B22C8-07AC-4F6C-BDF0-DA1AD2E1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AC15-B05D-45EF-95BD-9C50DA4C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CC554-784A-4A2F-AC1F-1E438625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2CC-B9E1-4CDE-B351-973DA563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488-27A9-4FCF-BB3A-5470ECAF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BA6B-C62D-4E02-9DDD-0456D03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820-A468-41DB-9117-76645F2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E045-ECF8-4DEA-8A7F-2163064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A6A-B95D-411B-99AE-13DC23FF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B8E6-E6E7-47A4-A5EC-17DC83BE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99A8-8459-45AA-9662-84DAEDEB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0FBB-EAFB-46BE-A5EE-D5C564B1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2729-A861-49D4-BFB2-81850ED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E95B-9FE7-44D8-A4BF-252E27F7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51F4-CEC1-4558-8665-A37EE23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A6A-5456-431B-A31B-E24F7724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A4F8-EA55-4A45-B87A-EB04B5F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FBC8-6D0F-4832-A55C-C36FFE9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8F31-7871-4B89-A25D-44C2381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CEAD-1AF5-468F-AF1C-C5A8D15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BB61-47B6-4AED-95FE-A49100E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7481-438C-4FAA-8CAB-B20F0EBB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B1EA-AC26-4345-8628-2C826772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63B16-D4AE-46D3-844D-4DBC2FB4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6B41-5B69-4F39-A0B2-C6DCFBA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8326-3156-40E1-8B87-A836E43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E42-4387-4B25-ADB1-936FD1F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64F4-1503-45E2-B11F-85A5D2A2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ECDE-E894-480E-9BD5-524B4D7D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BF65-60D0-4A10-A480-621F7073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E910-A01F-4D45-A7E7-12AECD8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D42A-3B08-4126-A573-731AD9F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4CDB-C974-40D0-AEF0-E5F1761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AD6E-18F5-4461-81FD-FB5F6672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A8EE-2301-4C00-A8C3-B6E17046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48D0-C043-412B-8CA8-E7E81DC2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13E0-00AF-4B50-89D0-C7D76588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D2-FD17-42D6-9173-56BB62F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265E-F75E-4922-B64F-9B8959D2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B8BCB-5186-4FED-8E2A-16EF90A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7C547-D919-4ED1-A686-23DC313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93CA-B3AB-40F7-A4C8-867B939E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463F-1B77-42F6-B62C-FF991F1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1DDF-A664-4B50-9FAF-CC8A004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C8E74-45D7-4103-A400-D7D19B0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3D08-B743-42FD-AC80-58EA22A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28567-BBCF-4C3F-A4E0-4A90AD5C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74ED-D66C-4892-AC29-3EF4D066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409-1EAB-4C17-99FA-02FDA3C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1D23-3B35-45DD-8523-CBEDC76B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B227-12BF-471A-B6E4-8097FE54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C9F4-9036-4A5F-B9F9-D7ECED34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A070-62AD-4D1B-BBC7-89D14FDC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D47D9-2E25-4364-9567-09BCADB7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432F-96FF-4E54-86DF-74216F63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0697-E728-4463-B5A0-3DA45D3F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C540-4C25-4AAE-924A-00523A6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B469-93E3-4C6E-85D0-08355AB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1B2E8-D804-4E75-AB9A-6E7D0DE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AC3-C34B-4441-970E-91D813B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D42A-BFB3-45C7-8A61-093C3E8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AF37-A35F-4695-9399-F52D1CE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BF05-A57A-477C-B56E-07C1F84D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D55D-CE5B-4084-B32C-C72D121B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5F19-BB59-4FCF-A4C5-0450B98C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5DF7E-2135-40CB-BAB5-C329566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A86C5-D3AA-47B6-A76C-2BC1BCE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FD51-C9F8-418D-8EC2-E3170D9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37E2E-7EFF-4804-8308-C799094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28C2-EA98-4EC4-921A-071990D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B1A-394B-4839-88A8-3C214A9B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938F1-3806-4A15-AF75-7F00D57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CFA9E-51DC-45CC-A907-CF8B008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2D472-B926-40DA-8A8D-493B5CBD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D663-0DB6-46E4-964E-CF5B981D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EFBE-08E6-4BB7-8FBF-19C8ED51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F04D-3F12-4EB8-9D68-B605C509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C935-FA5C-475B-8B52-F3AF29E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5342-6413-4DC7-8693-4810130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0FD39-7748-459C-8547-17428FE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CDA2-8702-4FE0-B656-22AC005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84A-C084-4CC7-B022-D3D3FA9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2F9EA-BEBA-4CFC-853D-BB8C041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4DDF-E0C2-423E-8519-9803F84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33868-71E6-419C-8EB2-FC21FA0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5040F-697D-4465-A9FF-64EAD41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B1C4-1F65-4ACF-83A3-CB297D1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0FB8-E625-4EC0-BAA7-2FCA31B1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CF497-5B01-4957-A839-7CEB0B80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08F51-ABF3-4CBD-BC27-B4B61BC6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A1918-B24B-4F48-9E65-9D485E1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415B6-575E-4B5F-B958-488918C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E8B-56EF-4A65-B0A4-8E1DCAB8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9F8B-8351-4E6A-81B1-65915E695F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F66-DC77-4BC8-A60C-A21E014163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46D-9B86-4B2D-9602-BD43F5C5F8E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10EF-D4AA-461D-B72A-6B1F87B9B00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655-DA23-4CB6-9631-DFC67CF681C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474-41D4-40CD-944E-3ADD305713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D3D-8DE8-4DAE-BF8B-3A1467FF2F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4FB-C0E0-404F-9189-FCE58D5090E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C4C3-EA0E-4260-B044-F5339D63D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CA29-D2F4-454D-A684-57603E6AF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0254-35FA-41E2-91F3-89EE19B852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D9A1-75DC-4783-A13D-536053FB76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9F4-1846-449C-B8A1-2E4228AED2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E73B-2B59-4FF9-B52A-FF56DC434A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TextBox 4"/>
          <p:cNvGrpSpPr/>
          <p:nvPr/>
        </p:nvGrpSpPr>
        <p:grpSpPr>
          <a:xfrm>
            <a:off x="549360" y="5132520"/>
            <a:ext cx="8277120" cy="957240"/>
            <a:chOff x="549360" y="5132520"/>
            <a:chExt cx="8277120" cy="957240"/>
          </a:xfrm>
        </p:grpSpPr>
        <p:pic>
          <p:nvPicPr>
            <p:cNvPr id="674" name="TextBox 4" descr=""/>
            <p:cNvPicPr/>
            <p:nvPr/>
          </p:nvPicPr>
          <p:blipFill>
            <a:blip r:embed="rId1"/>
            <a:stretch/>
          </p:blipFill>
          <p:spPr>
            <a:xfrm>
              <a:off x="549360" y="5132520"/>
              <a:ext cx="8277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09480" y="518652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МБОУ гимназия имени А.В. Кольц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Егорова Кристина Василь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3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3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4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6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44"/>
            <p:cNvSpPr/>
            <p:nvPr/>
          </p:nvSpPr>
          <p:spPr>
            <a:xfrm>
              <a:off x="6123960" y="2590920"/>
              <a:ext cx="2600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контролируйте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полнение всех заданий по предмет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гите только то, что он не может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Критерии оценок. Первая оценка и как к ней относиться. Советы родителя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Организация учебно-воспитательного процесса во 2 класс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Организация исследовательской деятельности в начальной школ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4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4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5-7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 ошибки, но не в за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3-4 вычислительные ошибки; но ход решения задачи ве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не решена задача или более 4 груб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крис</cp:lastModifiedBy>
  <dcterms:modified xsi:type="dcterms:W3CDTF">2016-08-28T22:03:38Z</dcterms:modified>
  <cp:revision>83</cp:revision>
  <dc:subject/>
  <dc:title>PowerPoint Template</dc:title>
</cp:coreProperties>
</file>