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03F-0EE7-4D52-828A-9F9AF97C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AC2-BE58-4479-85E3-C2F6FCB1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9C3-83BD-43ED-A00B-DEBAB76F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3CB-124A-4CEA-B10A-C33220C0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D82-EC05-40F5-865E-05651629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F2E-BCA8-47FE-8DDB-0E0634F2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53F-A67C-4C13-AF37-8EB7F26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A30-FBDD-4F49-AB32-F2ACBD6D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186-9EDA-4836-8923-7F4CFD43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C53-6E54-4207-BEE3-912E391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339-7726-4D48-B902-A01DB622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2FF-0734-4144-9792-2C812DCA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3A4F-C68F-4CF6-A161-B75ACA62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Сколько в мире разных букв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Алфавит для слеп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1773360"/>
            <a:ext cx="2879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ный Луизом Брайлем (1809-1852) в 1837 году, в котором каждая буква представлена в виде определенного набора выпуклых точек. Во время чтения слепые нащупывают их кончиками пальцев. Это основной метод чтения, используемый слепыми и слабовидящи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Картинки по запросу алфавит для слепых"/>
          <p:cNvPicPr/>
          <p:nvPr/>
        </p:nvPicPr>
        <p:blipFill>
          <a:blip r:embed="rId2"/>
          <a:stretch/>
        </p:blipFill>
        <p:spPr>
          <a:xfrm>
            <a:off x="395280" y="1844640"/>
            <a:ext cx="511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Вот сколько в мире разных бук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Рус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и по запросу русский алфавит"/>
          <p:cNvPicPr/>
          <p:nvPr/>
        </p:nvPicPr>
        <p:blipFill>
          <a:blip r:embed="rId2"/>
          <a:stretch/>
        </p:blipFill>
        <p:spPr>
          <a:xfrm>
            <a:off x="324000" y="1717560"/>
            <a:ext cx="5760720" cy="43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320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1773360"/>
            <a:ext cx="251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русском алфавите 33 бук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Украин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0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48428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украинском алфавите 33 буквы. Он очень похож на рус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и по запросу украинский алфавит"/>
          <p:cNvPicPr/>
          <p:nvPr/>
        </p:nvPicPr>
        <p:blipFill>
          <a:blip r:embed="rId2"/>
          <a:stretch/>
        </p:blipFill>
        <p:spPr>
          <a:xfrm>
            <a:off x="1042920" y="1268280"/>
            <a:ext cx="35956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Белорус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0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48428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белорусском алфавите 32 буквы. Он очень похож на русский и украин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и по запросу белорусский алфавит картинка для детей"/>
          <p:cNvPicPr/>
          <p:nvPr/>
        </p:nvPicPr>
        <p:blipFill>
          <a:blip r:embed="rId2"/>
          <a:stretch/>
        </p:blipFill>
        <p:spPr>
          <a:xfrm>
            <a:off x="755640" y="1557360"/>
            <a:ext cx="34765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Англий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английском алфавит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6 бук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и по запросу английский алфавит картинка для детей"/>
          <p:cNvPicPr/>
          <p:nvPr/>
        </p:nvPicPr>
        <p:blipFill>
          <a:blip r:embed="rId2"/>
          <a:stretch/>
        </p:blipFill>
        <p:spPr>
          <a:xfrm>
            <a:off x="250920" y="1557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Немец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немецком алфавите 26 букв. Он очень похож на английский, но отличается названием бук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и по запросу французский алфавит картинка для детей"/>
          <p:cNvPicPr/>
          <p:nvPr/>
        </p:nvPicPr>
        <p:blipFill>
          <a:blip r:embed="rId2"/>
          <a:stretch/>
        </p:blipFill>
        <p:spPr>
          <a:xfrm>
            <a:off x="611280" y="1413000"/>
            <a:ext cx="40845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Араб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1628640"/>
            <a:ext cx="280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оит из 28 букв и используется для письма справа налево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и по запросу арабский алфавит"/>
          <p:cNvPicPr/>
          <p:nvPr/>
        </p:nvPicPr>
        <p:blipFill>
          <a:blip r:embed="rId2"/>
          <a:stretch/>
        </p:blipFill>
        <p:spPr>
          <a:xfrm>
            <a:off x="0" y="1773360"/>
            <a:ext cx="57243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Китайские иероглиф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773360"/>
            <a:ext cx="280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тличие от большинства письменностей, китайское письмо состоит не из букв, а из иероглифов. Каждый из них обозначает отдельный слог или слово. Общее количество иероглифов превышает 80 тысяч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Картинки по запросу китайский алфавит сколько букв"/>
          <p:cNvPicPr/>
          <p:nvPr/>
        </p:nvPicPr>
        <p:blipFill>
          <a:blip r:embed="rId2"/>
          <a:stretch/>
        </p:blipFill>
        <p:spPr>
          <a:xfrm>
            <a:off x="179280" y="1989000"/>
            <a:ext cx="4680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Алфавит для глух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1773360"/>
            <a:ext cx="2879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зык, состоящий из комбинации жестов, каждый из которых производится руками в сочетании с мимикой, формой или движением рта и губ, а также в сочетании с положением корпуса тела. Эти языки в основном используются глухими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и по запросу алфавит для глухих"/>
          <p:cNvPicPr/>
          <p:nvPr/>
        </p:nvPicPr>
        <p:blipFill>
          <a:blip r:embed="rId2"/>
          <a:stretch/>
        </p:blipFill>
        <p:spPr>
          <a:xfrm>
            <a:off x="324000" y="1557360"/>
            <a:ext cx="4895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14:27:11Z</dcterms:created>
  <dc:creator>1</dc:creator>
  <dc:description/>
  <dc:language>en-US</dc:language>
  <cp:lastModifiedBy>1</cp:lastModifiedBy>
  <dcterms:modified xsi:type="dcterms:W3CDTF">2016-08-28T16:51:19Z</dcterms:modified>
  <cp:revision>3</cp:revision>
  <dc:subject/>
  <dc:title>Сколько в мире разных букв?</dc:title>
</cp:coreProperties>
</file>