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6.gif" ContentType="image/gif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668-BFC5-4B07-8CBE-A02E2EAC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4E2-5DCE-45BD-82AB-78437740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8A640-AFE7-486A-9116-EB70F103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5136B-A5BC-4531-AE57-D44FB496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54A3C-1FB7-4830-BC96-73D09A93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E4C7C-BDDC-437C-875F-B00D1748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946BE-E961-42AE-9F06-58CD06FB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BF87A-A0B5-453B-A0D7-69B73FA8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88792-FC00-4CC2-A28C-C0A26F11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FCA20-BE7D-418C-B57B-35A5D8D2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D5F44-6D6A-460E-AADF-BEB5A590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E322-3CC8-4FAF-B46C-6406F2D8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20E4-6F2E-492A-AF90-55DD7738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B9F6-5918-47AB-9F35-AD495FC1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98E8-1F87-4D04-9BE0-7B53DE7B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FA02-52E6-47D1-AEC3-1931C8F3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6C4E-1CF4-468F-B118-2761F3D7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FBAE-AC5B-4FF5-B29B-B1AFEBC8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E69F-CA2E-46E9-B605-01EBE6A8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A5DB-A1FF-4D0C-9A6E-5BC6C51D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318-06C7-4920-BE6E-5AD3ACBB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0B2D-1292-4E27-8474-98611E7F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C46A-6F5D-48A5-AB8D-57D426CF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76A5-22EA-4C4D-B860-4ECC0E6E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9DB0-6CAE-4031-B9BE-8008BF80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B9F3-4A28-4226-AA60-3B6D4CB7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DCE55-5C5E-485D-9E5C-FD2B6DDE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A3A74-AA5D-475D-9420-5C5CE1A3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59426-366B-4587-9C21-E7997E1D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9CDE0-D13B-4AB4-9665-BA7F9DAA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A89B3-816E-49F9-BA10-386F3E19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0F4D-5FAB-4591-A8A8-B05D4478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C80D8-3F04-40BF-A47F-13FBBAF2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AFAA6-510C-41F2-B888-98BDE080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2272C-60EF-4F86-9DA9-2E48313A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B6D3D-EF50-4B89-BCC3-F06649E4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DFC3F-19E8-4752-AF60-2E3389D8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ED2DD-FD7B-49C1-B819-7481513D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1D822-14A0-40FF-953A-43257214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3E257-30CD-48FC-9B36-D8100A79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C2782-C2DB-460B-BF64-784F2489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BC3C8-890D-454A-A9B5-F9848258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A354-FCB0-45AB-8248-33A59054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E191A-B419-47A8-8549-B67EA473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00AF6-D91C-429D-944C-928BCA52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91DB5-94E7-44FA-BAC7-E4C900CC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437CD-EA24-455D-A28E-86ED2FE3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28A0E-870E-476C-872E-8C2DEED5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EE094-1C55-49BE-9515-C86C83C6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AC428-D12E-4ECB-AABF-38478DE4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A3ADA-6361-4D95-86BF-F57725F3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68916-0371-4579-9106-28CFC815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86744-144B-4518-BC94-6E02BE82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0E32-179E-4EC2-8BE6-A7B4060A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2ED10-9E77-44A0-8A66-E8D7B62A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AB013-7574-4F43-8CAE-74547065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90870-E7D5-4B73-B506-F5AA7CF0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537CB-4AAB-4637-9AFF-E6BF909E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EA446-602F-4FDE-AE49-6209781E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33AAA-2C06-477F-8405-97925469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24B44-7A3C-4952-B6A1-EE8CA31F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916FB-370F-43E6-8DBB-82CB57C1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6A955-ABE2-4B53-8653-A69D9FA3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E6209-959B-449F-9E99-5AF6CC3B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88BB-F2AC-4189-B9C1-EDE90449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061B1-443E-4792-A0CC-A9268E61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09619-DAF9-4305-A9F9-BB509B08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6005F-7C78-41F4-A74B-91663D49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CC56E-FAAF-4B14-8E39-2CB62B65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C20F8-F0C9-4FB2-90D4-CAB4D4A3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D0141-DCFE-46B9-98C5-91C7A54C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5E124-FD87-4603-9A19-790848CE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757BD-1B90-4278-BEFE-E1A1A9EE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40B74-7DAA-45CE-9B6D-9316945F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A1760-EADA-44BE-9C88-F07EC772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72C1-4C67-4832-8C6F-7C266407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81A24-8FF5-4B32-84C0-6D23E81F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59DBF-6675-4BDA-9FE8-108A1987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7A866-7C90-4874-996C-8B249EFD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CB0BE-DA53-4BAC-BCA6-E299B047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6AE9A-075E-4D93-B3EF-42C6DC31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8E459-7145-4D8D-9F3E-0A041C1F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CD36A-873E-4752-B5BC-3E1724F3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73C8C-5049-42B9-A662-0D7E956A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5715B-4591-4977-89A2-B215B685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35147-2D66-4F42-8C67-E15821B1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810-DF80-4863-AA92-D5862AA0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E30C2-2859-4776-9EFD-B7A59614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0F51E-C179-44E4-AF9B-FD8D18DA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C061C-F9C9-4FF5-89A3-AFBAE0D4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E9935-E9F6-48E6-AC5C-BE9C68DA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F8E4F-FDBA-48CF-82A3-2780788A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E36FE-4DA3-4830-B2CE-F88625F5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AF75B-2830-4B94-88C0-A8FE5463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8A2DD-D819-426B-888D-5600522F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5CBD5-D5FF-4FED-9185-79A53A0D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EC1C2-A2A9-45AD-A8F2-EFBD6969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3C7F-AE0C-42BA-9A0E-C924EBE0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F6120-65F8-4EB0-9F39-566F1123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4AE6E-9D13-49A7-9513-390C6614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8CD2D-8CC2-466C-B7D4-4D0867C8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4F493-F4FC-41A4-B960-5E2449E9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8F1B9-D948-4C8D-8E7B-404BEE99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5C3A0-98A4-4ABB-9B41-3FC31264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20C20-0155-465C-8E8A-3B8D9E37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3D814-4D54-41E8-9E9D-3FA10200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60CBA-1391-4FDA-9648-05A31322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83717-6C39-40D4-BD91-65DEE07B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B452-AB5E-43A5-9E48-17AB650820A3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8921-3F5E-4EC9-9B29-EF5FCD041BB6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3BCF-8158-4B2E-8C71-547BD6604FDA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7757-5650-4568-AB88-2005D362BC6E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0782-FC17-4949-9751-3A5CBF990E1E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2501-6D09-42A5-86E2-0E1492C46AD7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724B-9744-40CC-822B-7BB5377AF305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547A-1102-4027-8F61-ED0802D06F03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71C1-55C5-4E34-B683-2F5EF067F614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94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pic>
        <p:nvPicPr>
          <p:cNvPr id="413" name="Picture 7" descr="D:\РАБОТА\5 класс\Учебник Майкова\Материалы к 1 уроку Майков\разрушенный хра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6" descr="D:\РАБОТА\5 класс\Учебник Майкова\Материалы к 1 уроку Майков\наскальные рисунки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5" descr="D:\РАБОТА\5 класс\Учебник Майкова\Материалы к 1 уроку Майков\летопис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D:\РАБОТА\5 класс\Учебник Майкова\Материалы к 1 уроку Майков\древние монеты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1640" y="1676160"/>
            <a:ext cx="4267080" cy="37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4f61"/>
                </a:solidFill>
                <a:latin typeface="Franklin Gothic Book"/>
              </a:rPr>
              <a:t>Домашнее задание: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f61"/>
                </a:solidFill>
                <a:latin typeface="Franklin Gothic Book"/>
              </a:rPr>
              <a:t>Параграф 2 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f61"/>
                </a:solidFill>
                <a:latin typeface="Franklin Gothic Book"/>
              </a:rPr>
              <a:t>выучить термины и таблицу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18" name="Рисунок 3" descr="teacher_left.gif"/>
          <p:cNvPicPr/>
          <p:nvPr/>
        </p:nvPicPr>
        <p:blipFill>
          <a:blip r:embed="rId1"/>
          <a:stretch/>
        </p:blipFill>
        <p:spPr>
          <a:xfrm>
            <a:off x="1219320" y="1476360"/>
            <a:ext cx="3152520" cy="5381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444f61"/>
                </a:solidFill>
                <a:uFillTx/>
                <a:latin typeface="Franklin Gothic Book"/>
              </a:rPr>
              <a:t>Исторические источники</a:t>
            </a:r>
            <a:r>
              <a:rPr b="1" i="1" lang="ru-RU" sz="4400" spc="-1" strike="noStrike">
                <a:solidFill>
                  <a:srgbClr val="444f61"/>
                </a:solidFill>
                <a:latin typeface="Franklin Gothic Book"/>
              </a:rPr>
              <a:t> – всё, что когда-то было создано людьми.</a:t>
            </a:r>
            <a:endParaRPr b="0" lang="en-US" sz="44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01" name="Picture 6" descr="ag00029_"/>
          <p:cNvPicPr/>
          <p:nvPr/>
        </p:nvPicPr>
        <p:blipFill>
          <a:blip r:embed="rId1"/>
          <a:stretch/>
        </p:blipFill>
        <p:spPr>
          <a:xfrm>
            <a:off x="4952880" y="3962520"/>
            <a:ext cx="2960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Схема 2" descr=""/>
          <p:cNvPicPr/>
          <p:nvPr/>
        </p:nvPicPr>
        <p:blipFill>
          <a:blip r:embed="rId1"/>
          <a:stretch/>
        </p:blipFill>
        <p:spPr>
          <a:xfrm>
            <a:off x="133200" y="146160"/>
            <a:ext cx="899820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80520" y="21337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444f61"/>
                </a:solidFill>
                <a:uFillTx/>
                <a:latin typeface="Franklin Gothic Book"/>
              </a:rPr>
              <a:t>Архивы</a:t>
            </a:r>
            <a:r>
              <a:rPr b="1" i="1" lang="ru-RU" sz="4400" spc="-1" strike="noStrike">
                <a:solidFill>
                  <a:srgbClr val="444f61"/>
                </a:solidFill>
                <a:latin typeface="Franklin Gothic Book"/>
              </a:rPr>
              <a:t> – места, где хранятся старинные документы.</a:t>
            </a:r>
            <a:endParaRPr b="0" lang="en-US" sz="44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444f61"/>
                </a:solidFill>
                <a:uFillTx/>
                <a:latin typeface="Franklin Gothic Book"/>
              </a:rPr>
              <a:t>Музеи</a:t>
            </a:r>
            <a:r>
              <a:rPr b="1" i="1" lang="ru-RU" sz="4400" spc="-1" strike="noStrike">
                <a:solidFill>
                  <a:srgbClr val="444f61"/>
                </a:solidFill>
                <a:latin typeface="Franklin Gothic Book"/>
              </a:rPr>
              <a:t> – места, где хранятся вещественные источники.</a:t>
            </a:r>
            <a:endParaRPr b="0" lang="en-US" sz="44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04" name="Picture 6" descr="ag00029_"/>
          <p:cNvPicPr/>
          <p:nvPr/>
        </p:nvPicPr>
        <p:blipFill>
          <a:blip r:embed="rId1"/>
          <a:stretch/>
        </p:blipFill>
        <p:spPr>
          <a:xfrm>
            <a:off x="5867280" y="380880"/>
            <a:ext cx="2960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380520" y="533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4f61"/>
                </a:solidFill>
                <a:latin typeface="Franklin Gothic Book"/>
              </a:rPr>
              <a:t>Вопросы: 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901"/>
              </a:spcBef>
              <a:buClr>
                <a:srgbClr val="7fd13b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f61"/>
                </a:solidFill>
                <a:latin typeface="Franklin Gothic Book"/>
              </a:rPr>
              <a:t>Какие современные документы вы знаете? 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901"/>
              </a:spcBef>
              <a:buClr>
                <a:srgbClr val="7fd13b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f61"/>
                </a:solidFill>
                <a:latin typeface="Franklin Gothic Book"/>
              </a:rPr>
              <a:t>Какие вещественные источники могут храниться в музеях?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901"/>
              </a:spcBef>
              <a:buClr>
                <a:srgbClr val="7fd13b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f61"/>
                </a:solidFill>
                <a:latin typeface="Franklin Gothic Book"/>
              </a:rPr>
              <a:t>Что такое библиотека?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444f61"/>
                </a:solidFill>
                <a:uFillTx/>
                <a:latin typeface="Franklin Gothic Book"/>
              </a:rPr>
              <a:t>Библиотека</a:t>
            </a:r>
            <a:r>
              <a:rPr b="1" i="1" lang="ru-RU" sz="4000" spc="-1" strike="noStrike">
                <a:solidFill>
                  <a:srgbClr val="444f61"/>
                </a:solidFill>
                <a:latin typeface="Franklin Gothic Book"/>
              </a:rPr>
              <a:t> – учреждение, собирающее и хранящее книги для общественного пользования.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07" name="Picture 6" descr="ag00029_"/>
          <p:cNvPicPr/>
          <p:nvPr/>
        </p:nvPicPr>
        <p:blipFill>
          <a:blip r:embed="rId1"/>
          <a:stretch/>
        </p:blipFill>
        <p:spPr>
          <a:xfrm>
            <a:off x="5029200" y="3809880"/>
            <a:ext cx="2960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380520" y="6858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4f61"/>
                </a:solidFill>
                <a:latin typeface="Franklin Gothic Book"/>
              </a:rPr>
              <a:t>Вопросы: 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901"/>
              </a:spcBef>
              <a:buClr>
                <a:srgbClr val="7fd13b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f61"/>
                </a:solidFill>
                <a:latin typeface="Franklin Gothic Book"/>
              </a:rPr>
              <a:t>С какой целью создаются музеи, архивы, библиотеки? 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901"/>
              </a:spcBef>
              <a:buClr>
                <a:srgbClr val="7fd13b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f61"/>
                </a:solidFill>
                <a:latin typeface="Franklin Gothic Book"/>
              </a:rPr>
              <a:t>Какую помощь они оказывают историкам в изучении прошлого?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380520" y="533520"/>
            <a:ext cx="8458200" cy="35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4f61"/>
                </a:solidFill>
                <a:latin typeface="Franklin Gothic Book"/>
              </a:rPr>
              <a:t>Задание: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f61"/>
                </a:solidFill>
                <a:latin typeface="Franklin Gothic Book"/>
              </a:rPr>
              <a:t>Определите исторический источник и его вид.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10" name="Picture 4" descr="ag00317_"/>
          <p:cNvPicPr/>
          <p:nvPr/>
        </p:nvPicPr>
        <p:blipFill>
          <a:blip r:embed="rId1"/>
          <a:stretch/>
        </p:blipFill>
        <p:spPr>
          <a:xfrm>
            <a:off x="4038480" y="4419720"/>
            <a:ext cx="1246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3" descr="D:\РАБОТА\5 класс\Учебник Майкова\Материалы к 1 уроку Майков\динозав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fl</cp:lastModifiedBy>
  <dcterms:modified xsi:type="dcterms:W3CDTF">2016-09-04T15:12:26Z</dcterms:modified>
  <cp:revision>19</cp:revision>
  <dc:subject/>
  <dc:title>Введение в историю.  Урок №1:  «Что изучает история»</dc:title>
</cp:coreProperties>
</file>