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gif" ContentType="image/gif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E4F-FE1C-40A7-A4B0-98866D6E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7B8-0739-4B4B-840B-ACF4D76D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66AE5-8BE1-4A4A-A794-0DD071EE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5917A-EDA8-461C-9FD9-E6D98635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71DF5-3CB7-471E-A411-4570CA8B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1BE04-C303-4CF5-89AE-337F2613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C7383-3D3F-49A6-8330-2136907D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00857-A76C-4B0C-9EBA-DA73E112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6C351-07F8-4ADE-AD26-3367A019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07C73-C3DA-4333-8CC6-3CADD352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E875A-D63E-4307-9EC1-13105D1C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461-9388-4B39-918D-B7A7B3EC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575-03C0-45D9-9118-E40AF4F8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594C-EB56-4598-A535-B592AF54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8BBF-19CB-4FAE-A3E0-CD24014B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AA9C-B00D-43DF-834F-106D0262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3CFB-1537-4BBD-B112-EF16E1A4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4EF2-8D80-4D79-9936-57D6E7BB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4C78-B374-48C0-BC51-59409FAF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76A3-B87A-41DD-AAA6-0AFAC8B5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C5B-C843-4CE5-A685-2B4E6C81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0937-8A2B-4EEA-BC08-D6A5587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3176-D54F-4608-A2BC-D8BB3EE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1126-C9F9-4286-9A27-98DDE652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7C57-D925-4C1B-9820-74EC7E1D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9FD0-B012-4534-BEEA-1EF84703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30F52-5077-4685-AAE1-99576D52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B800-B21A-4CEE-B525-678A7AD8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21620-DD93-4C5A-AD00-7E4BB3E2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C5ADA-BB57-43B5-93BC-87D24546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4B86-6C49-4442-9360-99EB3482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A3C-29AC-40F4-9300-9EB83EF8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ED87-EE30-472F-831C-5C4A1573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384ED-F72B-4E29-99B1-1AC74485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44CD-B61C-4AD0-AD81-6BD5B11D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6601-0D01-4688-A971-82B17D14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ACDE6-00A8-493C-9A3F-94BD9DD1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4042-713E-4474-8122-3CD16586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3A6D8-F8A2-405C-85DA-85A2EB74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8569-CCE1-48E9-B860-F192FB78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FB6BF-A6EB-4634-826A-66ACC67D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B1A5-4C0D-4D02-834C-4D622DCB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BEB-3097-42DE-927F-CD28EEF2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EC018-2B47-4539-8E1F-5EE7B29B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66FC9-AF65-43D2-8F17-CF82F72D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86BD-B7F3-405A-80E8-2EB6AC94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0B370-4B74-433F-B798-925C297B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5328-D454-4F16-B08B-F2E8404A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6ABB3-31A7-4850-9706-812A48D1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0B405-250E-44D1-B6FF-EC56C998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BAD6B-FAEF-4656-95E6-B334AB0B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B310-773E-41A4-A0B3-70E7A86C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EBAB1-6D07-426D-9651-51A2F73D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499-0C4D-493B-AF2B-212B5760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91688-E9F4-4D0E-BCC7-7A85208A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772C7-FD75-4893-A576-786044F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8B527-6B6D-4262-B58E-F35D9FE8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F212E-DD8F-42FE-8365-6A9BC551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395B2-4A81-4697-ABD9-68662B59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7AE56-7AA1-40B2-96B3-8529C62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B58D5-9DE3-4651-A6CF-4470ED5C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FE746-4CC7-4FDD-9296-6BBE5B7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9DFA3-221D-4766-AA77-10C161D8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F8282-655F-4780-8135-3FC7849E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57E-80A3-48A7-8188-E2D8E522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3464D-0103-413E-9B7B-B29BA526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E4B1A-777F-4C27-9321-C7A54C94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74F4F-1378-4100-B24F-16A81EFC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9B782-D066-4BD7-AE4E-AE937C67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C4F6D-BA35-41EB-AC34-11F4C663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13DB3-7192-4A3D-A46A-DF13FFC5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DC627-A549-4D99-875D-DCD9545A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17AB3-B040-4861-93A1-1BA1A374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F18D2-3175-4E21-A8FB-E0A4C645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0CF88-A9BB-4018-8FA1-6D678827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873-00D5-4837-8593-6377F5E9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9C24D-7A47-4B30-95B1-92ABF512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9624F-3278-4695-BBAB-075AA207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F1D11-68A0-44CE-995C-5853734B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A908A-81C9-4FD1-8F0E-81487E2E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5F4FD-B9AF-4AA0-8A78-262F6417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1B71C-6B2D-4176-872E-D71C1DF3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62325-A854-4D70-9FAB-B448473E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1EFF4-52E8-4D73-9D46-6A0F107D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ADD37-CDD0-4510-BEB9-8BEED43F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6DAF4-EC74-4DA3-AC07-A825C587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F42-39DD-40A8-920E-F6504A0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1ECD8-C46A-49AC-B59F-0D2EC39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D0664-B2E1-4861-A4AA-7688F03B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5E33B-C136-4870-8C7E-33B91001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D154D-F538-4F40-A167-78BE0C16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1A98B-5B7B-472A-AF95-F37FD324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85B77-2686-4B6B-A7A4-93CBEC00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24118-19E4-4A85-BCB6-AB9F7297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307A2-960D-4AA4-B7A6-DC3F3C9A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DC373-B335-4602-8DFE-844A53B9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F6342-1EBC-4DE7-ADFF-5891D827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BF8-5AB5-4961-A177-91AAF4AC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9E72E-3D6A-4BD5-BD30-EBEDA2F2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3C72C-28BF-47F6-85E9-ABED5321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227DD-4960-4E32-B9EC-D930F367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E0A6E-8A1B-42E6-B5FD-C47C883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3782A-913E-41CB-8CD5-809DF016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923EB-C822-48C7-9091-39C15627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744FD-8400-4916-8C3C-D02D3AA8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60012-58E0-43CA-B1F6-868A4911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8FF3F-F06A-47A0-9470-91BFA4B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A93FD-0B3B-42F2-9CD7-3F6F9817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1596-C721-48CF-B05A-492679F321BD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60B2-9FA2-46D3-8AD1-C1BBD9077745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7120-440A-4E38-9840-E6ED2D36C0A9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3706-BF1D-4758-B5DA-C38CB931F9AE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99A7-368C-4794-ADCF-4F756FDCFFF8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F435-9959-4786-B5DB-4E60340B5225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D8F0-6695-48ED-BE3C-C52E4BB75ECE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2A73-E900-49AC-9DE4-7C81BFABFEA4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690B-9D4E-408E-89F8-D226C343596D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9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pic>
        <p:nvPicPr>
          <p:cNvPr id="413" name="Picture 7" descr="D:\РАБОТА\5 класс\Учебник Майкова\Материалы к 1 уроку Майков\разрушенный хра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6" descr="D:\РАБОТА\5 класс\Учебник Майкова\Материалы к 1 уроку Майков\наскальные рисунки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D:\РАБОТА\5 класс\Учебник Майкова\Материалы к 1 уроку Майков\летопис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D:\РАБОТА\5 класс\Учебник Майкова\Материалы к 1 уроку Майков\древние монеты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26708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f61"/>
                </a:solidFill>
                <a:latin typeface="Franklin Gothic Book"/>
              </a:rPr>
              <a:t>Домашнее задание: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Параграф 2 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выучить термины и таблицу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18" name="Рисунок 3" descr="teacher_left.gif"/>
          <p:cNvPicPr/>
          <p:nvPr/>
        </p:nvPicPr>
        <p:blipFill>
          <a:blip r:embed="rId1"/>
          <a:stretch/>
        </p:blipFill>
        <p:spPr>
          <a:xfrm>
            <a:off x="1219320" y="1476360"/>
            <a:ext cx="3152520" cy="5381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6091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444f61"/>
                </a:solidFill>
                <a:uFillTx/>
                <a:latin typeface="Franklin Gothic Book"/>
              </a:rPr>
              <a:t>Исторические источники</a:t>
            </a:r>
            <a:r>
              <a:rPr b="1" i="1" lang="ru-RU" sz="4400" spc="-1" strike="noStrike">
                <a:solidFill>
                  <a:srgbClr val="444f61"/>
                </a:solidFill>
                <a:latin typeface="Franklin Gothic Book"/>
              </a:rPr>
              <a:t> – всё, что когда-то было создано людьми.</a:t>
            </a: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01" name="Picture 6" descr="ag00029_"/>
          <p:cNvPicPr/>
          <p:nvPr/>
        </p:nvPicPr>
        <p:blipFill>
          <a:blip r:embed="rId1"/>
          <a:stretch/>
        </p:blipFill>
        <p:spPr>
          <a:xfrm>
            <a:off x="4952880" y="3962520"/>
            <a:ext cx="2960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хема 2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89982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80520" y="21337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444f61"/>
                </a:solidFill>
                <a:uFillTx/>
                <a:latin typeface="Franklin Gothic Book"/>
              </a:rPr>
              <a:t>Архивы</a:t>
            </a:r>
            <a:r>
              <a:rPr b="1" i="1" lang="ru-RU" sz="4400" spc="-1" strike="noStrike">
                <a:solidFill>
                  <a:srgbClr val="444f61"/>
                </a:solidFill>
                <a:latin typeface="Franklin Gothic Book"/>
              </a:rPr>
              <a:t> – места, где хранятся старинные документы.</a:t>
            </a: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444f61"/>
                </a:solidFill>
                <a:uFillTx/>
                <a:latin typeface="Franklin Gothic Book"/>
              </a:rPr>
              <a:t>Музеи</a:t>
            </a:r>
            <a:r>
              <a:rPr b="1" i="1" lang="ru-RU" sz="4400" spc="-1" strike="noStrike">
                <a:solidFill>
                  <a:srgbClr val="444f61"/>
                </a:solidFill>
                <a:latin typeface="Franklin Gothic Book"/>
              </a:rPr>
              <a:t> – места, где хранятся вещественные источники.</a:t>
            </a:r>
            <a:endParaRPr b="0" lang="en-US" sz="44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04" name="Picture 6" descr="ag00029_"/>
          <p:cNvPicPr/>
          <p:nvPr/>
        </p:nvPicPr>
        <p:blipFill>
          <a:blip r:embed="rId1"/>
          <a:stretch/>
        </p:blipFill>
        <p:spPr>
          <a:xfrm>
            <a:off x="5867280" y="380880"/>
            <a:ext cx="2960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f61"/>
                </a:solidFill>
                <a:latin typeface="Franklin Gothic Book"/>
              </a:rPr>
              <a:t>Вопросы: 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Какие современные документы вы знаете? 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Какие вещественные источники могут храниться в музеях?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Что такое библиотека?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444f61"/>
                </a:solidFill>
                <a:uFillTx/>
                <a:latin typeface="Franklin Gothic Book"/>
              </a:rPr>
              <a:t>Библиотека</a:t>
            </a:r>
            <a:r>
              <a:rPr b="1" i="1" lang="ru-RU" sz="4000" spc="-1" strike="noStrike">
                <a:solidFill>
                  <a:srgbClr val="444f61"/>
                </a:solidFill>
                <a:latin typeface="Franklin Gothic Book"/>
              </a:rPr>
              <a:t> – учреждение, собирающее и хранящее книги для общественного пользования.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07" name="Picture 6" descr="ag00029_"/>
          <p:cNvPicPr/>
          <p:nvPr/>
        </p:nvPicPr>
        <p:blipFill>
          <a:blip r:embed="rId1"/>
          <a:stretch/>
        </p:blipFill>
        <p:spPr>
          <a:xfrm>
            <a:off x="5029200" y="3809880"/>
            <a:ext cx="2960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80520" y="685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f61"/>
                </a:solidFill>
                <a:latin typeface="Franklin Gothic Book"/>
              </a:rPr>
              <a:t>Вопросы: 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С какой целью создаются музеи, архивы, библиотеки? 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buClr>
                <a:srgbClr val="7fd13b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f61"/>
                </a:solidFill>
                <a:latin typeface="Franklin Gothic Book"/>
              </a:rPr>
              <a:t>Какую помощь они оказывают историкам в изучении прошлого?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f61"/>
                </a:solidFill>
                <a:latin typeface="Franklin Gothic Book"/>
              </a:rPr>
              <a:t>Задание: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f61"/>
                </a:solidFill>
                <a:latin typeface="Franklin Gothic Book"/>
              </a:rPr>
              <a:t>Определите исторический источник и его вид.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410" name="Picture 4" descr="ag00317_"/>
          <p:cNvPicPr/>
          <p:nvPr/>
        </p:nvPicPr>
        <p:blipFill>
          <a:blip r:embed="rId1"/>
          <a:stretch/>
        </p:blipFill>
        <p:spPr>
          <a:xfrm>
            <a:off x="4038480" y="4419720"/>
            <a:ext cx="124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D:\РАБОТА\5 класс\Учебник Майкова\Материалы к 1 уроку Майков\динозав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fl</cp:lastModifiedBy>
  <dcterms:modified xsi:type="dcterms:W3CDTF">2016-09-04T15:12:26Z</dcterms:modified>
  <cp:revision>19</cp:revision>
  <dc:subject/>
  <dc:title>Введение в историю.  Урок №1:  «Что изучает история»</dc:title>
</cp:coreProperties>
</file>