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AC9A-E394-4458-9F2E-E8F9EDEBCBE8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147-A9B7-4239-AEAD-D7FE77235088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9FEA-8DDA-47E0-9C8C-5524234FB17A}" type="slidenum">
              <a:rPr b="0" lang="ru-RU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248-B526-4C9B-A471-7A04C2B8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0CF-013E-41C4-98BE-CAA3AF2F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B96-A407-48F7-A02F-BB9E458B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B80-064C-43C7-B7EC-8B5079B9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6DDA-F771-484D-82C4-974173E4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759D-5E8D-4AFC-9964-4A7E4F5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CCB0-D4E9-414A-B60C-6330D830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7207-339A-4520-86DE-3EDA385C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0309-2094-490B-AFC2-F1FD0554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F703-9C86-4982-8017-653CB3A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FB5F-0207-4DA1-8E46-F7E171B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930-8F89-4A06-A3CB-F59993AF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6B9B-F79C-4D15-8762-8CC7DC9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6491-01D0-4F3C-9E98-DE3D24F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D0B-875C-422D-909A-23F6B61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6E1F-0982-4BBA-9F17-9A830434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11A9-2A75-42C8-840D-F50EAEE8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840-115F-4133-9673-06CA35A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599-B95F-4367-8E43-4B3A7E4B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F34-6152-40F9-BAEC-DBDF7C7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9B4-4E0B-45CD-9960-B846FA20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E9D-F525-4667-BACC-0783C0D0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D4B-50E4-4A9C-BB65-9594EF8C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AA5-CD60-40FA-A673-9258729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AE56-27BF-479C-9567-2AE5C11490E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6DDE-56DC-4C0F-856D-D650CDBC24C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тал гладить Яшкину лапу и думаю: совсем как у ребёночка. И пощекотал ему ладошку. А ребёночек-то как дёрнет лапу – и меня по щеке. Я и мигнуть не успел, а он надавал мне оплеух и прыг под стол. Сел и скалится. (Б.Жидков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Имеется ли в тексте действие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и не предполагается или предполагается, но оно не названо. Текст состоит из безглагольных предложений. Это описани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. Выражено глаголами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Какова степень активности этого действия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, завершённое. В тексте ключевые слова – глаголы совершенного вида. Автор, герой, читатель являются соучастниками этого действия.  Это повествова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е, наблюдаемое со стороны. Герой действует, а автор и читатель находятся в «наблюдательном пункте». В тексте ключевые слова глаголы несовершенного вида и прилагательные.  Это описани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вечер не спалось. Бывает же так: как из природы томление находит, как неоконченное что-то, зацепившееся  не даёт ощущения ко сну. Вздыхала, ворочалась Наталья; постанывала, крутилась Вика. То принималась играть с котёнком, то сбрасывала его на пол. За беленькими тонкими занавесками в двух окнах, глядящих на Ангару, мерцал под ранним месяцем ранний вечер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илось со своего сияния электричество – и опять увидели небо, запотягивались, как всякая божья тварка за солнышком. Стали замечать, когда скобочка молодого месяца, когда полная лун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000" y="333360"/>
            <a:ext cx="8434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отстоял на славу – солнечный, яркий, искристо играли тугие снега, берущиеся в наст, звенькало из первых сосулек, загорчил первым подтаем воздух. За Ангарой после заката долго горело растекающееся зарево  и долго томилось, впитываясь внутрь, долго потом уже новым, не зимним. Мягким пологом лежала по белому полю нежная синева. Но ещё до темноты взошло и разгорелось звёздное небо с юным месяцем во главе и пролился на землю капельный, росистый сухой свет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. Не брал сон, ни в какую не брал. Истомившись, бабушка и внучка продолжали переговариваться. (В.Распутин</a:t>
            </a: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2133720"/>
            <a:ext cx="7851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64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ня Маниловка (не)многих могла зан_мать своим (место)положением. Дом господский стоял одиночкой на юру, то есть на возвышении, открытом всем ветрам, каким только вздумается подуть; покатость горы, на которой он стоял, была одета по_стриж_(нн,н)ым дерном. На ней были разброса(н,нн)ы (по)английски две-три клумбы с кустами сиреней и жёлтых акаций; пять-шесть берёз (не)большими купами (кое)где возносили свои  (мелко)листные жиденькие вершины. (Н.Гоголь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Гвидон («Сказка о царе Салтане») явно не русского происхождения. В его звучании угадывается итальянское имя Гвидо. Иноязычное происхождение можно усмотреть и в имени царя Дадона («Сказка о золотом петушке»). Всё прояснится, когда мы обратимся к знаменитому рыцарскому роману о подвигах рыцаря БОВО Д АНТОНА, в котором действуют и «славный король Гвидон», и «король Дадон», ведь именно оттуда, судя по всему, Пушкин взял эти имен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8360" y="404640"/>
          <a:ext cx="8207280" cy="5856480"/>
        </p:xfrm>
        <a:graphic>
          <a:graphicData uri="http://schemas.openxmlformats.org/drawingml/2006/table">
            <a:tbl>
              <a:tblPr/>
              <a:tblGrid>
                <a:gridCol w="1550880"/>
                <a:gridCol w="3405240"/>
                <a:gridCol w="3251160"/>
              </a:tblGrid>
              <a:tr h="91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Тип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сновная задача автора, использующего этот тип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сновные вопросы, характерные для данного типа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230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пис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Указать признаки описываемого предмета, лица, места, состоя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ов предм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 он выгляд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ие признаки для него характерн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154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Повеств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ообщать о последовательности действий или событ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ова последовательность действий (событий)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Что происходило сначала и что происходит пот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216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Рассу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босновать то или иное выдвигаемое положение (тезис), объяснить сущность, причины того или иного явления,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 чём причина данного яв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Что из этого следу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аковы следствия данного яв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Что оно знач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Овал 2"/>
          <p:cNvSpPr/>
          <p:nvPr/>
        </p:nvSpPr>
        <p:spPr>
          <a:xfrm>
            <a:off x="1508040" y="492120"/>
            <a:ext cx="5896080" cy="14349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описания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Стрелка вниз 4"/>
          <p:cNvSpPr/>
          <p:nvPr/>
        </p:nvSpPr>
        <p:spPr>
          <a:xfrm>
            <a:off x="4189320" y="194616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1508040" y="2327400"/>
            <a:ext cx="6120000" cy="977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редставление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211640" y="3338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514520" y="3753000"/>
            <a:ext cx="6119640" cy="971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е признак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Прямоугольник 9">
            <a:hlinkClick r:id="rId1" action="ppaction://hlinksldjump"/>
          </p:cNvPr>
          <p:cNvSpPr/>
          <p:nvPr/>
        </p:nvSpPr>
        <p:spPr>
          <a:xfrm>
            <a:off x="1547640" y="5119560"/>
            <a:ext cx="6100920" cy="973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ая оценка, вывод, заключение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Стрелка вниз 10"/>
          <p:cNvSpPr/>
          <p:nvPr/>
        </p:nvSpPr>
        <p:spPr>
          <a:xfrm>
            <a:off x="4248000" y="472428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ая соединительная линия 9"/>
          <p:cNvSpPr/>
          <p:nvPr/>
        </p:nvSpPr>
        <p:spPr>
          <a:xfrm>
            <a:off x="1403280" y="422100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Прямая соединительная линия 15"/>
          <p:cNvSpPr/>
          <p:nvPr/>
        </p:nvSpPr>
        <p:spPr>
          <a:xfrm flipV="1">
            <a:off x="3564000" y="1844280"/>
            <a:ext cx="172872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Прямая соединительная линия 17"/>
          <p:cNvSpPr/>
          <p:nvPr/>
        </p:nvSpPr>
        <p:spPr>
          <a:xfrm>
            <a:off x="5292720" y="1844640"/>
            <a:ext cx="165564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Блок-схема: узел 23"/>
          <p:cNvSpPr/>
          <p:nvPr/>
        </p:nvSpPr>
        <p:spPr>
          <a:xfrm>
            <a:off x="6794640" y="4005360"/>
            <a:ext cx="215640" cy="215640"/>
          </a:xfrm>
          <a:prstGeom prst="flowChartConnector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Блок-схема: узел 24"/>
          <p:cNvSpPr/>
          <p:nvPr/>
        </p:nvSpPr>
        <p:spPr>
          <a:xfrm>
            <a:off x="5148360" y="1773360"/>
            <a:ext cx="215640" cy="215640"/>
          </a:xfrm>
          <a:prstGeom prst="flowChartConnector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Блок-схема: узел 25"/>
          <p:cNvSpPr/>
          <p:nvPr/>
        </p:nvSpPr>
        <p:spPr>
          <a:xfrm>
            <a:off x="3419640" y="4076640"/>
            <a:ext cx="215640" cy="216000"/>
          </a:xfrm>
          <a:prstGeom prst="flowChartConnector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1042920" y="41306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экспозиция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TextBox 27"/>
          <p:cNvSpPr/>
          <p:nvPr/>
        </p:nvSpPr>
        <p:spPr>
          <a:xfrm rot="18358800">
            <a:off x="3357720" y="249336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азвитие действия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2987640" y="4149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завяз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3995640" y="134136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6012000" y="4103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развяз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Скругленный прямоугольник 2"/>
          <p:cNvGrpSpPr/>
          <p:nvPr/>
        </p:nvGrpSpPr>
        <p:grpSpPr>
          <a:xfrm>
            <a:off x="1859040" y="590400"/>
            <a:ext cx="5211720" cy="1390680"/>
            <a:chOff x="1859040" y="590400"/>
            <a:chExt cx="5211720" cy="1390680"/>
          </a:xfrm>
        </p:grpSpPr>
        <p:pic>
          <p:nvPicPr>
            <p:cNvPr id="11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859040" y="590400"/>
              <a:ext cx="52117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971720" y="684360"/>
              <a:ext cx="49845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зис</a:t>
              </a:r>
              <a:endParaRPr b="0" lang="en-US" sz="4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21" name="Скругленный прямоугольник 4"/>
          <p:cNvGrpSpPr/>
          <p:nvPr/>
        </p:nvGrpSpPr>
        <p:grpSpPr>
          <a:xfrm>
            <a:off x="1932120" y="2389320"/>
            <a:ext cx="5207040" cy="1396800"/>
            <a:chOff x="1932120" y="2389320"/>
            <a:chExt cx="5207040" cy="1396800"/>
          </a:xfrm>
        </p:grpSpPr>
        <p:pic>
          <p:nvPicPr>
            <p:cNvPr id="122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932120" y="2389320"/>
              <a:ext cx="52070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43000" y="2484360"/>
              <a:ext cx="49863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гументы</a:t>
              </a:r>
              <a:endParaRPr b="0" lang="en-US" sz="4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24" name="Скругленный прямоугольник 5"/>
          <p:cNvGrpSpPr/>
          <p:nvPr/>
        </p:nvGrpSpPr>
        <p:grpSpPr>
          <a:xfrm>
            <a:off x="1932120" y="4170240"/>
            <a:ext cx="5207040" cy="1395360"/>
            <a:chOff x="1932120" y="4170240"/>
            <a:chExt cx="5207040" cy="1395360"/>
          </a:xfrm>
        </p:grpSpPr>
        <p:pic>
          <p:nvPicPr>
            <p:cNvPr id="125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932120" y="4170240"/>
              <a:ext cx="5207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043000" y="4265640"/>
              <a:ext cx="49863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</a:t>
              </a:r>
              <a:endParaRPr b="0" lang="en-US" sz="4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27" name="Стрелка вниз 6"/>
          <p:cNvGrpSpPr/>
          <p:nvPr/>
        </p:nvGrpSpPr>
        <p:grpSpPr>
          <a:xfrm>
            <a:off x="3870360" y="1901880"/>
            <a:ext cx="976320" cy="542880"/>
            <a:chOff x="3870360" y="1901880"/>
            <a:chExt cx="976320" cy="542880"/>
          </a:xfrm>
        </p:grpSpPr>
        <p:pic>
          <p:nvPicPr>
            <p:cNvPr id="128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3870360" y="1901880"/>
              <a:ext cx="9763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140360" y="1916280"/>
              <a:ext cx="43164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grpSp>
        <p:nvGrpSpPr>
          <p:cNvPr id="130" name="Стрелка вниз 10"/>
          <p:cNvGrpSpPr/>
          <p:nvPr/>
        </p:nvGrpSpPr>
        <p:grpSpPr>
          <a:xfrm>
            <a:off x="3913200" y="3706920"/>
            <a:ext cx="982800" cy="536400"/>
            <a:chOff x="3913200" y="3706920"/>
            <a:chExt cx="982800" cy="536400"/>
          </a:xfrm>
        </p:grpSpPr>
        <p:pic>
          <p:nvPicPr>
            <p:cNvPr id="13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3913200" y="3706920"/>
              <a:ext cx="982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184640" y="3716280"/>
              <a:ext cx="431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260280"/>
            <a:ext cx="8640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 врач Ален Бомбар решил в одиночку пересечь Атлантический океан без запаса воды и пищи на маленькой надувной лодке, названной в знак вызова судьбе «Еретик». Он питался планктоном и рыбой, которую ловил в море, жажду утолял соком, выжатым из рыб, или очень небольшими дозами морской воды, собирал в пути дождевую воду. За 65  дней плавания А. Бомбар потерял 25 кг веса, у него резко упало содержание гемоглобина в крови. Но он выжил и доказал миру, что, сохраняя присутствие духа, управляя своими эмоциями, можно преодолеть тяжёлый стресс и благодаря уверенности в победе выжить даже в таких экстремальных условиях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Какова коммуникативная целеустановка автора?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дъявить информацию (гипотезу, точку зрения, определение) и аргументировать её; реализуется в трехчастной модели: тезис – аргументы – вывод. Это рассуждени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ссказать о событиях, охарактеризовать явление, констатировать факт. Это повествование или описани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29:27Z</dcterms:created>
  <dc:creator>Elena</dc:creator>
  <dc:description/>
  <dc:language>en-US</dc:language>
  <cp:lastModifiedBy>Людмила Бориченко</cp:lastModifiedBy>
  <dcterms:modified xsi:type="dcterms:W3CDTF">2016-09-05T18:16:40Z</dcterms:modified>
  <cp:revision>20</cp:revision>
  <dc:subject/>
  <dc:title>Обучение определению функционально-смысловых типов речи. Подготовка к ЕГЭ (А-29)</dc:title>
</cp:coreProperties>
</file>