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2E8-1A70-4A56-A35C-5AEA37FE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601-CE38-49BF-8F70-9D2AFF7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5F8-C2CF-4E3E-BC9F-C2128074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730-746C-4243-9C90-47166940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CB8-95DF-4871-98DE-3CBCE055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43F-B57E-4AC1-B90A-02088DF6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2E8-D2BB-41BB-8AEE-F7DC1AC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B83-E0B9-43C8-80FC-9802166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492-4C5E-49BF-BE2B-531263F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4CD-9374-4AA4-88F7-FAF2691C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177-041C-4ADA-A6CF-8420067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9FA-48DB-4C9E-B530-A7D452FD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0A20-4931-4237-B6FB-B0AEC760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33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Роль педагогических умений при обучении игре в 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3809880"/>
            <a:ext cx="4876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иселё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Учитель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ультуры МОУ «СОШ №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руктивные ум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найти правильное решение при проектировании самостоятельной деятельности для эффективного взаимодействия со сверстниками в игровых комбинац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1295280"/>
            <a:ext cx="7467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тические ум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извлекать знания из практических действий, анализировать свой опыт и опыт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криншот 14.10.2012 19:44"/>
          <p:cNvPicPr/>
          <p:nvPr/>
        </p:nvPicPr>
        <p:blipFill>
          <a:blip r:embed="rId2"/>
          <a:stretch/>
        </p:blipFill>
        <p:spPr>
          <a:xfrm>
            <a:off x="2057400" y="457200"/>
            <a:ext cx="4952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гностические умения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о умения предвидеть результат двигательной деятельности, распределять время на выполнение технического приёма, находить для каждой игровой ситуации нов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криншот 14.10.2012 19:50"/>
          <p:cNvPicPr/>
          <p:nvPr/>
        </p:nvPicPr>
        <p:blipFill>
          <a:blip r:embed="rId2"/>
          <a:stretch/>
        </p:blipFill>
        <p:spPr>
          <a:xfrm>
            <a:off x="2209680" y="0"/>
            <a:ext cx="465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533520" y="380880"/>
            <a:ext cx="8229600" cy="5749920"/>
          </a:xfrm>
          <a:prstGeom prst="roundRect">
            <a:avLst>
              <a:gd name="adj" fmla="val 41315"/>
            </a:avLst>
          </a:prstGeom>
          <a:solidFill>
            <a:srgbClr val="f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тие педагогических умений у обучающихся младшего школьного возраста при обучении игре в баскетбол способствует сознательному отношению к выполняемым двигательным действиям, даёт им возможность упражняться, активно применять полученные знания  в игровой деятельности, быть в роли учителя, иметь возможность для самостоятельной работы, и самое главное – полученные педагогические умения повышают качество освоения техники и тактики игры в баскетбо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304920" y="304920"/>
            <a:ext cx="8229600" cy="5749920"/>
          </a:xfrm>
          <a:prstGeom prst="roundRect">
            <a:avLst>
              <a:gd name="adj" fmla="val 41315"/>
            </a:avLst>
          </a:prstGeom>
          <a:solidFill>
            <a:srgbClr val="f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гра Баскетбол – это эффективный метод формирования разносторонне подготовленной личности ребёнка, дающая значительный образовательный и воспитательный эфф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едагогические умения - это совокупность педагогических действий, направленных на решение задач развития гармоничной личности, основанных на теоретических зна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формирования педагогических ум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нализировать возможности развития и становления педагогических умений у детей в процессе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авильно распределить развиваемые педагогические ум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основать характеристику целостного процесса развития и становления педагогических умений в ходе обучения и сам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е умения реализу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нцип сознательности и активност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ктивизируют деятельность обучающихся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пособствуют реализации само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1982160" y="60948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Black"/>
              </a:rPr>
              <a:t>Педагогические у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1523520" y="12952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371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371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1371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13716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808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Гно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496160" y="327672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123720" y="396252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онстр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638240" y="472428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Анали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034680" y="586728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Прогно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остические умения</a:t>
            </a:r>
            <a:r>
              <a:rPr b="0" lang="en-T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мение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шибки сверстников в выпол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ехники ведения мяча, в при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гровых комбинаций</a:t>
            </a:r>
            <a:r>
              <a:rPr b="0" lang="en-TT" sz="32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умение извле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ые знания 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2866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533520"/>
            <a:ext cx="7848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ые ум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T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умения устанавливать целесообразные взаимоотношения с учащимися, малыми группами, находить контакт, общий язык и правильный тон в различных обстоятельствах</a:t>
            </a:r>
            <a:r>
              <a:rPr b="0" lang="en-TT" sz="2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мения располагать к себе сверстников, устанавливать доброжелательные, доверительные взаимоотношения</a:t>
            </a:r>
            <a:r>
              <a:rPr b="0" lang="en-TT" sz="28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мения вырабатывать единое мнение о правильном выборе действия,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0-15T16:04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