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8243-4F66-47E5-8CAE-FAE12086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CD4C-C2F5-4F78-89A0-9917B227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35B4-EA20-4241-93FD-39260932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C49C-B7E8-4C7C-9DA7-02F5DB38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171-C0B2-4560-8F31-4C6A69E9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2133-62FB-4373-9126-9D7AE77A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4790-FE22-49EF-8ADE-312FFD7C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B4B-D95D-4384-B7BE-33FB46AA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92A3-9573-4940-BAD1-F2A253F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D26D-D458-4121-966C-B1FDA5EF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4F10-DD68-489C-8DB9-4E6DFF8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53BB-AE7F-4C8C-A1A6-3D76C76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1AC-E2CC-4537-94E8-FCA26FC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4FAB-2B98-47F3-AE63-6AAD210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DB32-92BF-44DE-9B3D-CCEB745B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D401-69EB-4DC8-9C3A-25E37EF3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D23-C075-485D-A330-764F87C6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852B-760C-4158-A7D2-C5C6C86D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216E-C74F-48E1-90CA-811CA64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1273-E1EA-4570-AA77-E7EE9E8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9A20-94CA-48BE-8A60-26FC5A6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751E-669B-4858-8A62-ED289BF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3097-7D8E-48F2-9369-AB3186AC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2725-97F1-4025-95CA-8E4A29E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71BF-2554-4721-B66B-E3492FFD5F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4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D7C6-6380-4896-9A1E-8B52CC0946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ЮБИЛЕЙНЫЙ ЕГЭ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ПО МАТЕМАТИКЕ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«ВПЕРЕД! 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ТОЛЬКО ВПЕРЕД!»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5003280" y="5105520"/>
            <a:ext cx="4140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гол больше 90, но меньше 180, называют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уп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м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стр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Глуп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ую математическую фигуру украшают бриллиантами?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льц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ва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ая фигура нужна для наказан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го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ом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ую букву все время ищут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. Какие числа использую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и счете предмет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ирод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стестве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туральные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рядков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выкидывает человек, совершая какой- нить странный, смешной поступо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Цифр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ru-RU" sz="4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оме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Монет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ое математическое действие с клетками обеспечивает рост органов живого организма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л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ычит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мн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получается при делении чисел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Лич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щественно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би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нужно брать с героев, а также со всех честных, добрых и порядочных людей?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да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име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ак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да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 заканчивается пословица: «Ясно , как…» ?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важды д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Трижды т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ятью пять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емью сем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кончите русскую пословицу:    « Всякому мила своя ………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торо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Гра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ыс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Ребр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им бывает и дурак, и отличник, и сирота?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вадрат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ругл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Оваль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 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азанск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6:31Z</dcterms:created>
  <dc:creator>Таня</dc:creator>
  <dc:description/>
  <dc:language>en-US</dc:language>
  <cp:lastModifiedBy>user32</cp:lastModifiedBy>
  <dcterms:modified xsi:type="dcterms:W3CDTF">2016-09-05T07:34:23Z</dcterms:modified>
  <cp:revision>13</cp:revision>
  <dc:subject/>
  <dc:title>Викторина «О, счастливчик»</dc:title>
</cp:coreProperties>
</file>