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5CCB5-CF62-42A4-85C7-B89F47D8A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453DA-53DE-4109-B8B4-26973F9B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8BC67-61D2-4753-9EBF-D08A82568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6F3FB-973B-4B6F-9208-4A368D79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A6EF-EF3B-4EBE-83BC-790566CD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74AC-2FC9-4D8F-BEC3-E8CDE6B1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8D11-202F-4B59-81A6-3EEB8EED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2B83-7DBF-4FEB-8510-B7E05E54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C7AE-2D25-4260-A4E0-311A9BA5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08E9-CF6B-4797-A5BC-3AEAA7F9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A6A7-F39D-44E0-9684-4EC63D20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A6849-334F-4B1B-BAD4-C9C11D69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1D79-B051-44D8-98FF-7479D639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F0BC-2FC6-4F09-AFD2-45A8F73D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58AD-2D2C-4DDB-9BE8-B6755FEB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ADE3-C80F-42B4-9879-D856719E0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0D1D-1A6F-4D7A-9A69-188E59B9E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E6420-455A-4850-86BD-A777E6E9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A34CB-8F95-47DC-9099-4862D7D5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A4E45-9D15-47A9-BF57-5001C7D9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9B708-753A-490A-BF52-9B228A7E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89F0D-D552-46E1-99E2-DE9C7ABD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84C4A-7077-4EE9-BE4E-7DAFF277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FFAF2-D35C-4DE5-A29E-F5FA06E9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8952-211D-42EF-8007-6D63244177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3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474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Rectangle 18"/>
            <p:cNvSpPr/>
            <p:nvPr/>
          </p:nvSpPr>
          <p:spPr>
            <a:xfrm flipH="1" flipV="1" rot="18391200">
              <a:off x="852876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A102-07CD-4A5E-BEEF-87DB2A660DE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0" y="2000160"/>
            <a:ext cx="9144000" cy="2895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Arial"/>
              </a:rPr>
              <a:t>ЮБИЛЕЙНЫЙ ЕГЭ </a:t>
            </a:r>
            <a:br>
              <a:rPr sz="7200"/>
            </a:br>
            <a:r>
              <a:rPr b="1" lang="ru-RU" sz="7200" spc="-1" strike="noStrike">
                <a:solidFill>
                  <a:srgbClr val="ffff00"/>
                </a:solidFill>
                <a:latin typeface="Arial"/>
              </a:rPr>
              <a:t>ПО МАТЕМАТИКЕ</a:t>
            </a:r>
            <a:br>
              <a:rPr sz="7200"/>
            </a:br>
            <a:r>
              <a:rPr b="1" lang="ru-RU" sz="7200" spc="-1" strike="noStrike">
                <a:solidFill>
                  <a:srgbClr val="ffff00"/>
                </a:solidFill>
                <a:latin typeface="Arial"/>
              </a:rPr>
              <a:t>«ВПЕРЕД! </a:t>
            </a:r>
            <a:br>
              <a:rPr sz="7200"/>
            </a:br>
            <a:r>
              <a:rPr b="1" lang="ru-RU" sz="7200" spc="-1" strike="noStrike">
                <a:solidFill>
                  <a:srgbClr val="ffff00"/>
                </a:solidFill>
                <a:latin typeface="Arial"/>
              </a:rPr>
              <a:t>ТОЛЬКО ВПЕРЕД!»</a:t>
            </a:r>
            <a:endParaRPr b="0" lang="en-US" sz="7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5003280" y="5105520"/>
            <a:ext cx="4140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Угол больше 90, но меньше 180, называют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Тупо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Умны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Остры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Д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Глупы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Какую математическую фигуру украшают бриллиантами?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Кольц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Круг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Ова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Д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Квадра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Какая фигура нужна для наказания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Круг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Квадра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Уго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Д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Ром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Какую букву все время ищут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.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Ю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Д.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1. Какие числа использую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ри счете предметов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Природны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Естественны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.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Натуральные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Д.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Порядковы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Что выкидывает человек, совершая какой- нить странный, смешной поступок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Цифр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Числ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ru-RU" sz="4800" spc="-1" strike="noStrike">
                <a:solidFill>
                  <a:srgbClr val="ff6699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Номер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Д.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Монет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Какое математическое действие с клетками обеспечивает рост органов живого организма?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Слож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ычита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Дел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Д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Умнож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Что получается при делении чисел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Лично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Частно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.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Общественное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Д.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Обид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Что нужно брать с героев, а также со всех честных, добрых и порядочных людей?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Задач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Приме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Наказ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Д.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Сдач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Как заканчивается пословица: «Ясно , как…» ?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Дважды дв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Трижды тр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Пятью пять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Д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Семью сем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Закончите русскую пословицу:    « Всякому мила своя ………»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Сторон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Гран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ысот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Д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Ребр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Каким бывает и дурак, и отличник, и сирота?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Квадратны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Круглы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Овальны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Д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Казански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7:16:31Z</dcterms:created>
  <dc:creator>Таня</dc:creator>
  <dc:description/>
  <dc:language>en-US</dc:language>
  <cp:lastModifiedBy>user32</cp:lastModifiedBy>
  <dcterms:modified xsi:type="dcterms:W3CDTF">2016-09-05T07:34:23Z</dcterms:modified>
  <cp:revision>13</cp:revision>
  <dc:subject/>
  <dc:title>Викторина «О, счастливчик»</dc:title>
</cp:coreProperties>
</file>