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08B-52C3-49B6-AF44-08431923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B880-878F-4DD4-A075-392A0348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2CC-C4D7-44AD-A065-FD29D718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D497-F423-49B1-816C-8D9759EA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EEA2-B857-4012-888E-D638B498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CA06-E357-41A3-92EA-6D6A0120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D6EE-2E6A-49BF-8A60-8FA69DCC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7B9F-4E9B-47DF-A2A1-4733F4DE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C46A-1715-48A6-A477-0BB63E75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7BD7-4144-4A83-A000-BD5FFCFB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6EF5-B9CA-4B3C-A4CF-1A581FF7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5945-4861-4B06-8DCE-78D52454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F734-4991-4B78-A3D6-BD609343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F8F6-55BF-48BD-9C2E-7365A4F3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5FFF-4CCA-4C42-A6D0-370E20F8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DCC2-2877-4561-9DA8-0C0A90D6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7104-5B41-4485-A301-68D11A51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762F-609E-47EE-B972-20CB0C92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2CE-07EA-4548-B889-D54B0EEE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2EB-D6D8-40C7-9B2D-93CB08F5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ECBB-239B-4CC2-A95C-8B8CD145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6418-FAB4-48B3-AA3C-0AA63077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35C8-1FD3-4236-8C3E-0BA7BF55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0E9-3904-4781-8D99-9DB91CFE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6690-E0AA-4A59-9782-63CD97E1CA4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A167-95D4-4AB9-A699-FE3A8C7BAA1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5920" y="1523520"/>
            <a:ext cx="8474040" cy="32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БЯЗАННОСТИ НЕСОВЕРШЕННОЛЕТНИХ</a:t>
            </a:r>
            <a:endParaRPr b="0" lang="en-US" sz="4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2082960"/>
            <a:ext cx="649944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БЯЗАННОСТИ несовершеннолетних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9000" y="1600200"/>
            <a:ext cx="8042040" cy="460224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Граждане обязаны соблюдать Конституцию Российской Федерации и законы страны (Конституция РФ), в том числе законы и подзаконные акты субъектов РФ, уставы школ, правила внутреннего распорядка и т.д.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Каждый гражданин обязан платить налоги и сборы      (Конституция РФ)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Каждый обязан заботиться о сохранении исторического и культурного наследия, беречь памятники истории и культуры. (Конституция РФ)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Каждый обязан сохранять природу и окружающую среду, бережно относиться к природным богатствам (Конституция РФ)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Каждый несовершеннолетний обязан получить основное общее образование (Закон РФ «Об образовании»)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9000" y="2403360"/>
            <a:ext cx="805644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УГОЛОВНАЯ ОТВЕТСТВЕННОСТЬ несовершеннолетних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9000" y="3735000"/>
            <a:ext cx="8056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9898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УГОЛОВНАЯ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 fontScale="98000"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КАТЕГОРИИ НЕСОВЕРШЕННОЛЕТНИХ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Несовершеннолетние  до 14 лет  - не достигшие возраста уголовной ответственности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Несовершеннолетние с 14 лет – уголовная ответственность за некоторые виды преступлений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Несовершеннолетние с 16 лет  - полная уголовная ответственность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Лицо признается достигшим определенного возраста на следующие за днем рождения сутки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УГОЛОВНАЯ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49000" y="1599840"/>
            <a:ext cx="8042040" cy="47862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 fontScale="93000"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Уголовная ответственность с 14 лет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убийство (ст.105),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умышленное причинение тяжкого вреда здоровью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(ст.111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умышленное причинение средней тяжести вреда здоровью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(ст.112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похищение человека (ст.126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изнасилование (ст.131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насильственные действия сексуального характера (ст.132),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кража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(ст.158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грабеж (ст.161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УГОЛОВНАЯ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9000" y="1600200"/>
            <a:ext cx="8042040" cy="48420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Уголовная ответственность с 14 лет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разбой (ст.162),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вымогательство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(ст.163),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неправомерное завладение автомобилем или иным транспортным средством без цели хищения (ст.166),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умышленное уничтожение или повреждение имущества при отягчающих обстоятельствах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(ст.167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террористический акт (ст.205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захват заложника (ст.206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заведомо ложное сообщение о террористическом акте      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(ст.207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УГОЛОВНАЯ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Уголовная ответственность с 14 лет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хулиганство при отягчающих обстоятельствах (ст.213),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вандализм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(ст.214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хищение либо вымогательство оружия, боеприпасов, взрывчатых веществ, взрывных устройств (ст.226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хищение либо вымогательство наркотических средств или психотропных веществ (ст.229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приведение в негодность транспортных средств или путей сообщения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(ст.267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УГОЛОВНАЯ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49000" y="1599840"/>
            <a:ext cx="8042040" cy="482292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ВИДЫ НАКАЗАНИЙ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Штраф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(как при наличий самостоятельного заработка, так и при его отсутствии) – до 50 тыс.руб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Лишение права заниматься определенной деятельностью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– до 5 лет основного наказания и до 3 лет дополнительного (Например -  права управления мопедом в результате неоднократного нарушения ПДД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Обязательные работы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– бесплатные общественно полезные работы до 160 часов в свободное от учебы или основной работы время (Например – благоустройство городов и поселков, уход за больными, очистка улиц, погрузочно-разгрузочные работы и т.д.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УГОЛОВНАЯ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49000" y="1599840"/>
            <a:ext cx="8042040" cy="482292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ВИДЫ НАКАЗАНИЙ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Исправительные работы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– до 1 года, из заработка осужденного производятся удержания в пользу государства до 20% заработка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Ограничение свободы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– от 2-х месяцев до 2-х лет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Лишение свободы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– от 2-х месяцев до 10 лет. Вид наказания отбывается в  воспитательно-трудовой колонии, при достижении 18-летнего возраста, при положительных характеристиках, осужденный может быть оставлен там до 20 лет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УГОЛОВНАЯ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49000" y="1599840"/>
            <a:ext cx="8042040" cy="439884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ОСВОБОЖДЕНИЕ ОТ УГОЛОВНОЙ ОТВЕТСТВЕННОСТИ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В связи с </a:t>
            </a:r>
            <a:r>
              <a:rPr b="0" lang="ru-RU" sz="2400" spc="-1" strike="noStrike" u="sng">
                <a:solidFill>
                  <a:srgbClr val="595959"/>
                </a:solidFill>
                <a:uFillTx/>
                <a:latin typeface="News Gothic MT"/>
              </a:rPr>
              <a:t>деятельным раскаянием 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(ст.75 УК РФ) – т.е. при добровольной явке с повинной, способствовании раскрытию преступления и возмещению причиненного вреда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и возмещении причинённого ущерба, либо ином </a:t>
            </a:r>
            <a:r>
              <a:rPr b="0" lang="ru-RU" sz="2400" spc="-1" strike="noStrike" u="sng">
                <a:solidFill>
                  <a:srgbClr val="595959"/>
                </a:solidFill>
                <a:uFillTx/>
                <a:latin typeface="News Gothic MT"/>
              </a:rPr>
              <a:t>заглаживании вреда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, в связи с примирением с потерпевшим (ст. 76 УК РФ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УГОЛОВНАЯ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000" y="1599840"/>
            <a:ext cx="8042040" cy="497052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 fontScale="99000"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ПРИНУДИТЕЛЬНЫЕ МЕРЫ ВОСПИТАТЕЛЬНОГО ВОЗДЕЙСТВИЯ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(может быть назначено одновременно несколько)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Предупреждение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– разъяснение вреда и последствий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Передача под надзор родителей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– возложение на родителей обязанности по воспитательному воздействию на несовершеннолетнего и контролю за его поведением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Обязанность загладить причинённый вред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Ограничение досуга и установление особых требований к поведению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– запрет посещения определенных мест, использования определенных форм досуга, ограничение пребывания вне дома в определенное время суток, выезда без специального разрешения и т.д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000" y="2403360"/>
            <a:ext cx="805644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ПРАВА НЕСОВЕРШЕННОЛЕТНИХ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9000" y="3735000"/>
            <a:ext cx="8056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9898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9000" y="2403360"/>
            <a:ext cx="805644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АДМИНИСТРАТИВНАЯ  ОТВЕТСТВЕННОСТЬ несовершеннолетних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49000" y="3735000"/>
            <a:ext cx="8056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9898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АДМИНИСТРАТИВНАЯ  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Административной ответственности подлежит лицо в возрасте с 16 лет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Административные дела несовершеннолетних решаются в комиссии по делам несовершеннолетних  и защите их прав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За некоторые правонарушения (например нарушение ПДД)- могут быть привлечены к административной ответственности на общих основаниях, как и взрослые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АДМИНИСТРАТИВНАЯ  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9000" y="1599840"/>
            <a:ext cx="8042040" cy="50958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 fontScale="99000"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НАИБОЛЕЕ РАСПРОСТРАНЕННЫЕ АДМИНИСТРАТИВНЫЕ ПРОСТУПКИ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95959"/>
                </a:solidFill>
                <a:uFillTx/>
                <a:latin typeface="News Gothic MT"/>
              </a:rPr>
              <a:t>Мелкое хулиганство 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(ст.20.1. КоАП РФ) – действия, выражающие явное неуважение к обществу, сопровождающиеся нецензурной бранью в общественных местах, оскорбительное приставание к гражданам (например – хватание за одежду или руки, срыв головного убора, преграждение прохода и т.д.), действия, сопровождающиеся уничтожением или повреждением чужого имущества (например - надписи на заборах или стенах, порча газонов ночью и т.д.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АДМИНИСТРАТИВНАЯ  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9000" y="1599840"/>
            <a:ext cx="8042040" cy="467532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НАИБОЛЕЕ РАСПРОСТРАНЕННЫЕ АДМИНИСТРАТИВНЫЕ ПРОСТУПКИ,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нарушающие порядок в общественных местах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95959"/>
                </a:solidFill>
                <a:uFillTx/>
                <a:latin typeface="News Gothic MT"/>
              </a:rPr>
              <a:t>Распитие пива, алкогольной и спиртосодержащей продукции, либо потребление наркотических средств в общественных местах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(ст.20.20. КоАП РФ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95959"/>
                </a:solidFill>
                <a:uFillTx/>
                <a:latin typeface="News Gothic MT"/>
              </a:rPr>
              <a:t>Появление в общественных местах в состоянии алкогольного или наркотического  опьянения      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(ст.20.21. КоАП РФ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АДМИНИСТРАТИВНАЯ  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9000" y="1600200"/>
            <a:ext cx="8042040" cy="471312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НАИБОЛЕЕ РАСПРОСТРАНЕННЫЕ АДМИНИСТРАТИВНЫЕ ПРОСТУПКИ,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посягающие на здоровье населения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95959"/>
                </a:solidFill>
                <a:uFillTx/>
                <a:latin typeface="News Gothic MT"/>
              </a:rPr>
              <a:t>Потребление наркотических средств и психотропных веществ без назначения врача       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(ст.6.9. КоАП РФ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95959"/>
                </a:solidFill>
                <a:uFillTx/>
                <a:latin typeface="News Gothic MT"/>
              </a:rPr>
              <a:t>Незаконный оборот (приобретение, хранение, перевозка, изготовление, переработка без цели сбыта) наркотических средств и психотропных веществ 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(ст.6.8. КоАП РФ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АДМИНИСТРАТИВНАЯ  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НАИБОЛЕЕ РАСПРОСТРАНЕННЫЕ АДМИНИСТРАТИВНЫЕ ПРОСТУПКИ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против собственности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95959"/>
                </a:solidFill>
                <a:uFillTx/>
                <a:latin typeface="News Gothic MT"/>
              </a:rPr>
              <a:t>Мелкое хищение 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(ст.7.27. КоАП РФ) – совершенное путем кражи, мошенничества, присвоения или растраты, если стоимость похищенного не более 1000рублей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АДМИНИСТРАТИВНАЯ  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49000" y="1599840"/>
            <a:ext cx="8042040" cy="465444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ВИДЫ НАКАЗАНИЙ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95959"/>
                </a:solidFill>
                <a:uFillTx/>
                <a:latin typeface="News Gothic MT"/>
              </a:rPr>
              <a:t>Предупреждение</a:t>
            </a:r>
            <a:r>
              <a:rPr b="0" lang="ru-RU" sz="1800" spc="-1" strike="noStrike">
                <a:solidFill>
                  <a:srgbClr val="595959"/>
                </a:solidFill>
                <a:latin typeface="News Gothic MT"/>
              </a:rPr>
              <a:t> – разъяснение вреда и последствий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95959"/>
                </a:solidFill>
                <a:uFillTx/>
                <a:latin typeface="News Gothic MT"/>
              </a:rPr>
              <a:t>Передача под надзор родителей </a:t>
            </a:r>
            <a:r>
              <a:rPr b="0" lang="ru-RU" sz="1800" spc="-1" strike="noStrike">
                <a:solidFill>
                  <a:srgbClr val="595959"/>
                </a:solidFill>
                <a:latin typeface="News Gothic MT"/>
              </a:rPr>
              <a:t>– возложение на родителей обязанности по воспитательному воздействию на несовершеннолетнего и контролю за его поведением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95959"/>
                </a:solidFill>
                <a:uFillTx/>
                <a:latin typeface="News Gothic MT"/>
              </a:rPr>
              <a:t>Обязанность загладить причинённый вред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95959"/>
                </a:solidFill>
                <a:uFillTx/>
                <a:latin typeface="News Gothic MT"/>
              </a:rPr>
              <a:t>Ограничение досуга и установление особых требований к поведению </a:t>
            </a:r>
            <a:r>
              <a:rPr b="0" lang="ru-RU" sz="1800" spc="-1" strike="noStrike">
                <a:solidFill>
                  <a:srgbClr val="595959"/>
                </a:solidFill>
                <a:latin typeface="News Gothic MT"/>
              </a:rPr>
              <a:t>– запрет посещения определенных мест, использования определенных форм досуга, ограничение пребывания вне дома в определенное время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95959"/>
                </a:solidFill>
                <a:uFillTx/>
                <a:latin typeface="News Gothic MT"/>
              </a:rPr>
              <a:t>Выговор, строгий выговор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95959"/>
                </a:solidFill>
                <a:uFillTx/>
                <a:latin typeface="News Gothic MT"/>
              </a:rPr>
              <a:t>Штраф </a:t>
            </a:r>
            <a:r>
              <a:rPr b="0" lang="ru-RU" sz="1800" spc="-1" strike="noStrike">
                <a:solidFill>
                  <a:srgbClr val="595959"/>
                </a:solidFill>
                <a:latin typeface="News Gothic MT"/>
              </a:rPr>
              <a:t>до 1000рублей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ПОСЛЕДСТВИЯ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49360" y="2004840"/>
          <a:ext cx="8042040" cy="4186440"/>
        </p:xfrm>
        <a:graphic>
          <a:graphicData uri="http://schemas.openxmlformats.org/drawingml/2006/table">
            <a:tbl>
              <a:tblPr/>
              <a:tblGrid>
                <a:gridCol w="4021200"/>
                <a:gridCol w="40208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ДЕ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РОДИ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1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Забираю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поли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1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Вызываю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поли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2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Материа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отправляю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н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комиссию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п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дела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несовершеннолетни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защит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и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пра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пр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администра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район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КДНиЗП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родител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ребёнок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директор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)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2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Приглашаю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н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заседани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КДНиЗП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пр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администра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район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родител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ребёнок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директор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3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Ставя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н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учё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отде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п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дела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несовершеннолетни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ОДН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РУВД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– 6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месяце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harcoal CY"/>
                        <a:buAutoNum type="arabicPeriod" startAt="3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Times New Roman"/>
                        </a:rPr>
                        <a:t>КДНиЗП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Times New Roman"/>
                        </a:rPr>
                        <a:t>выноси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Times New Roman"/>
                        </a:rPr>
                        <a:t>постановлени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Times New Roman"/>
                        </a:rPr>
                        <a:t>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Times New Roman"/>
                        </a:rPr>
                        <a:t>отношен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Times New Roman"/>
                        </a:rPr>
                        <a:t>родител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Times New Roman"/>
                        </a:rPr>
                        <a:t>строги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Times New Roman"/>
                        </a:rPr>
                        <a:t>выговор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Times New Roman"/>
                        </a:rPr>
                        <a:t>штраф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4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Отмечаю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характеристик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пр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выпуск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из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образовательног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4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Ф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родител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заноситс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банк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данны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РФ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как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лиц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совершивше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административно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правонаруш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9000" y="2403360"/>
            <a:ext cx="805644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ГРАЖДАНСКО-ПРАВОВАЯ ОТВЕТСТВЕННОСТЬ</a:t>
            </a:r>
            <a:br>
              <a:rPr sz="4600"/>
            </a:b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несовершеннолетних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9000" y="3735000"/>
            <a:ext cx="8056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9898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ГРАЖДАНСКО-ПРАВОВАЯ ОТВЕТСТВЕННОСТЬ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49000" y="1599840"/>
            <a:ext cx="8042040" cy="46926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КАТЕГОРИИ НЕСОВЕРШЕННОЛЕТНИХ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Частично дееспособные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: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Несовершеннолетние  до 14 лет  - малолетние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Несовершеннолетние с 14 до 18 лет – относительно дееспособные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Полностью дееспособные: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лица с 18 лет;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лица, вступившие в брак;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Эмансипация – с 16 лет, работающие по трудовому договору, решение суда или органов опеки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ПРАВА ГРАЖДАНИНА РФ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49000" y="1599840"/>
            <a:ext cx="8042040" cy="480852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ГРАЖДАНСКИЕ (на жизнь, на свободу и личную неприкосновенность, на неприкосновенность частной жизни, на свободу передвижения)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ПОЛИТИЧЕСКИЕ (на свободу мысли и слова, на объединение, на мирные собрания, на участие в управлении государством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ЭКОНОМИЧЕСКИЕ (на свободное предпринимательство, на частную собственность, на труд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СОЦИАЛЬНЫЕ: ( на социальное обеспечение, на жилище, на медицинское обеспечение, на образование)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КУЛЬТУРНЫЕ ( на участие в культурной жизни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ГРАЖДАНСКО-ПРАВОВАЯ ОТВЕТСТВЕННОСТЬ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ФОРМЫ ОТВЕТСТВЕННОСТИ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95959"/>
                </a:solidFill>
                <a:uFillTx/>
                <a:latin typeface="News Gothic MT"/>
              </a:rPr>
              <a:t>Взыскание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 в пользу потерпевшего имущественных санкций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Дополнительно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95959"/>
                </a:solidFill>
                <a:uFillTx/>
                <a:latin typeface="News Gothic MT"/>
              </a:rPr>
              <a:t>Возмещение убытков 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(ст.15 ГК РФ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95959"/>
                </a:solidFill>
                <a:uFillTx/>
                <a:latin typeface="News Gothic MT"/>
              </a:rPr>
              <a:t>Уплата неустойки 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(ст.381 ГК РФ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ГРАЖДАНСКО-ПРАВОВАЯ ОТВЕТСТВЕННОСТЬ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МАЛОЛЕТНИЕ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Ответственность несут родители, независимо от того, кто совершил сделку – сам ребенок или от его имени родители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ичиненный вред подлежит возмещению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Оба родителя (независимо от того, с кем живет ребенок) имеют равные права и обязанности, связанные с воспитанием, т.е. и ответственность за вред, причинённый ребенком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ГРАЖДАНСКО-ПРАВОВАЯ ОТВЕТСТВЕННОСТЬ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НЕСОВЕРШЕННОЛЕТНИХ от 14 до 18 лет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Самостоятельно несут имущественную ответственность по сделкам (ст.26 ГК РФ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Самостоятельно несут ответственность за причинённый вред (ст. 1074 ГК РФ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Если имущества несовершеннолетнего недостаточно, тогда дополнительную ответственность несут родители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2403360"/>
            <a:ext cx="805644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несовершеннолетних в СФЕРЕ ОБРАЗОВАНИЯ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49000" y="3735000"/>
            <a:ext cx="8056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9898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39320"/>
            <a:ext cx="8042040" cy="146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</a:t>
            </a:r>
            <a:r>
              <a:rPr b="0" lang="ru-RU" sz="3600" spc="-1" strike="noStrike">
                <a:solidFill>
                  <a:srgbClr val="000000"/>
                </a:solidFill>
                <a:latin typeface="News Gothic MT"/>
              </a:rPr>
              <a:t>несовершеннолетних в школе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9000" y="1962000"/>
            <a:ext cx="8042040" cy="39816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News Gothic MT"/>
              </a:rPr>
              <a:t>Каждый </a:t>
            </a:r>
            <a:r>
              <a:rPr b="0" lang="ru-RU" sz="2800" spc="-1" strike="noStrike" u="sng">
                <a:solidFill>
                  <a:srgbClr val="595959"/>
                </a:solidFill>
                <a:uFillTx/>
                <a:latin typeface="News Gothic MT"/>
              </a:rPr>
              <a:t>имеет право </a:t>
            </a:r>
            <a:r>
              <a:rPr b="0" lang="ru-RU" sz="2800" spc="-1" strike="noStrike">
                <a:solidFill>
                  <a:srgbClr val="595959"/>
                </a:solidFill>
                <a:latin typeface="News Gothic MT"/>
              </a:rPr>
              <a:t>на образование (Конституция РФ ст.43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News Gothic MT"/>
              </a:rPr>
              <a:t>Несовершеннолетние, при всесторонней поддержке родителей, </a:t>
            </a:r>
            <a:r>
              <a:rPr b="0" lang="ru-RU" sz="2800" spc="-1" strike="noStrike" u="sng">
                <a:solidFill>
                  <a:srgbClr val="595959"/>
                </a:solidFill>
                <a:uFillTx/>
                <a:latin typeface="News Gothic MT"/>
              </a:rPr>
              <a:t>обязаны</a:t>
            </a:r>
            <a:r>
              <a:rPr b="0" lang="ru-RU" sz="2800" spc="-1" strike="noStrike">
                <a:solidFill>
                  <a:srgbClr val="595959"/>
                </a:solidFill>
                <a:latin typeface="News Gothic MT"/>
              </a:rPr>
              <a:t> получить основное общее образование (Закон РФ «Об образовании» ст.52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</a:t>
            </a:r>
            <a:r>
              <a:rPr b="0" lang="ru-RU" sz="3600" spc="-1" strike="noStrike">
                <a:solidFill>
                  <a:srgbClr val="000000"/>
                </a:solidFill>
                <a:latin typeface="News Gothic MT"/>
              </a:rPr>
              <a:t>несовершеннолетних в школе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49000" y="1600200"/>
            <a:ext cx="8042040" cy="488808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 fontScale="91000"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еся обязаны выполнять Устав ОУ (Закон РФ «Об образовании» ст. 52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еся гимназии ОБЯЗАНЫ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оявлять уважение к старшим, помогать младшим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Аккуратно обращаться с имуществом гимназии и чужими вещами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Выполнять требования работников гимназии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Не применять физическую силу и не употреблять грубые выражения и нецензурную брань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Не уходить из гимназии без разрешения педагогов во время занятий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</a:t>
            </a:r>
            <a:r>
              <a:rPr b="0" lang="ru-RU" sz="3600" spc="-1" strike="noStrike">
                <a:solidFill>
                  <a:srgbClr val="000000"/>
                </a:solidFill>
                <a:latin typeface="News Gothic MT"/>
              </a:rPr>
              <a:t>несовершеннолетних в школе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 fontScale="85000"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еся обязаны выполнять Устав ОУ (Закон РФ «Об образовании» ст. 52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мся гимназии ЗАПРЕЩАЕТСЯ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иносить и использовать в гимназии оружие, пиротехнические изделия, огнеопасные вещества, горючие жидкости, газовые баллончики, сигареты, спиртные напитки, наркотики, одурманивающие вещества и т.д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Включать и использовать на уроках мобильные телефоны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</a:t>
            </a:r>
            <a:r>
              <a:rPr b="0" lang="ru-RU" sz="3600" spc="-1" strike="noStrike">
                <a:solidFill>
                  <a:srgbClr val="000000"/>
                </a:solidFill>
                <a:latin typeface="News Gothic MT"/>
              </a:rPr>
              <a:t>несовершеннолетних в школе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49000" y="1600200"/>
            <a:ext cx="8042040" cy="488808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 fontScale="89000"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еся обязаны выполнять Устав ОУ (Закон РФ «Об образовании» ст. 52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мся гимназии                          КАТЕГОРИЧЕСКИ ЗАПРЕЩАЕТСЯ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Залезать на подоконники, шкафы, оборудование и т.д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Кататься и сидеть на перилах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С силой толкать других учеников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Входить в хозяйственные помещения, не предназначенные для людей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Открывать электрические шкафы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</a:t>
            </a:r>
            <a:r>
              <a:rPr b="0" lang="ru-RU" sz="3600" spc="-1" strike="noStrike">
                <a:solidFill>
                  <a:srgbClr val="000000"/>
                </a:solidFill>
                <a:latin typeface="News Gothic MT"/>
              </a:rPr>
              <a:t>несовершеннолетних в школе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9000" y="1599840"/>
            <a:ext cx="8042040" cy="463068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 fontScale="78000"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еся обязаны выполнять Устав ОУ (Закон РФ «Об образовании» ст. 52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мся гимназии                          КАТЕГОРИЧЕСКИ ЗАПРЕЩАЕТСЯ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одсказывать на уроках, списывать во время урока и вне его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опускать занятия без уважительной причины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Бегать по лестницам и др. не предназначенным для этого местам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Толкать друг друга, бросаться предметами и применять физическую силу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потреблять непристойные и нецензурные выражения и жесты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</a:t>
            </a:r>
            <a:r>
              <a:rPr b="0" lang="ru-RU" sz="3600" spc="-1" strike="noStrike">
                <a:solidFill>
                  <a:srgbClr val="000000"/>
                </a:solidFill>
                <a:latin typeface="News Gothic MT"/>
              </a:rPr>
              <a:t>несовершеннолетних в школе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49000" y="1600200"/>
            <a:ext cx="8042040" cy="488808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 fontScale="99000"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еся обязаны выполнять Устав ОУ (Закон РФ «Об образовании» ст. 52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еся гимназии ОБЯЗАНЫ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Соблюдать офисно-деловой стиль одежды (однотонные, пастельные цвета, классический стиль одежды и обуви, юноши – темный костюм, рубашка в тон, галстук, темные туфли, соответствующая стрижка; девушки – темные, средней длинны юбка, костюм, платье, светлая блузка, классические туфли, запрещены яркая косметика и украшения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КОНВЕНЦИЯ </a:t>
            </a:r>
            <a:br>
              <a:rPr sz="4600"/>
            </a:b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 ПРАВАХ РЕБЕНКА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600200"/>
            <a:ext cx="8042040" cy="510696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 fontScale="99000"/>
          </a:bodyPr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20 ноября 1989 г. – была принята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Ребенок – человеческое существо до достижения 18 лет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Общие принципы: недискриминационный; наилучшее обеспечение интересов ребенка; право на жизнь, выживание и развитие; уважение взглядов ребенка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1998г. – Закон РФ «Об основных гарантиях прав ребенка в РФ»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2007г. – федеральная целевая программа «Дети России»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</a:t>
            </a:r>
            <a:r>
              <a:rPr b="0" lang="ru-RU" sz="3600" spc="-1" strike="noStrike">
                <a:solidFill>
                  <a:srgbClr val="000000"/>
                </a:solidFill>
                <a:latin typeface="News Gothic MT"/>
              </a:rPr>
              <a:t>несовершеннолетних в школе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49000" y="1600200"/>
            <a:ext cx="8042040" cy="488808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 fontScale="85000"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еся обязаны выполнять Устав ОУ (Закон РФ «Об образовании» ст. 52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еся гимназии ОБЯЗАНЫ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Находиться в классе не позднее, чем за 5 минут до начала занятий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Не приносить вещи, не относящиеся к урокам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Соблюдать требования учителя на уроке, не шуметь, не отвлекать других учащихся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Иметь на каждом уроке все необходимые принадлежности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Иметь дневник и предъявлять работникам гимназии по первому требованию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</a:t>
            </a:r>
            <a:r>
              <a:rPr b="0" lang="ru-RU" sz="4000" spc="-1" strike="noStrike">
                <a:solidFill>
                  <a:srgbClr val="000000"/>
                </a:solidFill>
                <a:latin typeface="News Gothic MT"/>
              </a:rPr>
              <a:t>несовершеннолетних в школе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49000" y="1599840"/>
            <a:ext cx="8042040" cy="467028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News Gothic MT"/>
              </a:rPr>
              <a:t>Выполнение Устава  является обязательным для учащихся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News Gothic MT"/>
              </a:rPr>
              <a:t>Нарушение норм поведения влечет за собой применение мер дисциплинарного воздействия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News Gothic MT"/>
              </a:rPr>
              <a:t>Грубое и неоднократное нарушение может повлечь исключение из образовательного учреждения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49000" y="2403360"/>
            <a:ext cx="8056440" cy="247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несовершеннолетних в сфере </a:t>
            </a:r>
            <a:br>
              <a:rPr sz="4600"/>
            </a:b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БЩЕСТВЕННОГО ПОРЯДКА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49000" y="3735000"/>
            <a:ext cx="8056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9898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</a:t>
            </a:r>
            <a:br>
              <a:rPr sz="4600"/>
            </a:br>
            <a:r>
              <a:rPr b="0" lang="ru-RU" sz="3200" spc="-1" strike="noStrike">
                <a:solidFill>
                  <a:srgbClr val="000000"/>
                </a:solidFill>
                <a:latin typeface="News Gothic MT"/>
              </a:rPr>
              <a:t>в сфере общественного порядка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ЗАПРЕЩЕНО нахождение несовершеннолетних в возрасте до 16 лет с 23 до 6 часов, в возрасте от 16 до 18 лет с 23 до 6 часов на объектах, предназначенных для предоставления доступа к сети «Интернет», реализации услуг в сфере торговли и  общественного питания, в развлекательных и досуговых комплексах, иных общественных местах, без сопровождения родителей или лиц, осуществляющих мероприятия по образованию, воспитанию, развитию несовершеннолетних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</a:t>
            </a:r>
            <a:br>
              <a:rPr sz="4600"/>
            </a:br>
            <a:r>
              <a:rPr b="0" lang="ru-RU" sz="4000" spc="-1" strike="noStrike">
                <a:solidFill>
                  <a:srgbClr val="000000"/>
                </a:solidFill>
                <a:latin typeface="News Gothic MT"/>
              </a:rPr>
              <a:t>в сфере общественного порядка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Запрещено курение табака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на территориях и в помещениях образовательных организаций – влечет привлечение к административной ответственности - штраф (ст, 6. ФЗ РФ «Об ограничении курения табака»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Запрещено курение в помещениях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, не предназначенных для этого, как нарушение требований пожарной безопасности – влечет привлечение к административной ответственности – штраф (ст. 20.4. КоАП РФ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Запрещено курение в общественных помещениях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, как нарушение санитарно-эпидемиологических требований - влечет привлечение к административной ответственности – штраф (ст. 6.4. КоАП РФ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ГРАЖДАНСКИЕ  </a:t>
            </a:r>
            <a:br>
              <a:rPr sz="4600"/>
            </a:b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ПРАВА  И СВОБОДЫ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на имя и гражданство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на сохранение индивидуальности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на свободу выражения своего мнения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доступа к соответствующей информации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Свобода мысли, совести и религии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Свобода ассоциаций и мирных собраний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на защиту личности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ПРАВА РЕБЕНКА В СЕМЬЕ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родителей руководить ребенком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Общая и одинаковая ответственность обоих родителей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ребенка не разлучаться с родителями вопреки его желанию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на усыновление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на защиту от злоупотреблений и отсутсвия заботы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4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БЛАГОСОСТОЯНИЕ РЕБЕНКА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9000" y="1508040"/>
            <a:ext cx="8042040" cy="470232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ребенка на развитие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на пользование наиболее совершенными услугами в области здравоохранения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на социальное обеспечение и доступ к службам по уходу за детьми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на уровень жизни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на образование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на отдых, досуг и культурную деятельность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2403360"/>
            <a:ext cx="805644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БЯЗАННОСТИ  НЕСОВЕРШЕННОЛЕТНИХ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000" y="3735000"/>
            <a:ext cx="8056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9898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БЯЗАННОСТИ </a:t>
            </a:r>
            <a:br>
              <a:rPr sz="4600"/>
            </a:b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граждан РФ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9000" y="1599840"/>
            <a:ext cx="8042040" cy="482292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Трудоспособные дети, достигшие 18 лет, должны заботиться о нетрудоспособных родителях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Каждый обязан заботиться о сохранении исторического и культурного наследия, беречь памятники истории и культуры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Граждане обязаны соблюдать Конституцию Российской Федерации и законы страны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Забота о детях, их воспитание - равное право и обязанность родителей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Каждый гражданин обязан платить налоги и сборы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Каждый обязан сохранять природу и окружающую среду, бережно относиться к природным богатствам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Защита Отечества является долгом и обязанностью гражданина Российской Федерации. </a:t>
            </a:r>
            <a:r>
              <a:rPr b="0" lang="ru-RU" sz="1800" spc="-1" strike="noStrike">
                <a:solidFill>
                  <a:srgbClr val="595959"/>
                </a:solidFill>
                <a:latin typeface="News Gothic MT"/>
              </a:rPr>
              <a:t> 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06:26:53Z</dcterms:created>
  <dc:creator>Лунежка</dc:creator>
  <dc:description/>
  <dc:language>en-US</dc:language>
  <cp:lastModifiedBy>Учитель</cp:lastModifiedBy>
  <dcterms:modified xsi:type="dcterms:W3CDTF">2016-09-08T04:22:45Z</dcterms:modified>
  <cp:revision>42</cp:revision>
  <dc:subject/>
  <dc:title>Права и обязанности несовершеннолетних</dc:title>
</cp:coreProperties>
</file>