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493-2358-4AD5-9BE4-E3B6C2EE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74D-5838-499C-A1A4-F60FB082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84B-080B-431E-B4CE-AC38094F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E3D-0BFA-4ECF-A53F-DCCC984F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8EB8-A756-46DA-B7D0-C7F68D46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5AB8-528B-43ED-A5D5-CD6AD209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43E6-B0C1-4AEA-B09A-683FE46D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4F3A-F3C7-4FB7-AE0D-B168F11D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3886-47CC-465E-B7FD-5CF17994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620B-37A1-4F21-9A8E-5F2937B9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01F6-0C4B-4606-A4B4-28A21E30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BBD-866C-47C5-8FCB-006D76E6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5100-2F74-43C3-8179-D61882E5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C400-6F27-47E0-AD14-35BAC309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D772-5A4B-4FD2-BE5A-16B100BC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9DCE-0FE7-4EBA-92F3-0EEA7795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6970-E2D1-4AB4-BCBF-4479CCE7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532-6515-409D-9398-C04B3743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19A-404E-4613-849A-9FF71876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895-CD47-4D24-8282-60CD411C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FD7-845B-4FA9-A510-4DE7E000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47B-B1C1-45B5-97C1-4ABC5C9E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974-C6C7-4D92-88A3-544D5FB1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0F1-59F6-40D6-86E3-2177F680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5820-E79C-46D3-8F49-D0D08BA53E4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7CD9-039D-4997-8F50-5690B04EF87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5920" y="1523520"/>
            <a:ext cx="8474040" cy="32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ЯЗАННОСТИ НЕСОВЕРШЕННОЛЕТНИХ</a:t>
            </a:r>
            <a:endParaRPr b="0" lang="en-US" sz="4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2082960"/>
            <a:ext cx="64994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БЯЗАННОСТИ несовершеннолетних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000" y="1600200"/>
            <a:ext cx="8042040" cy="460224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Граждане обязаны соблюдать Конституцию Российской Федерации и законы страны (Конституция РФ), в том числе законы и подзаконные акты субъектов РФ, уставы школ, правила внутреннего распорядка и т.д.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Каждый гражданин обязан платить налоги и сборы      (Конституция РФ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Каждый обязан заботиться о сохранении исторического и культурного наследия, беречь памятники истории и культуры. (Конституция РФ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Каждый обязан сохранять природу и окружающую среду, бережно относиться к природным богатствам (Конституция РФ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Каждый несовершеннолетний обязан получить основное общее образование (Закон РФ «Об образовании»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2403360"/>
            <a:ext cx="80564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 несовершеннолетних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9000" y="3735000"/>
            <a:ext cx="8056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98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КАТЕГОРИИ НЕСОВЕРШЕННОЛЕТНИХ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Несовершеннолетние  до 14 лет  - не достигшие возраста уголовной ответственност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Несовершеннолетние с 14 лет – уголовная ответственность за некоторые виды преступлений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Несовершеннолетние с 16 лет  - полная уголовная ответственность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Лицо признается достигшим определенного возраста на следующие за днем рождения сутки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49000" y="1599840"/>
            <a:ext cx="8042040" cy="47862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93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Уголовная ответственность с 14 лет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убийство (ст.105),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умышленное причинение тяжкого вреда здоровью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(ст.111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умышленное причинение средней тяжести вреда здоровью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(ст.112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похищение человека (ст.126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изнасилование (ст.131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насильственные действия сексуального характера (ст.132),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кража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(ст.158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грабеж (ст.161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9000" y="1600200"/>
            <a:ext cx="8042040" cy="48420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Уголовная ответственность с 14 лет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разбой (ст.162),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вымогательство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(ст.163),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неправомерное завладение автомобилем или иным транспортным средством без цели хищения (ст.166),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умышленное уничтожение или повреждение имущества при отягчающих обстоятельствах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(ст.167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террористический акт (ст.205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захват заложника (ст.206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заведомо ложное сообщение о террористическом акте      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(ст.207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Уголовная ответственность с 14 лет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хулиганство при отягчающих обстоятельствах (ст.213),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вандализм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(ст.214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хищение либо вымогательство оружия, боеприпасов, взрывчатых веществ, взрывных устройств (ст.226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хищение либо вымогательство наркотических средств или психотропных веществ (ст.229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приведение в негодность транспортных средств или путей сообщения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(ст.267),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49000" y="1599840"/>
            <a:ext cx="8042040" cy="48229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ВИДЫ НАКАЗАНИЙ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Штраф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(как при наличий самостоятельного заработка, так и при его отсутствии) – до 50 тыс.руб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Лишение права заниматься определенной деятельностью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– до 5 лет основного наказания и до 3 лет дополнительного (Например -  права управления мопедом в результате неоднократного нарушения ПДД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Обязательные работы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– бесплатные общественно полезные работы до 160 часов в свободное от учебы или основной работы время (Например – благоустройство городов и поселков, уход за больными, очистка улиц, погрузочно-разгрузочные работы и т.д.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9000" y="1599840"/>
            <a:ext cx="8042040" cy="48229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ВИДЫ НАКАЗАНИЙ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Исправительные работы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– до 1 года, из заработка осужденного производятся удержания в пользу государства до 20% заработка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Ограничение свободы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– от 2-х месяцев до 2-х лет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Лишение свободы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– от 2-х месяцев до 10 лет. Вид наказания отбывается в  воспитательно-трудовой колонии, при достижении 18-летнего возраста, при положительных характеристиках, осужденный может быть оставлен там до 20 лет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9000" y="1599840"/>
            <a:ext cx="8042040" cy="439884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ОСВОБОЖДЕНИЕ ОТ УГОЛОВНОЙ ОТВЕТСТВЕННОСТИ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В связи с </a:t>
            </a: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деятельным раскаянием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75 УК РФ) – т.е. при добровольной явке с повинной, способствовании раскрытию преступления и возмещению причиненного вреда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и возмещении причинённого ущерба, либо ином </a:t>
            </a: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заглаживании вреда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, в связи с примирением с потерпевшим (ст. 76 УК РФ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УГОЛОВНАЯ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000" y="1599840"/>
            <a:ext cx="8042040" cy="49705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99000"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ПРИНУДИТЕЛЬНЫЕ МЕРЫ ВОСПИТАТЕЛЬНОГО ВОЗДЕЙСТВИЯ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может быть назначено одновременно несколько)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Предупреждение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– разъяснение вреда и последствий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Передача под надзор родителей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– возложение на родителей обязанности по воспитательному воздействию на несовершеннолетнего и контролю за его поведением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Обязанность загладить причинённый вред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Ограничение досуга и установление особых требований к поведению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– запрет посещения определенных мест, использования определенных форм досуга, ограничение пребывания вне дома в определенное время суток, выезда без специального разрешения и т.д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2403360"/>
            <a:ext cx="80564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ПРАВА НЕСОВЕРШЕННОЛЕТНИХ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9000" y="3735000"/>
            <a:ext cx="8056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9000" y="2403360"/>
            <a:ext cx="80564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АДМИНИСТРАТИВНАЯ  ОТВЕТСТВЕННОСТЬ несовершеннолетних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49000" y="3735000"/>
            <a:ext cx="8056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АДМИНИСТРАТИВНАЯ  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Административной ответственности подлежит лицо в возрасте с 16 лет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Административные дела несовершеннолетних решаются в комиссии по делам несовершеннолетних  и защите их прав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За некоторые правонарушения (например нарушение ПДД)- могут быть привлечены к административной ответственности на общих основаниях, как и взрослые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АДМИНИСТРАТИВНАЯ  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9000" y="1599840"/>
            <a:ext cx="8042040" cy="50958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99000"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НАИБОЛЕЕ РАСПРОСТРАНЕННЫЕ АДМИНИСТРАТИВНЫЕ ПРОСТУПКИ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Мелкое хулиганство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20.1. КоАП РФ) – действия, выражающие явное неуважение к обществу, сопровождающиеся нецензурной бранью в общественных местах, оскорбительное приставание к гражданам (например – хватание за одежду или руки, срыв головного убора, преграждение прохода и т.д.), действия, сопровождающиеся уничтожением или повреждением чужого имущества (например - надписи на заборах или стенах, порча газонов ночью и т.д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АДМИНИСТРАТИВНАЯ  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9000" y="1599840"/>
            <a:ext cx="8042040" cy="46753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НАИБОЛЕЕ РАСПРОСТРАНЕННЫЕ АДМИНИСТРАТИВНЫЕ ПРОСТУПКИ,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нарушающие порядок в общественных местах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Распитие пива, алкогольной и спиртосодержащей продукции, либо потребление наркотических средств в общественных местах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20.20. КоАП РФ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Появление в общественных местах в состоянии алкогольного или наркотического  опьянения     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20.21. КоАП РФ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АДМИНИСТРАТИВНАЯ  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9000" y="1600200"/>
            <a:ext cx="8042040" cy="47131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НАИБОЛЕЕ РАСПРОСТРАНЕННЫЕ АДМИНИСТРАТИВНЫЕ ПРОСТУПКИ,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посягающие на здоровье населения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Потребление наркотических средств и психотропных веществ без назначения врача      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6.9. КоАП РФ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Незаконный оборот (приобретение, хранение, перевозка, изготовление, переработка без цели сбыта) наркотических средств и психотропных веществ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6.8. КоАП РФ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АДМИНИСТРАТИВНАЯ  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НАИБОЛЕЕ РАСПРОСТРАНЕННЫЕ АДМИНИСТРАТИВНЫЕ ПРОСТУПКИ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против собственности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Мелкое хищение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7.27. КоАП РФ) – совершенное путем кражи, мошенничества, присвоения или растраты, если стоимость похищенного не более 1000рублей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АДМИНИСТРАТИВНАЯ   ОТВЕТСТВЕННОСТЬ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49000" y="1599840"/>
            <a:ext cx="8042040" cy="465444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ВИДЫ НАКАЗАНИЙ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95959"/>
                </a:solidFill>
                <a:uFillTx/>
                <a:latin typeface="News Gothic MT"/>
              </a:rPr>
              <a:t>Предупреждение</a:t>
            </a:r>
            <a:r>
              <a:rPr b="0" lang="ru-RU" sz="1800" spc="-1" strike="noStrike">
                <a:solidFill>
                  <a:srgbClr val="595959"/>
                </a:solidFill>
                <a:latin typeface="News Gothic MT"/>
              </a:rPr>
              <a:t> – разъяснение вреда и последствий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95959"/>
                </a:solidFill>
                <a:uFillTx/>
                <a:latin typeface="News Gothic MT"/>
              </a:rPr>
              <a:t>Передача под надзор родителей </a:t>
            </a:r>
            <a:r>
              <a:rPr b="0" lang="ru-RU" sz="1800" spc="-1" strike="noStrike">
                <a:solidFill>
                  <a:srgbClr val="595959"/>
                </a:solidFill>
                <a:latin typeface="News Gothic MT"/>
              </a:rPr>
              <a:t>– возложение на родителей обязанности по воспитательному воздействию на несовершеннолетнего и контролю за его поведением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95959"/>
                </a:solidFill>
                <a:uFillTx/>
                <a:latin typeface="News Gothic MT"/>
              </a:rPr>
              <a:t>Обязанность загладить причинённый вред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95959"/>
                </a:solidFill>
                <a:uFillTx/>
                <a:latin typeface="News Gothic MT"/>
              </a:rPr>
              <a:t>Ограничение досуга и установление особых требований к поведению </a:t>
            </a:r>
            <a:r>
              <a:rPr b="0" lang="ru-RU" sz="1800" spc="-1" strike="noStrike">
                <a:solidFill>
                  <a:srgbClr val="595959"/>
                </a:solidFill>
                <a:latin typeface="News Gothic MT"/>
              </a:rPr>
              <a:t>– запрет посещения определенных мест, использования определенных форм досуга, ограничение пребывания вне дома в определенное время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95959"/>
                </a:solidFill>
                <a:uFillTx/>
                <a:latin typeface="News Gothic MT"/>
              </a:rPr>
              <a:t>Выговор, строгий выговор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95959"/>
                </a:solidFill>
                <a:uFillTx/>
                <a:latin typeface="News Gothic MT"/>
              </a:rPr>
              <a:t>Штраф </a:t>
            </a:r>
            <a:r>
              <a:rPr b="0" lang="ru-RU" sz="1800" spc="-1" strike="noStrike">
                <a:solidFill>
                  <a:srgbClr val="595959"/>
                </a:solidFill>
                <a:latin typeface="News Gothic MT"/>
              </a:rPr>
              <a:t>до 1000рублей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ПОСЛЕДСТВИЯ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49360" y="2004840"/>
          <a:ext cx="8042040" cy="4186440"/>
        </p:xfrm>
        <a:graphic>
          <a:graphicData uri="http://schemas.openxmlformats.org/drawingml/2006/table">
            <a:tbl>
              <a:tblPr/>
              <a:tblGrid>
                <a:gridCol w="4021200"/>
                <a:gridCol w="40208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ДЕ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РОД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1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Забираю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оли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1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Вызываю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оли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2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Материа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отправляю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комисси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дела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несовершеннолетни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защит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и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ра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р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администра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айо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КДНиЗП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одител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ебёнок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директор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)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2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риглашаю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заседани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КДНиЗП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р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администра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айо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одител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ебёнок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директор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3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Ставя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учё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отде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дела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несовершеннолетни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ОДН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УВД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– 6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месяце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harcoal CY"/>
                        <a:buAutoNum type="arabicPeriod" startAt="3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КДНиЗП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выноси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постановлени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отношен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родител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строги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выговор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Times New Roman"/>
                        </a:rPr>
                        <a:t>штраф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4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Отмечают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характеристик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р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выпуск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из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образовательног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4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Ф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одител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заноситс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банк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данны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РФ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как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лиц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совершивше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административно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MS Mincho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harcoal CY"/>
                          <a:ea typeface="MS Mincho"/>
                        </a:rPr>
                        <a:t>правонару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News Gothic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2403360"/>
            <a:ext cx="80564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ГРАЖДАНСКО-ПРАВОВАЯ ОТВЕТСТВЕННОСТЬ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несовершеннолетних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9000" y="3735000"/>
            <a:ext cx="8056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ГРАЖДАНСКО-ПРАВОВАЯ ОТВЕТСТВЕННОСТЬ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49000" y="1599840"/>
            <a:ext cx="8042040" cy="46926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КАТЕГОРИИ НЕСОВЕРШЕННОЛЕТНИХ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Частично дееспособные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: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Несовершеннолетние  до 14 лет  - малолетние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Несовершеннолетние с 14 до 18 лет – относительно дееспособные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Полностью дееспособные: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лица с 18 лет;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лица, вступившие в брак;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Эмансипация – с 16 лет, работающие по трудовому договору, решение суда или органов опеки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ПРАВА ГРАЖДАНИНА РФ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599840"/>
            <a:ext cx="8042040" cy="48085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ГРАЖДАНСКИЕ (на жизнь, на свободу и личную неприкосновенность, на неприкосновенность частной жизни, на свободу передвижения)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ПОЛИТИЧЕСКИЕ (на свободу мысли и слова, на объединение, на мирные собрания, на участие в управлении государством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ЭКОНОМИЧЕСКИЕ (на свободное предпринимательство, на частную собственность, на труд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СОЦИАЛЬНЫЕ: ( на социальное обеспечение, на жилище, на медицинское обеспечение, на образование)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КУЛЬТУРНЫЕ ( на участие в культурной жизни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ГРАЖДАНСКО-ПРАВОВАЯ ОТВЕТСТВЕННОСТЬ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ФОРМЫ ОТВЕТСТВЕННОСТИ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Взыскание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 в пользу потерпевшего имущественных санкций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Дополнительно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Возмещение убытков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15 ГК РФ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95959"/>
                </a:solidFill>
                <a:uFillTx/>
                <a:latin typeface="News Gothic MT"/>
              </a:rPr>
              <a:t>Уплата неустойки 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(ст.381 ГК РФ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ГРАЖДАНСКО-ПРАВОВАЯ ОТВЕТСТВЕННОСТЬ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МАЛОЛЕТНИЕ</a:t>
            </a: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Ответственность несут родители, независимо от того, кто совершил сделку – сам ребенок или от его имени родител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ичиненный вред подлежит возмещению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Оба родителя (независимо от того, с кем живет ребенок) имеют равные права и обязанности, связанные с воспитанием, т.е. и ответственность за вред, причинённый ребенком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ГРАЖДАНСКО-ПРАВОВАЯ ОТВЕТСТВЕННОСТЬ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News Gothic MT"/>
              </a:rPr>
              <a:t>НЕСОВЕРШЕННОЛЕТНИХ от 14 до 18 лет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Самостоятельно несут имущественную ответственность по сделкам (ст.26 ГК РФ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Самостоятельно несут ответственность за причинённый вред (ст. 1074 ГК РФ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Если имущества несовершеннолетнего недостаточно, тогда дополнительную ответственность несут родител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2403360"/>
            <a:ext cx="80564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несовершеннолетних в СФЕРЕ ОБРАЗОВАНИЯ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49000" y="3735000"/>
            <a:ext cx="8056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39320"/>
            <a:ext cx="8042040" cy="146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r>
              <a:rPr b="0" lang="ru-RU" sz="3600" spc="-1" strike="noStrike">
                <a:solidFill>
                  <a:srgbClr val="000000"/>
                </a:solidFill>
                <a:latin typeface="News Gothic MT"/>
              </a:rPr>
              <a:t>несовершеннолетних в школе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9000" y="1962000"/>
            <a:ext cx="8042040" cy="39816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News Gothic MT"/>
              </a:rPr>
              <a:t>Каждый </a:t>
            </a:r>
            <a:r>
              <a:rPr b="0" lang="ru-RU" sz="2800" spc="-1" strike="noStrike" u="sng">
                <a:solidFill>
                  <a:srgbClr val="595959"/>
                </a:solidFill>
                <a:uFillTx/>
                <a:latin typeface="News Gothic MT"/>
              </a:rPr>
              <a:t>имеет право </a:t>
            </a:r>
            <a:r>
              <a:rPr b="0" lang="ru-RU" sz="2800" spc="-1" strike="noStrike">
                <a:solidFill>
                  <a:srgbClr val="595959"/>
                </a:solidFill>
                <a:latin typeface="News Gothic MT"/>
              </a:rPr>
              <a:t>на образование (Конституция РФ ст.43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News Gothic MT"/>
              </a:rPr>
              <a:t>Несовершеннолетние, при всесторонней поддержке родителей, </a:t>
            </a:r>
            <a:r>
              <a:rPr b="0" lang="ru-RU" sz="2800" spc="-1" strike="noStrike" u="sng">
                <a:solidFill>
                  <a:srgbClr val="595959"/>
                </a:solidFill>
                <a:uFillTx/>
                <a:latin typeface="News Gothic MT"/>
              </a:rPr>
              <a:t>обязаны</a:t>
            </a:r>
            <a:r>
              <a:rPr b="0" lang="ru-RU" sz="2800" spc="-1" strike="noStrike">
                <a:solidFill>
                  <a:srgbClr val="595959"/>
                </a:solidFill>
                <a:latin typeface="News Gothic MT"/>
              </a:rPr>
              <a:t> получить основное общее образование (Закон РФ «Об образовании» ст.52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r>
              <a:rPr b="0" lang="ru-RU" sz="3600" spc="-1" strike="noStrike">
                <a:solidFill>
                  <a:srgbClr val="000000"/>
                </a:solidFill>
                <a:latin typeface="News Gothic MT"/>
              </a:rPr>
              <a:t>несовершеннолетних в школе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49000" y="1600200"/>
            <a:ext cx="8042040" cy="488808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91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обязаны выполнять Устав ОУ (Закон РФ «Об образовании» ст. 52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гимназии ОБЯЗАНЫ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оявлять уважение к старшим, помогать младшим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Аккуратно обращаться с имуществом гимназии и чужими вещам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Выполнять требования работников гимнази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Не применять физическую силу и не употреблять грубые выражения и нецензурную брань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Не уходить из гимназии без разрешения педагогов во время занятий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r>
              <a:rPr b="0" lang="ru-RU" sz="3600" spc="-1" strike="noStrike">
                <a:solidFill>
                  <a:srgbClr val="000000"/>
                </a:solidFill>
                <a:latin typeface="News Gothic MT"/>
              </a:rPr>
              <a:t>несовершеннолетних в школе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85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обязаны выполнять Устав ОУ (Закон РФ «Об образовании» ст. 52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мся гимназии ЗАПРЕЩАЕТСЯ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иносить и использовать в гимназии оружие, пиротехнические изделия, огнеопасные вещества, горючие жидкости, газовые баллончики, сигареты, спиртные напитки, наркотики, одурманивающие вещества и т.д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Включать и использовать на уроках мобильные телефоны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r>
              <a:rPr b="0" lang="ru-RU" sz="3600" spc="-1" strike="noStrike">
                <a:solidFill>
                  <a:srgbClr val="000000"/>
                </a:solidFill>
                <a:latin typeface="News Gothic MT"/>
              </a:rPr>
              <a:t>несовершеннолетних в школе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49000" y="1600200"/>
            <a:ext cx="8042040" cy="488808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89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обязаны выполнять Устав ОУ (Закон РФ «Об образовании» ст. 52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мся гимназии                          КАТЕГОРИЧЕСКИ ЗАПРЕЩАЕТСЯ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Залезать на подоконники, шкафы, оборудование и т.д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Кататься и сидеть на перилах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С силой толкать других учеников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Входить в хозяйственные помещения, не предназначенные для людей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Открывать электрические шкафы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r>
              <a:rPr b="0" lang="ru-RU" sz="3600" spc="-1" strike="noStrike">
                <a:solidFill>
                  <a:srgbClr val="000000"/>
                </a:solidFill>
                <a:latin typeface="News Gothic MT"/>
              </a:rPr>
              <a:t>несовершеннолетних в школе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9000" y="1599840"/>
            <a:ext cx="8042040" cy="463068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78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обязаны выполнять Устав ОУ (Закон РФ «Об образовании» ст. 52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мся гимназии                          КАТЕГОРИЧЕСКИ ЗАПРЕЩАЕТСЯ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одсказывать на уроках, списывать во время урока и вне его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опускать занятия без уважительной причины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Бегать по лестницам и др. не предназначенным для этого местам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Толкать друг друга, бросаться предметами и применять физическую силу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потреблять непристойные и нецензурные выражения и жесты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r>
              <a:rPr b="0" lang="ru-RU" sz="3600" spc="-1" strike="noStrike">
                <a:solidFill>
                  <a:srgbClr val="000000"/>
                </a:solidFill>
                <a:latin typeface="News Gothic MT"/>
              </a:rPr>
              <a:t>несовершеннолетних в школе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49000" y="1600200"/>
            <a:ext cx="8042040" cy="488808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обязаны выполнять Устав ОУ (Закон РФ «Об образовании» ст. 52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гимназии ОБЯЗАНЫ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Соблюдать офисно-деловой стиль одежды (однотонные, пастельные цвета, классический стиль одежды и обуви, юноши – темный костюм, рубашка в тон, галстук, темные туфли, соответствующая стрижка; девушки – темные, средней длинны юбка, костюм, платье, светлая блузка, классические туфли, запрещены яркая косметика и украшения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КОНВЕНЦИЯ 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 ПРАВАХ РЕБЕНКА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600200"/>
            <a:ext cx="8042040" cy="510696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20 ноября 1989 г. – была принята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Ребенок – человеческое существо до достижения 18 лет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Общие принципы: недискриминационный; наилучшее обеспечение интересов ребенка; право на жизнь, выживание и развитие; уважение взглядов ребенка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1998г. – Закон РФ «Об основных гарантиях прав ребенка в РФ»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2007г. – федеральная целевая программа «Дети России»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r>
              <a:rPr b="0" lang="ru-RU" sz="3600" spc="-1" strike="noStrike">
                <a:solidFill>
                  <a:srgbClr val="000000"/>
                </a:solidFill>
                <a:latin typeface="News Gothic MT"/>
              </a:rPr>
              <a:t>несовершеннолетних в школе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49000" y="1600200"/>
            <a:ext cx="8042040" cy="488808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 fontScale="85000"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обязаны выполнять Устав ОУ (Закон РФ «Об образовании» ст. 52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Учащиеся гимназии ОБЯЗАНЫ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Находиться в классе не позднее, чем за 5 минут до начала занятий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Не приносить вещи, не относящиеся к урокам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Соблюдать требования учителя на уроке, не шуметь, не отвлекать других учащихся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Иметь на каждом уроке все необходимые принадлежност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Иметь дневник и предъявлять работникам гимназии по первому требованию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r>
              <a:rPr b="0" lang="ru-RU" sz="4000" spc="-1" strike="noStrike">
                <a:solidFill>
                  <a:srgbClr val="000000"/>
                </a:solidFill>
                <a:latin typeface="News Gothic MT"/>
              </a:rPr>
              <a:t>несовершеннолетних в школе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9000" y="1599840"/>
            <a:ext cx="8042040" cy="467028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News Gothic MT"/>
              </a:rPr>
              <a:t>Выполнение Устава  является обязательным для учащихся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News Gothic MT"/>
              </a:rPr>
              <a:t>Нарушение норм поведения влечет за собой применение мер дисциплинарного воздействия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News Gothic MT"/>
              </a:rPr>
              <a:t>Грубое и неоднократное нарушение может повлечь исключение из образовательного учреждения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9000" y="2403360"/>
            <a:ext cx="8056440" cy="247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несовершеннолетних в сфере 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БЩЕСТВЕННОГО ПОРЯДКА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49000" y="3735000"/>
            <a:ext cx="8056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br>
              <a:rPr sz="4600"/>
            </a:br>
            <a:r>
              <a:rPr b="0" lang="ru-RU" sz="3200" spc="-1" strike="noStrike">
                <a:solidFill>
                  <a:srgbClr val="000000"/>
                </a:solidFill>
                <a:latin typeface="News Gothic MT"/>
              </a:rPr>
              <a:t>в сфере общественного порядка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ЗАПРЕЩЕНО нахождение несовершеннолетних в возрасте до 16 лет с 23 до 6 часов, в возрасте от 16 до 18 лет с 23 до 6 часов на объектах, предназначенных для предоставления доступа к сети «Интернет», реализации услуг в сфере торговли и  общественного питания, в развлекательных и досуговых комплексах, иных общественных местах, без сопровождения родителей или лиц, осуществляющих мероприятия по образованию, воспитанию, развитию несовершеннолетних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ТВЕТСТВЕННОСТЬ </a:t>
            </a:r>
            <a:br>
              <a:rPr sz="4600"/>
            </a:br>
            <a:r>
              <a:rPr b="0" lang="ru-RU" sz="4000" spc="-1" strike="noStrike">
                <a:solidFill>
                  <a:srgbClr val="000000"/>
                </a:solidFill>
                <a:latin typeface="News Gothic MT"/>
              </a:rPr>
              <a:t>в сфере общественного порядка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Запрещено курение табака 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на территориях и в помещениях образовательных организаций – влечет привлечение к административной ответственности - штраф (ст, 6. ФЗ РФ «Об ограничении курения табака»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Запрещено курение в помещениях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, не предназначенных для этого, как нарушение требований пожарной безопасности – влечет привлечение к административной ответственности – штраф (ст. 20.4. КоАП РФ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95959"/>
                </a:solidFill>
                <a:uFillTx/>
                <a:latin typeface="News Gothic MT"/>
              </a:rPr>
              <a:t>Запрещено курение в общественных помещениях</a:t>
            </a:r>
            <a:r>
              <a:rPr b="0" lang="ru-RU" sz="2000" spc="-1" strike="noStrike">
                <a:solidFill>
                  <a:srgbClr val="595959"/>
                </a:solidFill>
                <a:latin typeface="News Gothic MT"/>
              </a:rPr>
              <a:t>, как нарушение санитарно-эпидемиологических требований - влечет привлечение к административной ответственности – штраф (ст. 6.4. КоАП РФ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ГРАЖДАНСКИЕ  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ПРАВА  И СВОБОДЫ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имя и гражданство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сохранение индивидуальности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свободу выражения своего мнения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доступа к соответствующей информаци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Свобода мысли, совести и религи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Свобода ассоциаций и мирных собраний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защиту личност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ПРАВА РЕБЕНКА В СЕМЬЕ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родителей руководить ребенком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Общая и одинаковая ответственность обоих родителей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ребенка не разлучаться с родителями вопреки его желанию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усыновление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защиту от злоупотреблений и отсутсвия заботы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БЛАГОСОСТОЯНИЕ РЕБЕНКА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08040"/>
            <a:ext cx="8042040" cy="47023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ребенка на развитие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пользование наиболее совершенными услугами в области здравоохранения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социальное обеспечение и доступ к службам по уходу за детьми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уровень жизни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образование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News Gothic MT"/>
              </a:rPr>
              <a:t>Право на отдых, досуг и культурную деятельность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2403360"/>
            <a:ext cx="80564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БЯЗАННОСТИ  НЕСОВЕРШЕННОЛЕТНИХ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3735000"/>
            <a:ext cx="8056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ОБЯЗАННОСТИ 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News Gothic MT"/>
              </a:rPr>
              <a:t>граждан РФ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8042040" cy="4822920"/>
          </a:xfrm>
          <a:prstGeom prst="rect">
            <a:avLst/>
          </a:prstGeom>
          <a:noFill/>
          <a:ln w="9360">
            <a:solidFill>
              <a:srgbClr val="7a7a7a"/>
            </a:solidFill>
            <a:miter/>
          </a:ln>
        </p:spPr>
        <p:txBody>
          <a:bodyPr anchor="t">
            <a:normAutofit/>
          </a:bodyPr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Трудоспособные дети, достигшие 18 лет, должны заботиться о нетрудоспособных родителях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Каждый обязан заботиться о сохранении исторического и культурного наследия, беречь памятники истории и культуры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Граждане обязаны соблюдать Конституцию Российской Федерации и законы страны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Забота о детях, их воспитание - равное право и обязанность родителей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Каждый гражданин обязан платить налоги и сборы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Каждый обязан сохранять природу и окружающую среду, бережно относиться к природным богатствам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4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95959"/>
                </a:solidFill>
                <a:latin typeface="News Gothic MT"/>
              </a:rPr>
              <a:t>Защита Отечества является долгом и обязанностью гражданина Российской Федерации. </a:t>
            </a:r>
            <a:r>
              <a:rPr b="0" lang="ru-RU" sz="1800" spc="-1" strike="noStrike">
                <a:solidFill>
                  <a:srgbClr val="595959"/>
                </a:solidFill>
                <a:latin typeface="News Gothic MT"/>
              </a:rPr>
              <a:t> 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6:26:53Z</dcterms:created>
  <dc:creator>Лунежка</dc:creator>
  <dc:description/>
  <dc:language>en-US</dc:language>
  <cp:lastModifiedBy>Учитель</cp:lastModifiedBy>
  <dcterms:modified xsi:type="dcterms:W3CDTF">2016-09-08T04:22:45Z</dcterms:modified>
  <cp:revision>42</cp:revision>
  <dc:subject/>
  <dc:title>Права и обязанности несовершеннолетних</dc:title>
</cp:coreProperties>
</file>