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5CE4-25E7-4947-8276-DAEE98EE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E610-4D23-401B-9F9B-637019B5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6C98-E1FF-4E71-869F-5AEF8FA0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EC68-94C5-4736-B2AA-DA2495B7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F282-E64D-4748-A440-4DAF8B07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E4C4-9CD7-438F-AB53-9BF5DE20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763D-F290-4776-B767-D15C0F95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C1D0-FDD8-4FD9-A9A7-ECA69C41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C4FF-BD4D-4125-A2E1-C36152C4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3405-0073-4A5E-819D-32808B27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98C7-B405-486A-B116-90EB7A19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E1B1-B08A-4ED4-BE7D-D381198E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9501-9C67-4F84-9AED-F693D731AF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Здоровому все здорово»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500040" y="2286000"/>
            <a:ext cx="5130720" cy="379080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1143000" y="928800"/>
            <a:ext cx="7715160" cy="45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Комарова Натал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Констант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воспит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imes New Roman"/>
              </a:rPr>
              <a:t>I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квалификацио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г. Няг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4500720" y="4071960"/>
            <a:ext cx="2171520" cy="1714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6929280" y="2786040"/>
            <a:ext cx="2071800" cy="1857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6715080" y="642960"/>
            <a:ext cx="2162160" cy="1857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нужно делать чтобы сохранить здоровь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рошо пита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ружить с чистот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ть фрукты и ов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лать зарядку и заниматься спор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алять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улять на свежем воздух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тотерап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4"/>
          <a:stretch/>
        </p:blipFill>
        <p:spPr>
          <a:xfrm>
            <a:off x="4500720" y="1714680"/>
            <a:ext cx="2152440" cy="1785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5"/>
          <a:stretch/>
        </p:blipFill>
        <p:spPr>
          <a:xfrm>
            <a:off x="6929280" y="5000760"/>
            <a:ext cx="22147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143240" y="500040"/>
            <a:ext cx="4640400" cy="3429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584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ин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571680" y="1214280"/>
            <a:ext cx="3571560" cy="5357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4357800" y="3786120"/>
            <a:ext cx="456876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а «Угадай на вкус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71680" y="1125360"/>
            <a:ext cx="3641400" cy="2517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4643280" y="1214280"/>
            <a:ext cx="3881520" cy="2513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571680" y="3786120"/>
            <a:ext cx="3714480" cy="2786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4"/>
          <a:stretch/>
        </p:blipFill>
        <p:spPr>
          <a:xfrm>
            <a:off x="4714920" y="3786120"/>
            <a:ext cx="38577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храним здоровье с детств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/делимся семейным опытом/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214280" y="1428840"/>
            <a:ext cx="707256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словицы и поговорки о здоровь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5712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то любит спорт, тот здоров и бо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де здоровье - там и красо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вигайся больше - проживешь дольш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олнце, воздух и вода помогают нам всег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олода не бойся, сам по пояс мой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истота - залог здоров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молоду закалишься, на весь век сгодиш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тдашь спорту время - взамен получишь здоровь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спортом занимается, тот силы набирае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ыстрого и ловкого болезнь не догонит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357200" y="714240"/>
            <a:ext cx="592956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14:11:29Z</dcterms:created>
  <dc:creator>Admin</dc:creator>
  <dc:description/>
  <dc:language>en-US</dc:language>
  <cp:lastModifiedBy>ADMIN</cp:lastModifiedBy>
  <dcterms:modified xsi:type="dcterms:W3CDTF">2016-09-01T15:15:12Z</dcterms:modified>
  <cp:revision>24</cp:revision>
  <dc:subject/>
  <dc:title>Слайд 1</dc:title>
</cp:coreProperties>
</file>