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6B53-3050-4D3D-8C27-2109DDF0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B90F-0C82-4F96-BCF0-38F19059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29AA-8DF1-46E8-A224-8E7E48A4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363A-8DD8-49BF-BE69-576439E3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004D-B409-48C6-B05F-C42B1CDC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6839-69E7-4202-84B8-1DFED34A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E690-812A-45A2-9F28-EF42A0DC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35F6-62EA-4253-A464-AA302469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9758-BAD5-4A23-90C7-969D5CC7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4C62-826A-4EB3-9302-86DDF23D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257A-CE5B-4BF9-A534-3EAAACBE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8915-AD40-4822-84AB-76CAA2C5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9DC2-D7CF-4FE6-BBD0-4C0EFC457E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Здоровому все здорово»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500040" y="2286000"/>
            <a:ext cx="5130720" cy="379080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1143000" y="928800"/>
            <a:ext cx="7715160" cy="45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Комарова Натал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Констант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воспит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imes New Roman"/>
              </a:rPr>
              <a:t>I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квалификацио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г. Няг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4500720" y="4071960"/>
            <a:ext cx="2171520" cy="1714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6929280" y="2786040"/>
            <a:ext cx="2071800" cy="1857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6715080" y="642960"/>
            <a:ext cx="2162160" cy="1857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нужно делать чтобы сохранить здоровь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рошо пита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ружить с чистот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ть фрукты и ов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лать зарядку и заниматься спор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алять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улять на свежем воздух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тотерап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4"/>
          <a:stretch/>
        </p:blipFill>
        <p:spPr>
          <a:xfrm>
            <a:off x="4500720" y="1714680"/>
            <a:ext cx="2152440" cy="1785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5"/>
          <a:stretch/>
        </p:blipFill>
        <p:spPr>
          <a:xfrm>
            <a:off x="6929280" y="5000760"/>
            <a:ext cx="22147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143240" y="500040"/>
            <a:ext cx="4640400" cy="3429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584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ин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571680" y="1214280"/>
            <a:ext cx="3571560" cy="5357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4357800" y="3786120"/>
            <a:ext cx="456876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а «Угадай на вкус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71680" y="1125360"/>
            <a:ext cx="3641400" cy="2517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4643280" y="1214280"/>
            <a:ext cx="3881520" cy="2513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571680" y="3786120"/>
            <a:ext cx="3714480" cy="2786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4"/>
          <a:stretch/>
        </p:blipFill>
        <p:spPr>
          <a:xfrm>
            <a:off x="4714920" y="3786120"/>
            <a:ext cx="38577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храним здоровье с детств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/делимся семейным опытом/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214280" y="1428840"/>
            <a:ext cx="707256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словицы и поговорки о здоровь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5712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то любит спорт, тот здоров и бо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де здоровье - там и красо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вигайся больше - проживешь дольш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олнце, воздух и вода помогают нам всег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олода не бойся, сам по пояс мой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истота - залог здоров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молоду закалишься, на весь век сгодиш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тдашь спорту время - взамен получишь здоровь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спортом занимается, тот силы набирае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ыстрого и ловкого болезнь не догонит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357200" y="714240"/>
            <a:ext cx="592956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14:11:29Z</dcterms:created>
  <dc:creator>Admin</dc:creator>
  <dc:description/>
  <dc:language>en-US</dc:language>
  <cp:lastModifiedBy>ADMIN</cp:lastModifiedBy>
  <dcterms:modified xsi:type="dcterms:W3CDTF">2016-09-01T15:15:12Z</dcterms:modified>
  <cp:revision>24</cp:revision>
  <dc:subject/>
  <dc:title>Слайд 1</dc:title>
</cp:coreProperties>
</file>