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203-FD04-4238-995E-F9BB9F2E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AA6-7EE7-4CB6-8220-6E744A7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C4E-FD0B-47F1-B147-BE23C1E8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774-238D-4F39-8E2B-06A6FAE6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4F08-A00F-4350-A906-4CF61A1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5B87-44A3-4B84-925A-962735E8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E48-0813-4810-8242-713B18F5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1414-A8CB-4156-AC50-7C9E6CF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A621-B5EB-41CB-AF28-88C6C46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D088-DD02-4B2C-97D2-C6CF1F7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B02-81CB-440A-BEFE-B088EF6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150-3FAF-4E37-8EB0-66D7151E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80F-103A-441D-8905-0D117B4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AC7-2ACD-4713-885C-5564464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F50-4700-477A-89E9-AD1CD6B9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DEFF-E1F4-4F35-8A92-FF605876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9DC-4650-4E6C-9FEF-6842BCB9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A2B-E888-4C10-9396-4BFFC98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5C2-0C9C-4E0B-B683-A5E00697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13E-6F5A-452B-ADD4-5E6C0903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B52-773A-4C96-86A6-1E1D9938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BB7-2861-4FA3-B512-79F0019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DC1-5A2E-4BE4-9504-5370D5E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92D-BCF2-422F-8F77-5E79949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34B-8BDC-42CA-B66B-959CF54DE7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4E63-955A-4BEC-8720-49FABE936579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ческие реформ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. А. Столып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читайте текст учебника (стр. 49) и ответьте на вопрос: Каковы результаты реформы? Ответ оформите в виде табл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85880" y="3929040"/>
          <a:ext cx="8048520" cy="1671840"/>
        </p:xfrm>
        <a:graphic>
          <a:graphicData uri="http://schemas.openxmlformats.org/drawingml/2006/table">
            <a:tbl>
              <a:tblPr/>
              <a:tblGrid>
                <a:gridCol w="4214880"/>
                <a:gridCol w="3833640"/>
              </a:tblGrid>
              <a:tr h="16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рт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едостатки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начение реформы П.А. Столып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смотря на то, что реформа имела ряд недостатков и осталась незавершенной, она способствовала развитию капитализма в сельском хозяйст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знакомиться с целями, содержанием и результатами экономических реформ начала 20 ве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вивать навыки работы с текстом учебника и документ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вивать аналитические умения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тр Аркадьевич Столыпин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грамма рефор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грарная рефор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) цель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) содержание реформы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) итоги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чение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тр Аркадьевич Столыпин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862 – 1911г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ссийский государственный деятель. Окончил Петербургский университет. Служил в министерстве внутренних дел. С 1903 по 1906 гг. был губернатором Саратовской губернии. С апреля 1906 г. – министр внутренних дел. С июля 1906 г. – председатель Совета министров и министр внутренних дел. Автор аграрной реформы 1906 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грамма рефор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4 августа 1906 г. – публикация программы рефор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ведение чрезвычайных ме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грарная ре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готовка законопроектов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) о свободе вероисповед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) о гражданском равноправ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) об улучшении быта рабоч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) о реформе местного самоуправ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) о реформе высшей и средней шко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) о введении всеобщего начального обучения и улучшении материального обеспечения учите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ж) о подоходном налог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грарная рефор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блемное задание: Изучая содержание столыпинской аграрной реформы, сделайте вывод о том какие цели преследовало правительство, проводя преобразования в дерев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рушение общины (стр. 46 – 47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руб – участок земли, выделенный крестьянину при выходе из общины с сохранением его двора в дерев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утор – участок земли, выделенный крестьянину при выходе его из общины с переселением из деревни на свой участ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селенческая политика (стр. 48 – 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ие льготы предоставлялись желающим переселиться на новые мест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) освобождение от налогов на 5 л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) предоставление земли в собственность (15 га на главу семьи и 45 га на остальных членов семь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) денежную ссуд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) освобождение мужчин от воинской повинност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ть социальную опору для самодержавия в лице крестьян-собствен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низить революционную активность крестьянст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допустить захвата крестьянами помещичьих зем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слабить земельный голод в центральных губерниях Росс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20:54Z</dcterms:created>
  <dc:creator>Ирина</dc:creator>
  <dc:description/>
  <dc:language>en-US</dc:language>
  <cp:lastModifiedBy>Дима</cp:lastModifiedBy>
  <dcterms:modified xsi:type="dcterms:W3CDTF">2016-08-19T11:10:13Z</dcterms:modified>
  <cp:revision>4</cp:revision>
  <dc:subject/>
  <dc:title>Экономические рреформы</dc:title>
</cp:coreProperties>
</file>