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FAF-A655-4AFC-A6BC-49721F07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27A-3B4F-454F-95A2-2FFB7672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200-59F6-4723-AFB0-A7C717D2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DD8-9505-4C36-B2CC-94208943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8103-7FE0-46E8-A591-750C230F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5892-A980-495F-A2B2-0202A3FF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D47B-1D22-4F9B-B069-88D6D5EB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DD33-58C4-4E3F-B487-07CFE0C3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0719-BE05-4F26-B7AB-F2E560CE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CE79-9AA1-48D7-B25F-50E74C86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A39D-2F3D-48F0-90AC-656284CC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E8E-EF5F-44D9-9569-76B9FCAE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CDC0-EEC2-44C1-A247-F95B1B8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1AB5-563D-4D9E-BA2B-E65B5B0F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B9D4-3B87-44BB-9B00-AFAC78C8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34F3-3757-4CB4-B82D-2C940D5F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6E74-C5C2-4C2A-94D7-55D593A8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D7B-69D8-4F28-9770-9BD609A7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816D-DA22-458F-A9C8-2A4A0D6A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DF7-6488-4B32-9FE2-F579B47B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A21-0441-451F-A7A3-17B11DF4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E62-ED94-461A-8588-CEFA1FB8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474-1A20-456D-843C-E470FFCF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897-22B2-4AFD-B04E-2ABB87FF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9481-849C-440E-918C-5650862D0A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C4AB-A670-4B62-BDF2-9F4EE464BFF5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кономические реформы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. А. Столыпи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зультаты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очитайте текст учебника (стр. 49) и ответьте на вопрос: Каковы результаты реформы? Ответ оформите в виде таблиц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85880" y="3929040"/>
          <a:ext cx="8048520" cy="1671840"/>
        </p:xfrm>
        <a:graphic>
          <a:graphicData uri="http://schemas.openxmlformats.org/drawingml/2006/table">
            <a:tbl>
              <a:tblPr/>
              <a:tblGrid>
                <a:gridCol w="4214880"/>
                <a:gridCol w="3833640"/>
              </a:tblGrid>
              <a:tr h="16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оложительны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черт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едостатки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начение реформы П.А. Столыпи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смотря на то, что реформа имела ряд недостатков и осталась незавершенной, она способствовала развитию капитализма в сельском хозяйств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знакомиться с целями, содержанием и результатами экономических реформ начала 20 ве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азвивать навыки работы с текстом учебника и документ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азвивать аналитические умения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етр Аркадьевич Столыпин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ограмма рефор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грарная реформ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) цель реформ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) содержание реформы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) итоги реформ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чение реформ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тр Аркадьевич Столыпин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862 – 1911гг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оссийский государственный деятель. Окончил Петербургский университет. Служил в министерстве внутренних дел. С 1903 по 1906 гг. был губернатором Саратовской губернии. С апреля 1906 г. – министр внутренних дел. С июля 1906 г. – председатель Совета министров и министр внутренних дел. Автор аграрной реформы 1906 г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грамма рефор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4 августа 1906 г. – публикация программы рефор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ведение чрезвычайных ме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грарная реформ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дготовка законопроектов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) о свободе вероисповеда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) о гражданском равноправ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) об улучшении быта рабочи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) о реформе местного самоуправл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) о реформе высшей и средней школ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е) о введении всеобщего начального обучения и улучшении материального обеспечения учител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ж) о подоходном налог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грарная рефор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облемное задание: Изучая содержание столыпинской аграрной реформы, сделайте вывод о том какие цели преследовало правительство, проводя преобразования в деревн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держание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азрушение общины (стр. 46 – 47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руб – участок земли, выделенный крестьянину при выходе из общины с сохранением его двора в деревн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Хутор – участок земли, выделенный крестьянину при выходе его из общины с переселением из деревни на свой участо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держание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еселенческая политика (стр. 48 – 49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кие льготы предоставлялись желающим переселиться на новые места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а) освобождение от налогов на 5 ле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) предоставление земли в собственность (15 га на главу семьи и 45 га на остальных членов семьи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) денежную ссуд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) освобождение мужчин от воинской повинност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оздать социальную опору для самодержавия в лице крестьян-собственник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низить революционную активность крестьянств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 допустить захвата крестьянами помещичьих земе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слабить земельный голод в центральных губерниях Росси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9:20:54Z</dcterms:created>
  <dc:creator>Ирина</dc:creator>
  <dc:description/>
  <dc:language>en-US</dc:language>
  <cp:lastModifiedBy>Дима</cp:lastModifiedBy>
  <dcterms:modified xsi:type="dcterms:W3CDTF">2016-08-19T11:10:13Z</dcterms:modified>
  <cp:revision>4</cp:revision>
  <dc:subject/>
  <dc:title>Экономические рреформы</dc:title>
</cp:coreProperties>
</file>