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968-2984-498E-9A85-3013A971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94F-4B9F-4A05-A038-AA89A0F1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7F4-9D02-4DE3-9FDB-1E1055D3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857-2B67-4C58-8D11-D8CA4D02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642-FD8A-4715-BA1A-7A862ED6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3474-A46E-4EAC-9308-8CB1F2D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B0D-2454-4ED2-85A0-A5EE1F7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69A6-188C-4F9A-86B5-2C3E3F92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F3FA-E4C3-47D5-8721-B62766D0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F61B-BCBE-40AF-86C3-E52C2B2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D46-56C0-4180-BC35-D35FEE9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9B4-57CD-4178-9C0D-47A2D66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4F0F-FBF3-4661-AAA9-97B0CBA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CFA-0D54-4AC1-9133-A0A931F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FDF3-D3CD-42E9-95DC-EE83230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E38-0A5F-48DA-A745-1FF22D85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27C-28BB-4930-A608-A802785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5B8-DF33-4B76-897D-912CF96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156-04F6-4956-920F-68377219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DFE-076C-4235-92DE-A0A20A9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4E8-A888-46E7-84CE-3BA0B7EC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A66-D6F0-40D9-91AF-CA00808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8AA-EFBB-44D7-BA91-C83DB70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60A-898D-4855-A8D7-EB3077A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8F4F-895C-463D-9769-78090ADBB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7BB-1A64-4911-89A5-9A8DB471B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714680" y="1143000"/>
            <a:ext cx="6858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оны  класса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4" descr="D:\клипарты\Дети\33513e45d6d6.png"/>
          <p:cNvPicPr/>
          <p:nvPr/>
        </p:nvPicPr>
        <p:blipFill>
          <a:blip r:embed="rId1"/>
          <a:stretch/>
        </p:blipFill>
        <p:spPr>
          <a:xfrm>
            <a:off x="2500200" y="3427560"/>
            <a:ext cx="2714760" cy="343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64400" y="5357880"/>
            <a:ext cx="7650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реги своё здоровье и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х теб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клипарты\люди\9b09dacd8435.png"/>
          <p:cNvPicPr/>
          <p:nvPr/>
        </p:nvPicPr>
        <p:blipFill>
          <a:blip r:embed="rId2"/>
          <a:stretch/>
        </p:blipFill>
        <p:spPr>
          <a:xfrm>
            <a:off x="571680" y="1357200"/>
            <a:ext cx="3429000" cy="371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клипарты\Дети\880dd372e36c.png"/>
          <p:cNvPicPr/>
          <p:nvPr/>
        </p:nvPicPr>
        <p:blipFill>
          <a:blip r:embed="rId3"/>
          <a:stretch/>
        </p:blipFill>
        <p:spPr>
          <a:xfrm>
            <a:off x="5205240" y="1357200"/>
            <a:ext cx="26528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1"/>
          <a:stretch/>
        </p:blipFill>
        <p:spPr>
          <a:xfrm>
            <a:off x="1773360" y="42840"/>
            <a:ext cx="5346720" cy="11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42080" y="5000760"/>
            <a:ext cx="81331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рожи школьной дружбой, цени с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, школу. Научись радоваться н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им успехам, но и успехам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клипарты\люди\1c83907c84ef.png"/>
          <p:cNvPicPr/>
          <p:nvPr/>
        </p:nvPicPr>
        <p:blipFill>
          <a:blip r:embed="rId2"/>
          <a:stretch/>
        </p:blipFill>
        <p:spPr>
          <a:xfrm>
            <a:off x="1500120" y="1428840"/>
            <a:ext cx="6280200" cy="338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786040" y="357120"/>
            <a:ext cx="38718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3" descr="D:\клипарты\Дети\872addd2b1a5.png"/>
          <p:cNvPicPr/>
          <p:nvPr/>
        </p:nvPicPr>
        <p:blipFill>
          <a:blip r:embed="rId1"/>
          <a:stretch/>
        </p:blipFill>
        <p:spPr>
          <a:xfrm>
            <a:off x="3000240" y="1643040"/>
            <a:ext cx="296712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738360" y="5286240"/>
            <a:ext cx="7541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дь добр к ближнему и добр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рнётся к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42840"/>
            <a:ext cx="471204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D:\клипарты\люди\7e1924f17e3a.png"/>
          <p:cNvPicPr/>
          <p:nvPr/>
        </p:nvPicPr>
        <p:blipFill>
          <a:blip r:embed="rId2"/>
          <a:stretch/>
        </p:blipFill>
        <p:spPr>
          <a:xfrm>
            <a:off x="3071880" y="1357200"/>
            <a:ext cx="3124080" cy="390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67800" y="4857840"/>
            <a:ext cx="79513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емись познавать себя и м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владевай знаниями и готовься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стояте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583240" cy="11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липарты\люди\08d0a37d15c1.png"/>
          <p:cNvPicPr/>
          <p:nvPr/>
        </p:nvPicPr>
        <p:blipFill>
          <a:blip r:embed="rId2"/>
          <a:stretch/>
        </p:blipFill>
        <p:spPr>
          <a:xfrm>
            <a:off x="2357280" y="1071720"/>
            <a:ext cx="4429440" cy="38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4857840" cy="111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744480" y="1428840"/>
            <a:ext cx="78328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жде чем требовать внимание к се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яви его к окружающим людям. 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 их интересах, нуждах, потреб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клипарты\люди\8b17921adefe.png"/>
          <p:cNvPicPr/>
          <p:nvPr/>
        </p:nvPicPr>
        <p:blipFill>
          <a:blip r:embed="rId2"/>
          <a:stretch/>
        </p:blipFill>
        <p:spPr>
          <a:xfrm>
            <a:off x="500040" y="3071880"/>
            <a:ext cx="399096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клипарты\люди\16fa245c2025t.jpg"/>
          <p:cNvPicPr/>
          <p:nvPr/>
        </p:nvPicPr>
        <p:blipFill>
          <a:blip r:embed="rId3"/>
          <a:stretch/>
        </p:blipFill>
        <p:spPr>
          <a:xfrm>
            <a:off x="5786280" y="3184560"/>
            <a:ext cx="2214720" cy="350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42840"/>
            <a:ext cx="83455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10480" y="5357880"/>
            <a:ext cx="78876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ое относись к людям так, как хоч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бы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клипарты\люди\03c2c4c066dat.jpg"/>
          <p:cNvPicPr/>
          <p:nvPr/>
        </p:nvPicPr>
        <p:blipFill>
          <a:blip r:embed="rId2"/>
          <a:stretch/>
        </p:blipFill>
        <p:spPr>
          <a:xfrm>
            <a:off x="2214720" y="1285920"/>
            <a:ext cx="2090520" cy="39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ипарты\люди\3e787f63d861.jpg"/>
          <p:cNvPicPr/>
          <p:nvPr/>
        </p:nvPicPr>
        <p:blipFill>
          <a:blip r:embed="rId3"/>
          <a:stretch/>
        </p:blipFill>
        <p:spPr>
          <a:xfrm>
            <a:off x="4643280" y="1357200"/>
            <a:ext cx="2971800" cy="39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109440"/>
            <a:ext cx="646272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448920" y="4857840"/>
            <a:ext cx="82702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бе сегодня хорошо, но рядом могу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, у которых слёзы на глазах. Не забы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D:\клипарты\люди\семья\parents057.gif"/>
          <p:cNvPicPr/>
          <p:nvPr/>
        </p:nvPicPr>
        <p:blipFill>
          <a:blip r:embed="rId2"/>
          <a:stretch/>
        </p:blipFill>
        <p:spPr>
          <a:xfrm>
            <a:off x="2571840" y="1251000"/>
            <a:ext cx="4071960" cy="353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487520" y="42840"/>
            <a:ext cx="5688000" cy="111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16440" y="4857840"/>
            <a:ext cx="84286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чешь, чтоб тебя уважали, - уважай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нтересы других людей, а также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ть так, чтобы людям с тобой было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клипарты\люди\семья\parents077.gif"/>
          <p:cNvPicPr/>
          <p:nvPr/>
        </p:nvPicPr>
        <p:blipFill>
          <a:blip r:embed="rId2"/>
          <a:stretch/>
        </p:blipFill>
        <p:spPr>
          <a:xfrm>
            <a:off x="4286160" y="128592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19300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57560" y="5429160"/>
            <a:ext cx="8111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мни, правда нужна не только тебе, но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м тебя людям. Будь правд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клипарты\люди\0f32bd9346b0.png"/>
          <p:cNvPicPr/>
          <p:nvPr/>
        </p:nvPicPr>
        <p:blipFill>
          <a:blip r:embed="rId2"/>
          <a:stretch/>
        </p:blipFill>
        <p:spPr>
          <a:xfrm>
            <a:off x="2857680" y="1285920"/>
            <a:ext cx="374004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1768320" y="42840"/>
            <a:ext cx="54975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69600" y="5000760"/>
            <a:ext cx="76604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ждый человек хочет быть своб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стаивая свою свободу, не забывай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боде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ипарты\люди\семья\parents046.gif"/>
          <p:cNvPicPr/>
          <p:nvPr/>
        </p:nvPicPr>
        <p:blipFill>
          <a:blip r:embed="rId2"/>
          <a:stretch/>
        </p:blipFill>
        <p:spPr>
          <a:xfrm>
            <a:off x="3143160" y="1214280"/>
            <a:ext cx="361944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User</cp:lastModifiedBy>
  <dcterms:modified xsi:type="dcterms:W3CDTF">2013-11-10T12:17:46Z</dcterms:modified>
  <cp:revision>8</cp:revision>
  <dc:subject/>
  <dc:title>Слайд 1</dc:title>
</cp:coreProperties>
</file>