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0978-EDBB-4486-B93B-0647FC17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B06F-A75F-4A1E-9997-8D0336F8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2A4B-405A-4572-AAF9-2F9C08FFA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CBE6-FA68-4FE1-B0E2-61B571FC8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4FA5-259D-4B94-9672-404A42BBB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D922-657E-412F-A234-14BE491E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65D9-8A01-481A-AC06-B243A04E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89F5-C35D-47A2-A3F7-F6B26B36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8FD1-60E3-4E47-B9CC-6C330295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7DAE-1EEA-4ACA-9308-19E7D9F6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CDFA-1F93-4A17-9177-2B688DBB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7CD5-08E7-41E5-8FCC-A497082C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BC14-9FBF-4B2B-A26D-EB21E2CA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9248-7686-416D-A3E6-CB57A16B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D78F-C270-49E8-AD73-56EA7D2D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23E2-9C65-49CC-B23D-1E49620B0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2C49-ECC2-4081-ACD9-30D62D477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70FA-C59E-486E-98D7-DD60AF17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29C4-1D09-472F-96FC-1DE1FA23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AC5E-AE16-4D0B-974A-32AA28D2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D6C7-61E0-414D-A24E-DBE9D5DA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84BA-385D-4FF8-8FFA-FC3BB114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241D-C732-4427-972F-44F3E676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8816-C5EA-4A25-AC06-1B542E73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1281-3A97-44EA-880F-CCC5A87814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клипарты\Оформляшки\5e226a3bbf95.png"/>
          <p:cNvPicPr/>
          <p:nvPr/>
        </p:nvPicPr>
        <p:blipFill>
          <a:blip r:embed="rId3"/>
          <a:srcRect l="-872" t="46843" r="51530" b="0"/>
          <a:stretch/>
        </p:blipFill>
        <p:spPr>
          <a:xfrm>
            <a:off x="357120" y="0"/>
            <a:ext cx="8532720" cy="6405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3EBE-DA61-40CB-9063-5608BD8184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3"/>
          <p:cNvSpPr txBox="1"/>
          <p:nvPr/>
        </p:nvSpPr>
        <p:spPr>
          <a:xfrm>
            <a:off x="1714680" y="1143000"/>
            <a:ext cx="685800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 </a:t>
            </a: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коны  класса   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84" name="Picture 4" descr="D:\клипарты\Дети\33513e45d6d6.png"/>
          <p:cNvPicPr/>
          <p:nvPr/>
        </p:nvPicPr>
        <p:blipFill>
          <a:blip r:embed="rId1"/>
          <a:stretch/>
        </p:blipFill>
        <p:spPr>
          <a:xfrm>
            <a:off x="2500200" y="3427560"/>
            <a:ext cx="2714760" cy="3430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ямоугольник 1" descr=""/>
          <p:cNvPicPr/>
          <p:nvPr/>
        </p:nvPicPr>
        <p:blipFill>
          <a:blip r:embed="rId1"/>
          <a:stretch/>
        </p:blipFill>
        <p:spPr>
          <a:xfrm>
            <a:off x="1768320" y="42840"/>
            <a:ext cx="5712120" cy="11160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2"/>
          <p:cNvSpPr/>
          <p:nvPr/>
        </p:nvSpPr>
        <p:spPr>
          <a:xfrm>
            <a:off x="464400" y="5357880"/>
            <a:ext cx="765000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ереги своё здоровье и здоровь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кружающих тебя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D:\клипарты\люди\9b09dacd8435.png"/>
          <p:cNvPicPr/>
          <p:nvPr/>
        </p:nvPicPr>
        <p:blipFill>
          <a:blip r:embed="rId2"/>
          <a:stretch/>
        </p:blipFill>
        <p:spPr>
          <a:xfrm>
            <a:off x="571680" y="1357200"/>
            <a:ext cx="3429000" cy="3711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D:\клипарты\Дети\880dd372e36c.png"/>
          <p:cNvPicPr/>
          <p:nvPr/>
        </p:nvPicPr>
        <p:blipFill>
          <a:blip r:embed="rId3"/>
          <a:stretch/>
        </p:blipFill>
        <p:spPr>
          <a:xfrm>
            <a:off x="5205240" y="1357200"/>
            <a:ext cx="2652840" cy="3643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Прямоугольник 1" descr=""/>
          <p:cNvPicPr/>
          <p:nvPr/>
        </p:nvPicPr>
        <p:blipFill>
          <a:blip r:embed="rId1"/>
          <a:stretch/>
        </p:blipFill>
        <p:spPr>
          <a:xfrm>
            <a:off x="1773360" y="42840"/>
            <a:ext cx="5346720" cy="1116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2"/>
          <p:cNvSpPr/>
          <p:nvPr/>
        </p:nvSpPr>
        <p:spPr>
          <a:xfrm>
            <a:off x="442080" y="5000760"/>
            <a:ext cx="8133120" cy="155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рожи школьной дружбой, цени св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ласс, школу. Научись радоваться не толь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воим успехам, но и успехам товарищ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D:\клипарты\люди\1c83907c84ef.png"/>
          <p:cNvPicPr/>
          <p:nvPr/>
        </p:nvPicPr>
        <p:blipFill>
          <a:blip r:embed="rId2"/>
          <a:stretch/>
        </p:blipFill>
        <p:spPr>
          <a:xfrm>
            <a:off x="1500120" y="1428840"/>
            <a:ext cx="6280200" cy="3387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2786040" y="357120"/>
            <a:ext cx="3871800" cy="13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  </a:t>
            </a: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нец    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19" name="Picture 3" descr="D:\клипарты\Дети\872addd2b1a5.png"/>
          <p:cNvPicPr/>
          <p:nvPr/>
        </p:nvPicPr>
        <p:blipFill>
          <a:blip r:embed="rId1"/>
          <a:stretch/>
        </p:blipFill>
        <p:spPr>
          <a:xfrm>
            <a:off x="3000240" y="1643040"/>
            <a:ext cx="2967120" cy="3071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2"/>
          <p:cNvSpPr/>
          <p:nvPr/>
        </p:nvSpPr>
        <p:spPr>
          <a:xfrm>
            <a:off x="738360" y="5286240"/>
            <a:ext cx="75416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удь добр к ближнему и добр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ернётся к теб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Прямоугольник 3" descr=""/>
          <p:cNvPicPr/>
          <p:nvPr/>
        </p:nvPicPr>
        <p:blipFill>
          <a:blip r:embed="rId1"/>
          <a:stretch/>
        </p:blipFill>
        <p:spPr>
          <a:xfrm>
            <a:off x="1908000" y="42840"/>
            <a:ext cx="4712040" cy="1116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" descr="D:\клипарты\люди\7e1924f17e3a.png"/>
          <p:cNvPicPr/>
          <p:nvPr/>
        </p:nvPicPr>
        <p:blipFill>
          <a:blip r:embed="rId2"/>
          <a:stretch/>
        </p:blipFill>
        <p:spPr>
          <a:xfrm>
            <a:off x="3071880" y="1357200"/>
            <a:ext cx="3124080" cy="3905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667800" y="4857840"/>
            <a:ext cx="795132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тремись познавать себя и мир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владевай знаниями и готовься 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амостоятельной жиз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Прямоугольник 2" descr=""/>
          <p:cNvPicPr/>
          <p:nvPr/>
        </p:nvPicPr>
        <p:blipFill>
          <a:blip r:embed="rId1"/>
          <a:stretch/>
        </p:blipFill>
        <p:spPr>
          <a:xfrm>
            <a:off x="1768320" y="42840"/>
            <a:ext cx="5583240" cy="1116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D:\клипарты\люди\08d0a37d15c1.png"/>
          <p:cNvPicPr/>
          <p:nvPr/>
        </p:nvPicPr>
        <p:blipFill>
          <a:blip r:embed="rId2"/>
          <a:stretch/>
        </p:blipFill>
        <p:spPr>
          <a:xfrm>
            <a:off x="2357280" y="1071720"/>
            <a:ext cx="4429440" cy="3881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Прямоугольник 1" descr=""/>
          <p:cNvPicPr/>
          <p:nvPr/>
        </p:nvPicPr>
        <p:blipFill>
          <a:blip r:embed="rId1"/>
          <a:stretch/>
        </p:blipFill>
        <p:spPr>
          <a:xfrm>
            <a:off x="1768320" y="42840"/>
            <a:ext cx="4857840" cy="1116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744480" y="1428840"/>
            <a:ext cx="7832880" cy="155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жде чем требовать внимание к себ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яви его к окружающим людям. Пом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 их интересах, нуждах, потребност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D:\клипарты\люди\8b17921adefe.png"/>
          <p:cNvPicPr/>
          <p:nvPr/>
        </p:nvPicPr>
        <p:blipFill>
          <a:blip r:embed="rId2"/>
          <a:stretch/>
        </p:blipFill>
        <p:spPr>
          <a:xfrm>
            <a:off x="500040" y="3071880"/>
            <a:ext cx="3990960" cy="3571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D:\клипарты\люди\16fa245c2025t.jpg"/>
          <p:cNvPicPr/>
          <p:nvPr/>
        </p:nvPicPr>
        <p:blipFill>
          <a:blip r:embed="rId3"/>
          <a:stretch/>
        </p:blipFill>
        <p:spPr>
          <a:xfrm>
            <a:off x="5786280" y="3184560"/>
            <a:ext cx="2214720" cy="3506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Прямоугольник 1" descr=""/>
          <p:cNvPicPr/>
          <p:nvPr/>
        </p:nvPicPr>
        <p:blipFill>
          <a:blip r:embed="rId1"/>
          <a:stretch/>
        </p:blipFill>
        <p:spPr>
          <a:xfrm>
            <a:off x="560520" y="42840"/>
            <a:ext cx="8345520" cy="1116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510480" y="5357880"/>
            <a:ext cx="788760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лавное относись к людям так, как хочеш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тобы относились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D:\клипарты\люди\03c2c4c066dat.jpg"/>
          <p:cNvPicPr/>
          <p:nvPr/>
        </p:nvPicPr>
        <p:blipFill>
          <a:blip r:embed="rId2"/>
          <a:stretch/>
        </p:blipFill>
        <p:spPr>
          <a:xfrm>
            <a:off x="2214720" y="1285920"/>
            <a:ext cx="2090520" cy="3992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D:\клипарты\люди\3e787f63d861.jpg"/>
          <p:cNvPicPr/>
          <p:nvPr/>
        </p:nvPicPr>
        <p:blipFill>
          <a:blip r:embed="rId3"/>
          <a:stretch/>
        </p:blipFill>
        <p:spPr>
          <a:xfrm>
            <a:off x="4643280" y="1357200"/>
            <a:ext cx="2971800" cy="3963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Прямоугольник 1" descr=""/>
          <p:cNvPicPr/>
          <p:nvPr/>
        </p:nvPicPr>
        <p:blipFill>
          <a:blip r:embed="rId1"/>
          <a:stretch/>
        </p:blipFill>
        <p:spPr>
          <a:xfrm>
            <a:off x="1127160" y="109440"/>
            <a:ext cx="6462720" cy="1116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2"/>
          <p:cNvSpPr/>
          <p:nvPr/>
        </p:nvSpPr>
        <p:spPr>
          <a:xfrm>
            <a:off x="448920" y="4857840"/>
            <a:ext cx="8270280" cy="155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бе сегодня хорошо, но рядом могут бы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юди, у которых слёзы на глазах. Не забыв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 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D:\клипарты\люди\семья\parents057.gif"/>
          <p:cNvPicPr/>
          <p:nvPr/>
        </p:nvPicPr>
        <p:blipFill>
          <a:blip r:embed="rId2"/>
          <a:stretch/>
        </p:blipFill>
        <p:spPr>
          <a:xfrm>
            <a:off x="2571840" y="1251000"/>
            <a:ext cx="4071960" cy="3537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Прямоугольник 1" descr=""/>
          <p:cNvPicPr/>
          <p:nvPr/>
        </p:nvPicPr>
        <p:blipFill>
          <a:blip r:embed="rId1"/>
          <a:stretch/>
        </p:blipFill>
        <p:spPr>
          <a:xfrm>
            <a:off x="1487520" y="42840"/>
            <a:ext cx="5688000" cy="1116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2"/>
          <p:cNvSpPr/>
          <p:nvPr/>
        </p:nvSpPr>
        <p:spPr>
          <a:xfrm>
            <a:off x="316440" y="4857840"/>
            <a:ext cx="8428680" cy="155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очешь, чтоб тебя уважали, - уважай пра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интересы других людей, а также стара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ить так, чтобы людям с тобой было хорош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D:\клипарты\люди\семья\parents077.gif"/>
          <p:cNvPicPr/>
          <p:nvPr/>
        </p:nvPicPr>
        <p:blipFill>
          <a:blip r:embed="rId2"/>
          <a:stretch/>
        </p:blipFill>
        <p:spPr>
          <a:xfrm>
            <a:off x="4286160" y="1285920"/>
            <a:ext cx="3357720" cy="3357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Прямоугольник 1" descr=""/>
          <p:cNvPicPr/>
          <p:nvPr/>
        </p:nvPicPr>
        <p:blipFill>
          <a:blip r:embed="rId1"/>
          <a:stretch/>
        </p:blipFill>
        <p:spPr>
          <a:xfrm>
            <a:off x="1768320" y="42840"/>
            <a:ext cx="5193000" cy="11160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2"/>
          <p:cNvSpPr/>
          <p:nvPr/>
        </p:nvSpPr>
        <p:spPr>
          <a:xfrm>
            <a:off x="457560" y="5429160"/>
            <a:ext cx="811152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помни, правда нужна не только тебе, но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кружающим тебя людям. Будь правд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D:\клипарты\люди\0f32bd9346b0.png"/>
          <p:cNvPicPr/>
          <p:nvPr/>
        </p:nvPicPr>
        <p:blipFill>
          <a:blip r:embed="rId2"/>
          <a:stretch/>
        </p:blipFill>
        <p:spPr>
          <a:xfrm>
            <a:off x="2857680" y="1285920"/>
            <a:ext cx="3740040" cy="3786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Прямоугольник 1" descr=""/>
          <p:cNvPicPr/>
          <p:nvPr/>
        </p:nvPicPr>
        <p:blipFill>
          <a:blip r:embed="rId1"/>
          <a:stretch/>
        </p:blipFill>
        <p:spPr>
          <a:xfrm>
            <a:off x="1768320" y="42840"/>
            <a:ext cx="5497560" cy="11160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2"/>
          <p:cNvSpPr/>
          <p:nvPr/>
        </p:nvSpPr>
        <p:spPr>
          <a:xfrm>
            <a:off x="669600" y="5000760"/>
            <a:ext cx="7660440" cy="155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ждый человек хочет быть свободны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стаивая свою свободу, не забывай 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вободе другого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D:\клипарты\люди\семья\parents046.gif"/>
          <p:cNvPicPr/>
          <p:nvPr/>
        </p:nvPicPr>
        <p:blipFill>
          <a:blip r:embed="rId2"/>
          <a:stretch/>
        </p:blipFill>
        <p:spPr>
          <a:xfrm>
            <a:off x="3143160" y="1214280"/>
            <a:ext cx="3619440" cy="3600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8T13:47:59Z</dcterms:created>
  <dc:creator>Helen</dc:creator>
  <dc:description/>
  <dc:language>en-US</dc:language>
  <cp:lastModifiedBy>User</cp:lastModifiedBy>
  <dcterms:modified xsi:type="dcterms:W3CDTF">2013-11-10T12:17:46Z</dcterms:modified>
  <cp:revision>8</cp:revision>
  <dc:subject/>
  <dc:title>Слайд 1</dc:title>
</cp:coreProperties>
</file>