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drumroll.wav" ContentType="audio/x-wav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26F-11E0-46F8-8447-AD424409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671-498D-4949-8FEE-BBDEEEA2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82B-C13D-439D-934C-E85ADE75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DC5-F193-4440-ABE4-5DE11223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00E0-ADC0-4FE4-8531-F8AD1AB2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D241-A397-449C-ACC1-12678532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AB64-0679-4607-877D-E5BF1363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E55F-D711-46C2-A375-84CB23EF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6DC1-D16E-4232-847B-4106D412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7E90-4113-4B7E-A680-8F124DCA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7379-E71E-44A6-BBFB-C2C46923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81C-649B-43C7-A081-EC46ED46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388A-F327-41D9-97BF-48C1D06B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D2FE-BE21-4D95-BE92-4F3CA82C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0AA4-0C96-405B-A805-55F064E8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24D3-7F09-4885-8A04-E7D2ED83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31D0-7D5E-44D1-BE5A-07DB2B41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89D5-2F94-4F62-A90C-AA4D27DF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EF54-424D-42AC-A5E9-429D073D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A740-75EC-43DC-8DD7-B099ECD1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7078-2A60-46AB-AE7E-C7B1A736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C98C3-8A48-410F-BCFB-362592EB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423-790C-476D-BFCE-F514A40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37B7-AB54-46C3-B97C-C2C321DB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8B74-5D86-46D7-ADAC-510B5BB5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E5AD-F9D8-4E71-A187-2A91064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5539-DA78-40F4-A0F5-798C601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14E9-6C61-4378-BD8A-58BD9F64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58C7-314F-4457-983E-91CECCE4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9412-0255-485C-9A4B-9AEBBAD7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AF36-5C40-4621-9086-7C337456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9C26-D31F-4918-B38A-1AF34B5B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6F7E5-DA65-4572-893A-83C2D112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A1E-E0F2-4155-8EFB-0312B629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D5D24-7C2F-4AD9-88A7-A7539436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15DF-9F24-43B6-A777-7787A417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0C40D-40CB-4DB2-9B6F-AD5E32A2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FFF3-4B0E-4159-A632-1D09F31F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37CD-C8A3-4FB0-90EB-5093A2BD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CB16A-7B0E-447C-BC88-1AC283A7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319F-748B-455E-A8BA-98C315D3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E1F2-45C4-4377-A636-055B2239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D62F-D21F-4D99-A61F-6EDE9A81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42D-AB1B-4266-B9EB-16B9CE4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EBD-DC58-422A-9DB3-8DF53EE1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D25-45CC-4509-B77C-524DB257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6AE-974B-42B0-AC51-39A66FF8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721-CB26-44E2-B058-7C79815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83F9-7CB5-4A71-8332-C22487B48F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4B3D-F052-482A-8195-DE22E6C06E1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6A2C-05DC-4FB0-818B-3ABA4B52F7B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698C-82FB-4803-9760-EB166FD3DAF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14920" y="4071600"/>
            <a:ext cx="3997440" cy="253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ботали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еницы 6 класса «З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лыгина Софья, Сарычева Али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асни Кры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т за ларец принялся он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тит его со всех сторон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голову свою лома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 гвоздик, то другой…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(«Ларчик» )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асни Кры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Вороны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глаз не своди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«Ворона и Лисица»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я, без памяти, бегом,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Куда глаза глядя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от этого уро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«Лисица и Осёл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вместе трое все в него впряглис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Из кожи лезут во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а возу все нет ходу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«Лебедь, Щука и Рак»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ъясн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Кто в лес, кто по дров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кто куд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Голову свою ломае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думает как что сдела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Глаз не своди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ристально смотри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Куда глаза глядя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идти куда-нибуд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Из кожи лезут вон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очень стараются что-нибудь сдела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разеологизмы про н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рубить на нос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- запомнить крепко-накреп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левать нос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засып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а нос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- так говорят о чем-то, что вот-вот должно наступ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ос к нос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апротив, близ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Любопытной Варваре на базаре нос оторвал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е вмешивайся не в свое дел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видеть дальше собственного нос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- не замечать окружающего вокру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разеологизмы про голов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ломя голову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быстр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етер в голов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енадежный челов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ылетело из голов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забы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олова идет кругом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слишком много дел, обязанностей, информ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авать голову на отсече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обещ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ак снег на голов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еожидан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орочить голов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обманывать, уводить от сути де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разеологизмы про гла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авда глаза коли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не любит прав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ускать в глаза пыль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бманыв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спускать с глаз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лед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лаз за глаз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ме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лаз-Алмаз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наблюдательно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в бровь, а в глаз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точ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каз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ила-была принцесса Елизавета.  У неё было доброе сердце. Принцесса очень любила животных и ухаживала за ними. У ней была подруга Екатерина. Она славилась своими золотыми руками. Катя любила делать поделки и нужные вещи. Девочки дружили, играли вместе и гуляли. Они помогали другим людям, поэтому их все уважали. Лиза и Катя раздавали остальным детям подарки и дружили с ними. Они всем говорили «Не имей сто рублей, а имей сто друзей». Поэтому у девочек было много друз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это значи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3" descr="IMG_3525.JPG"/>
          <p:cNvPicPr/>
          <p:nvPr/>
        </p:nvPicPr>
        <p:blipFill>
          <a:blip r:embed="rId1"/>
          <a:stretch/>
        </p:blipFill>
        <p:spPr>
          <a:xfrm>
            <a:off x="1428840" y="2000160"/>
            <a:ext cx="5889600" cy="4416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яем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аза « Купить кота в мешке » означает приобрести что-то за глаза, не зная ничего о недостатках или достоинствах покупки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гадай-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Содержимое 7" descr="аиоппмик.jpg"/>
          <p:cNvPicPr/>
          <p:nvPr/>
        </p:nvPicPr>
        <p:blipFill>
          <a:blip r:embed="rId1"/>
          <a:stretch/>
        </p:blipFill>
        <p:spPr>
          <a:xfrm>
            <a:off x="1071720" y="1143000"/>
            <a:ext cx="735804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азать, что с помощью фразеологизмов наша речь красиве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tcvet82.png"/>
          <p:cNvPicPr/>
          <p:nvPr/>
        </p:nvPicPr>
        <p:blipFill>
          <a:blip r:embed="rId1"/>
          <a:stretch/>
        </p:blipFill>
        <p:spPr>
          <a:xfrm>
            <a:off x="5338800" y="2428920"/>
            <a:ext cx="264312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яем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одить за нос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маныв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азвесить уши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слушив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очить зубы- 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навидеть кого-либ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левать носом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засып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аздуть из мухи слона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лать из маленькой проблемы большу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икусить язык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молч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Языки чесать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 замолчать, воздержаться от высказывания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троить глазки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одлизывать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 в своей тарелке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увствовать неуютно, в чужом обществ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ти фразеологизмы в художественной литератур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ти фразеологизмы про нос, голову и глаз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ить словарь фразеологиз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умать сказку с использованием фразеологиз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умать интересные зад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фразеологизмы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600200"/>
            <a:ext cx="83296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разеологиз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это несвободны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ойчивые сочетания с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них нельзя заменить одно слово други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азеологизмы придают языку яркую эмоциональную окраску. Фразеологизмы изучает наука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фразеолог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3" descr="книга.jpg"/>
          <p:cNvPicPr/>
          <p:nvPr/>
        </p:nvPicPr>
        <p:blipFill>
          <a:blip r:embed="rId1"/>
          <a:stretch/>
        </p:blipFill>
        <p:spPr>
          <a:xfrm>
            <a:off x="357120" y="1714680"/>
            <a:ext cx="1571760" cy="226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име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ать сдач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ответить ударом на уда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рубить на носу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запомн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заманишь калач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е поддается ни на какие угово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ломя голову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быстр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укой подать –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лиз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олова идет круг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слишком много дел, обязанностей, информ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имер из художественной      литерату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Содержимое 3" descr="biblioteka.png"/>
          <p:cNvPicPr/>
          <p:nvPr/>
        </p:nvPicPr>
        <p:blipFill>
          <a:blip r:embed="rId1"/>
          <a:stretch/>
        </p:blipFill>
        <p:spPr>
          <a:xfrm>
            <a:off x="1879560" y="1935000"/>
            <a:ext cx="5384880" cy="4389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ман «Некуда» Н.С.Лес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Ничего; она говорит, не дура, только избалована,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много о себе дума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первой умницей себ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кажется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чита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…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ароду ужас ск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Этот болванчик со своими услугами…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Я умею их школить. Им только не надо давать потачки, так они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шёлковые стану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…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ъясн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ного о себе думает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вышать себя, хваст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ервой умницей себя считает-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читает себя лучше и умней все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ароду ужас ск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чень много народ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Шёлковые станут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ностью выполняющие распоряжения кого-либо, очень послуш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асни Кры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ели молодц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Кто в лес, кто по дров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кого что силы стало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ушах у гостя затрещало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закружилась голо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«Музыканты» 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3:20:52Z</dcterms:created>
  <dc:creator>Комп</dc:creator>
  <dc:description/>
  <dc:language>en-US</dc:language>
  <cp:lastModifiedBy>1</cp:lastModifiedBy>
  <dcterms:modified xsi:type="dcterms:W3CDTF">2016-09-10T12:06:44Z</dcterms:modified>
  <cp:revision>35</cp:revision>
  <dc:subject/>
  <dc:title>Слайд 1</dc:title>
</cp:coreProperties>
</file>