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drumroll.wav" ContentType="audio/x-wav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465-6D22-4E19-88E8-66780389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9065-8D10-413C-9EAE-5A40FD85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68C-2169-4B5D-B991-2EBA1B3B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D92-D0B1-453A-8899-31FD4E63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8FE2-9FB7-4D7F-AC2E-9B18304A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C866-A922-46EE-A8AF-A718B3A3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B277-FCD2-48E4-AEA8-C596B5FF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44CB-A597-4887-B608-271790A6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6C87-3CD8-440B-8615-38505F06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E400-D809-4A0D-BC4B-507441AD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FB60-DBD7-449C-AB3D-A9434927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4B65-8EBD-42AB-BA15-35C00BC1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CA7C-E8E6-4424-8421-0BA845C4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9607-23A0-40F7-BAA9-B5A3DBB5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5555-6EF6-4AD9-9663-BF2369D5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46E8-5898-485D-99FE-1AE70032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5605-C7FE-45FA-8FCA-0A2AAFCC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B471-649B-4209-B8B4-4E94526E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4C413-B07D-455C-97C8-2F69A31C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75F2-DB10-4F4C-BD90-04AF7735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F00CB-4287-4B8B-8CE8-1F0FE92D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E6F10-4F39-4188-8A5F-D036D5BE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201-129F-45B7-9510-29B6C1E8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03BBA-C1F5-43B5-8001-BAF00DBD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81CE4-B839-4CD2-9A2F-C35062AE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79703-7660-4A0E-84E1-2133273F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EF72E-D927-44AC-91CF-8EDB4ADD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7BDE5-EF8F-4FE6-A43A-BBE14411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027CD-1F42-48D2-A29E-57836CB3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7F73E-D5F3-47E6-A396-592B1676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F50A0-4012-4F95-81B4-D5DB8955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DF9E8-10E8-400D-B14E-0F035834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26C2F-56BB-4DE8-ACEA-DA3F224F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0B0B-9669-462D-B8CC-BBC0C8CF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918FC-4BEE-4697-BE1A-9C76DE72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CE0C4-FBF6-4BE4-9860-4649E968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81299-CA86-4421-A44F-BC3241B1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C9BC4-FF16-4A78-AD58-3E9E5A86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1F5DD-E389-4705-BBD2-D6D1E66B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A9DE8-07FD-41E8-A86F-57F1D7D4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A2D9E-F54B-4F6A-8493-7743F465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6DDFF-FFE3-4E17-B290-AC168889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3E456-6AAE-4E5F-96AF-A38C571D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461-0AC1-4029-9F4A-035490E1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4B3-5D43-40EE-A8B2-E8B68638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4AA-A139-4FE3-AAB8-B116BAE3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D4A-05BA-487C-838C-0C2BCC06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A38-972B-4718-A71E-172A4467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28BC-15FC-4C4F-8DDE-CE741F1E4A0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A1DC-AE8E-4062-ADB7-140F623D6B6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EF85-5FB1-451C-AEEF-DCC68A66981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2FA3-F959-496E-A464-AB9641E554B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714920" y="4071600"/>
            <a:ext cx="3997440" cy="2538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ботали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еницы 6 класса «З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лыгина Софья, Сарычева Али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Басни Крыл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т за ларец принялся он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тит его со всех сторон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голову свою лома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;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 гвоздик, то другой…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(«Ларчик» )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Басни Крыл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Вороны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глаз не своди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«Ворона и Лисица»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я, без памяти, бегом,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Куда глаза глядя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от этого урод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«Лисица и Осёл»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вместе трое все в него впряглис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Из кожи лезут во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а возу все нет ходу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«Лебедь, Щука и Рак»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ъясн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Кто в лес, кто по дров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кто куд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Голову свою ломает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думает как что сдела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Глаз не сводит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пристально смотри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Куда глаза глядят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идти куда-нибуд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Из кожи лезут вон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очень стараются что-нибудь сдела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разеологизмы про но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арубить на нос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- запомнить крепко-накрепк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левать носо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засып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а нос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- так говорят о чем-то, что вот-вот должно наступ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ос к нос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напротив, близк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Любопытной Варваре на базаре нос оторвал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не вмешивайся не в свое дел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е видеть дальше собственного нос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- не замечать окружающего вокру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разеологизмы про голов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ломя голову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быстр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Ветер в голов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ненадежный челов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Вылетело из голов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забы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олова идет кругом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слишком много дел, обязанностей, информ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авать голову на отсечени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обещ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ак снег на голов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неожидан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Морочить голов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обманывать, уводить от сути де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разеологизмы про гла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равда глаза колит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не любит прав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ускать в глаза пыль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обманыв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е спускать с глаз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след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лаз за глаз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мес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лаз-Алмаз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наблюдательнос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е в бровь, а в глаз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точ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каз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ила-была принцесса Елизавета.  У неё было доброе сердце. Принцесса очень любила животных и ухаживала за ними. У ней была подруга Екатерина. Она славилась своими золотыми руками. Катя любила делать поделки и нужные вещи. Девочки дружили, играли вместе и гуляли. Они помогали другим людям, поэтому их все уважали. Лиза и Катя раздавали остальным детям подарки и дружили с ними. Они всем говорили «Не имей сто рублей, а имей сто друзей». Поэтому у девочек было много друз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это значит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Содержимое 3" descr="IMG_3525.JPG"/>
          <p:cNvPicPr/>
          <p:nvPr/>
        </p:nvPicPr>
        <p:blipFill>
          <a:blip r:embed="rId1"/>
          <a:stretch/>
        </p:blipFill>
        <p:spPr>
          <a:xfrm>
            <a:off x="1428840" y="2000160"/>
            <a:ext cx="5889600" cy="4416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яем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раза « Купить кота в мешке » означает приобрести что-то за глаза, не зная ничего о недостатках или достоинствах покупки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гадай-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Содержимое 7" descr="аиоппмик.jpg"/>
          <p:cNvPicPr/>
          <p:nvPr/>
        </p:nvPicPr>
        <p:blipFill>
          <a:blip r:embed="rId1"/>
          <a:stretch/>
        </p:blipFill>
        <p:spPr>
          <a:xfrm>
            <a:off x="1071720" y="1143000"/>
            <a:ext cx="735804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казать, что с помощью фразеологизмов наша речь красиве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Рисунок 3" descr="tcvet82.png"/>
          <p:cNvPicPr/>
          <p:nvPr/>
        </p:nvPicPr>
        <p:blipFill>
          <a:blip r:embed="rId1"/>
          <a:stretch/>
        </p:blipFill>
        <p:spPr>
          <a:xfrm>
            <a:off x="5338800" y="2428920"/>
            <a:ext cx="264312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яем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одить за нос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маныв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Развесить уши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слушив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очить зубы- н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навидеть кого-либ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левать носом-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засып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Раздуть из мухи слона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лать из маленькой проблемы большу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рикусить язык-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молч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Языки чесать-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 замолчать, воздержаться от высказывания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троить глазки-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подлизывать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е в своей тарелке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увствовать неуютно, в чужом обществ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ти фразеологизмы в художественной литератур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ти фразеологизмы про нос, голову и глаз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учить словарь фразеологиз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думать сказку с использованием фразеологиз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думать интересные зад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такое фразеологизмы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7120" y="1600200"/>
            <a:ext cx="83296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Фразеологиз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это несвободные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стойчивые сочетания сл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них нельзя заменить одно слово други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разеологизмы придают языку яркую эмоциональную окраску. Фразеологизмы изучает наука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фразеолог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3" descr="книга.jpg"/>
          <p:cNvPicPr/>
          <p:nvPr/>
        </p:nvPicPr>
        <p:blipFill>
          <a:blip r:embed="rId1"/>
          <a:stretch/>
        </p:blipFill>
        <p:spPr>
          <a:xfrm>
            <a:off x="357120" y="1714680"/>
            <a:ext cx="1571760" cy="2266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име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ать сдачи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— ответить ударом на уда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арубить на носу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— запомн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е заманишь калачо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не поддается ни на какие угово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ломя голову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быстр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Рукой подать –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лизк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олова идет круго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– слишком много дел, обязанностей, информ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имер из художественной      литератур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Содержимое 3" descr="biblioteka.png"/>
          <p:cNvPicPr/>
          <p:nvPr/>
        </p:nvPicPr>
        <p:blipFill>
          <a:blip r:embed="rId1"/>
          <a:stretch/>
        </p:blipFill>
        <p:spPr>
          <a:xfrm>
            <a:off x="1879560" y="1935000"/>
            <a:ext cx="5384880" cy="4389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оман «Некуда» Н.С.Леск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Ничего; она говорит, не дура, только избалована,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много о себе дума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первой умницей себ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кажется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чита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…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Народу ужас ск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Этот болванчик со своими услугами…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Я умею их школить. Им только не надо давать потачки, так они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шёлковые стану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…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ъясн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Много о себе думает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вышать себя, хваст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ервой умницей себя считает-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читает себя лучше и умней все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ароду ужас ск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очень много народ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Шёлковые станут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ностью выполняющие распоряжения кого-либо, очень послушны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Басни Крыл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пели молодц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Кто в лес, кто по дров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кого что силы стало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ушах у гостя затрещало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закружилась голо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«Музыканты» 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13:20:52Z</dcterms:created>
  <dc:creator>Комп</dc:creator>
  <dc:description/>
  <dc:language>en-US</dc:language>
  <cp:lastModifiedBy>1</cp:lastModifiedBy>
  <dcterms:modified xsi:type="dcterms:W3CDTF">2016-09-10T12:06:44Z</dcterms:modified>
  <cp:revision>35</cp:revision>
  <dc:subject/>
  <dc:title>Слайд 1</dc:title>
</cp:coreProperties>
</file>