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A74-5DF1-4371-B91B-47FF551F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E78-54F8-4C76-AD3F-72CC056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C18-2F04-40CC-970B-FAF6EC92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E6B-1508-40D8-978A-AB643E1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FEF-2AFB-4C04-A810-ECC995D9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C55-AB72-4CEF-958F-52964F7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607-8989-448E-B3C1-B9A54190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394-AFCD-42E9-8114-0F059E20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3D4-A843-48F6-8C6C-A8E26375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9F-75FD-4FA2-AFF0-900CD09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CB5-6E3E-477B-8DBE-0EB7726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A80-9B83-4E56-9986-11A7EBDE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4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564-2800-43D3-A676-1CF3B9A0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Arial"/>
              </a:rPr>
              <a:t>Личные местоим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31237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Нехорошева Наталья Владимиро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БОУ ШКОЛА №65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52480" y="914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а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S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о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 в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52480" y="129492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всегда пишется с прописной буквы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 вы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ou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одинаково для единственного и множественного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t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оно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говорим о предметах или животных в единственном чи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hey-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- говорим о предметах и животных во множественном чи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447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одбери местоимения ,которыми можно заменить существительные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410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Helen                         a) 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father and mother       b)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brother                        c)  s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pen                              d)  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dog                             e)  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Let`s  read the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ошибся: ай-яй-я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яснились мы в любв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М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w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 спешила! Не спеш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а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s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 не стойте на кра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Ты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инач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you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 смеялся: хи-хи-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и жалели всех люд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и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ey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99840" y="1219320"/>
            <a:ext cx="5181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ank you for the less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Наталья</cp:lastModifiedBy>
  <dcterms:modified xsi:type="dcterms:W3CDTF">2016-09-08T16:56:44Z</dcterms:modified>
  <cp:revision>9</cp:revision>
  <dc:subject/>
  <dc:title>Слайд 1</dc:title>
</cp:coreProperties>
</file>