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D54-EE1D-4888-8BB7-5041C4DF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52D-627B-46AE-A0DB-B0054957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26E-6303-4175-915B-6B927593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3BD-2FCE-48AF-8AB2-35F1FBC3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D0E-1C46-44B7-9FEF-446B3AE7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23A-B33C-4EA4-BD9C-5DEBB109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618-0ED5-41F9-A909-29885662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D36-F7C5-40A3-9CA7-A50DE296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500-9582-491C-A859-ACB1248A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311-05BE-4AED-932F-33437F90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A09-6178-48B3-8D39-568B0A01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C6E-D7C2-443A-A472-D734AE99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fotoramky.narod.ru/images_big/ramka24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FB9C-6F04-44FE-BB79-2E5867BEC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ff"/>
                </a:solidFill>
                <a:latin typeface="Arial"/>
              </a:rPr>
              <a:t>Личные местоим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8960" y="312372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Нехорошева Наталья Владимиро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ГБОУ ШКОЛА №65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52480" y="914040"/>
            <a:ext cx="502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Я-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а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S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о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Ты, вы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Мы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и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Th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52480" y="129492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Я-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-всегда пишется с прописной буквы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Ты, вы-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You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-одинаково для единственного и множественного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It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-оно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говорим о предметах или животных в единственном чис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They-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и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- говорим о предметах и животных во множественном чис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4475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Подбери местоимения ,которыми можно заменить существительные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5410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Helen                         a) 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father and mother       b)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brother                        c)  s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pen                              d)  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 dog                             e)  th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Let`s  read the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ошибся: ай-яй-я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ъяснились мы в любв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Мы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w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а спешила! Не спеши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а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sh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 не стойте на краю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Ты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и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вы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инач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you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 смеялся: хи-хи-х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h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и жалели всех люде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и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they</a:t>
            </a: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99840" y="1219320"/>
            <a:ext cx="51814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Thank you for the lesson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Наталья</cp:lastModifiedBy>
  <dcterms:modified xsi:type="dcterms:W3CDTF">2016-09-08T16:56:44Z</dcterms:modified>
  <cp:revision>9</cp:revision>
  <dc:subject/>
  <dc:title>Слайд 1</dc:title>
</cp:coreProperties>
</file>