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7EEC-B4C8-4CB1-B66C-8056DC55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81B-4284-4CA5-85DF-153C5C83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4BD-A6E4-4E03-B922-EF0D7692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BEA-2697-4B78-A24D-E042E0DF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96E6-AD2C-4A0F-A2BD-0B130E05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8715-BB40-427E-853B-C20E7C0D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B4FB-C941-4E9F-8AD4-D141F06D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27D6-92EE-449B-8937-7C707694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1827-84BB-4D5F-BA62-55278BD8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538D-C5A1-46A2-A5B4-39EB9AAF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4BBE-6778-4782-A417-1E9903FC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733-F10E-434F-A1DC-43EDABFA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ECB8-7B5C-48F3-9D9B-4D568261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BDAE-D24D-433C-8ACE-B20EDBE6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7776-86B0-46E1-BEEB-319ACBC1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7D65-C724-44F0-A47B-4BFED0C1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933E-DC65-4A5A-95D1-8E9B2AD0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642-1A5E-4D76-AC84-4D8D6E8A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29E-7B5E-42F3-9484-654C2C92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35FD-3869-46F0-9458-55ADB969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488D-487A-471F-AD93-ADF738B2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EBB-7AC8-4C88-8DD2-6F11F73D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EFF-A8D3-453D-A253-707084CE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E170-E0BF-4DE0-87DC-EC783B35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AB6A-D0BA-4C51-AC36-68816ADA47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3A09-E098-4344-B97E-8383DDC80C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84036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Методическое пособие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тема: Обучение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технике конькового лыжного хода 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Подготовил и провел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: </a:t>
            </a:r>
            <a:br>
              <a:rPr sz="24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енер-преподаватель МБУ ДО «ДЮСШ-Вымпел»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5280" y="1773360"/>
            <a:ext cx="8640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Место провед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ОУ « СОШ  №9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ата провед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12.201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just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о-тренировочный процесс осуществляется на основании рабочей программы по полиатлону для группы начальной подготовки  первого года обучения (ГНП-1), которая составлена на основании примерной программы спортивной подготовки по полиатлону допущенной Федеральным Агентством по физической культуре и спорту – г.Рязань 2007 г. (авторы Кейно А.Ю., Грицков П.М., Сычев А.В.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just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о-тренировочное занятие по лыжам разработано на основе документов текущего планирования для группы начальной подготовки первого года обучения и построено на основных дидактических принципах, отражающих методические закономерности обучения и воспитания: сознательности и активности, систематичности, доступности, наглядности и индивидуа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4" descr="IMG_6635.JPG"/>
          <p:cNvPicPr/>
          <p:nvPr/>
        </p:nvPicPr>
        <p:blipFill>
          <a:blip r:embed="rId1"/>
          <a:stretch/>
        </p:blipFill>
        <p:spPr>
          <a:xfrm>
            <a:off x="657360" y="109368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5" descr="IMG_6823.JPG"/>
          <p:cNvPicPr/>
          <p:nvPr/>
        </p:nvPicPr>
        <p:blipFill>
          <a:blip r:embed="rId2"/>
          <a:stretch/>
        </p:blipFill>
        <p:spPr>
          <a:xfrm>
            <a:off x="5076720" y="738360"/>
            <a:ext cx="2430720" cy="18223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6"/>
          <p:cNvSpPr/>
          <p:nvPr/>
        </p:nvSpPr>
        <p:spPr>
          <a:xfrm>
            <a:off x="539640" y="1052640"/>
            <a:ext cx="256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нятие лы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3105000" y="191448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дох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-23760" y="115920"/>
            <a:ext cx="898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ключительная часть( 15 мин.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5" descr="IMG_6691.JPG"/>
          <p:cNvPicPr/>
          <p:nvPr/>
        </p:nvPicPr>
        <p:blipFill>
          <a:blip r:embed="rId3"/>
          <a:stretch/>
        </p:blipFill>
        <p:spPr>
          <a:xfrm>
            <a:off x="5330880" y="3560760"/>
            <a:ext cx="3295440" cy="24717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7" descr="IMG_6694.JPG"/>
          <p:cNvPicPr/>
          <p:nvPr/>
        </p:nvPicPr>
        <p:blipFill>
          <a:blip r:embed="rId4"/>
          <a:stretch/>
        </p:blipFill>
        <p:spPr>
          <a:xfrm>
            <a:off x="684360" y="3789360"/>
            <a:ext cx="3024000" cy="201312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1"/>
          <p:cNvSpPr/>
          <p:nvPr/>
        </p:nvSpPr>
        <p:spPr>
          <a:xfrm>
            <a:off x="684360" y="32446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борка инвента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"/>
          <p:cNvSpPr/>
          <p:nvPr/>
        </p:nvSpPr>
        <p:spPr>
          <a:xfrm flipV="1" rot="10800000">
            <a:off x="4788000" y="2929320"/>
            <a:ext cx="38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 занятия, домашни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воена оптимальная постановка палок впереди в одновременных ходах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рошо усвоен толчок руками, в том числе в связи с использованием палок, которые не соответствуют оптимальной   длине. Изменение угла наклона и активность участия в отталкивании руками   требует дополнительного оттач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ходе занятия хорошо усвоены отдельные движения рук и ног, а сочетание и согласованность работы рук с двигательной  деятельностью ногами  предстоит усовершен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971640" y="333000"/>
            <a:ext cx="64087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6600"/>
                </a:solidFill>
                <a:latin typeface="Arial"/>
              </a:rPr>
              <a:t>Усвоенный материал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-38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6600"/>
                </a:solidFill>
                <a:latin typeface="Arial"/>
              </a:rPr>
              <a:t>Задач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9280" y="907920"/>
            <a:ext cx="8147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004d"/>
                </a:solidFill>
                <a:latin typeface="Arial Black"/>
              </a:rPr>
              <a:t>Образов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учение основам техники конькового лыжного х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Формирование знаний о правилах личной гиги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004d"/>
                </a:solidFill>
                <a:latin typeface="Arial Black"/>
              </a:rPr>
              <a:t>Воспит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Воспитание морально – волевых качеств (сила воли, настойчивость, трудолюб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устойчивого интереса, мотивации к занятиям физической культурой и здоровому образу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004d"/>
                </a:solidFill>
                <a:latin typeface="Arial Black"/>
              </a:rPr>
              <a:t>Оздоровительны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каливание организ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пособствовать улучшению функции дыхательн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  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На представленном учебно-тренировочном занятии формируется предварительное представление о технике конькового хода, амплитуде отдельных элементов изучаемого способа хода. Ознакомление приводит к образованию специфических рефлексов  вестибулярного, мышечного аппарата, что содействует освоению навыка конькового хода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  В результате разучивания элементов техники лыжного хода— движений ног, рук,  формируются кинестетические, слуховые, зрительные, тактильные и другие ощущения, которые являются основой для выработки оптимальной рабочей позы лыжника. Последовательное изучение элементов техники лыжного хода служит основой качественного освоения конькового  хода в целом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4" name="Содержимое 4" descr="SAM_0079.JPG"/>
          <p:cNvPicPr/>
          <p:nvPr/>
        </p:nvPicPr>
        <p:blipFill>
          <a:blip r:embed="rId1"/>
          <a:stretch/>
        </p:blipFill>
        <p:spPr>
          <a:xfrm>
            <a:off x="4572000" y="1628640"/>
            <a:ext cx="3998880" cy="441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8"/>
          <p:cNvSpPr txBox="1"/>
          <p:nvPr/>
        </p:nvSpPr>
        <p:spPr>
          <a:xfrm>
            <a:off x="395280" y="260280"/>
            <a:ext cx="748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ниверсальные учебные действия</a:t>
            </a:r>
            <a:endParaRPr b="0" i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196440" y="831960"/>
            <a:ext cx="4638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Личностны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преодолевать труд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проявлять инициа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79280" y="1844640"/>
            <a:ext cx="477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знавательны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получать знания используя современные техноло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активизировать мыслительн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179280" y="3500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взаимодействия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екти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изация – умение общаться со сверстника и взросл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755640" y="5084640"/>
            <a:ext cx="48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контролировать псих – эмоциональное состоя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нормировать и соотносить учебную и тренировочную нагру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7" descr="SAM_0038.JPG"/>
          <p:cNvPicPr/>
          <p:nvPr/>
        </p:nvPicPr>
        <p:blipFill>
          <a:blip r:embed="rId1"/>
          <a:stretch/>
        </p:blipFill>
        <p:spPr>
          <a:xfrm>
            <a:off x="5435640" y="1989000"/>
            <a:ext cx="3457440" cy="352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539640" y="549360"/>
            <a:ext cx="72010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i="1" lang="en-US" sz="4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84360" y="115920"/>
            <a:ext cx="813564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В содержание занятия включены следующие средст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1)общеразвивающие и специальные физические упражн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2) подготовительные упраж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3) подводящие и имитационные упражнения для успешного обучения технике выполнения конькового лыжного х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Разминка: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4794120" y="41893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одьба на ме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5" descr="IMG_6811.JPG"/>
          <p:cNvPicPr/>
          <p:nvPr/>
        </p:nvPicPr>
        <p:blipFill>
          <a:blip r:embed="rId1"/>
          <a:stretch/>
        </p:blipFill>
        <p:spPr>
          <a:xfrm>
            <a:off x="2757600" y="2135160"/>
            <a:ext cx="2706480" cy="20289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8" descr="IMG_6806.JPG"/>
          <p:cNvPicPr/>
          <p:nvPr/>
        </p:nvPicPr>
        <p:blipFill>
          <a:blip r:embed="rId2"/>
          <a:stretch/>
        </p:blipFill>
        <p:spPr>
          <a:xfrm>
            <a:off x="522360" y="4602240"/>
            <a:ext cx="3008160" cy="22557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9"/>
          <p:cNvSpPr/>
          <p:nvPr/>
        </p:nvSpPr>
        <p:spPr>
          <a:xfrm>
            <a:off x="604800" y="418932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тя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 flipV="1" rot="10800000">
            <a:off x="1955880" y="1679040"/>
            <a:ext cx="56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пражнение типа потяг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3" descr="IMG_6802.JPG"/>
          <p:cNvPicPr/>
          <p:nvPr/>
        </p:nvPicPr>
        <p:blipFill>
          <a:blip r:embed="rId3"/>
          <a:stretch/>
        </p:blipFill>
        <p:spPr>
          <a:xfrm>
            <a:off x="4532400" y="4611600"/>
            <a:ext cx="2979720" cy="22352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SAM_0085.JPG"/>
          <p:cNvPicPr/>
          <p:nvPr/>
        </p:nvPicPr>
        <p:blipFill>
          <a:blip r:embed="rId4"/>
          <a:stretch/>
        </p:blipFill>
        <p:spPr>
          <a:xfrm>
            <a:off x="6021360" y="2135160"/>
            <a:ext cx="2494080" cy="202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157680" y="282600"/>
            <a:ext cx="793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Специально-подготовительные упражнения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8" descr="IMG_6578.JPG"/>
          <p:cNvPicPr/>
          <p:nvPr/>
        </p:nvPicPr>
        <p:blipFill>
          <a:blip r:embed="rId1"/>
          <a:stretch/>
        </p:blipFill>
        <p:spPr>
          <a:xfrm>
            <a:off x="395280" y="2852640"/>
            <a:ext cx="2590920" cy="20163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9"/>
          <p:cNvSpPr/>
          <p:nvPr/>
        </p:nvSpPr>
        <p:spPr>
          <a:xfrm>
            <a:off x="395280" y="1052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митация движений ногами и руками при коньковом х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0" descr="IMG_6580.JPG"/>
          <p:cNvPicPr/>
          <p:nvPr/>
        </p:nvPicPr>
        <p:blipFill>
          <a:blip r:embed="rId2"/>
          <a:stretch/>
        </p:blipFill>
        <p:spPr>
          <a:xfrm>
            <a:off x="6300720" y="2781360"/>
            <a:ext cx="2664000" cy="2016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1"/>
          <p:cNvSpPr/>
          <p:nvPr/>
        </p:nvSpPr>
        <p:spPr>
          <a:xfrm>
            <a:off x="6450480" y="1773360"/>
            <a:ext cx="2189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(исправление ошибо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12" descr="IMG_6818.JPG"/>
          <p:cNvPicPr/>
          <p:nvPr/>
        </p:nvPicPr>
        <p:blipFill>
          <a:blip r:embed="rId3"/>
          <a:stretch/>
        </p:blipFill>
        <p:spPr>
          <a:xfrm>
            <a:off x="3276720" y="2852640"/>
            <a:ext cx="2573280" cy="20163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0"/>
          <p:cNvSpPr/>
          <p:nvPr/>
        </p:nvSpPr>
        <p:spPr>
          <a:xfrm>
            <a:off x="250920" y="4365720"/>
            <a:ext cx="39436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ещаясь в правую сторону, толчком левой ногой сделать вып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еред-вправо, стремясь как можно позже подставить маховую ног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равую) под падающее туловище. Следить за полным выпрямл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чковой ноги (от опоры ее не отрывать), вернуться в исход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ение. При повторении поочередно менять толчковую ногу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ения выпадов в разные стор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extBox 11" descr=""/>
          <p:cNvPicPr/>
          <p:nvPr/>
        </p:nvPicPr>
        <p:blipFill>
          <a:blip r:embed="rId4"/>
          <a:stretch/>
        </p:blipFill>
        <p:spPr>
          <a:xfrm>
            <a:off x="1054080" y="378000"/>
            <a:ext cx="7467480" cy="105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755640" y="549360"/>
            <a:ext cx="69850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i="1" lang="en-US" sz="4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95280" y="333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Подводящие упражнения для изучения техники конькового 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4" descr="IMG_6821.JPG"/>
          <p:cNvPicPr/>
          <p:nvPr/>
        </p:nvPicPr>
        <p:blipFill>
          <a:blip r:embed="rId1"/>
          <a:stretch/>
        </p:blipFill>
        <p:spPr>
          <a:xfrm>
            <a:off x="414360" y="4732200"/>
            <a:ext cx="2443320" cy="18320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6" descr="IMG_6841.JPG"/>
          <p:cNvPicPr/>
          <p:nvPr/>
        </p:nvPicPr>
        <p:blipFill>
          <a:blip r:embed="rId2"/>
          <a:stretch/>
        </p:blipFill>
        <p:spPr>
          <a:xfrm>
            <a:off x="446040" y="1727280"/>
            <a:ext cx="3117960" cy="23382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7"/>
          <p:cNvSpPr/>
          <p:nvPr/>
        </p:nvSpPr>
        <p:spPr>
          <a:xfrm flipV="1" rot="10800000">
            <a:off x="6494400" y="380268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авильное положение тор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181080" y="4292640"/>
            <a:ext cx="501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9" descr="IMG_6601.JPG"/>
          <p:cNvPicPr/>
          <p:nvPr/>
        </p:nvPicPr>
        <p:blipFill>
          <a:blip r:embed="rId3"/>
          <a:stretch/>
        </p:blipFill>
        <p:spPr>
          <a:xfrm>
            <a:off x="6413400" y="4589640"/>
            <a:ext cx="2654280" cy="1990440"/>
          </a:xfrm>
          <a:prstGeom prst="rect">
            <a:avLst/>
          </a:prstGeom>
          <a:ln w="0">
            <a:noFill/>
          </a:ln>
        </p:spPr>
      </p:pic>
      <p:sp>
        <p:nvSpPr>
          <p:cNvPr id="185" name="Рисунок 1"/>
          <p:cNvSpPr/>
          <p:nvPr/>
        </p:nvSpPr>
        <p:spPr>
          <a:xfrm>
            <a:off x="1828800" y="13716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 flipV="1" rot="10800000">
            <a:off x="3132000" y="3773880"/>
            <a:ext cx="33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гласование  работы рук и н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IMG_6605"/>
          <p:cNvPicPr/>
          <p:nvPr/>
        </p:nvPicPr>
        <p:blipFill>
          <a:blip r:embed="rId4"/>
          <a:stretch/>
        </p:blipFill>
        <p:spPr>
          <a:xfrm>
            <a:off x="3219480" y="4527720"/>
            <a:ext cx="3071880" cy="21301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5" descr="IMG_6643.JPG"/>
          <p:cNvPicPr/>
          <p:nvPr/>
        </p:nvPicPr>
        <p:blipFill>
          <a:blip r:embed="rId5"/>
          <a:stretch/>
        </p:blipFill>
        <p:spPr>
          <a:xfrm>
            <a:off x="4756320" y="1681200"/>
            <a:ext cx="3182760" cy="20430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8"/>
          <p:cNvSpPr/>
          <p:nvPr/>
        </p:nvSpPr>
        <p:spPr>
          <a:xfrm>
            <a:off x="-1440" y="4219560"/>
            <a:ext cx="32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бота н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0" descr=""/>
          <p:cNvPicPr/>
          <p:nvPr/>
        </p:nvPicPr>
        <p:blipFill>
          <a:blip r:embed="rId6"/>
          <a:stretch/>
        </p:blipFill>
        <p:spPr>
          <a:xfrm>
            <a:off x="52560" y="1338120"/>
            <a:ext cx="4962240" cy="73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2" descr="IMG_6626.JPG"/>
          <p:cNvPicPr/>
          <p:nvPr/>
        </p:nvPicPr>
        <p:blipFill>
          <a:blip r:embed="rId1"/>
          <a:stretch/>
        </p:blipFill>
        <p:spPr>
          <a:xfrm>
            <a:off x="395280" y="1341360"/>
            <a:ext cx="3673440" cy="29336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3" descr="IMG_6621.JPG"/>
          <p:cNvPicPr/>
          <p:nvPr/>
        </p:nvPicPr>
        <p:blipFill>
          <a:blip r:embed="rId2"/>
          <a:stretch/>
        </p:blipFill>
        <p:spPr>
          <a:xfrm>
            <a:off x="4427640" y="1341360"/>
            <a:ext cx="3846240" cy="29401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/>
          <p:cNvSpPr/>
          <p:nvPr/>
        </p:nvSpPr>
        <p:spPr>
          <a:xfrm>
            <a:off x="539640" y="404640"/>
            <a:ext cx="74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Arial"/>
              </a:rPr>
              <a:t>Работа над ошиб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611280" y="4797360"/>
            <a:ext cx="1098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шибки в движениях туловища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остаточное изменение угла накл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изкая активность участия в отталкивании руками; излиш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перечные перемещения (они пропорциональны углу разведения лыж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кое выпрямление после окончания толчка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6" descr="IMG_6655.JPG"/>
          <p:cNvPicPr/>
          <p:nvPr/>
        </p:nvPicPr>
        <p:blipFill>
          <a:blip r:embed="rId1"/>
          <a:stretch/>
        </p:blipFill>
        <p:spPr>
          <a:xfrm>
            <a:off x="3059280" y="692280"/>
            <a:ext cx="2881080" cy="32940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7" descr="IMG_6657.JPG"/>
          <p:cNvPicPr/>
          <p:nvPr/>
        </p:nvPicPr>
        <p:blipFill>
          <a:blip r:embed="rId2"/>
          <a:stretch/>
        </p:blipFill>
        <p:spPr>
          <a:xfrm rot="19620000">
            <a:off x="266400" y="1933200"/>
            <a:ext cx="2703600" cy="17812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8" descr="IMG_6669.JPG"/>
          <p:cNvPicPr/>
          <p:nvPr/>
        </p:nvPicPr>
        <p:blipFill>
          <a:blip r:embed="rId3"/>
          <a:stretch/>
        </p:blipFill>
        <p:spPr>
          <a:xfrm rot="2160000">
            <a:off x="6062400" y="1863720"/>
            <a:ext cx="2593800" cy="17510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6"/>
          <p:cNvSpPr/>
          <p:nvPr/>
        </p:nvSpPr>
        <p:spPr>
          <a:xfrm>
            <a:off x="324000" y="4724280"/>
            <a:ext cx="1472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 коньковом ходе не должны допускаться следующие ошиб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сочетания и согласованности работы рук с двига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ью ногами; незавершенный толчок руками, в том числ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зи с использованием палок, которые не соответствуют оптима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не; слишком широкая постановка палок впереди (в одноврем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дах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2:13:52Z</dcterms:created>
  <dc:creator>Дашуля</dc:creator>
  <dc:description/>
  <dc:language>en-US</dc:language>
  <cp:lastModifiedBy>Рожкова</cp:lastModifiedBy>
  <dcterms:modified xsi:type="dcterms:W3CDTF">2016-09-10T07:26:09Z</dcterms:modified>
  <cp:revision>81</cp:revision>
  <dc:subject/>
  <dc:title>Слайд 1</dc:title>
</cp:coreProperties>
</file>