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B9F-1193-499B-800B-2CB22E49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275-CA7E-4C4F-8D82-D6CD66CC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E37-DF66-4C3F-AD25-EF0528BF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5738-34A9-4F32-8ACF-4D88CB8B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D255-F223-4FB7-B0DB-CC44F6EF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49E0-E705-4C96-9CCB-DC1D3F3E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2038-044E-4AC6-B841-86773F2F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768E-D86A-4183-A1A9-F7049972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37E1-3AC0-4B4B-957D-23D6CCDF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E86B-FF7C-46D9-9702-5986D724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660B-9DA6-4BF6-83F0-1A858DC3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481A-B975-4D48-988A-1AFA3125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2138-46F2-47D9-8666-5B36E792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6CE7-262E-44F1-AB5D-0CCE8979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556C-6936-4E9C-9C51-6B6F8810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F35B-9AD8-429C-AD41-A96605E5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A45B-07F5-40BD-A144-9C6408B9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5A2-B085-4C8D-B285-EDD37964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27E5-F982-44A5-8AEB-854B55A6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BF0-0437-4A5D-ABFE-04FA1494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1B4-F53C-4984-927C-FD0A16F7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5CA0-08D3-48AD-B131-26C84875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F64-B82A-4177-BF5F-DBC880B5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849F-1DBF-4F15-81AD-B1C29A83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3A86-913D-47F8-BB43-EE65EF64970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511F-3E16-4B41-A328-57C9A6C976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684036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Методическое пособие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тема: Обучение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технике конькового лыжного хода 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Подготовил и провел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: </a:t>
            </a:r>
            <a:br>
              <a:rPr sz="24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енер-преподаватель МБУ ДО «ДЮСШ-Вымпел»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5280" y="1773360"/>
            <a:ext cx="8640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Место провед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ОУ « СОШ  №9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ата провед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.12.201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just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о-тренировочный процесс осуществляется на основании рабочей программы по полиатлону для группы начальной подготовки  первого года обучения (ГНП-1), которая составлена на основании примерной программы спортивной подготовки по полиатлону допущенной Федеральным Агентством по физической культуре и спорту – г.Рязань 2007 г. (авторы Кейно А.Ю., Грицков П.М., Сычев А.В.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just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о-тренировочное занятие по лыжам разработано на основе документов текущего планирования для группы начальной подготовки первого года обучения и построено на основных дидактических принципах, отражающих методические закономерности обучения и воспитания: сознательности и активности, систематичности, доступности, наглядности и индивидуа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4" descr="IMG_6635.JPG"/>
          <p:cNvPicPr/>
          <p:nvPr/>
        </p:nvPicPr>
        <p:blipFill>
          <a:blip r:embed="rId1"/>
          <a:stretch/>
        </p:blipFill>
        <p:spPr>
          <a:xfrm>
            <a:off x="657360" y="109368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5" descr="IMG_6823.JPG"/>
          <p:cNvPicPr/>
          <p:nvPr/>
        </p:nvPicPr>
        <p:blipFill>
          <a:blip r:embed="rId2"/>
          <a:stretch/>
        </p:blipFill>
        <p:spPr>
          <a:xfrm>
            <a:off x="5076720" y="738360"/>
            <a:ext cx="2430720" cy="18223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6"/>
          <p:cNvSpPr/>
          <p:nvPr/>
        </p:nvSpPr>
        <p:spPr>
          <a:xfrm>
            <a:off x="539640" y="1052640"/>
            <a:ext cx="256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нятие лы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3105000" y="191448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дох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-23760" y="115920"/>
            <a:ext cx="898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ключительная часть( 15 мин.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5" descr="IMG_6691.JPG"/>
          <p:cNvPicPr/>
          <p:nvPr/>
        </p:nvPicPr>
        <p:blipFill>
          <a:blip r:embed="rId3"/>
          <a:stretch/>
        </p:blipFill>
        <p:spPr>
          <a:xfrm>
            <a:off x="5330880" y="3560760"/>
            <a:ext cx="3295440" cy="24717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7" descr="IMG_6694.JPG"/>
          <p:cNvPicPr/>
          <p:nvPr/>
        </p:nvPicPr>
        <p:blipFill>
          <a:blip r:embed="rId4"/>
          <a:stretch/>
        </p:blipFill>
        <p:spPr>
          <a:xfrm>
            <a:off x="684360" y="3789360"/>
            <a:ext cx="3024000" cy="201312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1"/>
          <p:cNvSpPr/>
          <p:nvPr/>
        </p:nvSpPr>
        <p:spPr>
          <a:xfrm>
            <a:off x="684360" y="32446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борка инвента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"/>
          <p:cNvSpPr/>
          <p:nvPr/>
        </p:nvSpPr>
        <p:spPr>
          <a:xfrm flipV="1" rot="10800000">
            <a:off x="4788000" y="2929320"/>
            <a:ext cx="38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 занятия, домашни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воена оптимальная постановка палок впереди в одновременных ходах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рошо усвоен толчок руками, в том числе в связи с использованием палок, которые не соответствуют оптимальной   длине. Изменение угла наклона и активность участия в отталкивании руками   требует дополнительного оттач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ходе занятия хорошо усвоены отдельные движения рук и ног, а сочетание и согласованность работы рук с двигательной  деятельностью ногами  предстоит усовершен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971640" y="333000"/>
            <a:ext cx="64087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6600"/>
                </a:solidFill>
                <a:latin typeface="Arial"/>
              </a:rPr>
              <a:t>Усвоенный материал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-38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6600"/>
                </a:solidFill>
                <a:latin typeface="Arial"/>
              </a:rPr>
              <a:t>Задач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9280" y="907920"/>
            <a:ext cx="8147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004d"/>
                </a:solidFill>
                <a:latin typeface="Arial Black"/>
              </a:rPr>
              <a:t>Образов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учение основам техники конькового лыжного х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Формирование знаний о правилах личной гиги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004d"/>
                </a:solidFill>
                <a:latin typeface="Arial Black"/>
              </a:rPr>
              <a:t>Воспит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Воспитание морально – волевых качеств (сила воли, настойчивость, трудолюб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устойчивого интереса, мотивации к занятиям физической культурой и здоровому образу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004d"/>
                </a:solidFill>
                <a:latin typeface="Arial Black"/>
              </a:rPr>
              <a:t>Оздоровительны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каливание организ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пособствовать улучшению функции дыхательн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  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На представленном учебно-тренировочном занятии формируется предварительное представление о технике конькового хода, амплитуде отдельных элементов изучаемого способа хода. Ознакомление приводит к образованию специфических рефлексов  вестибулярного, мышечного аппарата, что содействует освоению навыка конькового хода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  В результате разучивания элементов техники лыжного хода— движений ног, рук,  формируются кинестетические, слуховые, зрительные, тактильные и другие ощущения, которые являются основой для выработки оптимальной рабочей позы лыжника. Последовательное изучение элементов техники лыжного хода служит основой качественного освоения конькового  хода в целом.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4" name="Содержимое 4" descr="SAM_0079.JPG"/>
          <p:cNvPicPr/>
          <p:nvPr/>
        </p:nvPicPr>
        <p:blipFill>
          <a:blip r:embed="rId1"/>
          <a:stretch/>
        </p:blipFill>
        <p:spPr>
          <a:xfrm>
            <a:off x="4572000" y="1628640"/>
            <a:ext cx="3998880" cy="441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8"/>
          <p:cNvSpPr txBox="1"/>
          <p:nvPr/>
        </p:nvSpPr>
        <p:spPr>
          <a:xfrm>
            <a:off x="395280" y="260280"/>
            <a:ext cx="748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ниверсальные учебные действия</a:t>
            </a:r>
            <a:endParaRPr b="0" i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196440" y="831960"/>
            <a:ext cx="4638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Личностны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преодолевать труд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проявлять инициат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79280" y="1844640"/>
            <a:ext cx="477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знавательны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получать знания используя современные техноло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активизировать мыслительн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179280" y="350028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взаимодействия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екти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изация – умение общаться со сверстника и взросл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755640" y="5084640"/>
            <a:ext cx="48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контролировать псих – эмоциональное состоя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нормировать и соотносить учебную и тренировочную нагру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7" descr="SAM_0038.JPG"/>
          <p:cNvPicPr/>
          <p:nvPr/>
        </p:nvPicPr>
        <p:blipFill>
          <a:blip r:embed="rId1"/>
          <a:stretch/>
        </p:blipFill>
        <p:spPr>
          <a:xfrm>
            <a:off x="5435640" y="1989000"/>
            <a:ext cx="3457440" cy="352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539640" y="549360"/>
            <a:ext cx="72010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i="1" lang="en-US" sz="44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84360" y="115920"/>
            <a:ext cx="813564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В содержание занятия включены следующие средст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1)общеразвивающие и специальные физические упражн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2) подготовительные упраж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3) подводящие и имитационные упражнения для успешного обучения технике выполнения конькового лыжного х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Разминка: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4794120" y="41893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одьба на ме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5" descr="IMG_6811.JPG"/>
          <p:cNvPicPr/>
          <p:nvPr/>
        </p:nvPicPr>
        <p:blipFill>
          <a:blip r:embed="rId1"/>
          <a:stretch/>
        </p:blipFill>
        <p:spPr>
          <a:xfrm>
            <a:off x="2757600" y="2135160"/>
            <a:ext cx="2706480" cy="20289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8" descr="IMG_6806.JPG"/>
          <p:cNvPicPr/>
          <p:nvPr/>
        </p:nvPicPr>
        <p:blipFill>
          <a:blip r:embed="rId2"/>
          <a:stretch/>
        </p:blipFill>
        <p:spPr>
          <a:xfrm>
            <a:off x="522360" y="4602240"/>
            <a:ext cx="3008160" cy="22557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9"/>
          <p:cNvSpPr/>
          <p:nvPr/>
        </p:nvSpPr>
        <p:spPr>
          <a:xfrm>
            <a:off x="604800" y="418932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тя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 flipV="1" rot="10800000">
            <a:off x="1955880" y="1679040"/>
            <a:ext cx="56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пражнение типа потяг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3" descr="IMG_6802.JPG"/>
          <p:cNvPicPr/>
          <p:nvPr/>
        </p:nvPicPr>
        <p:blipFill>
          <a:blip r:embed="rId3"/>
          <a:stretch/>
        </p:blipFill>
        <p:spPr>
          <a:xfrm>
            <a:off x="4532400" y="4611600"/>
            <a:ext cx="2979720" cy="22352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SAM_0085.JPG"/>
          <p:cNvPicPr/>
          <p:nvPr/>
        </p:nvPicPr>
        <p:blipFill>
          <a:blip r:embed="rId4"/>
          <a:stretch/>
        </p:blipFill>
        <p:spPr>
          <a:xfrm>
            <a:off x="6021360" y="2135160"/>
            <a:ext cx="2494080" cy="202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157680" y="282600"/>
            <a:ext cx="793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Специально-подготовительные упражнения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8" descr="IMG_6578.JPG"/>
          <p:cNvPicPr/>
          <p:nvPr/>
        </p:nvPicPr>
        <p:blipFill>
          <a:blip r:embed="rId1"/>
          <a:stretch/>
        </p:blipFill>
        <p:spPr>
          <a:xfrm>
            <a:off x="395280" y="2852640"/>
            <a:ext cx="2590920" cy="20163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9"/>
          <p:cNvSpPr/>
          <p:nvPr/>
        </p:nvSpPr>
        <p:spPr>
          <a:xfrm>
            <a:off x="395280" y="10526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митация движений ногами и руками при коньковом х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0" descr="IMG_6580.JPG"/>
          <p:cNvPicPr/>
          <p:nvPr/>
        </p:nvPicPr>
        <p:blipFill>
          <a:blip r:embed="rId2"/>
          <a:stretch/>
        </p:blipFill>
        <p:spPr>
          <a:xfrm>
            <a:off x="6300720" y="2781360"/>
            <a:ext cx="2664000" cy="2016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1"/>
          <p:cNvSpPr/>
          <p:nvPr/>
        </p:nvSpPr>
        <p:spPr>
          <a:xfrm>
            <a:off x="6450480" y="1773360"/>
            <a:ext cx="2189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(исправление ошибо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12" descr="IMG_6818.JPG"/>
          <p:cNvPicPr/>
          <p:nvPr/>
        </p:nvPicPr>
        <p:blipFill>
          <a:blip r:embed="rId3"/>
          <a:stretch/>
        </p:blipFill>
        <p:spPr>
          <a:xfrm>
            <a:off x="3276720" y="2852640"/>
            <a:ext cx="2573280" cy="20163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0"/>
          <p:cNvSpPr/>
          <p:nvPr/>
        </p:nvSpPr>
        <p:spPr>
          <a:xfrm>
            <a:off x="250920" y="4365720"/>
            <a:ext cx="39436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ещаясь в правую сторону, толчком левой ногой сделать вып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перед-вправо, стремясь как можно позже подставить маховую ног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равую) под падающее туловище. Следить за полным выпрямл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чковой ноги (от опоры ее не отрывать), вернуться в исход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ение. При повторении поочередно менять толчковую ногу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ения выпадов в разные стор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extBox 11" descr=""/>
          <p:cNvPicPr/>
          <p:nvPr/>
        </p:nvPicPr>
        <p:blipFill>
          <a:blip r:embed="rId4"/>
          <a:stretch/>
        </p:blipFill>
        <p:spPr>
          <a:xfrm>
            <a:off x="1054080" y="378000"/>
            <a:ext cx="7467480" cy="105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755640" y="549360"/>
            <a:ext cx="69850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i="1" lang="en-US" sz="44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95280" y="333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Подводящие упражнения для изучения техники конькового 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4" descr="IMG_6821.JPG"/>
          <p:cNvPicPr/>
          <p:nvPr/>
        </p:nvPicPr>
        <p:blipFill>
          <a:blip r:embed="rId1"/>
          <a:stretch/>
        </p:blipFill>
        <p:spPr>
          <a:xfrm>
            <a:off x="414360" y="4732200"/>
            <a:ext cx="2443320" cy="18320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6" descr="IMG_6841.JPG"/>
          <p:cNvPicPr/>
          <p:nvPr/>
        </p:nvPicPr>
        <p:blipFill>
          <a:blip r:embed="rId2"/>
          <a:stretch/>
        </p:blipFill>
        <p:spPr>
          <a:xfrm>
            <a:off x="446040" y="1727280"/>
            <a:ext cx="3117960" cy="23382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7"/>
          <p:cNvSpPr/>
          <p:nvPr/>
        </p:nvSpPr>
        <p:spPr>
          <a:xfrm flipV="1" rot="10800000">
            <a:off x="6494400" y="3802680"/>
            <a:ext cx="26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авильное положение тор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181080" y="4292640"/>
            <a:ext cx="501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9" descr="IMG_6601.JPG"/>
          <p:cNvPicPr/>
          <p:nvPr/>
        </p:nvPicPr>
        <p:blipFill>
          <a:blip r:embed="rId3"/>
          <a:stretch/>
        </p:blipFill>
        <p:spPr>
          <a:xfrm>
            <a:off x="6413400" y="4589640"/>
            <a:ext cx="2654280" cy="1990440"/>
          </a:xfrm>
          <a:prstGeom prst="rect">
            <a:avLst/>
          </a:prstGeom>
          <a:ln w="0">
            <a:noFill/>
          </a:ln>
        </p:spPr>
      </p:pic>
      <p:sp>
        <p:nvSpPr>
          <p:cNvPr id="185" name="Рисунок 1"/>
          <p:cNvSpPr/>
          <p:nvPr/>
        </p:nvSpPr>
        <p:spPr>
          <a:xfrm>
            <a:off x="1828800" y="13716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flipV="1" rot="10800000">
            <a:off x="3132000" y="3773880"/>
            <a:ext cx="33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огласование  работы рук и н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IMG_6605"/>
          <p:cNvPicPr/>
          <p:nvPr/>
        </p:nvPicPr>
        <p:blipFill>
          <a:blip r:embed="rId4"/>
          <a:stretch/>
        </p:blipFill>
        <p:spPr>
          <a:xfrm>
            <a:off x="3219480" y="4527720"/>
            <a:ext cx="3071880" cy="21301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5" descr="IMG_6643.JPG"/>
          <p:cNvPicPr/>
          <p:nvPr/>
        </p:nvPicPr>
        <p:blipFill>
          <a:blip r:embed="rId5"/>
          <a:stretch/>
        </p:blipFill>
        <p:spPr>
          <a:xfrm>
            <a:off x="4756320" y="1681200"/>
            <a:ext cx="3182760" cy="20430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8"/>
          <p:cNvSpPr/>
          <p:nvPr/>
        </p:nvSpPr>
        <p:spPr>
          <a:xfrm>
            <a:off x="-1440" y="4219560"/>
            <a:ext cx="32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бота н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0" descr=""/>
          <p:cNvPicPr/>
          <p:nvPr/>
        </p:nvPicPr>
        <p:blipFill>
          <a:blip r:embed="rId6"/>
          <a:stretch/>
        </p:blipFill>
        <p:spPr>
          <a:xfrm>
            <a:off x="52560" y="1338120"/>
            <a:ext cx="4962240" cy="73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2" descr="IMG_6626.JPG"/>
          <p:cNvPicPr/>
          <p:nvPr/>
        </p:nvPicPr>
        <p:blipFill>
          <a:blip r:embed="rId1"/>
          <a:stretch/>
        </p:blipFill>
        <p:spPr>
          <a:xfrm>
            <a:off x="395280" y="1341360"/>
            <a:ext cx="3673440" cy="293364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3" descr="IMG_6621.JPG"/>
          <p:cNvPicPr/>
          <p:nvPr/>
        </p:nvPicPr>
        <p:blipFill>
          <a:blip r:embed="rId2"/>
          <a:stretch/>
        </p:blipFill>
        <p:spPr>
          <a:xfrm>
            <a:off x="4427640" y="1341360"/>
            <a:ext cx="3846240" cy="29401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/>
          <p:cNvSpPr/>
          <p:nvPr/>
        </p:nvSpPr>
        <p:spPr>
          <a:xfrm>
            <a:off x="539640" y="404640"/>
            <a:ext cx="74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Работа над ошиб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611280" y="4797360"/>
            <a:ext cx="1098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шибки в движениях туловища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достаточное изменение угла накл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изкая активность участия в отталкивании руками; излиш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перечные перемещения (они пропорциональны углу разведения лыж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кое выпрямление после окончания толчка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6" descr="IMG_6655.JPG"/>
          <p:cNvPicPr/>
          <p:nvPr/>
        </p:nvPicPr>
        <p:blipFill>
          <a:blip r:embed="rId1"/>
          <a:stretch/>
        </p:blipFill>
        <p:spPr>
          <a:xfrm>
            <a:off x="3059280" y="692280"/>
            <a:ext cx="2881080" cy="32940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7" descr="IMG_6657.JPG"/>
          <p:cNvPicPr/>
          <p:nvPr/>
        </p:nvPicPr>
        <p:blipFill>
          <a:blip r:embed="rId2"/>
          <a:stretch/>
        </p:blipFill>
        <p:spPr>
          <a:xfrm rot="19620000">
            <a:off x="266400" y="1933200"/>
            <a:ext cx="2703600" cy="17812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8" descr="IMG_6669.JPG"/>
          <p:cNvPicPr/>
          <p:nvPr/>
        </p:nvPicPr>
        <p:blipFill>
          <a:blip r:embed="rId3"/>
          <a:stretch/>
        </p:blipFill>
        <p:spPr>
          <a:xfrm rot="2160000">
            <a:off x="6062400" y="1863720"/>
            <a:ext cx="2593800" cy="17510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6"/>
          <p:cNvSpPr/>
          <p:nvPr/>
        </p:nvSpPr>
        <p:spPr>
          <a:xfrm>
            <a:off x="324000" y="4724280"/>
            <a:ext cx="1472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 коньковом ходе не должны допускаться следующие ошиб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сочетания и согласованности работы рук с двигат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ью ногами; незавершенный толчок руками, в том числ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зи с использованием палок, которые не соответствуют оптима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не; слишком широкая постановка палок впереди (в одноврем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дах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2:13:52Z</dcterms:created>
  <dc:creator>Дашуля</dc:creator>
  <dc:description/>
  <dc:language>en-US</dc:language>
  <cp:lastModifiedBy>Рожкова</cp:lastModifiedBy>
  <dcterms:modified xsi:type="dcterms:W3CDTF">2016-09-10T07:26:09Z</dcterms:modified>
  <cp:revision>81</cp:revision>
  <dc:subject/>
  <dc:title>Слайд 1</dc:title>
</cp:coreProperties>
</file>