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42.jpeg" ContentType="image/jpeg"/>
  <Override PartName="/ppt/media/image24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8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40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31.jpeg" ContentType="image/jpeg"/>
  <Override PartName="/ppt/media/image18.png" ContentType="image/png"/>
  <Override PartName="/ppt/media/image6.jpeg" ContentType="image/jpeg"/>
  <Override PartName="/ppt/media/image34.jpeg" ContentType="image/jpeg"/>
  <Override PartName="/ppt/media/image37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DB1-18D0-4568-9B4E-6A550E57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F46-FF43-46E0-AD49-6E26F5B6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827-3D83-4C66-871F-042739FD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432-9226-4DDA-9713-74B6E236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058-382E-4599-A9BE-45B41AA8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023-2F81-4AD1-9A88-68F79556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99B-071B-4D64-96E7-DD70EFEB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F55-9BAA-484B-9759-30C6DA44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5F8-ADE5-4A65-A64F-8E1DF4C1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33E-5DC5-4366-8C09-39DDBA28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E29-9284-4B21-BC37-828EAB1E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1DF-49D4-405A-9D5B-029D759C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A767-DA5E-497B-A6E8-BC239B8B3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M:\IMG_1458.JPG"/>
          <p:cNvPicPr/>
          <p:nvPr/>
        </p:nvPicPr>
        <p:blipFill>
          <a:blip r:embed="rId1"/>
          <a:stretch/>
        </p:blipFill>
        <p:spPr>
          <a:xfrm rot="20753400">
            <a:off x="968400" y="2306160"/>
            <a:ext cx="2416320" cy="3221280"/>
          </a:xfrm>
          <a:prstGeom prst="rect">
            <a:avLst/>
          </a:prstGeom>
          <a:ln w="25560">
            <a:solidFill>
              <a:srgbClr val="984807"/>
            </a:solidFill>
            <a:miter/>
          </a:ln>
        </p:spPr>
      </p:pic>
      <p:pic>
        <p:nvPicPr>
          <p:cNvPr id="43" name="Picture 3" descr="M:\IMG_1511.JPG"/>
          <p:cNvPicPr/>
          <p:nvPr/>
        </p:nvPicPr>
        <p:blipFill>
          <a:blip r:embed="rId2"/>
          <a:stretch/>
        </p:blipFill>
        <p:spPr>
          <a:xfrm rot="1006800">
            <a:off x="5570280" y="2243160"/>
            <a:ext cx="2468520" cy="3290760"/>
          </a:xfrm>
          <a:prstGeom prst="rect">
            <a:avLst/>
          </a:prstGeom>
          <a:ln w="25560">
            <a:solidFill>
              <a:srgbClr val="984807"/>
            </a:solidFill>
            <a:miter/>
          </a:ln>
        </p:spPr>
      </p:pic>
      <p:sp>
        <p:nvSpPr>
          <p:cNvPr id="44" name="Облако 5"/>
          <p:cNvSpPr/>
          <p:nvPr/>
        </p:nvSpPr>
        <p:spPr>
          <a:xfrm rot="20783400">
            <a:off x="1191960" y="5270400"/>
            <a:ext cx="3024000" cy="1008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6b9b8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блако 6"/>
          <p:cNvSpPr/>
          <p:nvPr/>
        </p:nvSpPr>
        <p:spPr>
          <a:xfrm rot="1195200">
            <a:off x="4652640" y="5270400"/>
            <a:ext cx="3024000" cy="1008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6b9b8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8" descr=""/>
          <p:cNvPicPr/>
          <p:nvPr/>
        </p:nvPicPr>
        <p:blipFill>
          <a:blip r:embed="rId3"/>
          <a:stretch/>
        </p:blipFill>
        <p:spPr>
          <a:xfrm>
            <a:off x="1670040" y="5078520"/>
            <a:ext cx="2182680" cy="14936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9" descr=""/>
          <p:cNvPicPr/>
          <p:nvPr/>
        </p:nvPicPr>
        <p:blipFill>
          <a:blip r:embed="rId4"/>
          <a:stretch/>
        </p:blipFill>
        <p:spPr>
          <a:xfrm>
            <a:off x="5211720" y="5016600"/>
            <a:ext cx="2000160" cy="154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31840" y="43452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Нетрадиционное физкультурное оборудование 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Calibri"/>
              </a:rPr>
              <a:t>как средство моторно-двигательного развития до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F:\DCIM\101MSDCF\DSC04573.JPG"/>
          <p:cNvPicPr/>
          <p:nvPr/>
        </p:nvPicPr>
        <p:blipFill>
          <a:blip r:embed="rId1"/>
          <a:stretch/>
        </p:blipFill>
        <p:spPr>
          <a:xfrm>
            <a:off x="395280" y="1484280"/>
            <a:ext cx="2881440" cy="38419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04" name="Picture 4" descr="C:\Users\Позитроника\Desktop\буклеты\DSCN7266.JPG"/>
          <p:cNvPicPr/>
          <p:nvPr/>
        </p:nvPicPr>
        <p:blipFill>
          <a:blip r:embed="rId2"/>
          <a:stretch/>
        </p:blipFill>
        <p:spPr>
          <a:xfrm>
            <a:off x="5886360" y="1484280"/>
            <a:ext cx="2916360" cy="388944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pic>
        <p:nvPicPr>
          <p:cNvPr id="105" name="Picture 5" descr="C:\Users\Позитроника\Desktop\буклеты\DSCN7246.JPG"/>
          <p:cNvPicPr/>
          <p:nvPr/>
        </p:nvPicPr>
        <p:blipFill>
          <a:blip r:embed="rId3"/>
          <a:stretch/>
        </p:blipFill>
        <p:spPr>
          <a:xfrm>
            <a:off x="2771640" y="3900600"/>
            <a:ext cx="3529080" cy="264636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106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Привлекаем родителей к изготовлению нетрадиционного физкультурного обору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Цель.</a:t>
            </a:r>
            <a:br>
              <a:rPr sz="2000"/>
            </a:b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Создание условий для моторно-двигательного развития детей через внедрение и использование нетрадиционного оборудова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Организовать для детей эмоционально окрашенную физкультурную деятельность с применением нетрадиционного оборуд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Продолжить работу, направленную на развитие и коррекцию основных движений и физических качеств воспитан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Способствовать обогащению чувственно-эстетического опыта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Продолжить формирование у дошкольников социально приемлемых форм поведения и взаимодействия в процессе физкультур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Вовлечь родителей в процесс обогащения  среды, направленной на развитие моторно-двигательной сферы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Актуальност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alibri"/>
              </a:rPr>
              <a:t>нетрадиционные материалы помогают педагогам заинтересовать детей физкультурной деятельность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alibri"/>
              </a:rPr>
              <a:t>вносит разнообразие в  организацию деятельности, направленную на развитие и коррекцию двигательной сферы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alibri"/>
              </a:rPr>
              <a:t>интересный предмет вводит за собой «особого» ребенка в мир движений и игры с ни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alibri"/>
              </a:rPr>
              <a:t>с необычным предметом ребенок старается выполнить движения более качественно, проявить  некоторое двигательное творчество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Принципы подбора и разработки нетрадиционного физкультурного оборуд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соответствие пособия санитарно-гигиеническим нормам, нормам безопасности, эстетическим требования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многофункциональность и дифференцированность примен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ценовая доступность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перцептивное обследование в процессе предваритель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C:\Users\Позитроника\Desktop\буклеты\DSCN8294.JPG"/>
          <p:cNvPicPr/>
          <p:nvPr/>
        </p:nvPicPr>
        <p:blipFill>
          <a:blip r:embed="rId1"/>
          <a:stretch/>
        </p:blipFill>
        <p:spPr>
          <a:xfrm>
            <a:off x="5148360" y="4005360"/>
            <a:ext cx="3647880" cy="273672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56" name="Овал 17"/>
          <p:cNvSpPr/>
          <p:nvPr/>
        </p:nvSpPr>
        <p:spPr>
          <a:xfrm>
            <a:off x="5796000" y="6093000"/>
            <a:ext cx="2521080" cy="5760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0" descr="C:\Users\Позитроника\Desktop\буклеты\DSCN8287.JPG"/>
          <p:cNvPicPr/>
          <p:nvPr/>
        </p:nvPicPr>
        <p:blipFill>
          <a:blip r:embed="rId2"/>
          <a:stretch/>
        </p:blipFill>
        <p:spPr>
          <a:xfrm>
            <a:off x="324000" y="4010040"/>
            <a:ext cx="3654360" cy="273996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58" name="Овал 15"/>
          <p:cNvSpPr/>
          <p:nvPr/>
        </p:nvSpPr>
        <p:spPr>
          <a:xfrm>
            <a:off x="900000" y="6093000"/>
            <a:ext cx="2519640" cy="5760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9" descr="C:\Users\Позитроника\Desktop\буклеты\DSCN8283.JPG"/>
          <p:cNvPicPr/>
          <p:nvPr/>
        </p:nvPicPr>
        <p:blipFill>
          <a:blip r:embed="rId3"/>
          <a:stretch/>
        </p:blipFill>
        <p:spPr>
          <a:xfrm>
            <a:off x="5178600" y="1201680"/>
            <a:ext cx="3641400" cy="273204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60" name="Овал 14"/>
          <p:cNvSpPr/>
          <p:nvPr/>
        </p:nvSpPr>
        <p:spPr>
          <a:xfrm>
            <a:off x="5940360" y="3357720"/>
            <a:ext cx="2519280" cy="5760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C:\Users\Позитроника\Desktop\буклеты\DSCN8284.JPG"/>
          <p:cNvPicPr/>
          <p:nvPr/>
        </p:nvPicPr>
        <p:blipFill>
          <a:blip r:embed="rId4"/>
          <a:stretch/>
        </p:blipFill>
        <p:spPr>
          <a:xfrm>
            <a:off x="324000" y="1179360"/>
            <a:ext cx="3654360" cy="274032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62" name="Овал 8"/>
          <p:cNvSpPr/>
          <p:nvPr/>
        </p:nvSpPr>
        <p:spPr>
          <a:xfrm>
            <a:off x="826920" y="3284640"/>
            <a:ext cx="2521080" cy="5760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Использование нетрадиционного 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физкультурного оборудования 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при организации общеразвивающих упражн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11" descr=""/>
          <p:cNvPicPr/>
          <p:nvPr/>
        </p:nvPicPr>
        <p:blipFill>
          <a:blip r:embed="rId5"/>
          <a:stretch/>
        </p:blipFill>
        <p:spPr>
          <a:xfrm>
            <a:off x="6066000" y="3340080"/>
            <a:ext cx="2315880" cy="6778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16" descr=""/>
          <p:cNvPicPr/>
          <p:nvPr/>
        </p:nvPicPr>
        <p:blipFill>
          <a:blip r:embed="rId6"/>
          <a:stretch/>
        </p:blipFill>
        <p:spPr>
          <a:xfrm>
            <a:off x="5919840" y="6076800"/>
            <a:ext cx="2316240" cy="6778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0" descr=""/>
          <p:cNvPicPr/>
          <p:nvPr/>
        </p:nvPicPr>
        <p:blipFill>
          <a:blip r:embed="rId7"/>
          <a:stretch/>
        </p:blipFill>
        <p:spPr>
          <a:xfrm>
            <a:off x="950760" y="3267000"/>
            <a:ext cx="2262240" cy="676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3" descr=""/>
          <p:cNvPicPr/>
          <p:nvPr/>
        </p:nvPicPr>
        <p:blipFill>
          <a:blip r:embed="rId8"/>
          <a:stretch/>
        </p:blipFill>
        <p:spPr>
          <a:xfrm>
            <a:off x="950760" y="6076800"/>
            <a:ext cx="2316240" cy="677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:\Users\Колокольчик\Desktop\Новая папка\DSC04528.JPG"/>
          <p:cNvPicPr/>
          <p:nvPr/>
        </p:nvPicPr>
        <p:blipFill>
          <a:blip r:embed="rId1"/>
          <a:stretch/>
        </p:blipFill>
        <p:spPr>
          <a:xfrm>
            <a:off x="250920" y="3860640"/>
            <a:ext cx="3908160" cy="29340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69" name="Овал 15"/>
          <p:cNvSpPr/>
          <p:nvPr/>
        </p:nvSpPr>
        <p:spPr>
          <a:xfrm>
            <a:off x="826920" y="6237360"/>
            <a:ext cx="2521080" cy="431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Колокольчик\Desktop\Новая папка\DSC04520.JPG"/>
          <p:cNvPicPr/>
          <p:nvPr/>
        </p:nvPicPr>
        <p:blipFill>
          <a:blip r:embed="rId2"/>
          <a:stretch/>
        </p:blipFill>
        <p:spPr>
          <a:xfrm>
            <a:off x="250920" y="836640"/>
            <a:ext cx="3889440" cy="29163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71" name="Овал 11"/>
          <p:cNvSpPr/>
          <p:nvPr/>
        </p:nvSpPr>
        <p:spPr>
          <a:xfrm>
            <a:off x="900000" y="3284640"/>
            <a:ext cx="2519640" cy="431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Использование нетрадиционного физкультурного оборудования при организации подвижных иг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Колокольчик\Desktop\Новая папка\DSC04524.JPG"/>
          <p:cNvPicPr/>
          <p:nvPr/>
        </p:nvPicPr>
        <p:blipFill>
          <a:blip r:embed="rId3"/>
          <a:stretch/>
        </p:blipFill>
        <p:spPr>
          <a:xfrm>
            <a:off x="5013360" y="836640"/>
            <a:ext cx="3879720" cy="29098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74" name="Picture 7" descr="C:\Users\Колокольчик\Desktop\Новая папка\DSC04541.JPG"/>
          <p:cNvPicPr/>
          <p:nvPr/>
        </p:nvPicPr>
        <p:blipFill>
          <a:blip r:embed="rId4"/>
          <a:stretch/>
        </p:blipFill>
        <p:spPr>
          <a:xfrm>
            <a:off x="5003640" y="3860640"/>
            <a:ext cx="3876840" cy="29070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75" name="Прямоугольник 14" descr=""/>
          <p:cNvPicPr/>
          <p:nvPr/>
        </p:nvPicPr>
        <p:blipFill>
          <a:blip r:embed="rId5"/>
          <a:stretch/>
        </p:blipFill>
        <p:spPr>
          <a:xfrm>
            <a:off x="987480" y="3267000"/>
            <a:ext cx="2378160" cy="603360"/>
          </a:xfrm>
          <a:prstGeom prst="rect">
            <a:avLst/>
          </a:prstGeom>
          <a:ln w="0">
            <a:noFill/>
          </a:ln>
        </p:spPr>
      </p:pic>
      <p:sp>
        <p:nvSpPr>
          <p:cNvPr id="76" name="Овал 12"/>
          <p:cNvSpPr/>
          <p:nvPr/>
        </p:nvSpPr>
        <p:spPr>
          <a:xfrm>
            <a:off x="5796000" y="6237360"/>
            <a:ext cx="2521080" cy="431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16"/>
          <p:cNvSpPr/>
          <p:nvPr/>
        </p:nvSpPr>
        <p:spPr>
          <a:xfrm>
            <a:off x="5508720" y="3284640"/>
            <a:ext cx="2879640" cy="431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Прямоугольник 9" descr=""/>
          <p:cNvPicPr/>
          <p:nvPr/>
        </p:nvPicPr>
        <p:blipFill>
          <a:blip r:embed="rId6"/>
          <a:stretch/>
        </p:blipFill>
        <p:spPr>
          <a:xfrm>
            <a:off x="5486400" y="3340080"/>
            <a:ext cx="2828880" cy="4334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7"/>
          <a:stretch/>
        </p:blipFill>
        <p:spPr>
          <a:xfrm>
            <a:off x="1378080" y="6291360"/>
            <a:ext cx="1407960" cy="4334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3" descr=""/>
          <p:cNvPicPr/>
          <p:nvPr/>
        </p:nvPicPr>
        <p:blipFill>
          <a:blip r:embed="rId8"/>
          <a:stretch/>
        </p:blipFill>
        <p:spPr>
          <a:xfrm>
            <a:off x="6132600" y="6291360"/>
            <a:ext cx="1957320" cy="433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Использование нетрадиционного оборудования для развития ручной мотор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Колокольчик\Desktop\Новая папка\DSC04549.JPG"/>
          <p:cNvPicPr/>
          <p:nvPr/>
        </p:nvPicPr>
        <p:blipFill>
          <a:blip r:embed="rId1"/>
          <a:stretch/>
        </p:blipFill>
        <p:spPr>
          <a:xfrm>
            <a:off x="250920" y="1484280"/>
            <a:ext cx="2732040" cy="20494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3" name="Picture 4" descr="C:\Users\Колокольчик\Desktop\Новая папка\DSC04553.JPG"/>
          <p:cNvPicPr/>
          <p:nvPr/>
        </p:nvPicPr>
        <p:blipFill>
          <a:blip r:embed="rId2"/>
          <a:stretch/>
        </p:blipFill>
        <p:spPr>
          <a:xfrm>
            <a:off x="6156360" y="1484280"/>
            <a:ext cx="2736720" cy="20527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4" name="Picture 6" descr="C:\Users\Колокольчик\Desktop\Новая папка\DSC04548.JPG"/>
          <p:cNvPicPr/>
          <p:nvPr/>
        </p:nvPicPr>
        <p:blipFill>
          <a:blip r:embed="rId3"/>
          <a:stretch/>
        </p:blipFill>
        <p:spPr>
          <a:xfrm>
            <a:off x="6156360" y="4221000"/>
            <a:ext cx="2751120" cy="20624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5" name="Picture 9" descr="C:\Users\Колокольчик\Desktop\Новая папка\DSC04556.JPG"/>
          <p:cNvPicPr/>
          <p:nvPr/>
        </p:nvPicPr>
        <p:blipFill>
          <a:blip r:embed="rId4"/>
          <a:stretch/>
        </p:blipFill>
        <p:spPr>
          <a:xfrm>
            <a:off x="3203640" y="4221000"/>
            <a:ext cx="2747880" cy="20638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86" name="Прямоугольник 10" descr=""/>
          <p:cNvPicPr/>
          <p:nvPr/>
        </p:nvPicPr>
        <p:blipFill>
          <a:blip r:embed="rId5"/>
          <a:stretch/>
        </p:blipFill>
        <p:spPr>
          <a:xfrm>
            <a:off x="3822840" y="6291360"/>
            <a:ext cx="1584360" cy="43344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1" descr=""/>
          <p:cNvPicPr/>
          <p:nvPr/>
        </p:nvPicPr>
        <p:blipFill>
          <a:blip r:embed="rId6"/>
          <a:stretch/>
        </p:blipFill>
        <p:spPr>
          <a:xfrm>
            <a:off x="6638760" y="6291360"/>
            <a:ext cx="2017800" cy="4334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2" descr=""/>
          <p:cNvPicPr/>
          <p:nvPr/>
        </p:nvPicPr>
        <p:blipFill>
          <a:blip r:embed="rId7"/>
          <a:stretch/>
        </p:blipFill>
        <p:spPr>
          <a:xfrm>
            <a:off x="444600" y="6291360"/>
            <a:ext cx="2170080" cy="433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3" descr=""/>
          <p:cNvPicPr/>
          <p:nvPr/>
        </p:nvPicPr>
        <p:blipFill>
          <a:blip r:embed="rId8"/>
          <a:stretch/>
        </p:blipFill>
        <p:spPr>
          <a:xfrm>
            <a:off x="6626160" y="3627360"/>
            <a:ext cx="1622520" cy="4320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4" descr=""/>
          <p:cNvPicPr/>
          <p:nvPr/>
        </p:nvPicPr>
        <p:blipFill>
          <a:blip r:embed="rId9"/>
          <a:stretch/>
        </p:blipFill>
        <p:spPr>
          <a:xfrm>
            <a:off x="3687840" y="3627360"/>
            <a:ext cx="1731960" cy="432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5" descr=""/>
          <p:cNvPicPr/>
          <p:nvPr/>
        </p:nvPicPr>
        <p:blipFill>
          <a:blip r:embed="rId10"/>
          <a:stretch/>
        </p:blipFill>
        <p:spPr>
          <a:xfrm>
            <a:off x="360360" y="3627360"/>
            <a:ext cx="2516040" cy="43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C:\Users\Позитроника\Desktop\буклеты\DSCN8288.JPG"/>
          <p:cNvPicPr/>
          <p:nvPr/>
        </p:nvPicPr>
        <p:blipFill>
          <a:blip r:embed="rId11"/>
          <a:stretch/>
        </p:blipFill>
        <p:spPr>
          <a:xfrm>
            <a:off x="3132000" y="1484280"/>
            <a:ext cx="2735280" cy="205272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pic>
        <p:nvPicPr>
          <p:cNvPr id="93" name="Picture 14" descr="C:\Users\Позитроника\Desktop\буклеты\DSCN8286.JPG"/>
          <p:cNvPicPr/>
          <p:nvPr/>
        </p:nvPicPr>
        <p:blipFill>
          <a:blip r:embed="rId12"/>
          <a:stretch/>
        </p:blipFill>
        <p:spPr>
          <a:xfrm>
            <a:off x="250920" y="4206960"/>
            <a:ext cx="2808360" cy="210636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Развитие мелкой моторики с помощью панно </a:t>
            </a:r>
            <a:br>
              <a:rPr sz="3200"/>
            </a:b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«В гостях у сказ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E:\На стенд\Сотрудники с детьми\IMG_2644.JPG"/>
          <p:cNvPicPr/>
          <p:nvPr/>
        </p:nvPicPr>
        <p:blipFill>
          <a:blip r:embed="rId1"/>
          <a:stretch/>
        </p:blipFill>
        <p:spPr>
          <a:xfrm>
            <a:off x="1258920" y="1628640"/>
            <a:ext cx="675972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Использование нетрадиционного оборудования для релаксационных упраж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Колокольчик\Desktop\Новая папка\DSC04551.JPG"/>
          <p:cNvPicPr/>
          <p:nvPr/>
        </p:nvPicPr>
        <p:blipFill>
          <a:blip r:embed="rId1"/>
          <a:stretch/>
        </p:blipFill>
        <p:spPr>
          <a:xfrm>
            <a:off x="1052640" y="3860640"/>
            <a:ext cx="2881080" cy="21607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98" name="Picture 3" descr="C:\Users\Колокольчик\Desktop\Новая папка\DSC04562.JPG"/>
          <p:cNvPicPr/>
          <p:nvPr/>
        </p:nvPicPr>
        <p:blipFill>
          <a:blip r:embed="rId2"/>
          <a:stretch/>
        </p:blipFill>
        <p:spPr>
          <a:xfrm>
            <a:off x="4786200" y="1357200"/>
            <a:ext cx="3386160" cy="45133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99" name="Picture 4" descr="C:\Users\Колокольчик\Desktop\Новая папка\DSC04569.JPG"/>
          <p:cNvPicPr/>
          <p:nvPr/>
        </p:nvPicPr>
        <p:blipFill>
          <a:blip r:embed="rId3"/>
          <a:stretch/>
        </p:blipFill>
        <p:spPr>
          <a:xfrm>
            <a:off x="1042920" y="1303200"/>
            <a:ext cx="2881440" cy="21607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00" name="Прямоугольник 6" descr=""/>
          <p:cNvPicPr/>
          <p:nvPr/>
        </p:nvPicPr>
        <p:blipFill>
          <a:blip r:embed="rId4"/>
          <a:stretch/>
        </p:blipFill>
        <p:spPr>
          <a:xfrm>
            <a:off x="4773600" y="5979960"/>
            <a:ext cx="3705120" cy="4334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7" descr=""/>
          <p:cNvPicPr/>
          <p:nvPr/>
        </p:nvPicPr>
        <p:blipFill>
          <a:blip r:embed="rId5"/>
          <a:stretch/>
        </p:blipFill>
        <p:spPr>
          <a:xfrm>
            <a:off x="1305000" y="6059520"/>
            <a:ext cx="235908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9" descr=""/>
          <p:cNvPicPr/>
          <p:nvPr/>
        </p:nvPicPr>
        <p:blipFill>
          <a:blip r:embed="rId6"/>
          <a:stretch/>
        </p:blipFill>
        <p:spPr>
          <a:xfrm>
            <a:off x="1444680" y="3449520"/>
            <a:ext cx="2079720" cy="433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7:38:51Z</dcterms:created>
  <dc:creator>Колокольчик</dc:creator>
  <dc:description/>
  <dc:language>en-US</dc:language>
  <cp:lastModifiedBy>user</cp:lastModifiedBy>
  <dcterms:modified xsi:type="dcterms:W3CDTF">2016-09-10T05:45:17Z</dcterms:modified>
  <cp:revision>34</cp:revision>
  <dc:subject/>
  <dc:title>Инновационный подход к организации физкультурно-оздоровительной работы с дошкольниками старшего возраста</dc:title>
</cp:coreProperties>
</file>