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gif" ContentType="image/gif"/>
  <Override PartName="/ppt/media/image14.png" ContentType="image/png"/>
  <Override PartName="/ppt/media/image10.jpeg" ContentType="image/jpeg"/>
  <Override PartName="/ppt/media/image20.gif" ContentType="image/gif"/>
  <Override PartName="/ppt/media/image13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51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48.jpeg" ContentType="image/jpeg"/>
  <Override PartName="/ppt/media/image37.jpeg" ContentType="image/jpeg"/>
  <Override PartName="/ppt/media/image50.gif" ContentType="image/gif"/>
  <Override PartName="/ppt/media/image33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3.png" ContentType="image/pn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CB3-4398-458C-8E05-3C928A71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107-F8E2-4651-B2C4-BFC3FABA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655-26F2-4E57-85CD-6A8BEF61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B29-0CB3-4733-8F81-F92FC647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CC1-EF58-4CC6-8147-48C0E863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420-55BF-46AC-8FBE-1B522804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022-3F78-4DF4-8C04-65571B84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CCA-193B-4022-8C6B-6EB9BE9B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1B4-DC00-4B8E-95A0-317713C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CA1-81D1-4D00-9521-6DD4779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E08-64D6-4BB4-B84C-DAC74EA0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69A-E07D-425D-A5B5-A6478C56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5A4D-ACB6-43F3-82D7-1EF333A786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8680" y="1566720"/>
            <a:ext cx="8955000" cy="2913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340000" y="429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икитина А.В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3938760" y="5675400"/>
            <a:ext cx="1352520" cy="184788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2556000" y="549360"/>
            <a:ext cx="4922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МКДОУ ЦРР Д/С 30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5" name="Picture 13" descr="1542908176"/>
          <p:cNvPicPr/>
          <p:nvPr/>
        </p:nvPicPr>
        <p:blipFill>
          <a:blip r:embed="rId3"/>
          <a:stretch/>
        </p:blipFill>
        <p:spPr>
          <a:xfrm>
            <a:off x="5608800" y="4968720"/>
            <a:ext cx="2749320" cy="17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3667ed9f0f4963c547534e31979d7124"/>
          <p:cNvPicPr/>
          <p:nvPr/>
        </p:nvPicPr>
        <p:blipFill>
          <a:blip r:embed="rId4"/>
          <a:stretch/>
        </p:blipFill>
        <p:spPr>
          <a:xfrm>
            <a:off x="622440" y="201600"/>
            <a:ext cx="1272960" cy="157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Пользователь\Desktop\забирова\101SSCAM\SDC13727.JPG"/>
          <p:cNvPicPr/>
          <p:nvPr/>
        </p:nvPicPr>
        <p:blipFill>
          <a:blip r:embed="rId5"/>
          <a:stretch/>
        </p:blipFill>
        <p:spPr>
          <a:xfrm>
            <a:off x="-19080" y="3743280"/>
            <a:ext cx="3773520" cy="305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395280" y="97920"/>
            <a:ext cx="8424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дошкольном возрасте наряду с игрой складываются и такие виды деятельности , как художественно-речевая и театрально-игровая, которые считаются видами художественной деятельности и имеют большие возможности для развития воображения дошкольника. По утверждению А.Н. Леонтьева, игра-драматизация является одной из важных форм перехода к продуктивной, творческой, а именно эстетической деятельности, с характерным для нее мотивом воздействия на других людей. Исследователи, изучавшие театрализовано - игровую деятельность дошкольников, сходятся в утверждении важности этого вида деятельности для развития психических функций - внимания, воображения, восприятия, мышления, эмоциональной отзывчивости. Карпинская Н.С. рассматривала театрализовано - игровую деятельность как «трамплин» для развития творческой актив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театральном искусстве творчество - это соединение и раскрытие драматургом, режиссером, художником, композитором и актерами художественных образов, объединенных единым замыслом. В театральных играх детям приходится быть и художниками, и актерами, и режиссерами, но результаты их деятельности, естественно, нельзя сравнивать с результатами работы взросл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C:\Users\Пользователь\Desktop\забирова\101SSCAM\SDC13737.JPG"/>
          <p:cNvPicPr/>
          <p:nvPr/>
        </p:nvPicPr>
        <p:blipFill>
          <a:blip r:embed="rId1"/>
          <a:stretch/>
        </p:blipFill>
        <p:spPr>
          <a:xfrm>
            <a:off x="2987640" y="4437000"/>
            <a:ext cx="3168720" cy="21988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77" name="Picture 6" descr="SDC13732"/>
          <p:cNvPicPr/>
          <p:nvPr/>
        </p:nvPicPr>
        <p:blipFill>
          <a:blip r:embed="rId2"/>
          <a:stretch/>
        </p:blipFill>
        <p:spPr>
          <a:xfrm>
            <a:off x="6443640" y="4437000"/>
            <a:ext cx="2160720" cy="21319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303280" cy="216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med" advTm="10000"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50920" y="2144160"/>
            <a:ext cx="87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творчества дошкольников - дело сложное, но чрезвычайно важное и нужное. Творчество детей в их театрально-игровой деятельности проявляется в трех направлениях - как творчество продуктивное (сочинение собственных сюжетов), исполнительское, речевое, двигательное) и оформительское (декорации, костюмы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 мой взгляд, обеспечить полноценное развитие речи дошкольника помогает ряд услов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владение системой соответствующих эталонов и степень сформированности операций по соотнесению этих эталонов с воспринимаемым качеством объек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пыт восприятия ребенком разных произведений искусства и сравнение различных способов реализации отношения человека к действитель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( музыка, живопись, худ.литература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беспечение возможности детям дошкольного возраста проявлять способность и потребность к импровизации в изобразительном искусств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достаточно высокий уровень сюжетной иг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лноценность и глубина восприятия ребенком литературных произвед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пособность ребенка управлять своими чувствами, подчинять им игровые действ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6fac3757849c"/>
          <p:cNvPicPr/>
          <p:nvPr/>
        </p:nvPicPr>
        <p:blipFill>
          <a:blip r:embed="rId1"/>
          <a:stretch/>
        </p:blipFill>
        <p:spPr>
          <a:xfrm>
            <a:off x="179280" y="189000"/>
            <a:ext cx="2160720" cy="1981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1" name="Picture 8" descr="detskii-muzikalnii-teatr"/>
          <p:cNvPicPr/>
          <p:nvPr/>
        </p:nvPicPr>
        <p:blipFill>
          <a:blip r:embed="rId2"/>
          <a:stretch/>
        </p:blipFill>
        <p:spPr>
          <a:xfrm>
            <a:off x="6516720" y="262080"/>
            <a:ext cx="2376360" cy="18223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2" name="Picture 10" descr="pro-nash-domashnij-kukolnyj-teatr-i_7"/>
          <p:cNvPicPr/>
          <p:nvPr/>
        </p:nvPicPr>
        <p:blipFill>
          <a:blip r:embed="rId3"/>
          <a:stretch/>
        </p:blipFill>
        <p:spPr>
          <a:xfrm>
            <a:off x="2556000" y="260280"/>
            <a:ext cx="3809880" cy="183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med" advTm="10000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50920" y="127332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Театрализованные игры отличаются главным образом тем, что в них воссоздаются конкретные образы, используются такие средства выразительности, как интонация, мимика, жест, поза, походка, приемы вождения куклы. Творчество детей в театрально-игровой деятельности проявляется в трех направлениях; «как продуктивное (сочинение собственных сюжетов или творческая интерпретация заданного сюжета), исполнительское творчество (речевое, двигательное) и оформительское (обстановка игр, декорации, костюмы и т. д.)». Характерная особенность такой деятельности — большие возможности для импровизации, свободное участие в ней детей по своему желанию, самостоятельная переработка драматургического материала, игра не для зрителей. Для того чтобы у детей могла возникнуть театрализованная игра, необходимо многократно повторяю произведение, вызываю интерес к нему путем рассматривания, иллюстраций, бесед. Вначале роль ведущего исполняю сама активно помогая детям распределить роли, подсказывая реплику, следующий эпизод. Я показываю детям некоторые способы художественно-образной выразительности, например, возможность, передавать содержание произведения своими словами, использовать прямую речь героев, разнообразие интонаций; показываю приёмы вождения кукол, возможные варианты размещения декораций на столе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1800360" cy="10252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85" name="Picture 7" descr="SDC13726"/>
          <p:cNvPicPr/>
          <p:nvPr/>
        </p:nvPicPr>
        <p:blipFill>
          <a:blip r:embed="rId2"/>
          <a:stretch/>
        </p:blipFill>
        <p:spPr>
          <a:xfrm>
            <a:off x="6443640" y="189000"/>
            <a:ext cx="1368360" cy="1068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3708360" y="189000"/>
            <a:ext cx="1727280" cy="10764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79280" y="374040"/>
            <a:ext cx="882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Можно выделить такой вид театрально-игровой деятельности как инсценировка художественных произвед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иды инсценировок.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лово инсценировка в русском языке имеет двоякое значение: приспособление какого-либо произведения для постановки на сцене или в кино и само представление, разыгрывание литературного произве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нсценировка, как правило, является средством вторичного ознакомления с художественным произведением. Дети лучше усваивают содержание зрелища тогда, когда они знакомы с литературным источником, подготовлены к его восприятию. Учитывая особенность восприятия дошкольников, можно использовать различные вспомогательные приемы: краткий пересказ сценария, напоминание аналогичных произведений или случаев, вступительное слово перед показом и друг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Дети могут инсценировать лишь те произведения, которые им очень хорошо известны, неоднократно прочитаны: сказки, рассказы, стихи, в которых большое место занимает диалог (при разыгрывании они превращаются в маленькие пьески или сценк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C:\Users\Пользователь\Desktop\забирова\101SSCAM\SDC13734.JPG"/>
          <p:cNvPicPr/>
          <p:nvPr/>
        </p:nvPicPr>
        <p:blipFill>
          <a:blip r:embed="rId1"/>
          <a:stretch/>
        </p:blipFill>
        <p:spPr>
          <a:xfrm>
            <a:off x="2411280" y="4076640"/>
            <a:ext cx="3745080" cy="2478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</p:spTree>
  </p:cSld>
  <p:transition spd="med" advTm="10000"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250920" y="2133720"/>
            <a:ext cx="8642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Для детей дошкольного возраста существует в практике несколько видов инсценировок: игра-драматизация (для всех возрастных групп детского сада); театрализованное выступление (инсценировка) силами самих детей или школьников; разнообразные виды кукольного театра: театр обычных образных игрушек (настольный), театр петрушек, «пальчиковый» театр, теневой и настольный плоскостной театр, фигурки персонажей. Разновидностью плоскостного театра является фланелеграф: на экран, покрытый мягкой пушистой тканью, в процессе рассказа ведущего прикладываются фигурки, подклеенные сзади такой же тканью. По ходу действия их передвиг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о всех видах инсценировок дети могут быть или зрителями, или исполнител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ид инсценировки зависит от темы и художественных особенностей произведения. Характер инсценировки определяет время и место ее показа в детском саду. Инсценировки, подготовленные детьми, мы проводим в часы игр, на прогулках. Я забочусь, чтобы дети располагали достаточными условиями для осуществления своих замыслов: в их распоряжении должны быть игрушки и необходимое оборудов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C:\Users\Пользователь\Desktop\забирова\101SSCAM\SDC13737.JPG"/>
          <p:cNvPicPr/>
          <p:nvPr/>
        </p:nvPicPr>
        <p:blipFill>
          <a:blip r:embed="rId1"/>
          <a:stretch/>
        </p:blipFill>
        <p:spPr>
          <a:xfrm>
            <a:off x="324000" y="620640"/>
            <a:ext cx="3039840" cy="144000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  <p:pic>
        <p:nvPicPr>
          <p:cNvPr id="91" name="Picture 3" descr="C:\Users\Пользователь\Desktop\забирова\101SSCAM\SDC13725.JPG"/>
          <p:cNvPicPr/>
          <p:nvPr/>
        </p:nvPicPr>
        <p:blipFill>
          <a:blip r:embed="rId2"/>
          <a:stretch/>
        </p:blipFill>
        <p:spPr>
          <a:xfrm>
            <a:off x="7451640" y="692280"/>
            <a:ext cx="1362240" cy="1296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92" name="Picture 4" descr="C:\Users\Пользователь\Desktop\забирова\101SSCAM\SDC13730.JPG"/>
          <p:cNvPicPr/>
          <p:nvPr/>
        </p:nvPicPr>
        <p:blipFill>
          <a:blip r:embed="rId3"/>
          <a:stretch/>
        </p:blipFill>
        <p:spPr>
          <a:xfrm>
            <a:off x="5219640" y="620640"/>
            <a:ext cx="2086200" cy="140976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93" name="Picture 5" descr="C:\Users\Пользователь\Desktop\забирова\101SSCAM\SDC13740.JPG"/>
          <p:cNvPicPr/>
          <p:nvPr/>
        </p:nvPicPr>
        <p:blipFill>
          <a:blip r:embed="rId4"/>
          <a:stretch/>
        </p:blipFill>
        <p:spPr>
          <a:xfrm>
            <a:off x="3492360" y="549360"/>
            <a:ext cx="1605240" cy="1511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med" advTm="10000"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468360" y="404640"/>
            <a:ext cx="828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нсценировка как игровая деятельность детей. Я отмечаю существенную разницу в инсценировке как театральном представлении, которое дети показывают зрителям-сверстникам или взрослым, и инсценировке как игровой деятельности (игра-драматизация, игры с куклами, «в театр», «в кино»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театральном представлении, которое показывается детьми, возможно предварительное заучивание ролей, репетиция, более широкое использование костюмов, декораций, музыкального сопровождения. Такая инсценировка занимает в жизни дошкольников сравнительно небольшое место. Дети могут подготовить подобный спектакль  к праздничным дням, к родительскому собран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95280" y="1972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 результате целенаправленной деятельности у детей улучшилась эмоциональное выражение речи, повысился уровень сформированности лексико - грамматического оформления речи, увеличился словарный запас, самостоятельные связные высказывания стали более развёрнуты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Так же по результатам диагностики наблюдается положительная динамика в развитии внимания, памя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ловестно - логического мышления и вос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Я буду продолжать работу по данной теме и надеюсь добиться более высоких резуль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4103640" cy="2490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176720" cy="2508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2268360" y="3141720"/>
            <a:ext cx="4391280" cy="3160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 advTm="10000"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з опыта работы по развитию речи детей в театрализованной деятель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50920" y="235080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Театрализованная деятельность осуществляется в утренние и вечерние часы в нерегламентированное время; представлена частью занятий по разным видам деятельности (музыкальному воспитанию, изодеятельности), а также запланирована как специальное занятие в рамках занятии по развитию речи и социальным миром. Во всех формах деятельности желательно участие небольшой подгруппы детей, чтобы иметь возможность работать с каждым ребенком. Участники подгруппы могут меняться в зависимости от содержания деятель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и проектировании предметно-пространственной среды, обеспечивающей театрализованную деятельность детей учитыв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дивидуальные социально-психологические особенности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собенности его эмоционально-личностного развит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дивидуальные склонности, потребности, предпочт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любознательность, исследовательский интерес, творческие способности; возрастные и полоролевые способ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Puppet-Theater-and-Shop"/>
          <p:cNvPicPr/>
          <p:nvPr/>
        </p:nvPicPr>
        <p:blipFill>
          <a:blip r:embed="rId1"/>
          <a:stretch/>
        </p:blipFill>
        <p:spPr>
          <a:xfrm>
            <a:off x="7596360" y="907920"/>
            <a:ext cx="1257120" cy="1297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2" name="Picture 9" descr="teatr_2"/>
          <p:cNvPicPr/>
          <p:nvPr/>
        </p:nvPicPr>
        <p:blipFill>
          <a:blip r:embed="rId2"/>
          <a:stretch/>
        </p:blipFill>
        <p:spPr>
          <a:xfrm>
            <a:off x="250920" y="981000"/>
            <a:ext cx="1296720" cy="13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3" name="Picture 11" descr="55669"/>
          <p:cNvPicPr/>
          <p:nvPr/>
        </p:nvPicPr>
        <p:blipFill>
          <a:blip r:embed="rId3"/>
          <a:stretch/>
        </p:blipFill>
        <p:spPr>
          <a:xfrm>
            <a:off x="3203640" y="1341360"/>
            <a:ext cx="2879640" cy="1006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med" advTm="10000"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24000" y="-18720"/>
            <a:ext cx="85690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Учет индивидуальных особенностей эмоционально-личностного развития ребенка требует проектирования своеобразных зон - специальных мест, в которых каждый ребенок хранит свое личное имущество: домашнюю любимую игрушку, украшение, какой-то костюм и т.д. которое он может использовать в театрализованно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целях развития индивидуальных интересов и склонностей, потребностей дошкольников предметно-пространственная среда обеспечивает право и свободу выбора. Поэтому в зоне театрализованной деятельности должны быть различные виды театра и ширма для его показа, детские рисунки. Необходимо периодически обновлять материал, ориентированный на интересы разных детей. Это создает условия для персонифицированного общения воспитателя с каждым ребенком. Развитие любознательности и исследовательского интереса основано на создании возможностей для моделирования, поиска и экспериментирования с различным материалом при подготовке атрибутов, декораций и костюмов к спектаклям - в зоне театрализованной деятельности необходимо иметь разнообразный природный материал, ткань, костюмы для ряжен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аскрытию творческих способностей детей и специальные полифункциональные помещения (музыкальный и театральные залы, гримерная, комната сказок), в которых могут проводиться специальные занятия по театрализованно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одержание занятий по театрализованной деятельности включает в себ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росмотр кукольных спектаклей и бесед по ним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гры- драмат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дготовка и разыгрывание специальных сказок и инсцениров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упражнение по формированию выразительности исполн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(вербальной и невербальной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4"/>
          <p:cNvPicPr/>
          <p:nvPr/>
        </p:nvPicPr>
        <p:blipFill>
          <a:blip r:embed="rId1"/>
          <a:stretch/>
        </p:blipFill>
        <p:spPr>
          <a:xfrm>
            <a:off x="7164360" y="5489640"/>
            <a:ext cx="1728720" cy="1217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50920" y="3189240"/>
            <a:ext cx="86421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Занятия по театрализованной деятельности преследуют одновременно три цел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речи и навыков театрально-исполнительск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атмосферы творчест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3.     социально-эмоциональное развитие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Большая роль в развитии театрализованной деятельности принадлежит воспитателю. Он должен владеть основами актерского мастерства, и основами режиссерских ум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ри обучении детей средствам выразительности можно использовать знакомые и любимые рассказы и сказки, которые богаты диалогами, динамикой реплик и другими выразительными средствами. Разыгрывание сказок позволяет научить детей пользоваться разнообразными выразительными средствами в их сочетании (речь, напев, мимика, пантомима, движени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C:\Users\Пользователь\Desktop\забирова\101SSCAM\SDC13736.JPG"/>
          <p:cNvPicPr/>
          <p:nvPr/>
        </p:nvPicPr>
        <p:blipFill>
          <a:blip r:embed="rId1"/>
          <a:stretch/>
        </p:blipFill>
        <p:spPr>
          <a:xfrm>
            <a:off x="2411280" y="189000"/>
            <a:ext cx="4176720" cy="3132000"/>
          </a:xfrm>
          <a:prstGeom prst="rect">
            <a:avLst/>
          </a:prstGeom>
          <a:ln w="76320">
            <a:solidFill>
              <a:srgbClr val="953735"/>
            </a:solidFill>
            <a:miter/>
          </a:ln>
        </p:spPr>
      </p:pic>
    </p:spTree>
  </p:cSld>
  <p:transition spd="med" advTm="10000">
    <p:dissolv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Пользователь\Desktop\33333.tif"/>
          <p:cNvPicPr/>
          <p:nvPr/>
        </p:nvPicPr>
        <p:blipFill>
          <a:blip r:embed="rId1"/>
          <a:srcRect l="6079" t="0" r="7947" b="0"/>
          <a:stretch/>
        </p:blipFill>
        <p:spPr>
          <a:xfrm>
            <a:off x="250920" y="189000"/>
            <a:ext cx="8424720" cy="316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9" name="Picture 5" descr="3b5a05bc835c56a8d4e4293d478bd9bf"/>
          <p:cNvPicPr/>
          <p:nvPr/>
        </p:nvPicPr>
        <p:blipFill>
          <a:blip r:embed="rId2"/>
          <a:stretch/>
        </p:blipFill>
        <p:spPr>
          <a:xfrm>
            <a:off x="5651640" y="3860640"/>
            <a:ext cx="3097080" cy="24559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50" name="Picture 6" descr="0c95b38d65465ccf3bd308f265207529"/>
          <p:cNvPicPr/>
          <p:nvPr/>
        </p:nvPicPr>
        <p:blipFill>
          <a:blip r:embed="rId3"/>
          <a:stretch/>
        </p:blipFill>
        <p:spPr>
          <a:xfrm>
            <a:off x="2700360" y="3789360"/>
            <a:ext cx="2663640" cy="262728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51" name="Picture 8" descr="8cAb7RERi"/>
          <p:cNvPicPr/>
          <p:nvPr/>
        </p:nvPicPr>
        <p:blipFill>
          <a:blip r:embed="rId4"/>
          <a:stretch/>
        </p:blipFill>
        <p:spPr>
          <a:xfrm>
            <a:off x="539640" y="3789360"/>
            <a:ext cx="1871640" cy="256536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</p:spTree>
  </p:cSld>
  <p:transition spd="med" advTm="1000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68360" y="449640"/>
            <a:ext cx="828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ходе работы детского сада по данной теме возникли две проблем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Что делать , когда не хватает ролей на всех де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Кто будет играть отрицательных персонаж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ервую проблему я решила путем подгрупповых занятий и парным проигрыванием ролей. Для решения второй проблемы проводились с детьми беседы о том, что в театре все артисты и им приходится играть как положительные, так и отрицательные роли. Если использовался кукольный театр, отрицательную роль брала на себя или вводила очередность исполнения ро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Театрализованную деятельность в детском саду тесно увязала с изобразительной деятельностью и ручным труд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C:\Users\Пользователь\Desktop\забирова\101SSCAM\SDC13708.JPG"/>
          <p:cNvPicPr/>
          <p:nvPr/>
        </p:nvPicPr>
        <p:blipFill>
          <a:blip r:embed="rId1"/>
          <a:stretch/>
        </p:blipFill>
        <p:spPr>
          <a:xfrm>
            <a:off x="324000" y="3429000"/>
            <a:ext cx="2077920" cy="309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3600360" cy="29466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2627280" y="3429000"/>
            <a:ext cx="2455920" cy="309564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p:transition spd="med" advTm="10000"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4" descr="stage_curtain"/>
          <p:cNvPicPr/>
          <p:nvPr/>
        </p:nvPicPr>
        <p:blipFill>
          <a:blip r:embed="rId1"/>
          <a:stretch/>
        </p:blipFill>
        <p:spPr>
          <a:xfrm>
            <a:off x="395280" y="158760"/>
            <a:ext cx="8280360" cy="6699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1487520" y="2610000"/>
            <a:ext cx="6381720" cy="2638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C:\Users\Пользователь\Desktop\2222.tif"/>
          <p:cNvPicPr/>
          <p:nvPr/>
        </p:nvPicPr>
        <p:blipFill>
          <a:blip r:embed="rId1"/>
          <a:stretch/>
        </p:blipFill>
        <p:spPr>
          <a:xfrm>
            <a:off x="214200" y="476280"/>
            <a:ext cx="8750520" cy="5475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 advTm="10000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ЦЕЛЬ: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3" descr="C:\Users\Пользователь\Desktop\11111111.tif"/>
          <p:cNvPicPr/>
          <p:nvPr/>
        </p:nvPicPr>
        <p:blipFill>
          <a:blip r:embed="rId1"/>
          <a:stretch/>
        </p:blipFill>
        <p:spPr>
          <a:xfrm>
            <a:off x="250920" y="1484280"/>
            <a:ext cx="8661240" cy="1952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6" name="Picture 6" descr="children-singing"/>
          <p:cNvPicPr/>
          <p:nvPr/>
        </p:nvPicPr>
        <p:blipFill>
          <a:blip r:embed="rId2"/>
          <a:stretch/>
        </p:blipFill>
        <p:spPr>
          <a:xfrm>
            <a:off x="2627280" y="3317760"/>
            <a:ext cx="3600360" cy="3540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ринципы организации театрализованной деятельнос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3" descr="C:\Users\Пользователь\Desktop\,,,,,,,,,,,,,,.tif"/>
          <p:cNvPicPr/>
          <p:nvPr/>
        </p:nvPicPr>
        <p:blipFill>
          <a:blip r:embed="rId1"/>
          <a:stretch/>
        </p:blipFill>
        <p:spPr>
          <a:xfrm>
            <a:off x="250920" y="3573360"/>
            <a:ext cx="8616960" cy="2664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9" name="Picture 7" descr="i?id=62e46ddbe767036e0dadb46e869b02d4&amp;n=33&amp;h=190&amp;w=238"/>
          <p:cNvPicPr/>
          <p:nvPr/>
        </p:nvPicPr>
        <p:blipFill>
          <a:blip r:embed="rId2"/>
          <a:stretch/>
        </p:blipFill>
        <p:spPr>
          <a:xfrm>
            <a:off x="3348000" y="1557360"/>
            <a:ext cx="2016000" cy="1609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454800" cy="379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586560" cy="1423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476360" y="3213000"/>
            <a:ext cx="6551640" cy="1268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1476360" y="4869000"/>
            <a:ext cx="6678720" cy="1623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4" name="Picture 8" descr="237786_09774"/>
          <p:cNvPicPr/>
          <p:nvPr/>
        </p:nvPicPr>
        <p:blipFill>
          <a:blip r:embed="rId5"/>
          <a:stretch/>
        </p:blipFill>
        <p:spPr>
          <a:xfrm>
            <a:off x="395280" y="1773360"/>
            <a:ext cx="666720" cy="88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40485773"/>
          <p:cNvPicPr/>
          <p:nvPr/>
        </p:nvPicPr>
        <p:blipFill>
          <a:blip r:embed="rId6"/>
          <a:stretch/>
        </p:blipFill>
        <p:spPr>
          <a:xfrm>
            <a:off x="395280" y="3573360"/>
            <a:ext cx="561960" cy="1467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3начение театрально-игровой деятельности для развития дошкольн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468360" y="1710000"/>
            <a:ext cx="828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атральное искусство близко и понятно детям, ведь в основе театра лежит игра. Дошкольники любят игры, напоминающие театральные представления, где одни дети артисты, другие - зрители. Доказано, что дети дошкольного возраста обладают большими потенциальными возможностями для восприятия, понимания и эмоциональной отзывчивости на произведения искусств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атр - один из самых доступных для детей видов искусства. Театральное искусство, являясь важным фактором художественного  развития, оказывает большое воздействие на речь ребенка, выполняя при этом коммуникативную, регулятивную и очищающую функцию. Об очищающем воздействии театрального искусства известно очень давно. Станиславский указывал на то, что люди идущие в театр для развлечений, незаметно для себя выходят из него с чувствами и мыслями, обогащенным познанием жизни духа. Театральные игры и игры- драматизации являются разновидностью творческих иг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атральные игры являются средством всестороннего воспитания дошкольника. Они обогащают впечатления детей новыми впечатлениями, знаниями, умениями, развивают интерес к литературе, к театр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12" descr="WARSZTATY-TEATRALNE"/>
          <p:cNvPicPr/>
          <p:nvPr/>
        </p:nvPicPr>
        <p:blipFill>
          <a:blip r:embed="rId1"/>
          <a:stretch/>
        </p:blipFill>
        <p:spPr>
          <a:xfrm>
            <a:off x="7380360" y="692280"/>
            <a:ext cx="1368360" cy="102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WARSZTATY-TEATRALNE"/>
          <p:cNvPicPr/>
          <p:nvPr/>
        </p:nvPicPr>
        <p:blipFill>
          <a:blip r:embed="rId2"/>
          <a:stretch/>
        </p:blipFill>
        <p:spPr>
          <a:xfrm>
            <a:off x="395280" y="692280"/>
            <a:ext cx="1368360" cy="1028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гры-драматизации способствуют развитию психических процессов и различных качеств личности - самостоятельности , инициативности, эмоциональной отзывчивости, воображения, этот вид игр оказывает большое влияние на развитие речи. Ребенок усваивает богатство родного языка, его выразительные средства, использует интонации, соответствующие характеру героев и их поступкам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старается говорить четко, чтобы все его понял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игре-драматизации формируется диалогическая, эмоционально насыщенная речь, активизируется словарь ребенка. С помощью игр дети лучше усваивают содержание произведения, логику и последовательность событий, их развитие и причинную обусловленность. Игры-драматизации способствуют освоению элементов речевого общ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(мимика, жест, поза, интонация, модуляция голоса)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1" descr="C:\Users\Пользователь\Desktop\забирова\101SSCAM\SDC13731.JPG"/>
          <p:cNvPicPr/>
          <p:nvPr/>
        </p:nvPicPr>
        <p:blipFill>
          <a:blip r:embed="rId1"/>
          <a:stretch/>
        </p:blipFill>
        <p:spPr>
          <a:xfrm>
            <a:off x="971640" y="3716280"/>
            <a:ext cx="4319640" cy="2706840"/>
          </a:xfrm>
          <a:prstGeom prst="rect">
            <a:avLst/>
          </a:prstGeom>
          <a:ln w="76320">
            <a:solidFill>
              <a:srgbClr val="d99694"/>
            </a:solidFill>
            <a:miter/>
          </a:ln>
        </p:spPr>
      </p:pic>
      <p:pic>
        <p:nvPicPr>
          <p:cNvPr id="72" name="Picture 6" descr="SDC13741"/>
          <p:cNvPicPr/>
          <p:nvPr/>
        </p:nvPicPr>
        <p:blipFill>
          <a:blip r:embed="rId2"/>
          <a:stretch/>
        </p:blipFill>
        <p:spPr>
          <a:xfrm>
            <a:off x="5651640" y="3789360"/>
            <a:ext cx="2716200" cy="2593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 advTm="10000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сихолого-педагогические основы приобщения детей дошкольного возраста к театральной деятель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79280" y="1446480"/>
            <a:ext cx="8785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Целенаправленная организация восприятия различных видов искусства театра детьми дошкольного возраста и их собственная театрализованная деятельность, является разновидностью ведущей игровой деятельности, а значит, оказывает влияние на психическое развитие детей этого возраста, и прежде всего на развитие такого важнейшего психического процесса, как вообра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сновным подходом к анализу механизмов воображения и его развития в дошкольном возрасте является концепция В.В. Давыдова, показывающая, что «на основе игровой деятельности у ребенка формируется ряд психологических новообразований. Это, прежде всего воображение и символическая функция, которая позволяет ребенку производить в своих действиях перенос одних вещей на другие, замещение одного предмет другим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Л.С Выготский считал игру основным источником воображения у детей дошкольного возраста, по его мнению, о возникновении воображения в игре можно судить по наличию в ней мнимой ситу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Указывая на взаимосвязь игры и воображения. А.М Дьяченко отмечает, что воображение и игра связаны сложной диалектической связью: зарождаясь в игре, развиваясь вместе с игрой, воображение, в свою очередь, определяет и детерминируете развитие игрово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сследования О.М Дьяченко показали, что игра открывает перед ребенком возможности развития воображения через вхождение в целостную мнимую ситуацию, обеспечивая интериоризацию этого процесса как одну из основных линий его разви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7:57:45Z</dcterms:created>
  <dc:creator>Пользователь</dc:creator>
  <dc:description/>
  <dc:language>en-US</dc:language>
  <cp:lastModifiedBy>User</cp:lastModifiedBy>
  <dcterms:modified xsi:type="dcterms:W3CDTF">2016-09-10T17:01:03Z</dcterms:modified>
  <cp:revision>92</cp:revision>
  <dc:subject/>
  <dc:title>Развитие РЕЧИ ДОШКОЛЬНИКОВ В ТЕАТРАЛИЗОВАННОЙ ДЕЯТЕЛЬНОСТИ</dc:title>
</cp:coreProperties>
</file>