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10.png" ContentType="image/png"/>
  <Override PartName="/ppt/media/image16.png" ContentType="image/png"/>
  <Override PartName="/ppt/media/image15.png" ContentType="image/png"/>
  <Override PartName="/ppt/media/image7.gif" ContentType="image/gif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gif" ContentType="image/gif"/>
  <Override PartName="/ppt/media/image6.png" ContentType="image/png"/>
  <Override PartName="/ppt/media/image11.png" ContentType="image/png"/>
  <Override PartName="/ppt/media/image3.png" ContentType="image/png"/>
  <Override PartName="/ppt/media/image4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1AF3-5521-4557-B7A1-9FED7FCDC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9AC2-79F9-484B-BE40-3F621FAF7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C4E0-A568-4B32-97B6-4F1C7EB87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832A-4B1E-4345-866C-38D4A466E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8E8A7-A5E6-4061-8A33-B78D5976C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5B5F1-6253-4B75-8401-6FB271126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019BD-0768-4BD2-9777-609482E9C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E1273-3CB6-4F77-9421-C15F2E7CD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1041C-6319-4AB3-AE55-94C7BE650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033CA-A5EE-4BAB-A816-462D711A6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A3A0C-5335-4C7B-ACC2-3EB53C1F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75F0-EFE2-477D-A819-AABD09DF7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26872-7DC7-4D3F-A059-BEDD3997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1384C-92F6-49D8-84D2-F13CC3C8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AB5C5-BC48-42D9-B00E-D9FD82515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7EAC9-659C-484E-BAB6-498A12974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82CF2-8E1F-47F4-8C7E-1DF6A09AC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012A-E0E3-4619-B2A8-AC3D254F7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B5A3-97AD-456E-9C70-BFD9A12F0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B7BD-CFC8-429D-81CF-D193D9041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F176-9942-49A0-96BC-6B4591B81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0790-F175-44C5-A35A-A07EC45C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BFDB-CB5F-4906-8B6B-730005FD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5550-00AF-423E-8EC4-FC4FE415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2D72F-2F1D-4322-A2A3-90CA5773C0A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66C68-9132-4554-A338-FA65158B42E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Появление неравенства и знати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30938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одовая общин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5292720" cy="367164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sp>
        <p:nvSpPr>
          <p:cNvPr id="178" name=""/>
          <p:cNvSpPr/>
          <p:nvPr/>
        </p:nvSpPr>
        <p:spPr>
          <a:xfrm>
            <a:off x="2322000" y="1341360"/>
            <a:ext cx="622800" cy="45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yr"/>
              </a:rPr>
              <a:t>л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714840" y="2708280"/>
            <a:ext cx="1514160" cy="45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yr"/>
              </a:rPr>
              <a:t>пастбищ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370240" y="4221000"/>
            <a:ext cx="1105920" cy="45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yr"/>
              </a:rPr>
              <a:t>паш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54600" y="3429000"/>
            <a:ext cx="813240" cy="45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yr"/>
              </a:rPr>
              <a:t>р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572000" y="3213000"/>
            <a:ext cx="4572000" cy="345600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4673880" y="5445000"/>
            <a:ext cx="813240" cy="45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yr"/>
              </a:rPr>
              <a:t>р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372360" y="6165720"/>
            <a:ext cx="1152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паш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470720" y="4869000"/>
            <a:ext cx="1673280" cy="45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yr"/>
              </a:rPr>
              <a:t>пастбищ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497280" y="3500280"/>
            <a:ext cx="622800" cy="45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yr"/>
              </a:rPr>
              <a:t>л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822640" y="2421000"/>
            <a:ext cx="228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Соседская общ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687060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Почему люди продолжают жить общинами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68360" y="1600200"/>
            <a:ext cx="8207280" cy="504684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0" y="-243000"/>
            <a:ext cx="149076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Прочитай и выпиш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очитай пункт 4 на странице 25-27 и выпиши слова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ождь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Знать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Города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Цар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6992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ловар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ождь – глава племени для ведения военных действи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Города – крупные поселения, окруженные земляными валам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Знать – люди известные своим происхождение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вятилище – место, где стояли идол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Царь – правитель государств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6992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Вожд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190440" y="1484280"/>
            <a:ext cx="4702320" cy="496908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05120" y="1828800"/>
            <a:ext cx="4538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Кем лучше быть – вождем или старейшиной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Знат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7151760" cy="51292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3348000" y="1916280"/>
            <a:ext cx="1811520" cy="50590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5580000" y="4221000"/>
            <a:ext cx="230508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50920" y="3645000"/>
            <a:ext cx="8702640" cy="2898720"/>
          </a:xfrm>
          <a:custGeom>
            <a:avLst/>
            <a:gdLst/>
            <a:ahLst/>
            <a:rect l="l" t="t" r="r" b="b"/>
            <a:pathLst>
              <a:path w="5482" h="1826">
                <a:moveTo>
                  <a:pt x="90" y="1503"/>
                </a:moveTo>
                <a:cubicBezTo>
                  <a:pt x="67" y="1447"/>
                  <a:pt x="28" y="1398"/>
                  <a:pt x="1" y="1344"/>
                </a:cubicBezTo>
                <a:cubicBezTo>
                  <a:pt x="3" y="1304"/>
                  <a:pt x="0" y="1263"/>
                  <a:pt x="8" y="1224"/>
                </a:cubicBezTo>
                <a:cubicBezTo>
                  <a:pt x="11" y="1209"/>
                  <a:pt x="33" y="1186"/>
                  <a:pt x="33" y="1186"/>
                </a:cubicBezTo>
                <a:cubicBezTo>
                  <a:pt x="52" y="1126"/>
                  <a:pt x="21" y="1208"/>
                  <a:pt x="58" y="1155"/>
                </a:cubicBezTo>
                <a:cubicBezTo>
                  <a:pt x="77" y="1127"/>
                  <a:pt x="51" y="1130"/>
                  <a:pt x="77" y="1104"/>
                </a:cubicBezTo>
                <a:cubicBezTo>
                  <a:pt x="99" y="1082"/>
                  <a:pt x="134" y="1071"/>
                  <a:pt x="159" y="1053"/>
                </a:cubicBezTo>
                <a:cubicBezTo>
                  <a:pt x="182" y="1019"/>
                  <a:pt x="208" y="984"/>
                  <a:pt x="248" y="971"/>
                </a:cubicBezTo>
                <a:cubicBezTo>
                  <a:pt x="271" y="956"/>
                  <a:pt x="279" y="935"/>
                  <a:pt x="305" y="927"/>
                </a:cubicBezTo>
                <a:cubicBezTo>
                  <a:pt x="369" y="883"/>
                  <a:pt x="427" y="835"/>
                  <a:pt x="501" y="806"/>
                </a:cubicBezTo>
                <a:cubicBezTo>
                  <a:pt x="515" y="800"/>
                  <a:pt x="531" y="799"/>
                  <a:pt x="546" y="794"/>
                </a:cubicBezTo>
                <a:cubicBezTo>
                  <a:pt x="572" y="786"/>
                  <a:pt x="622" y="768"/>
                  <a:pt x="622" y="768"/>
                </a:cubicBezTo>
                <a:cubicBezTo>
                  <a:pt x="626" y="762"/>
                  <a:pt x="635" y="756"/>
                  <a:pt x="634" y="749"/>
                </a:cubicBezTo>
                <a:cubicBezTo>
                  <a:pt x="632" y="740"/>
                  <a:pt x="621" y="738"/>
                  <a:pt x="615" y="731"/>
                </a:cubicBezTo>
                <a:cubicBezTo>
                  <a:pt x="599" y="712"/>
                  <a:pt x="583" y="698"/>
                  <a:pt x="565" y="680"/>
                </a:cubicBezTo>
                <a:cubicBezTo>
                  <a:pt x="555" y="653"/>
                  <a:pt x="568" y="641"/>
                  <a:pt x="590" y="623"/>
                </a:cubicBezTo>
                <a:cubicBezTo>
                  <a:pt x="604" y="612"/>
                  <a:pt x="634" y="591"/>
                  <a:pt x="634" y="591"/>
                </a:cubicBezTo>
                <a:cubicBezTo>
                  <a:pt x="681" y="501"/>
                  <a:pt x="804" y="557"/>
                  <a:pt x="894" y="560"/>
                </a:cubicBezTo>
                <a:cubicBezTo>
                  <a:pt x="943" y="568"/>
                  <a:pt x="949" y="573"/>
                  <a:pt x="1008" y="553"/>
                </a:cubicBezTo>
                <a:cubicBezTo>
                  <a:pt x="1026" y="547"/>
                  <a:pt x="1028" y="526"/>
                  <a:pt x="1039" y="515"/>
                </a:cubicBezTo>
                <a:cubicBezTo>
                  <a:pt x="1049" y="505"/>
                  <a:pt x="1064" y="501"/>
                  <a:pt x="1077" y="496"/>
                </a:cubicBezTo>
                <a:cubicBezTo>
                  <a:pt x="1086" y="482"/>
                  <a:pt x="1100" y="472"/>
                  <a:pt x="1109" y="458"/>
                </a:cubicBezTo>
                <a:cubicBezTo>
                  <a:pt x="1116" y="447"/>
                  <a:pt x="1117" y="433"/>
                  <a:pt x="1122" y="420"/>
                </a:cubicBezTo>
                <a:cubicBezTo>
                  <a:pt x="1128" y="314"/>
                  <a:pt x="1114" y="306"/>
                  <a:pt x="1198" y="256"/>
                </a:cubicBezTo>
                <a:cubicBezTo>
                  <a:pt x="1212" y="233"/>
                  <a:pt x="1223" y="226"/>
                  <a:pt x="1248" y="218"/>
                </a:cubicBezTo>
                <a:cubicBezTo>
                  <a:pt x="1322" y="167"/>
                  <a:pt x="1535" y="203"/>
                  <a:pt x="1603" y="205"/>
                </a:cubicBezTo>
                <a:cubicBezTo>
                  <a:pt x="1629" y="247"/>
                  <a:pt x="1614" y="235"/>
                  <a:pt x="1704" y="211"/>
                </a:cubicBezTo>
                <a:cubicBezTo>
                  <a:pt x="1733" y="203"/>
                  <a:pt x="1758" y="185"/>
                  <a:pt x="1786" y="173"/>
                </a:cubicBezTo>
                <a:cubicBezTo>
                  <a:pt x="1848" y="146"/>
                  <a:pt x="1914" y="123"/>
                  <a:pt x="1970" y="85"/>
                </a:cubicBezTo>
                <a:cubicBezTo>
                  <a:pt x="2039" y="90"/>
                  <a:pt x="2064" y="84"/>
                  <a:pt x="2109" y="129"/>
                </a:cubicBezTo>
                <a:cubicBezTo>
                  <a:pt x="2215" y="120"/>
                  <a:pt x="2279" y="117"/>
                  <a:pt x="2369" y="72"/>
                </a:cubicBezTo>
                <a:cubicBezTo>
                  <a:pt x="2418" y="78"/>
                  <a:pt x="2466" y="87"/>
                  <a:pt x="2514" y="98"/>
                </a:cubicBezTo>
                <a:cubicBezTo>
                  <a:pt x="2552" y="94"/>
                  <a:pt x="2590" y="92"/>
                  <a:pt x="2628" y="85"/>
                </a:cubicBezTo>
                <a:cubicBezTo>
                  <a:pt x="2672" y="77"/>
                  <a:pt x="2735" y="25"/>
                  <a:pt x="2780" y="3"/>
                </a:cubicBezTo>
                <a:cubicBezTo>
                  <a:pt x="2835" y="7"/>
                  <a:pt x="2875" y="8"/>
                  <a:pt x="2926" y="22"/>
                </a:cubicBezTo>
                <a:cubicBezTo>
                  <a:pt x="3027" y="12"/>
                  <a:pt x="3122" y="0"/>
                  <a:pt x="3223" y="22"/>
                </a:cubicBezTo>
                <a:cubicBezTo>
                  <a:pt x="3313" y="65"/>
                  <a:pt x="3363" y="60"/>
                  <a:pt x="3470" y="66"/>
                </a:cubicBezTo>
                <a:cubicBezTo>
                  <a:pt x="3499" y="71"/>
                  <a:pt x="3521" y="75"/>
                  <a:pt x="3546" y="91"/>
                </a:cubicBezTo>
                <a:cubicBezTo>
                  <a:pt x="3559" y="145"/>
                  <a:pt x="3568" y="164"/>
                  <a:pt x="3546" y="230"/>
                </a:cubicBezTo>
                <a:cubicBezTo>
                  <a:pt x="3544" y="236"/>
                  <a:pt x="3533" y="235"/>
                  <a:pt x="3527" y="237"/>
                </a:cubicBezTo>
                <a:cubicBezTo>
                  <a:pt x="3514" y="241"/>
                  <a:pt x="3489" y="249"/>
                  <a:pt x="3489" y="249"/>
                </a:cubicBezTo>
                <a:cubicBezTo>
                  <a:pt x="3458" y="270"/>
                  <a:pt x="3456" y="257"/>
                  <a:pt x="3438" y="294"/>
                </a:cubicBezTo>
                <a:cubicBezTo>
                  <a:pt x="3444" y="337"/>
                  <a:pt x="3434" y="354"/>
                  <a:pt x="3483" y="370"/>
                </a:cubicBezTo>
                <a:cubicBezTo>
                  <a:pt x="3496" y="374"/>
                  <a:pt x="3521" y="382"/>
                  <a:pt x="3521" y="382"/>
                </a:cubicBezTo>
                <a:cubicBezTo>
                  <a:pt x="3570" y="372"/>
                  <a:pt x="3592" y="379"/>
                  <a:pt x="3603" y="332"/>
                </a:cubicBezTo>
                <a:cubicBezTo>
                  <a:pt x="3702" y="337"/>
                  <a:pt x="3801" y="334"/>
                  <a:pt x="3900" y="344"/>
                </a:cubicBezTo>
                <a:cubicBezTo>
                  <a:pt x="3933" y="347"/>
                  <a:pt x="3976" y="377"/>
                  <a:pt x="4008" y="389"/>
                </a:cubicBezTo>
                <a:cubicBezTo>
                  <a:pt x="4100" y="373"/>
                  <a:pt x="4100" y="368"/>
                  <a:pt x="4210" y="382"/>
                </a:cubicBezTo>
                <a:cubicBezTo>
                  <a:pt x="4224" y="384"/>
                  <a:pt x="4234" y="397"/>
                  <a:pt x="4248" y="401"/>
                </a:cubicBezTo>
                <a:cubicBezTo>
                  <a:pt x="4298" y="474"/>
                  <a:pt x="4306" y="546"/>
                  <a:pt x="4413" y="553"/>
                </a:cubicBezTo>
                <a:cubicBezTo>
                  <a:pt x="4466" y="557"/>
                  <a:pt x="4518" y="558"/>
                  <a:pt x="4571" y="560"/>
                </a:cubicBezTo>
                <a:cubicBezTo>
                  <a:pt x="4580" y="562"/>
                  <a:pt x="4588" y="564"/>
                  <a:pt x="4597" y="566"/>
                </a:cubicBezTo>
                <a:cubicBezTo>
                  <a:pt x="4603" y="568"/>
                  <a:pt x="4610" y="570"/>
                  <a:pt x="4616" y="572"/>
                </a:cubicBezTo>
                <a:cubicBezTo>
                  <a:pt x="4635" y="577"/>
                  <a:pt x="4673" y="585"/>
                  <a:pt x="4673" y="585"/>
                </a:cubicBezTo>
                <a:cubicBezTo>
                  <a:pt x="4687" y="630"/>
                  <a:pt x="4691" y="630"/>
                  <a:pt x="4717" y="667"/>
                </a:cubicBezTo>
                <a:cubicBezTo>
                  <a:pt x="4723" y="675"/>
                  <a:pt x="4723" y="686"/>
                  <a:pt x="4730" y="693"/>
                </a:cubicBezTo>
                <a:cubicBezTo>
                  <a:pt x="4735" y="698"/>
                  <a:pt x="4765" y="709"/>
                  <a:pt x="4774" y="712"/>
                </a:cubicBezTo>
                <a:cubicBezTo>
                  <a:pt x="4844" y="735"/>
                  <a:pt x="4918" y="737"/>
                  <a:pt x="4989" y="756"/>
                </a:cubicBezTo>
                <a:cubicBezTo>
                  <a:pt x="5047" y="772"/>
                  <a:pt x="5095" y="805"/>
                  <a:pt x="5154" y="819"/>
                </a:cubicBezTo>
                <a:cubicBezTo>
                  <a:pt x="5166" y="827"/>
                  <a:pt x="5181" y="829"/>
                  <a:pt x="5192" y="838"/>
                </a:cubicBezTo>
                <a:cubicBezTo>
                  <a:pt x="5198" y="843"/>
                  <a:pt x="5198" y="852"/>
                  <a:pt x="5204" y="857"/>
                </a:cubicBezTo>
                <a:cubicBezTo>
                  <a:pt x="5219" y="869"/>
                  <a:pt x="5239" y="872"/>
                  <a:pt x="5255" y="882"/>
                </a:cubicBezTo>
                <a:cubicBezTo>
                  <a:pt x="5302" y="951"/>
                  <a:pt x="5244" y="1042"/>
                  <a:pt x="5306" y="1104"/>
                </a:cubicBezTo>
                <a:cubicBezTo>
                  <a:pt x="5324" y="1162"/>
                  <a:pt x="5331" y="1189"/>
                  <a:pt x="5394" y="1212"/>
                </a:cubicBezTo>
                <a:cubicBezTo>
                  <a:pt x="5401" y="1235"/>
                  <a:pt x="5438" y="1269"/>
                  <a:pt x="5438" y="1269"/>
                </a:cubicBezTo>
                <a:cubicBezTo>
                  <a:pt x="5446" y="1290"/>
                  <a:pt x="5457" y="1306"/>
                  <a:pt x="5470" y="1325"/>
                </a:cubicBezTo>
                <a:cubicBezTo>
                  <a:pt x="5482" y="1379"/>
                  <a:pt x="5478" y="1345"/>
                  <a:pt x="5464" y="1439"/>
                </a:cubicBezTo>
                <a:cubicBezTo>
                  <a:pt x="5453" y="1513"/>
                  <a:pt x="5443" y="1555"/>
                  <a:pt x="5381" y="1598"/>
                </a:cubicBezTo>
                <a:cubicBezTo>
                  <a:pt x="5348" y="1650"/>
                  <a:pt x="5391" y="1591"/>
                  <a:pt x="5350" y="1623"/>
                </a:cubicBezTo>
                <a:cubicBezTo>
                  <a:pt x="5344" y="1628"/>
                  <a:pt x="5342" y="1637"/>
                  <a:pt x="5337" y="1642"/>
                </a:cubicBezTo>
                <a:cubicBezTo>
                  <a:pt x="5330" y="1649"/>
                  <a:pt x="5320" y="1655"/>
                  <a:pt x="5312" y="1661"/>
                </a:cubicBezTo>
                <a:cubicBezTo>
                  <a:pt x="5293" y="1716"/>
                  <a:pt x="5264" y="1763"/>
                  <a:pt x="5249" y="1819"/>
                </a:cubicBezTo>
                <a:cubicBezTo>
                  <a:pt x="5090" y="1811"/>
                  <a:pt x="5030" y="1810"/>
                  <a:pt x="4900" y="1769"/>
                </a:cubicBezTo>
                <a:cubicBezTo>
                  <a:pt x="4795" y="1697"/>
                  <a:pt x="4566" y="1749"/>
                  <a:pt x="4502" y="1750"/>
                </a:cubicBezTo>
                <a:cubicBezTo>
                  <a:pt x="4440" y="1757"/>
                  <a:pt x="4416" y="1768"/>
                  <a:pt x="4362" y="1788"/>
                </a:cubicBezTo>
                <a:cubicBezTo>
                  <a:pt x="4282" y="1784"/>
                  <a:pt x="4202" y="1783"/>
                  <a:pt x="4122" y="1775"/>
                </a:cubicBezTo>
                <a:cubicBezTo>
                  <a:pt x="4092" y="1772"/>
                  <a:pt x="4070" y="1735"/>
                  <a:pt x="4040" y="1731"/>
                </a:cubicBezTo>
                <a:cubicBezTo>
                  <a:pt x="3985" y="1724"/>
                  <a:pt x="3930" y="1722"/>
                  <a:pt x="3875" y="1718"/>
                </a:cubicBezTo>
                <a:cubicBezTo>
                  <a:pt x="3845" y="1695"/>
                  <a:pt x="3830" y="1667"/>
                  <a:pt x="3793" y="1655"/>
                </a:cubicBezTo>
                <a:cubicBezTo>
                  <a:pt x="3763" y="1662"/>
                  <a:pt x="3753" y="1679"/>
                  <a:pt x="3723" y="1686"/>
                </a:cubicBezTo>
                <a:cubicBezTo>
                  <a:pt x="3664" y="1745"/>
                  <a:pt x="3588" y="1756"/>
                  <a:pt x="3508" y="1762"/>
                </a:cubicBezTo>
                <a:cubicBezTo>
                  <a:pt x="3460" y="1773"/>
                  <a:pt x="3411" y="1774"/>
                  <a:pt x="3362" y="1781"/>
                </a:cubicBezTo>
                <a:cubicBezTo>
                  <a:pt x="3068" y="1767"/>
                  <a:pt x="3186" y="1782"/>
                  <a:pt x="3052" y="1750"/>
                </a:cubicBezTo>
                <a:cubicBezTo>
                  <a:pt x="3030" y="1728"/>
                  <a:pt x="3015" y="1728"/>
                  <a:pt x="2989" y="1712"/>
                </a:cubicBezTo>
                <a:cubicBezTo>
                  <a:pt x="2976" y="1704"/>
                  <a:pt x="2951" y="1686"/>
                  <a:pt x="2951" y="1686"/>
                </a:cubicBezTo>
                <a:cubicBezTo>
                  <a:pt x="2915" y="1688"/>
                  <a:pt x="2879" y="1688"/>
                  <a:pt x="2843" y="1693"/>
                </a:cubicBezTo>
                <a:cubicBezTo>
                  <a:pt x="2830" y="1695"/>
                  <a:pt x="2805" y="1705"/>
                  <a:pt x="2805" y="1705"/>
                </a:cubicBezTo>
                <a:cubicBezTo>
                  <a:pt x="2769" y="1729"/>
                  <a:pt x="2730" y="1727"/>
                  <a:pt x="2691" y="1743"/>
                </a:cubicBezTo>
                <a:cubicBezTo>
                  <a:pt x="2665" y="1754"/>
                  <a:pt x="2642" y="1762"/>
                  <a:pt x="2615" y="1769"/>
                </a:cubicBezTo>
                <a:cubicBezTo>
                  <a:pt x="2437" y="1753"/>
                  <a:pt x="2301" y="1736"/>
                  <a:pt x="2134" y="1705"/>
                </a:cubicBezTo>
                <a:cubicBezTo>
                  <a:pt x="2097" y="1682"/>
                  <a:pt x="2092" y="1680"/>
                  <a:pt x="2046" y="1686"/>
                </a:cubicBezTo>
                <a:cubicBezTo>
                  <a:pt x="2009" y="1700"/>
                  <a:pt x="1976" y="1725"/>
                  <a:pt x="1938" y="1737"/>
                </a:cubicBezTo>
                <a:cubicBezTo>
                  <a:pt x="1849" y="1805"/>
                  <a:pt x="1720" y="1798"/>
                  <a:pt x="1615" y="1826"/>
                </a:cubicBezTo>
                <a:cubicBezTo>
                  <a:pt x="1550" y="1822"/>
                  <a:pt x="1484" y="1821"/>
                  <a:pt x="1419" y="1813"/>
                </a:cubicBezTo>
                <a:cubicBezTo>
                  <a:pt x="1384" y="1809"/>
                  <a:pt x="1347" y="1780"/>
                  <a:pt x="1311" y="1769"/>
                </a:cubicBezTo>
                <a:cubicBezTo>
                  <a:pt x="1266" y="1731"/>
                  <a:pt x="1231" y="1730"/>
                  <a:pt x="1172" y="1718"/>
                </a:cubicBezTo>
                <a:cubicBezTo>
                  <a:pt x="978" y="1721"/>
                  <a:pt x="803" y="1724"/>
                  <a:pt x="615" y="1737"/>
                </a:cubicBezTo>
                <a:cubicBezTo>
                  <a:pt x="483" y="1769"/>
                  <a:pt x="356" y="1736"/>
                  <a:pt x="229" y="1712"/>
                </a:cubicBezTo>
                <a:cubicBezTo>
                  <a:pt x="214" y="1704"/>
                  <a:pt x="201" y="1693"/>
                  <a:pt x="185" y="1686"/>
                </a:cubicBezTo>
                <a:cubicBezTo>
                  <a:pt x="173" y="1681"/>
                  <a:pt x="147" y="1674"/>
                  <a:pt x="147" y="1674"/>
                </a:cubicBezTo>
                <a:cubicBezTo>
                  <a:pt x="129" y="1648"/>
                  <a:pt x="103" y="1628"/>
                  <a:pt x="77" y="1610"/>
                </a:cubicBezTo>
                <a:cubicBezTo>
                  <a:pt x="66" y="1577"/>
                  <a:pt x="51" y="1593"/>
                  <a:pt x="39" y="1560"/>
                </a:cubicBezTo>
                <a:cubicBezTo>
                  <a:pt x="55" y="1536"/>
                  <a:pt x="70" y="1528"/>
                  <a:pt x="96" y="1515"/>
                </a:cubicBezTo>
                <a:cubicBezTo>
                  <a:pt x="98" y="1507"/>
                  <a:pt x="106" y="1498"/>
                  <a:pt x="103" y="1490"/>
                </a:cubicBezTo>
                <a:cubicBezTo>
                  <a:pt x="101" y="1483"/>
                  <a:pt x="88" y="1484"/>
                  <a:pt x="84" y="1477"/>
                </a:cubicBezTo>
                <a:cubicBezTo>
                  <a:pt x="81" y="1472"/>
                  <a:pt x="84" y="1464"/>
                  <a:pt x="84" y="1458"/>
                </a:cubicBezTo>
              </a:path>
            </a:pathLst>
          </a:custGeom>
          <a:gradFill rotWithShape="0">
            <a:gsLst>
              <a:gs pos="0">
                <a:srgbClr val="ffa375"/>
              </a:gs>
              <a:gs pos="100000">
                <a:srgbClr val="800000"/>
              </a:gs>
            </a:gsLst>
            <a:lin ang="5400000"/>
          </a:gradFill>
          <a:ln w="38160">
            <a:solidFill>
              <a:srgbClr val="990000"/>
            </a:solidFill>
            <a:prstDash val="dashDot"/>
            <a:round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258920" y="3789360"/>
            <a:ext cx="6408720" cy="290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61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СТРАН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564000" y="189000"/>
            <a:ext cx="2143080" cy="432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. Повторить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§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-5, даты и термины к самостоятельной работ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Спасибо за урок!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оявление ремесл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>
            <a:lum contrast="30000"/>
          </a:blip>
          <a:srcRect l="0" t="0" r="18965" b="0"/>
          <a:stretch/>
        </p:blipFill>
        <p:spPr>
          <a:xfrm>
            <a:off x="684360" y="1465200"/>
            <a:ext cx="7775280" cy="509904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ловар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99640" y="134136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Ремесленник – человек, который занимается изготовлением различных изделий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6992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Отливка топор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1639" b="0"/>
          <a:stretch/>
        </p:blipFill>
        <p:spPr>
          <a:xfrm>
            <a:off x="179280" y="1685880"/>
            <a:ext cx="8713800" cy="491184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еимущества мед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184464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Орудия острее;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90000"/>
              </a:lnSpc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Можно переделать сломавшееся орудие.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6992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2556000" cy="6858000"/>
          </a:xfrm>
          <a:prstGeom prst="rect">
            <a:avLst/>
          </a:prstGeom>
          <a:gradFill rotWithShape="0">
            <a:gsLst>
              <a:gs pos="0">
                <a:srgbClr val="5e5e46"/>
              </a:gs>
              <a:gs pos="50000">
                <a:srgbClr val="cecd9a"/>
              </a:gs>
              <a:gs pos="100000">
                <a:srgbClr val="5e5e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2556000" y="5268960"/>
            <a:ext cx="6588000" cy="15890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2556000" y="0"/>
            <a:ext cx="6588000" cy="53006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08000" y="2421000"/>
            <a:ext cx="230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Tahoma"/>
              </a:rPr>
              <a:t>Начало  обработки метал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Запишите дату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9 тыс. лет назад – начало обработки металлов.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6992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Как называется этот инструмент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835280" y="1557360"/>
            <a:ext cx="4273560" cy="511344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9076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Что общего у этого орудия с мотыгой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95280" y="2276640"/>
            <a:ext cx="8424720" cy="417672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-100080"/>
            <a:ext cx="149076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05:56:19Z</dcterms:created>
  <dc:creator>***</dc:creator>
  <dc:description/>
  <dc:language>en-US</dc:language>
  <cp:lastModifiedBy>Хохловы</cp:lastModifiedBy>
  <dcterms:modified xsi:type="dcterms:W3CDTF">2014-09-26T14:12:54Z</dcterms:modified>
  <cp:revision>38</cp:revision>
  <dc:subject/>
  <dc:title>Появление неравенства и знати</dc:title>
</cp:coreProperties>
</file>