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F9A8-E211-4949-A2A6-E4B18276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BA2-988D-4AC3-AC67-2A85149D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44D-3E44-4D1C-8313-2C088201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976-892B-4A87-9119-454712EE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1FF-24F4-447E-9E4D-811365D1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BE2-A197-45C9-BED7-1DFA4CAE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EC17-53CD-4F46-BD03-09C9C16D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76B-D7D5-4DDA-813F-19547F7A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5B09-EC81-4AE6-A0CB-A0B2F9EB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83B2-9A86-4A33-9794-E822C2D8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0EF-F9BF-4A08-95F1-EDD2ECA2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083A-AEA4-48CA-AE24-53461EE8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0CAC-21F6-4BEA-A283-9026D7C00C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53735"/>
                </a:solidFill>
                <a:latin typeface="Calibri"/>
              </a:rPr>
              <a:t>«Если вы хотите, чтобы жизнь улыбалась вам, подарите ей сначала своё хорошее настроение»</a:t>
            </a:r>
            <a:br>
              <a:rPr sz="4000"/>
            </a:br>
            <a:r>
              <a:rPr b="1" i="1" lang="ru-RU" sz="4000" spc="-1" strike="noStrike">
                <a:solidFill>
                  <a:srgbClr val="953735"/>
                </a:solidFill>
                <a:latin typeface="Calibri"/>
              </a:rPr>
              <a:t>(Б. Спиноз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6" descr="http://detsadik-1.moy.su/graffiti/15/IRG4ymL6.gif"/>
          <p:cNvPicPr/>
          <p:nvPr/>
        </p:nvPicPr>
        <p:blipFill>
          <a:blip r:embed="rId1"/>
          <a:stretch/>
        </p:blipFill>
        <p:spPr>
          <a:xfrm>
            <a:off x="0" y="3933720"/>
            <a:ext cx="5435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тановить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циальные фак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) празднование маслениц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) рекламный рол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) конкурс фольклорных коллектив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) премьера оперы «Иван Сусанин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) школьные анекдо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) скандал с участием поп-звезд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Ж) выступление симфонического оркест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58920" y="980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ы куль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од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итар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сов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вильный 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, В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, 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, Д, 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blogs.masterclassy.ru/upload/fileManager/1-jpg-jpg-thumb-7305.jpg"/>
          <p:cNvPicPr/>
          <p:nvPr/>
        </p:nvPicPr>
        <p:blipFill>
          <a:blip r:embed="rId2"/>
          <a:stretch/>
        </p:blipFill>
        <p:spPr>
          <a:xfrm>
            <a:off x="250920" y="404640"/>
            <a:ext cx="8893080" cy="6093000"/>
          </a:xfrm>
          <a:prstGeom prst="rect">
            <a:avLst/>
          </a:prstGeom>
          <a:ln w="0">
            <a:noFill/>
          </a:ln>
        </p:spPr>
      </p:pic>
      <p:sp>
        <p:nvSpPr>
          <p:cNvPr id="47" name="Блок-схема: ручное управление 6"/>
          <p:cNvSpPr/>
          <p:nvPr/>
        </p:nvSpPr>
        <p:spPr>
          <a:xfrm>
            <a:off x="2627280" y="5877000"/>
            <a:ext cx="4032360" cy="792000"/>
          </a:xfrm>
          <a:prstGeom prst="flowChartManualOperat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бычаи, традиции, ценности, идеалы нар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5940360" y="3500280"/>
            <a:ext cx="2448000" cy="649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Духовная куль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1116000" y="3500280"/>
            <a:ext cx="2448000" cy="649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атериальная куль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Двойная волна 13"/>
          <p:cNvSpPr/>
          <p:nvPr/>
        </p:nvSpPr>
        <p:spPr>
          <a:xfrm>
            <a:off x="3059280" y="1773360"/>
            <a:ext cx="3673440" cy="647640"/>
          </a:xfrm>
          <a:custGeom>
            <a:avLst/>
            <a:gdLst>
              <a:gd name="textAreaLeft" fmla="*/ 0 w 3673440"/>
              <a:gd name="textAreaRight" fmla="*/ 3673800 w 3673440"/>
              <a:gd name="textAreaTop" fmla="*/ 81000 h 647640"/>
              <a:gd name="textAreaBottom" fmla="*/ 567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ациональные куль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Цилиндр 14"/>
          <p:cNvSpPr/>
          <p:nvPr/>
        </p:nvSpPr>
        <p:spPr>
          <a:xfrm>
            <a:off x="4500720" y="2565360"/>
            <a:ext cx="792000" cy="3024360"/>
          </a:xfrm>
          <a:prstGeom prst="can">
            <a:avLst>
              <a:gd name="adj" fmla="val 654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Выноска-облако 15"/>
          <p:cNvSpPr/>
          <p:nvPr/>
        </p:nvSpPr>
        <p:spPr>
          <a:xfrm>
            <a:off x="1403280" y="836640"/>
            <a:ext cx="2808360" cy="936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Диалог культу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Выноска-облако 16"/>
          <p:cNvSpPr/>
          <p:nvPr/>
        </p:nvSpPr>
        <p:spPr>
          <a:xfrm>
            <a:off x="6372360" y="765000"/>
            <a:ext cx="2124000" cy="93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нтернационализа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Облако 17"/>
          <p:cNvSpPr/>
          <p:nvPr/>
        </p:nvSpPr>
        <p:spPr>
          <a:xfrm>
            <a:off x="3059280" y="1844640"/>
            <a:ext cx="504720" cy="504720"/>
          </a:xfrm>
          <a:custGeom>
            <a:avLst/>
            <a:gdLst>
              <a:gd name="textAreaLeft" fmla="*/ 69480 w 504720"/>
              <a:gd name="textAreaRight" fmla="*/ 399240 w 504720"/>
              <a:gd name="textAreaTop" fmla="*/ 75960 h 504720"/>
              <a:gd name="textAreaBottom" fmla="*/ 405360 h 504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блако 18"/>
          <p:cNvSpPr/>
          <p:nvPr/>
        </p:nvSpPr>
        <p:spPr>
          <a:xfrm>
            <a:off x="4572000" y="1557360"/>
            <a:ext cx="504720" cy="503280"/>
          </a:xfrm>
          <a:custGeom>
            <a:avLst/>
            <a:gdLst>
              <a:gd name="textAreaLeft" fmla="*/ 69480 w 504720"/>
              <a:gd name="textAreaRight" fmla="*/ 399240 w 504720"/>
              <a:gd name="textAreaTop" fmla="*/ 75960 h 503280"/>
              <a:gd name="textAreaBottom" fmla="*/ 403920 h 5032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блако 19"/>
          <p:cNvSpPr/>
          <p:nvPr/>
        </p:nvSpPr>
        <p:spPr>
          <a:xfrm>
            <a:off x="6300720" y="1844640"/>
            <a:ext cx="503280" cy="504720"/>
          </a:xfrm>
          <a:custGeom>
            <a:avLst/>
            <a:gdLst>
              <a:gd name="textAreaLeft" fmla="*/ 69120 w 503280"/>
              <a:gd name="textAreaRight" fmla="*/ 398160 w 503280"/>
              <a:gd name="textAreaTop" fmla="*/ 75960 h 504720"/>
              <a:gd name="textAreaBottom" fmla="*/ 405360 h 504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ФОРМЫ КУЛЬТУР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Вертикальный свиток 5"/>
          <p:cNvSpPr/>
          <p:nvPr/>
        </p:nvSpPr>
        <p:spPr>
          <a:xfrm>
            <a:off x="3851280" y="1413000"/>
            <a:ext cx="5076720" cy="518472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Вертикальный свиток 4"/>
          <p:cNvSpPr/>
          <p:nvPr/>
        </p:nvSpPr>
        <p:spPr>
          <a:xfrm>
            <a:off x="-252360" y="1484280"/>
            <a:ext cx="4716360" cy="518472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Формы куль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скрыть особенности основных фор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уль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292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и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знать, какие формы культур существую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нать основные черты форм куль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равнивать различные формы куль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учиться определя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 какой форме культуры относятся определённые культурные продук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549360"/>
          <a:ext cx="8229600" cy="6283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литарн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родн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ссов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м создаё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иональными творц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онимными творц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вляется авторск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идей и художественных образов, произведений этой формы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на для понимания неподготовленного зр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ятна и доступна широкому кругу потреб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ятна большинству, удовлетворяет сиюминутные запросы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г потреб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ообразо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я часть об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ирокая ауди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совая ауди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иентация на коммерческий успех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коммерческих ц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коммерческих ц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читана на коммерческий успе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ремя п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VIII-XI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убинные кор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X –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 проду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404640"/>
          <a:ext cx="8569080" cy="6193080"/>
        </p:xfrm>
        <a:graphic>
          <a:graphicData uri="http://schemas.openxmlformats.org/drawingml/2006/table">
            <a:tbl>
              <a:tblPr/>
              <a:tblGrid>
                <a:gridCol w="2857320"/>
                <a:gridCol w="2855880"/>
                <a:gridCol w="2855880"/>
              </a:tblGrid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литарная куль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родная куль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ссовая куль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95280" y="189000"/>
          <a:ext cx="8424720" cy="6624720"/>
        </p:xfrm>
        <a:graphic>
          <a:graphicData uri="http://schemas.openxmlformats.org/drawingml/2006/table">
            <a:tbl>
              <a:tblPr/>
              <a:tblGrid>
                <a:gridCol w="2106720"/>
                <a:gridCol w="2106360"/>
                <a:gridCol w="2105280"/>
                <a:gridCol w="2106360"/>
              </a:tblGrid>
              <a:tr h="23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.И. Чайковский «Щелкунчик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2" descr="http://runcib.cc/uploads/full/sestrica-alenushka-i-bratec-ivanushka-621505.jpg"/>
          <p:cNvPicPr/>
          <p:nvPr/>
        </p:nvPicPr>
        <p:blipFill>
          <a:blip r:embed="rId1"/>
          <a:stretch/>
        </p:blipFill>
        <p:spPr>
          <a:xfrm>
            <a:off x="468360" y="47628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bicomus.ru/uploads/images/stihotvorenie_s_viezdnoj_tseremonii_brakosochetanija_v_habarovske.jpg"/>
          <p:cNvPicPr/>
          <p:nvPr/>
        </p:nvPicPr>
        <p:blipFill>
          <a:blip r:embed="rId2"/>
          <a:stretch/>
        </p:blipFill>
        <p:spPr>
          <a:xfrm>
            <a:off x="2316240" y="5065560"/>
            <a:ext cx="2706480" cy="202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http://orgsmi.ru/photos/news/744.jpg"/>
          <p:cNvPicPr/>
          <p:nvPr/>
        </p:nvPicPr>
        <p:blipFill>
          <a:blip r:embed="rId3"/>
          <a:stretch/>
        </p:blipFill>
        <p:spPr>
          <a:xfrm>
            <a:off x="4716360" y="549360"/>
            <a:ext cx="2087640" cy="192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ttp://i67.photobucket.com/albums/h299/jonslove43/events/RichieG3.jpg"/>
          <p:cNvPicPr/>
          <p:nvPr/>
        </p:nvPicPr>
        <p:blipFill>
          <a:blip r:embed="rId4"/>
          <a:stretch/>
        </p:blipFill>
        <p:spPr>
          <a:xfrm>
            <a:off x="539640" y="4941720"/>
            <a:ext cx="1944720" cy="1727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http://forum.sibmama.ru/usrpx/131115/131115_800x572_8.jpg"/>
          <p:cNvPicPr/>
          <p:nvPr/>
        </p:nvPicPr>
        <p:blipFill>
          <a:blip r:embed="rId5"/>
          <a:stretch/>
        </p:blipFill>
        <p:spPr>
          <a:xfrm>
            <a:off x="468360" y="2852640"/>
            <a:ext cx="2087640" cy="1776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http://www.stihi.ru/pics/2013/04/07/5351.jpg"/>
          <p:cNvPicPr/>
          <p:nvPr/>
        </p:nvPicPr>
        <p:blipFill>
          <a:blip r:embed="rId6"/>
          <a:stretch/>
        </p:blipFill>
        <p:spPr>
          <a:xfrm>
            <a:off x="6875640" y="620640"/>
            <a:ext cx="1873080" cy="1814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http://bsdyc.biz/images/55d4c9ea3226c.jpg"/>
          <p:cNvPicPr/>
          <p:nvPr/>
        </p:nvPicPr>
        <p:blipFill>
          <a:blip r:embed="rId7"/>
          <a:stretch/>
        </p:blipFill>
        <p:spPr>
          <a:xfrm>
            <a:off x="2556000" y="2781360"/>
            <a:ext cx="2016000" cy="176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http://dd6deti.ucoz.ru/_fr/0/5660494.jpg"/>
          <p:cNvPicPr/>
          <p:nvPr/>
        </p:nvPicPr>
        <p:blipFill>
          <a:blip r:embed="rId8"/>
          <a:stretch/>
        </p:blipFill>
        <p:spPr>
          <a:xfrm>
            <a:off x="6948360" y="2781360"/>
            <a:ext cx="1871640" cy="1942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" descr="http://www.fotosoyuz.ru/preview/600x600-p2owd7/6i/ryibd6/600x600,fs-YSTINOV-02,64,Ust-6322_10.jpg?evgbzvoc"/>
          <p:cNvPicPr/>
          <p:nvPr/>
        </p:nvPicPr>
        <p:blipFill>
          <a:blip r:embed="rId9"/>
          <a:stretch/>
        </p:blipFill>
        <p:spPr>
          <a:xfrm>
            <a:off x="4716360" y="4941720"/>
            <a:ext cx="2232000" cy="168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http://www.jsmatt.com/picture/pieta_michelangelo-lg.jpg"/>
          <p:cNvPicPr/>
          <p:nvPr/>
        </p:nvPicPr>
        <p:blipFill>
          <a:blip r:embed="rId10"/>
          <a:stretch/>
        </p:blipFill>
        <p:spPr>
          <a:xfrm>
            <a:off x="4859280" y="2708280"/>
            <a:ext cx="172872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1413000"/>
          <a:ext cx="8569080" cy="2576520"/>
        </p:xfrm>
        <a:graphic>
          <a:graphicData uri="http://schemas.openxmlformats.org/drawingml/2006/table">
            <a:tbl>
              <a:tblPr/>
              <a:tblGrid>
                <a:gridCol w="2857320"/>
                <a:gridCol w="2855880"/>
                <a:gridCol w="285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литарная куль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родная куль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ссовая куль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2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,7,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,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,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Бурановские бабуш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71535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7T15:33:55Z</dcterms:created>
  <dc:creator>ольга</dc:creator>
  <dc:description/>
  <dc:language>en-US</dc:language>
  <cp:lastModifiedBy>ольга</cp:lastModifiedBy>
  <dcterms:modified xsi:type="dcterms:W3CDTF">2015-10-17T20:08:03Z</dcterms:modified>
  <cp:revision>28</cp:revision>
  <dc:subject/>
  <dc:title>Слайд 1</dc:title>
</cp:coreProperties>
</file>