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13E-97AA-406D-A656-337BFE76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D40-CD5A-4B49-8EE4-2AE3963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10A-565A-48E8-8523-32E2DED6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D2F-D605-4A25-A508-88016C5A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637-5015-4A15-AC6A-794922CB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B4E-24FF-4F0A-B864-B1DF1A1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D23-BE36-4E62-BF6E-A75D7EC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6B2-C350-49C1-B6FA-9DEDE6B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CA5-5591-491E-A52D-6441E5FA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407-AA84-413F-B82C-3815CA6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FF0-1D4C-46F5-8F39-25081899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878-783C-4378-BCFF-5230D28E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AA3-369A-426F-8A78-4E59C00F5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«Если вы хотите, чтобы жизнь улыбалась вам, подарите ей сначала своё хорошее настроение»</a:t>
            </a:r>
            <a:br>
              <a:rPr sz="4000"/>
            </a:b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(Б. Спиноз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detsadik-1.moy.su/graffiti/15/IRG4ymL6.gif"/>
          <p:cNvPicPr/>
          <p:nvPr/>
        </p:nvPicPr>
        <p:blipFill>
          <a:blip r:embed="rId1"/>
          <a:stretch/>
        </p:blipFill>
        <p:spPr>
          <a:xfrm>
            <a:off x="0" y="3933720"/>
            <a:ext cx="543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ь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ф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разднование маслениц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рекламный ро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) конкурс фольклорных коллектив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) премьера оперы «Иван Сусанин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) школьные анекд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) скандал с участием поп-звез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) выступление симфонического оркест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92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ита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, 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, 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, Д,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blogs.masterclassy.ru/upload/fileManager/1-jpg-jpg-thumb-7305.jpg"/>
          <p:cNvPicPr/>
          <p:nvPr/>
        </p:nvPicPr>
        <p:blipFill>
          <a:blip r:embed="rId2"/>
          <a:stretch/>
        </p:blipFill>
        <p:spPr>
          <a:xfrm>
            <a:off x="250920" y="404640"/>
            <a:ext cx="8893080" cy="6093000"/>
          </a:xfrm>
          <a:prstGeom prst="rect">
            <a:avLst/>
          </a:prstGeom>
          <a:ln w="0">
            <a:noFill/>
          </a:ln>
        </p:spPr>
      </p:pic>
      <p:sp>
        <p:nvSpPr>
          <p:cNvPr id="47" name="Блок-схема: ручное управление 6"/>
          <p:cNvSpPr/>
          <p:nvPr/>
        </p:nvSpPr>
        <p:spPr>
          <a:xfrm>
            <a:off x="2627280" y="5877000"/>
            <a:ext cx="4032360" cy="792000"/>
          </a:xfrm>
          <a:prstGeom prst="flowChartManualOperat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ычаи, традиции, ценности, идеалы на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5940360" y="3500280"/>
            <a:ext cx="244800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ухов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116000" y="3500280"/>
            <a:ext cx="244800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риаль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войная волна 13"/>
          <p:cNvSpPr/>
          <p:nvPr/>
        </p:nvSpPr>
        <p:spPr>
          <a:xfrm>
            <a:off x="3059280" y="1773360"/>
            <a:ext cx="3673440" cy="647640"/>
          </a:xfrm>
          <a:custGeom>
            <a:avLst/>
            <a:gdLst>
              <a:gd name="textAreaLeft" fmla="*/ 0 w 3673440"/>
              <a:gd name="textAreaRight" fmla="*/ 3673800 w 3673440"/>
              <a:gd name="textAreaTop" fmla="*/ 8100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циональные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Цилиндр 14"/>
          <p:cNvSpPr/>
          <p:nvPr/>
        </p:nvSpPr>
        <p:spPr>
          <a:xfrm>
            <a:off x="4500720" y="2565360"/>
            <a:ext cx="792000" cy="3024360"/>
          </a:xfrm>
          <a:prstGeom prst="can">
            <a:avLst>
              <a:gd name="adj" fmla="val 65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Выноска-облако 15"/>
          <p:cNvSpPr/>
          <p:nvPr/>
        </p:nvSpPr>
        <p:spPr>
          <a:xfrm>
            <a:off x="1403280" y="836640"/>
            <a:ext cx="2808360" cy="936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алог культу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Выноска-облако 16"/>
          <p:cNvSpPr/>
          <p:nvPr/>
        </p:nvSpPr>
        <p:spPr>
          <a:xfrm>
            <a:off x="6372360" y="765000"/>
            <a:ext cx="2124000" cy="93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тернационал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17"/>
          <p:cNvSpPr/>
          <p:nvPr/>
        </p:nvSpPr>
        <p:spPr>
          <a:xfrm>
            <a:off x="3059280" y="1844640"/>
            <a:ext cx="504720" cy="504720"/>
          </a:xfrm>
          <a:custGeom>
            <a:avLst/>
            <a:gdLst>
              <a:gd name="textAreaLeft" fmla="*/ 69480 w 504720"/>
              <a:gd name="textAreaRight" fmla="*/ 399240 w 50472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18"/>
          <p:cNvSpPr/>
          <p:nvPr/>
        </p:nvSpPr>
        <p:spPr>
          <a:xfrm>
            <a:off x="4572000" y="1557360"/>
            <a:ext cx="504720" cy="503280"/>
          </a:xfrm>
          <a:custGeom>
            <a:avLst/>
            <a:gdLst>
              <a:gd name="textAreaLeft" fmla="*/ 69480 w 504720"/>
              <a:gd name="textAreaRight" fmla="*/ 399240 w 504720"/>
              <a:gd name="textAreaTop" fmla="*/ 75960 h 503280"/>
              <a:gd name="textAreaBottom" fmla="*/ 403920 h 50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лако 19"/>
          <p:cNvSpPr/>
          <p:nvPr/>
        </p:nvSpPr>
        <p:spPr>
          <a:xfrm>
            <a:off x="6300720" y="1844640"/>
            <a:ext cx="503280" cy="504720"/>
          </a:xfrm>
          <a:custGeom>
            <a:avLst/>
            <a:gdLst>
              <a:gd name="textAreaLeft" fmla="*/ 69120 w 503280"/>
              <a:gd name="textAreaRight" fmla="*/ 398160 w 50328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Вертикальный свиток 5"/>
          <p:cNvSpPr/>
          <p:nvPr/>
        </p:nvSpPr>
        <p:spPr>
          <a:xfrm>
            <a:off x="3851280" y="1413000"/>
            <a:ext cx="5076720" cy="5184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ертикальный свиток 4"/>
          <p:cNvSpPr/>
          <p:nvPr/>
        </p:nvSpPr>
        <p:spPr>
          <a:xfrm>
            <a:off x="-252360" y="1484280"/>
            <a:ext cx="4716360" cy="5184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скрыть особенности основных ф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уль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знать, какие формы культур существу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нать основные черты форм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равнивать различные формы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учиться определ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 какой форме культуры относятся определённые культурные проду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549360"/>
          <a:ext cx="8229600" cy="62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 создаё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ыми творц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онимными творц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автор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идей и художественных образов, произведений этой формы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а для понимания неподготовленного зр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на и доступна широкому кругу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на большинству, удовлетворяет сиюминутные запросы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образо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я часть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рок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ов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иентация на коммерческий успе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коммерческих ц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коммерческих ц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читана на коммерческий усп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п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VIII-XI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инные ко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X 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404640"/>
          <a:ext cx="8569080" cy="6193080"/>
        </p:xfrm>
        <a:graphic>
          <a:graphicData uri="http://schemas.openxmlformats.org/drawingml/2006/table">
            <a:tbl>
              <a:tblPr/>
              <a:tblGrid>
                <a:gridCol w="2857320"/>
                <a:gridCol w="2855880"/>
                <a:gridCol w="285588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189000"/>
          <a:ext cx="8424720" cy="6624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.И. Чайковский «Щелкунчи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http://runcib.cc/uploads/full/sestrica-alenushka-i-bratec-ivanushka-621505.jpg"/>
          <p:cNvPicPr/>
          <p:nvPr/>
        </p:nvPicPr>
        <p:blipFill>
          <a:blip r:embed="rId1"/>
          <a:stretch/>
        </p:blipFill>
        <p:spPr>
          <a:xfrm>
            <a:off x="468360" y="476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bicomus.ru/uploads/images/stihotvorenie_s_viezdnoj_tseremonii_brakosochetanija_v_habarovske.jpg"/>
          <p:cNvPicPr/>
          <p:nvPr/>
        </p:nvPicPr>
        <p:blipFill>
          <a:blip r:embed="rId2"/>
          <a:stretch/>
        </p:blipFill>
        <p:spPr>
          <a:xfrm>
            <a:off x="2316240" y="5065560"/>
            <a:ext cx="2706480" cy="20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orgsmi.ru/photos/news/744.jpg"/>
          <p:cNvPicPr/>
          <p:nvPr/>
        </p:nvPicPr>
        <p:blipFill>
          <a:blip r:embed="rId3"/>
          <a:stretch/>
        </p:blipFill>
        <p:spPr>
          <a:xfrm>
            <a:off x="4716360" y="549360"/>
            <a:ext cx="2087640" cy="192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i67.photobucket.com/albums/h299/jonslove43/events/RichieG3.jpg"/>
          <p:cNvPicPr/>
          <p:nvPr/>
        </p:nvPicPr>
        <p:blipFill>
          <a:blip r:embed="rId4"/>
          <a:stretch/>
        </p:blipFill>
        <p:spPr>
          <a:xfrm>
            <a:off x="539640" y="4941720"/>
            <a:ext cx="194472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forum.sibmama.ru/usrpx/131115/131115_800x572_8.jpg"/>
          <p:cNvPicPr/>
          <p:nvPr/>
        </p:nvPicPr>
        <p:blipFill>
          <a:blip r:embed="rId5"/>
          <a:stretch/>
        </p:blipFill>
        <p:spPr>
          <a:xfrm>
            <a:off x="468360" y="2852640"/>
            <a:ext cx="2087640" cy="177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ttp://www.stihi.ru/pics/2013/04/07/5351.jpg"/>
          <p:cNvPicPr/>
          <p:nvPr/>
        </p:nvPicPr>
        <p:blipFill>
          <a:blip r:embed="rId6"/>
          <a:stretch/>
        </p:blipFill>
        <p:spPr>
          <a:xfrm>
            <a:off x="6875640" y="620640"/>
            <a:ext cx="1873080" cy="18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bsdyc.biz/images/55d4c9ea3226c.jpg"/>
          <p:cNvPicPr/>
          <p:nvPr/>
        </p:nvPicPr>
        <p:blipFill>
          <a:blip r:embed="rId7"/>
          <a:stretch/>
        </p:blipFill>
        <p:spPr>
          <a:xfrm>
            <a:off x="2556000" y="2781360"/>
            <a:ext cx="2016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http://dd6deti.ucoz.ru/_fr/0/5660494.jpg"/>
          <p:cNvPicPr/>
          <p:nvPr/>
        </p:nvPicPr>
        <p:blipFill>
          <a:blip r:embed="rId8"/>
          <a:stretch/>
        </p:blipFill>
        <p:spPr>
          <a:xfrm>
            <a:off x="6948360" y="2781360"/>
            <a:ext cx="187164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http://www.fotosoyuz.ru/preview/600x600-p2owd7/6i/ryibd6/600x600,fs-YSTINOV-02,64,Ust-6322_10.jpg?evgbzvoc"/>
          <p:cNvPicPr/>
          <p:nvPr/>
        </p:nvPicPr>
        <p:blipFill>
          <a:blip r:embed="rId9"/>
          <a:stretch/>
        </p:blipFill>
        <p:spPr>
          <a:xfrm>
            <a:off x="4716360" y="494172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://www.jsmatt.com/picture/pieta_michelangelo-lg.jpg"/>
          <p:cNvPicPr/>
          <p:nvPr/>
        </p:nvPicPr>
        <p:blipFill>
          <a:blip r:embed="rId10"/>
          <a:stretch/>
        </p:blipFill>
        <p:spPr>
          <a:xfrm>
            <a:off x="4859280" y="2708280"/>
            <a:ext cx="1728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413000"/>
          <a:ext cx="8569080" cy="2576520"/>
        </p:xfrm>
        <a:graphic>
          <a:graphicData uri="http://schemas.openxmlformats.org/drawingml/2006/table">
            <a:tbl>
              <a:tblPr/>
              <a:tblGrid>
                <a:gridCol w="2857320"/>
                <a:gridCol w="2855880"/>
                <a:gridCol w="28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,7,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,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Бурановские бабуш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535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5:33:55Z</dcterms:created>
  <dc:creator>ольга</dc:creator>
  <dc:description/>
  <dc:language>en-US</dc:language>
  <cp:lastModifiedBy>ольга</cp:lastModifiedBy>
  <dcterms:modified xsi:type="dcterms:W3CDTF">2015-10-17T20:08:03Z</dcterms:modified>
  <cp:revision>28</cp:revision>
  <dc:subject/>
  <dc:title>Слайд 1</dc:title>
</cp:coreProperties>
</file>