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EFB16-4A19-4B3E-9769-FC6CE684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A07F6-047D-4591-B9F2-BD0DC30D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17E0D-0457-4DF8-847B-AB9A581C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E73A9-8F67-481B-B34C-B004F714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1B6B-BFFA-4084-9B6F-C44C9DBE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E9C2-6659-4DB6-8594-CE19A3A8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A22D-0A8D-4217-822D-541A263D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5298-9997-468D-A307-7AC9BBD0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B370-63E4-4D61-8918-369CB6E1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D755-E579-4378-A0A2-F2FEEF41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0A6B-77A6-465B-A883-99753B63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A085-203A-4AE4-8673-542BF98F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8B2E-F9F9-419B-A389-21C60F6F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A84C-F8C0-4E43-A854-04323AD1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00E2-A33E-42D0-8049-91FA3973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CDE7-C496-4B74-A227-BDF21DEB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0928-1B90-4562-B350-3B967CFB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CC78D-7057-46CD-A409-815F539B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3CBB1-F701-4C43-968A-0943C2D2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E4739-8C36-4EC5-8E19-C231BB30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D1906-DEB1-4AD4-B539-0FAF8D9F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143A-72D5-414B-A1EC-6DDFD726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1B7BD-45B0-4FD2-A341-109B4756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EAFC0-11CB-48EC-AAC2-62374F03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8197-4CE7-4A1D-BAE9-6B183A8E25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86DA-A7DF-433C-874D-5112750FED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990360"/>
            <a:ext cx="842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 u="sng">
                <a:solidFill>
                  <a:srgbClr val="e5e5ff"/>
                </a:solidFill>
                <a:uFillTx/>
                <a:latin typeface="Garamond"/>
              </a:rPr>
              <a:t>Тема:</a:t>
            </a:r>
            <a:r>
              <a:rPr b="1" i="1" lang="ru-RU" sz="6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ru-RU" sz="5400" spc="-1" strike="noStrike">
                <a:solidFill>
                  <a:srgbClr val="e5e5ff"/>
                </a:solidFill>
                <a:latin typeface="Garamond"/>
              </a:rPr>
              <a:t>Край в котором я живу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240" y="4052880"/>
            <a:ext cx="6211800" cy="14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Нефтяные месторожд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773000"/>
            <a:ext cx="3884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своение нефтяных месторождений в советский период наносило серьезный экологический ущерб территории традиционного расселения хантов. Выступая в защиту своих земель, ханты принимали участие в экологических группах протеста, появившихся в период перестрой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7" descr="oil"/>
          <p:cNvPicPr/>
          <p:nvPr/>
        </p:nvPicPr>
        <p:blipFill>
          <a:blip r:embed="rId1"/>
          <a:stretch/>
        </p:blipFill>
        <p:spPr>
          <a:xfrm>
            <a:off x="1332000" y="1557360"/>
            <a:ext cx="2520720" cy="2060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expert-ural_329_057_120"/>
          <p:cNvPicPr/>
          <p:nvPr/>
        </p:nvPicPr>
        <p:blipFill>
          <a:blip r:embed="rId2"/>
          <a:stretch/>
        </p:blipFill>
        <p:spPr>
          <a:xfrm>
            <a:off x="1547640" y="400536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4825800" cy="53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ольшая часть коренного населения ведет типично таежный образ жизни. Это полуоседлые охотники и рыболовы, занимающиеся, кроме того, оленеводством на севере и скотоводством на юге автономного округа. Наиболее древним традиционным способом является лов рыбы с использованием заграждений из кольев и прутьев (запоры), с давних пор известны также уды и сетные ловуш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4" descr="ryba_sm"/>
          <p:cNvPicPr/>
          <p:nvPr/>
        </p:nvPicPr>
        <p:blipFill>
          <a:blip r:embed="rId1"/>
          <a:stretch/>
        </p:blipFill>
        <p:spPr>
          <a:xfrm>
            <a:off x="5796000" y="333360"/>
            <a:ext cx="2184480" cy="302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foto_12327_small"/>
          <p:cNvPicPr/>
          <p:nvPr/>
        </p:nvPicPr>
        <p:blipFill>
          <a:blip r:embed="rId2"/>
          <a:stretch/>
        </p:blipFill>
        <p:spPr>
          <a:xfrm>
            <a:off x="5219640" y="3789360"/>
            <a:ext cx="3726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4100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анты-Мансийский автономный округ - историческая родина малочисленных народов Крайнего Севера: ненцев, ханты, селькупов. Из 36 тысяч человек кочевой образ жизни ведут более 13 тысяч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13_14"/>
          <p:cNvPicPr/>
          <p:nvPr/>
        </p:nvPicPr>
        <p:blipFill>
          <a:blip r:embed="rId1"/>
          <a:stretch/>
        </p:blipFill>
        <p:spPr>
          <a:xfrm>
            <a:off x="4643280" y="1268280"/>
            <a:ext cx="418176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Шам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88000" y="981000"/>
            <a:ext cx="417672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реди коренных жителей встречались и шаманы. Как правило, шаманы в своей практике использовали знания физиологии и анатомии человека. При этом главным фактором являлось гипнотическое внушение, применяемое шаманами в различных формах, способствующее выздоровлению человека(улучшению его самочувствия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5" descr="shaman_600"/>
          <p:cNvPicPr/>
          <p:nvPr/>
        </p:nvPicPr>
        <p:blipFill>
          <a:blip r:embed="rId1"/>
          <a:stretch/>
        </p:blipFill>
        <p:spPr>
          <a:xfrm>
            <a:off x="324000" y="1197000"/>
            <a:ext cx="408780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Охот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4244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на являлась важнейшим видом хозяйственной деятельности человека, который обеспечивал его пищей, одеждой и всем необходимым для жизни. Люди, которые его ведут, заинтересованы не только в добывании животных, но и в том, чтобы сохранить поголовье, необходимое для воспроизводства. (Характерно жителям Приобья – ханты и манси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18" descr="2751289"/>
          <p:cNvPicPr/>
          <p:nvPr/>
        </p:nvPicPr>
        <p:blipFill>
          <a:blip r:embed="rId1"/>
          <a:stretch/>
        </p:blipFill>
        <p:spPr>
          <a:xfrm>
            <a:off x="4643280" y="1989000"/>
            <a:ext cx="428472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685800" y="1484280"/>
          <a:ext cx="7772400" cy="4611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ссивная ох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ктивная ох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сутствия людей не требовалось. Для ловли животных использовались ловушки и самострел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ловек принимает непосредственное участие. Например, преследуя лося по насту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Рыболовств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395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ревнейшим занятием народов, заселявших север Западной Сибири, было рыболовство. На особенности повлияло два фактора: 1) Огромные разливы рек в низменных районах равнины; 2) Зимние замор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8" descr="woman_fish_300"/>
          <p:cNvPicPr/>
          <p:nvPr/>
        </p:nvPicPr>
        <p:blipFill>
          <a:blip r:embed="rId1"/>
          <a:stretch/>
        </p:blipFill>
        <p:spPr>
          <a:xfrm>
            <a:off x="4859280" y="2235240"/>
            <a:ext cx="403380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Народная гигие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27280" y="155700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К важнейшему разделу традиционной медицины следует отнести народную гигиену и методы профилактики заболеваний. Так, лесные ненцы надевают традиционную меховую одежду, сшитую мехом внутрь, прямо на голое тело. Благодаря особенностям кроя тепло концентрируется внутри и греет область спины, груди, плеч, а за счет вырезов для головы и прорезей для рук регулируется тепловой режим внутри одежды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deer_pelts_600"/>
          <p:cNvPicPr/>
          <p:nvPr/>
        </p:nvPicPr>
        <p:blipFill>
          <a:blip r:embed="rId1"/>
          <a:stretch/>
        </p:blipFill>
        <p:spPr>
          <a:xfrm>
            <a:off x="501480" y="1484280"/>
            <a:ext cx="35751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4100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ех оленя, из которого сшита одежда лесных ненцев, обладает особыми свойствами: при контакте с кожей он хорошо впитывает влагу, во время движения мех постоянно массирует кожу, способствуя кровообращению. Волос оленя внутри полый, благодаря чему мех надежно держит тепло: даже грудных детей ненцы заворачивают в оленьи шкур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10" descr="FIGURE_1d"/>
          <p:cNvPicPr/>
          <p:nvPr/>
        </p:nvPicPr>
        <p:blipFill>
          <a:blip r:embed="rId1"/>
          <a:stretch/>
        </p:blipFill>
        <p:spPr>
          <a:xfrm>
            <a:off x="4643280" y="981000"/>
            <a:ext cx="1997280" cy="277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7501-7513"/>
          <p:cNvPicPr/>
          <p:nvPr/>
        </p:nvPicPr>
        <p:blipFill>
          <a:blip r:embed="rId2"/>
          <a:stretch/>
        </p:blipFill>
        <p:spPr>
          <a:xfrm>
            <a:off x="4932360" y="4437000"/>
            <a:ext cx="3168720" cy="1979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241434830_3d50044929"/>
          <p:cNvPicPr/>
          <p:nvPr/>
        </p:nvPicPr>
        <p:blipFill>
          <a:blip r:embed="rId3"/>
          <a:stretch/>
        </p:blipFill>
        <p:spPr>
          <a:xfrm>
            <a:off x="6948360" y="98100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Ханты-Мансийский А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разован в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930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году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екабр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выми жителями стали ханты(остяки), манси(вогулы), ненцы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01"/>
          <p:cNvPicPr/>
          <p:nvPr/>
        </p:nvPicPr>
        <p:blipFill>
          <a:blip r:embed="rId1"/>
          <a:stretch/>
        </p:blipFill>
        <p:spPr>
          <a:xfrm>
            <a:off x="4724280" y="1700280"/>
            <a:ext cx="393084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нц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62864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Ненцы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один из самых крупных самодийских народов. Самоназвание ненэць - "человек" было введено в официальное употребление в 1930 г. Первоначально ненцев называли самоедами или самоедами-юраками. Упоминание об этом имеется в древнейшей русской летописи "Повесть временных лет", относящейся к началу XII 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сновная пища - мясо оленей (в любом виде), рыба, хлеб. Излюбленный напиток - чай. Его, как и металлическую утварь, выменивали у русских торговцев. Деревянную посуду -миски, чашки, ложки - изготовляли с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Organization Chart 4"/>
          <p:cNvGrpSpPr/>
          <p:nvPr/>
        </p:nvGrpSpPr>
        <p:grpSpPr>
          <a:xfrm>
            <a:off x="468360" y="1125360"/>
            <a:ext cx="8064000" cy="4751280"/>
            <a:chOff x="468360" y="1125360"/>
            <a:chExt cx="8064000" cy="475128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436000" y="2088720"/>
              <a:ext cx="950760" cy="2823120"/>
            </a:xfrm>
            <a:prstGeom prst="bentConnector3">
              <a:avLst>
                <a:gd name="adj1" fmla="val 104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00000" y="3025080"/>
              <a:ext cx="3240" cy="950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613960" y="2089080"/>
              <a:ext cx="950760" cy="2823120"/>
            </a:xfrm>
            <a:prstGeom prst="bentConnector3">
              <a:avLst>
                <a:gd name="adj1" fmla="val 104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290760" y="1125360"/>
              <a:ext cx="2419200" cy="190044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Times New Roman"/>
                </a:rPr>
                <a:t>Ненцы</a:t>
              </a:r>
              <a:endParaRPr b="0" lang="en-US" sz="2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468360" y="3976200"/>
              <a:ext cx="2419200" cy="190044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Times New Roman"/>
                </a:rPr>
                <a:t>Тундровые</a:t>
              </a:r>
              <a:r>
                <a:rPr b="0" lang="ru-RU" sz="2100" spc="-1" strike="noStrike">
                  <a:solidFill>
                    <a:srgbClr val="ffffff"/>
                  </a:solidFill>
                  <a:latin typeface="Times New Roman"/>
                </a:rPr>
                <a:t> (</a:t>
              </a: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&gt;</a:t>
              </a:r>
              <a:r>
                <a:rPr b="0" lang="ru-RU" sz="2100" spc="-1" strike="noStrike">
                  <a:solidFill>
                    <a:srgbClr val="ffffff"/>
                  </a:solidFill>
                  <a:latin typeface="Times New Roman"/>
                </a:rPr>
                <a:t>90%)</a:t>
              </a:r>
              <a:endParaRPr b="0" lang="en-US" sz="2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290760" y="3976200"/>
              <a:ext cx="2419200" cy="190044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Times New Roman"/>
                </a:rPr>
                <a:t>Лесные</a:t>
              </a:r>
              <a:endParaRPr b="0" lang="en-US" sz="21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113160" y="3976200"/>
              <a:ext cx="2419200" cy="190044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Times New Roman"/>
                </a:rPr>
                <a:t>Колвинцы</a:t>
              </a:r>
              <a:endParaRPr b="0" lang="en-US" sz="21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15" name="Picture 27" descr="foto_12268_small"/>
          <p:cNvPicPr/>
          <p:nvPr/>
        </p:nvPicPr>
        <p:blipFill>
          <a:blip r:embed="rId1"/>
          <a:stretch/>
        </p:blipFill>
        <p:spPr>
          <a:xfrm>
            <a:off x="6227640" y="404640"/>
            <a:ext cx="2525760" cy="3036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foto_12325_small"/>
          <p:cNvPicPr/>
          <p:nvPr/>
        </p:nvPicPr>
        <p:blipFill>
          <a:blip r:embed="rId2"/>
          <a:stretch/>
        </p:blipFill>
        <p:spPr>
          <a:xfrm>
            <a:off x="324000" y="404640"/>
            <a:ext cx="252864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Оленеводств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248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Garamond"/>
              </a:rPr>
              <a:t>Национальные особенности: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круглогодовой выпас животных под надзором пастухов и оленегонных собак, санный способ езды на оленях. Применяют легковые и грузовые нарты. Олень питается мхом - ягелем. По мере истощения кормовых запасов приходится менять пастбища. С оленьим стадом кочуют и пастухи с семьями.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6" descr="foto_12261_small"/>
          <p:cNvPicPr/>
          <p:nvPr/>
        </p:nvPicPr>
        <p:blipFill>
          <a:blip r:embed="rId1"/>
          <a:stretch/>
        </p:blipFill>
        <p:spPr>
          <a:xfrm>
            <a:off x="5076720" y="1628640"/>
            <a:ext cx="3456000" cy="2176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ant"/>
          <p:cNvPicPr/>
          <p:nvPr/>
        </p:nvPicPr>
        <p:blipFill>
          <a:blip r:embed="rId2"/>
          <a:stretch/>
        </p:blipFill>
        <p:spPr>
          <a:xfrm>
            <a:off x="5073480" y="4114800"/>
            <a:ext cx="33861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леньи пастбищ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9" descr="foto_12255_small"/>
          <p:cNvPicPr/>
          <p:nvPr/>
        </p:nvPicPr>
        <p:blipFill>
          <a:blip r:embed="rId1"/>
          <a:stretch/>
        </p:blipFill>
        <p:spPr>
          <a:xfrm>
            <a:off x="324000" y="1773360"/>
            <a:ext cx="3965400" cy="2131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foto_12267_small"/>
          <p:cNvPicPr/>
          <p:nvPr/>
        </p:nvPicPr>
        <p:blipFill>
          <a:blip r:embed="rId2"/>
          <a:stretch/>
        </p:blipFill>
        <p:spPr>
          <a:xfrm>
            <a:off x="4759200" y="1758960"/>
            <a:ext cx="3989520" cy="2203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22"/>
          <p:cNvPicPr/>
          <p:nvPr/>
        </p:nvPicPr>
        <p:blipFill>
          <a:blip r:embed="rId3"/>
          <a:stretch/>
        </p:blipFill>
        <p:spPr>
          <a:xfrm>
            <a:off x="4716360" y="4081320"/>
            <a:ext cx="3959280" cy="2587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deer_600"/>
          <p:cNvPicPr/>
          <p:nvPr/>
        </p:nvPicPr>
        <p:blipFill>
          <a:blip r:embed="rId4"/>
          <a:stretch/>
        </p:blipFill>
        <p:spPr>
          <a:xfrm>
            <a:off x="179280" y="4221000"/>
            <a:ext cx="44960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Хан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Ханты являлись полуоседлыми охотниками и рыбаками, кроме того, на севере занимались оленеводством, на юге - скотоводством. У охотников и рыбаков для каждого времени года имелось сезонное поселение и жилище. Типов жилищ было очень много, одни из них являлись временными, разборными, другие - постоянными. Разнообразны были хозяйственные постройки, бытовали культовые сооружения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дметы домашнего обихода изготавливали из местных материалов: дерево, береста, корень кедра и т.д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5" descr="DSC03075"/>
          <p:cNvPicPr/>
          <p:nvPr/>
        </p:nvPicPr>
        <p:blipFill>
          <a:blip r:embed="rId1"/>
          <a:stretch/>
        </p:blipFill>
        <p:spPr>
          <a:xfrm>
            <a:off x="4572000" y="1844640"/>
            <a:ext cx="4424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Organization Chart 5"/>
          <p:cNvGrpSpPr/>
          <p:nvPr/>
        </p:nvGrpSpPr>
        <p:grpSpPr>
          <a:xfrm>
            <a:off x="611280" y="2133720"/>
            <a:ext cx="7771680" cy="4113360"/>
            <a:chOff x="611280" y="2133720"/>
            <a:chExt cx="7771680" cy="4113360"/>
          </a:xfrm>
        </p:grpSpPr>
        <p:cxnSp>
          <p:nvCxnSpPr>
            <p:cNvPr id="131" name="_s2052"/>
            <p:cNvCxnSpPr>
              <a:stCxn id="132" idx="0"/>
              <a:endCxn id="133" idx="2"/>
            </p:cNvCxnSpPr>
            <p:nvPr/>
          </p:nvCxnSpPr>
          <p:spPr>
            <a:xfrm flipV="1" rot="16200000">
              <a:off x="5445360" y="2829240"/>
              <a:ext cx="823320" cy="2720880"/>
            </a:xfrm>
            <a:prstGeom prst="bentConnector3">
              <a:avLst>
                <a:gd name="adj1" fmla="val 209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2053"/>
            <p:cNvCxnSpPr>
              <a:stCxn id="135" idx="0"/>
              <a:endCxn id="133" idx="2"/>
            </p:cNvCxnSpPr>
            <p:nvPr/>
          </p:nvCxnSpPr>
          <p:spPr>
            <a:xfrm flipV="1">
              <a:off x="4497120" y="3778200"/>
              <a:ext cx="2880" cy="823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2054"/>
            <p:cNvCxnSpPr>
              <a:stCxn id="137" idx="0"/>
              <a:endCxn id="133" idx="2"/>
            </p:cNvCxnSpPr>
            <p:nvPr/>
          </p:nvCxnSpPr>
          <p:spPr>
            <a:xfrm flipH="1" flipV="1" rot="5400000">
              <a:off x="2725560" y="2829600"/>
              <a:ext cx="823320" cy="2720880"/>
            </a:xfrm>
            <a:prstGeom prst="bentConnector3">
              <a:avLst>
                <a:gd name="adj1" fmla="val 209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3" name="_s2055"/>
            <p:cNvSpPr/>
            <p:nvPr/>
          </p:nvSpPr>
          <p:spPr>
            <a:xfrm>
              <a:off x="3331440" y="213372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Ханты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_s2056"/>
            <p:cNvSpPr/>
            <p:nvPr/>
          </p:nvSpPr>
          <p:spPr>
            <a:xfrm>
              <a:off x="611280" y="46018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Северные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_s2057"/>
            <p:cNvSpPr/>
            <p:nvPr/>
          </p:nvSpPr>
          <p:spPr>
            <a:xfrm>
              <a:off x="3331440" y="46018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Южные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2" name="_s2058"/>
            <p:cNvSpPr/>
            <p:nvPr/>
          </p:nvSpPr>
          <p:spPr>
            <a:xfrm>
              <a:off x="6051600" y="46018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осточные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38" name="Picture 15" descr="347248"/>
          <p:cNvPicPr/>
          <p:nvPr/>
        </p:nvPicPr>
        <p:blipFill>
          <a:blip r:embed="rId1"/>
          <a:stretch/>
        </p:blipFill>
        <p:spPr>
          <a:xfrm>
            <a:off x="6012000" y="620640"/>
            <a:ext cx="2855880" cy="1901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Khanti_09"/>
          <p:cNvPicPr/>
          <p:nvPr/>
        </p:nvPicPr>
        <p:blipFill>
          <a:blip r:embed="rId2"/>
          <a:stretch/>
        </p:blipFill>
        <p:spPr>
          <a:xfrm>
            <a:off x="611280" y="189000"/>
            <a:ext cx="22352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исьменно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ле революции для хантов была разработана письменность, на их языке были изданы книги, но в то же время Советское правительство вынуждало хантов расстаться с кочевым образом жизни и обратиться к созданию рыболовецких, охотничьих и оленеводческих кооперативов. Общины, желавшие сохранить традиционный уклад, преследовались в административном порядк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930 год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Дети ханты получили первую книгу на родном языке, составленную П.Е. Хатанзеевы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2:13:34Z</dcterms:created>
  <dc:creator>Александров</dc:creator>
  <dc:description/>
  <cp:keywords/>
  <dc:language>en-US</dc:language>
  <cp:lastModifiedBy>24 кабинет</cp:lastModifiedBy>
  <dcterms:modified xsi:type="dcterms:W3CDTF">2016-09-13T11:59:22Z</dcterms:modified>
  <cp:revision>16</cp:revision>
  <dc:subject/>
  <dc:title>Тема: Жизнь коренных народов ХМА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91049</vt:lpwstr>
  </property>
</Properties>
</file>