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8251-C865-4E7B-A34F-C5332FA4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437F-7A8B-41D7-9CD0-5B86855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2E9D-682C-447B-A395-0258F3A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A464-3F76-4EC7-B2F0-8B60B2C1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4D60-E8D8-48FA-99B0-0C5E0EC9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F7FA-084F-4594-8ED5-33C63B79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267-6F10-41BA-90ED-2DBAFA12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6E0C-8BB7-4FBE-9737-50E6A456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1DE-615D-48C2-8378-17EB5B4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0E0C-4D14-4A37-82CE-662C57E2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7588-7BC9-4F8D-9399-40CE212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FBF5-D760-466B-9ECB-D0C4BBE7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8808-6E0B-43E7-867B-F74D5C7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61A-143E-418F-AEF1-FEE7DD7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C0C8-CE23-43B6-9132-5F7022B5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82E-5A8F-4275-BE01-1E81E072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A072-2482-43CA-B3C9-F88E11C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12B6-733E-4E81-A487-9AC6BD6E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C0F1-D349-4ADC-83D7-FA0FF1B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2218-881F-47B9-82C2-2F6D281F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B786-C21C-4BF7-9537-D163F585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1AF6-0233-4A89-B026-D82DEE0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14DB-0F9F-4B42-8626-071606BB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711A-0D83-45E7-9C43-C551237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AE6-41D4-47BD-84F2-DD49B2A397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563-7FD7-4BE4-A62D-B9FE551DB8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90360"/>
            <a:ext cx="842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e5e5ff"/>
                </a:solidFill>
                <a:uFillTx/>
                <a:latin typeface="Garamond"/>
              </a:rPr>
              <a:t>Тема:</a:t>
            </a:r>
            <a:r>
              <a:rPr b="1" i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5400" spc="-1" strike="noStrike">
                <a:solidFill>
                  <a:srgbClr val="e5e5ff"/>
                </a:solidFill>
                <a:latin typeface="Garamond"/>
              </a:rPr>
              <a:t>Край в котором я живу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4052880"/>
            <a:ext cx="621180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ефтяные местор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3884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воение нефтяных месторождений в советский период наносило серьезный экологический ущерб территории традиционного расселения хантов. Выступая в защиту своих земель, ханты принимали участие в экологических группах протеста, появившихся в период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7" descr="oil"/>
          <p:cNvPicPr/>
          <p:nvPr/>
        </p:nvPicPr>
        <p:blipFill>
          <a:blip r:embed="rId1"/>
          <a:stretch/>
        </p:blipFill>
        <p:spPr>
          <a:xfrm>
            <a:off x="1332000" y="1557360"/>
            <a:ext cx="2520720" cy="206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xpert-ural_329_057_120"/>
          <p:cNvPicPr/>
          <p:nvPr/>
        </p:nvPicPr>
        <p:blipFill>
          <a:blip r:embed="rId2"/>
          <a:stretch/>
        </p:blipFill>
        <p:spPr>
          <a:xfrm>
            <a:off x="1547640" y="400536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482580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ьшая часть коренного населения ведет типично таежный образ жизни. Это полуоседлые охотники и рыболовы, занимающиеся, кроме того, оленеводством на севере и скотоводством на юге автономного округа. Наиболее древним традиционным способом является лов рыбы с использованием заграждений из кольев и прутьев (запоры), с давних пор известны также уды и сетные ловуш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ryba_sm"/>
          <p:cNvPicPr/>
          <p:nvPr/>
        </p:nvPicPr>
        <p:blipFill>
          <a:blip r:embed="rId1"/>
          <a:stretch/>
        </p:blipFill>
        <p:spPr>
          <a:xfrm>
            <a:off x="5796000" y="333360"/>
            <a:ext cx="218448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foto_12327_small"/>
          <p:cNvPicPr/>
          <p:nvPr/>
        </p:nvPicPr>
        <p:blipFill>
          <a:blip r:embed="rId2"/>
          <a:stretch/>
        </p:blipFill>
        <p:spPr>
          <a:xfrm>
            <a:off x="5219640" y="3789360"/>
            <a:ext cx="3726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410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анты-Мансийский автономный округ - историческая родина малочисленных народов Крайнего Севера: ненцев, ханты, селькупов. Из 36 тысяч человек кочевой образ жизни ведут более 13 тыся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13_14"/>
          <p:cNvPicPr/>
          <p:nvPr/>
        </p:nvPicPr>
        <p:blipFill>
          <a:blip r:embed="rId1"/>
          <a:stretch/>
        </p:blipFill>
        <p:spPr>
          <a:xfrm>
            <a:off x="4643280" y="1268280"/>
            <a:ext cx="4181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Шам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88000" y="981000"/>
            <a:ext cx="417672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и коренных жителей встречались и шаманы. Как правило, шаманы в своей практике использовали знания физиологии и анатомии человека. При этом главным фактором являлось гипнотическое внушение, применяемое шаманами в различных формах, способствующее выздоровлению человека(улучшению его самочувствия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5" descr="shaman_600"/>
          <p:cNvPicPr/>
          <p:nvPr/>
        </p:nvPicPr>
        <p:blipFill>
          <a:blip r:embed="rId1"/>
          <a:stretch/>
        </p:blipFill>
        <p:spPr>
          <a:xfrm>
            <a:off x="324000" y="1197000"/>
            <a:ext cx="40878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хот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244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являлась важнейшим видом хозяйственной деятельности человека, который обеспечивал его пищей, одеждой и всем необходимым для жизни. Люди, которые его ведут, заинтересованы не только в добывании животных, но и в том, чтобы сохранить поголовье, необходимое для воспроизводства. (Характерно жителям Приобья – ханты и манси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18" descr="2751289"/>
          <p:cNvPicPr/>
          <p:nvPr/>
        </p:nvPicPr>
        <p:blipFill>
          <a:blip r:embed="rId1"/>
          <a:stretch/>
        </p:blipFill>
        <p:spPr>
          <a:xfrm>
            <a:off x="4643280" y="1989000"/>
            <a:ext cx="428472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685800" y="1484280"/>
          <a:ext cx="7772400" cy="4611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ссивная ох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ктивная ох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сутствия людей не требовалось. Для ловли животных использовались ловушки и самострел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к принимает непосредственное участие. Например, преследуя лося по наст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ыболов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395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ейшим занятием народов, заселявших север Западной Сибири, было рыболовство. На особенности повлияло два фактора: 1) Огромные разливы рек в низменных районах равнины; 2) Зимние замо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8" descr="woman_fish_300"/>
          <p:cNvPicPr/>
          <p:nvPr/>
        </p:nvPicPr>
        <p:blipFill>
          <a:blip r:embed="rId1"/>
          <a:stretch/>
        </p:blipFill>
        <p:spPr>
          <a:xfrm>
            <a:off x="4859280" y="2235240"/>
            <a:ext cx="40338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ародная гиги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 важнейшему разделу традиционной медицины следует отнести народную гигиену и методы профилактики заболеваний. Так, лесные ненцы надевают традиционную меховую одежду, сшитую мехом внутрь, прямо на голое тело. Благодаря особенностям кроя тепло концентрируется внутри и греет область спины, груди, плеч, а за счет вырезов для головы и прорезей для рук регулируется тепловой режим внутри одежд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deer_pelts_600"/>
          <p:cNvPicPr/>
          <p:nvPr/>
        </p:nvPicPr>
        <p:blipFill>
          <a:blip r:embed="rId1"/>
          <a:stretch/>
        </p:blipFill>
        <p:spPr>
          <a:xfrm>
            <a:off x="501480" y="1484280"/>
            <a:ext cx="35751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4100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х оленя, из которого сшита одежда лесных ненцев, обладает особыми свойствами: при контакте с кожей он хорошо впитывает влагу, во время движения мех постоянно массирует кожу, способствуя кровообращению. Волос оленя внутри полый, благодаря чему мех надежно держит тепло: даже грудных детей ненцы заворачивают в оленьи шк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10" descr="FIGURE_1d"/>
          <p:cNvPicPr/>
          <p:nvPr/>
        </p:nvPicPr>
        <p:blipFill>
          <a:blip r:embed="rId1"/>
          <a:stretch/>
        </p:blipFill>
        <p:spPr>
          <a:xfrm>
            <a:off x="4643280" y="981000"/>
            <a:ext cx="1997280" cy="277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7501-7513"/>
          <p:cNvPicPr/>
          <p:nvPr/>
        </p:nvPicPr>
        <p:blipFill>
          <a:blip r:embed="rId2"/>
          <a:stretch/>
        </p:blipFill>
        <p:spPr>
          <a:xfrm>
            <a:off x="4932360" y="4437000"/>
            <a:ext cx="3168720" cy="197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241434830_3d50044929"/>
          <p:cNvPicPr/>
          <p:nvPr/>
        </p:nvPicPr>
        <p:blipFill>
          <a:blip r:embed="rId3"/>
          <a:stretch/>
        </p:blipFill>
        <p:spPr>
          <a:xfrm>
            <a:off x="6948360" y="9810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Ханты-Мансийский А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разован 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93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году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екабр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ми жителями стали ханты(остяки), манси(вогулы), нен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01"/>
          <p:cNvPicPr/>
          <p:nvPr/>
        </p:nvPicPr>
        <p:blipFill>
          <a:blip r:embed="rId1"/>
          <a:stretch/>
        </p:blipFill>
        <p:spPr>
          <a:xfrm>
            <a:off x="4724280" y="1700280"/>
            <a:ext cx="39308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нц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енцы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один из самых крупных самодийских народов. Самоназвание ненэць - "человек" было введено в официальное употребление в 1930 г. Первоначально ненцев называли самоедами или самоедами-юраками. Упоминание об этом имеется в древнейшей русской летописи "Повесть временных лет", относящейся к началу XII 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новная пища - мясо оленей (в любом виде), рыба, хлеб. Излюбленный напиток - чай. Его, как и металлическую утварь, выменивали у русских торговцев. Деревянную посуду -миски, чашки, ложки - изготовляли с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Organization Chart 4"/>
          <p:cNvGrpSpPr/>
          <p:nvPr/>
        </p:nvGrpSpPr>
        <p:grpSpPr>
          <a:xfrm>
            <a:off x="468360" y="1125360"/>
            <a:ext cx="8064000" cy="4751280"/>
            <a:chOff x="468360" y="1125360"/>
            <a:chExt cx="8064000" cy="47512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36000" y="2088720"/>
              <a:ext cx="950760" cy="2823120"/>
            </a:xfrm>
            <a:prstGeom prst="bentConnector3">
              <a:avLst>
                <a:gd name="adj1" fmla="val 10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00000" y="3025080"/>
              <a:ext cx="3240" cy="95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13960" y="2089080"/>
              <a:ext cx="950760" cy="2823120"/>
            </a:xfrm>
            <a:prstGeom prst="bentConnector3">
              <a:avLst>
                <a:gd name="adj1" fmla="val 10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90760" y="112536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Ненцы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683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Тундровые</a:t>
              </a: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90%)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907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Лесные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131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Колвинцы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5" name="Picture 27" descr="foto_12268_small"/>
          <p:cNvPicPr/>
          <p:nvPr/>
        </p:nvPicPr>
        <p:blipFill>
          <a:blip r:embed="rId1"/>
          <a:stretch/>
        </p:blipFill>
        <p:spPr>
          <a:xfrm>
            <a:off x="6227640" y="404640"/>
            <a:ext cx="2525760" cy="303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foto_12325_small"/>
          <p:cNvPicPr/>
          <p:nvPr/>
        </p:nvPicPr>
        <p:blipFill>
          <a:blip r:embed="rId2"/>
          <a:stretch/>
        </p:blipFill>
        <p:spPr>
          <a:xfrm>
            <a:off x="324000" y="404640"/>
            <a:ext cx="25286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леневод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24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Национальные особенности: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круглогодовой выпас животных под надзором пастухов и оленегонных собак, санный способ езды на оленях. Применяют легковые и грузовые нарты. Олень питается мхом - ягелем. По мере истощения кормовых запасов приходится менять пастбища. С оленьим стадом кочуют и пастухи с семьями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6" descr="foto_12261_small"/>
          <p:cNvPicPr/>
          <p:nvPr/>
        </p:nvPicPr>
        <p:blipFill>
          <a:blip r:embed="rId1"/>
          <a:stretch/>
        </p:blipFill>
        <p:spPr>
          <a:xfrm>
            <a:off x="5076720" y="1628640"/>
            <a:ext cx="345600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ant"/>
          <p:cNvPicPr/>
          <p:nvPr/>
        </p:nvPicPr>
        <p:blipFill>
          <a:blip r:embed="rId2"/>
          <a:stretch/>
        </p:blipFill>
        <p:spPr>
          <a:xfrm>
            <a:off x="5073480" y="4114800"/>
            <a:ext cx="33861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леньи пастбищ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foto_12255_small"/>
          <p:cNvPicPr/>
          <p:nvPr/>
        </p:nvPicPr>
        <p:blipFill>
          <a:blip r:embed="rId1"/>
          <a:stretch/>
        </p:blipFill>
        <p:spPr>
          <a:xfrm>
            <a:off x="324000" y="1773360"/>
            <a:ext cx="3965400" cy="2131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foto_12267_small"/>
          <p:cNvPicPr/>
          <p:nvPr/>
        </p:nvPicPr>
        <p:blipFill>
          <a:blip r:embed="rId2"/>
          <a:stretch/>
        </p:blipFill>
        <p:spPr>
          <a:xfrm>
            <a:off x="4759200" y="1758960"/>
            <a:ext cx="3989520" cy="220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2"/>
          <p:cNvPicPr/>
          <p:nvPr/>
        </p:nvPicPr>
        <p:blipFill>
          <a:blip r:embed="rId3"/>
          <a:stretch/>
        </p:blipFill>
        <p:spPr>
          <a:xfrm>
            <a:off x="4716360" y="4081320"/>
            <a:ext cx="3959280" cy="258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deer_600"/>
          <p:cNvPicPr/>
          <p:nvPr/>
        </p:nvPicPr>
        <p:blipFill>
          <a:blip r:embed="rId4"/>
          <a:stretch/>
        </p:blipFill>
        <p:spPr>
          <a:xfrm>
            <a:off x="179280" y="4221000"/>
            <a:ext cx="4496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Хан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анты являлись полуоседлыми охотниками и рыбаками, кроме того, на севере занимались оленеводством, на юге - скотоводством. У охотников и рыбаков для каждого времени года имелось сезонное поселение и жилище. Типов жилищ было очень много, одни из них являлись временными, разборными, другие - постоянными. Разнообразны были хозяйственные постройки, бытовали культовые сооружения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меты домашнего обихода изготавливали из местных материалов: дерево, береста, корень кедра и т.д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DSC03075"/>
          <p:cNvPicPr/>
          <p:nvPr/>
        </p:nvPicPr>
        <p:blipFill>
          <a:blip r:embed="rId1"/>
          <a:stretch/>
        </p:blipFill>
        <p:spPr>
          <a:xfrm>
            <a:off x="4572000" y="1844640"/>
            <a:ext cx="4424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rganization Chart 5"/>
          <p:cNvGrpSpPr/>
          <p:nvPr/>
        </p:nvGrpSpPr>
        <p:grpSpPr>
          <a:xfrm>
            <a:off x="611280" y="2133720"/>
            <a:ext cx="7771680" cy="4113360"/>
            <a:chOff x="611280" y="2133720"/>
            <a:chExt cx="7771680" cy="4113360"/>
          </a:xfrm>
        </p:grpSpPr>
        <p:cxnSp>
          <p:nvCxnSpPr>
            <p:cNvPr id="131" name="_s2052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445360" y="282924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2053"/>
            <p:cNvCxnSpPr>
              <a:stCxn id="135" idx="0"/>
              <a:endCxn id="133" idx="2"/>
            </p:cNvCxnSpPr>
            <p:nvPr/>
          </p:nvCxnSpPr>
          <p:spPr>
            <a:xfrm flipV="1">
              <a:off x="4497120" y="3778200"/>
              <a:ext cx="288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725560" y="282960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2055"/>
            <p:cNvSpPr/>
            <p:nvPr/>
          </p:nvSpPr>
          <p:spPr>
            <a:xfrm>
              <a:off x="3331440" y="21337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Хант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_s2056"/>
            <p:cNvSpPr/>
            <p:nvPr/>
          </p:nvSpPr>
          <p:spPr>
            <a:xfrm>
              <a:off x="61128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евер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333144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Юж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605160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осточ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38" name="Picture 15" descr="347248"/>
          <p:cNvPicPr/>
          <p:nvPr/>
        </p:nvPicPr>
        <p:blipFill>
          <a:blip r:embed="rId1"/>
          <a:stretch/>
        </p:blipFill>
        <p:spPr>
          <a:xfrm>
            <a:off x="6012000" y="620640"/>
            <a:ext cx="2855880" cy="19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Khanti_09"/>
          <p:cNvPicPr/>
          <p:nvPr/>
        </p:nvPicPr>
        <p:blipFill>
          <a:blip r:embed="rId2"/>
          <a:stretch/>
        </p:blipFill>
        <p:spPr>
          <a:xfrm>
            <a:off x="611280" y="189000"/>
            <a:ext cx="2235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исьмен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революции для хантов была разработана письменность, на их языке были изданы книги, но в то же время Советское правительство вынуждало хантов расстаться с кочевым образом жизни и обратиться к созданию рыболовецких, охотничьих и оленеводческих кооперативов. Общины, желавшие сохранить традиционный уклад, преследовались в административном поряд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930 год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Дети ханты получили первую книгу на родном языке, составленную П.Е. Хатанзеев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13:34Z</dcterms:created>
  <dc:creator>Александров</dc:creator>
  <dc:description/>
  <cp:keywords/>
  <dc:language>en-US</dc:language>
  <cp:lastModifiedBy>24 кабинет</cp:lastModifiedBy>
  <dcterms:modified xsi:type="dcterms:W3CDTF">2016-09-13T11:59:22Z</dcterms:modified>
  <cp:revision>16</cp:revision>
  <dc:subject/>
  <dc:title>Тема: Жизнь коренных народов ХМА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