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3.gif" ContentType="image/gif"/>
  <Override PartName="/ppt/media/image6.png" ContentType="image/png"/>
  <Override PartName="/ppt/media/image7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A44-05DE-4D2B-9E69-D21A3A7D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513-33C9-4501-AA5D-61154FAF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677DD-9368-47F4-9C3C-1ECB0310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304A0-61AC-4E2D-AA3B-EC6758C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6E015-465D-4448-8176-ABB03D55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B3F48-6519-4752-B996-0DBFADD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68A18-CB12-4F36-A166-D2570F5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988F0-97AB-44E7-8455-89E4158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68771-19F1-4FDC-A3FC-CD969CC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206C1-B6DA-46C8-885B-D4000D49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7A437-5DCF-4650-AF11-29CB40CF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78123-6D75-42A9-8844-68203071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730-3085-4230-9A1D-EE9209E6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9C5CA-C426-4A1B-8254-CEED3F41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AF121-B3D1-4997-B863-6875A8C4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0E870-C0B3-42A7-807D-C8A5644E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23C78-49B6-4830-B2D4-50C9F6C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F3C2F-6296-4822-B3D7-D17A7613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38D1-74B7-427D-88A5-5881DF90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520E-8679-493E-8E8F-BE75CAD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B20E7-61E1-4DC3-B4FD-5EAE514D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076B5-C207-4829-A24A-84AC17C1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621FC-7C09-435F-96F9-FE7C2FD9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87F-7419-4BB8-83B8-0C6FDEBC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0641C-ED71-453D-9E4B-2009F1DA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299AC-BE2A-440C-BE6A-A89CC216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8FBC0-8F1D-43B6-860F-A07171B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652AA-6C1F-4792-8A01-C329FCA5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1555C-5188-43F0-AC67-3E671D9E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9285E-C462-457D-AC53-44EFF651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B5EC1-69EA-4E97-972F-01D144B9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0B6B3-BF21-413A-B49E-FC270E5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0787F-425E-4B8F-B15D-353FACC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24C88-BEDC-4D7A-9E32-8D6746A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E44-6752-48CF-9D13-11D4C0F8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BF143-EA03-4D40-ACB5-F61AF90B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4547F-C588-404F-A1CF-A2E22E09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5BBED-0396-4C60-BF53-892035F0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1CA61-E46C-470B-A5C4-9403C4E8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4EAA0-FFD2-4896-BE8E-712EE91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51416-FA3B-444A-BACA-CA4F83F0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8062B-8D66-435B-B15D-C4CA1262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CD3BB-4E29-43A1-9496-D282F62A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10369-53E8-4619-BF15-757BC11D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53AD4-D21C-43CF-B25B-92FD0B7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72F8-173C-40C9-8577-F74F9067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02084-4B26-41FD-88ED-84222D3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3BA9E-B676-4772-A91B-778FE32D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BF0F-E121-43F5-B27C-17777C84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3C9A7-A938-4961-ABAD-7DD5161F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645F8-77AF-45A4-B53B-EBA97B42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3EC0-6791-4BF9-8AA9-CA4B184D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214-B882-4DDA-B66E-3B04FB83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2E76-0D14-4671-83C2-2439207F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A31-2B24-4A3C-A82C-2797CC5F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A19C-4146-488E-8A94-53E237B8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33C-9B73-45D3-9040-25818847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B34A-1C15-422F-8413-788AF9F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6471-3C65-4B7E-9EA2-31DCF7F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0D8D-565B-4CDD-8DCB-B53A0423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5766-0597-4913-952B-7B29E1CD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C104-27A1-4564-9A70-B0F7F828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6344-5E53-426A-9D9D-CFEF0593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74A1-A877-4645-BFE1-981E82C8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FC5C-4D9A-4962-8DB9-7F8598CE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B0F5-C5DC-4CF7-B57E-3220744E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4A0E-1D3A-470D-829E-89508E4C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0B6-9346-4700-BE68-ABE8BCC6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22E8-6D09-4A06-9C65-329D7D4B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7C17-D5F3-4FE6-8946-4D5C09F7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72EC-8DAC-4687-BF39-3134F89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8AC57-DA60-42CE-AF26-3FF9D024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1559-BA97-4FB9-A733-1C97BD1A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0BC0-758D-4C48-896C-A6B0C998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0882-BEA4-45B4-8FCF-6D02C202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F8D2-631E-4C39-AD95-BBAF33AD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041D-1D81-4AA6-A1AB-3857C809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57FCE-5A98-4638-B4A3-4CBF895E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AB6-A413-40B3-A0A2-26ECB3AE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FB362-7C6A-4529-BAF9-D0323007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1362-DAF8-49EB-8554-8DB49945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150D-5CD7-4CB9-ABA2-52086721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E218-9ECE-48EC-A95E-C7577E22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37706-AB09-42D5-BF28-7BC06B3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1230-6F4C-481B-8CEC-2AFB05B5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9AA3-35AF-4E2A-8E6D-217B446F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353C-A89A-4DB8-85AB-C67DCEC6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2E70-9CB8-4D6F-8654-1F4FF236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7C8F-7CC4-46EA-A501-A5DA02F6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431-0450-4617-8BC3-A9391696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4B85-07EE-4706-9540-0592C976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4383-BEA0-472C-AAAA-D1DACC7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9495-B021-499A-BAF3-E5382C6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37A28-E3D7-462F-A6A1-6DE707BF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03ED-A68D-4EA3-87C2-FAA588DA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9D9E-7F37-464E-9181-A4E05140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DD48-83BA-42C3-BF23-9C38CD9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DE0B-5906-439F-BA5C-77DBF80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F3B3-3D04-464B-892F-780666E1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C2E09-39BA-4C01-9DF9-48E988AF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C8A-201F-416E-BB90-D543CC8B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4142-60FE-447B-AFBF-B792F0C1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9ABE9-35F3-462A-B9D9-FE10CA6C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94FE1-50F7-4FBB-A809-F3C94C0A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0E71-C799-486A-8E24-21CC1C4B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DB07-A3C0-40FC-AA2D-E90A57DD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3F731-BDE7-4AFC-ACF9-E1FE5586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97885-20C6-441E-8EFE-BC1DCD1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20694-6EC4-4182-A378-9C15B32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F4F6-E8E1-4D82-959B-B2EFBC9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058F-2796-4150-A6E2-0002715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678-47B7-4D86-A2AA-64E9928A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AEE13-E2CB-4508-A26F-14BD5493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4D344-73CF-4AD0-BD63-A909E947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CFAB-43D3-454E-9AA1-72F8C5B1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8E4F0-2B8D-4B5A-B8F6-9E93994D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363E8-82A7-48D3-892A-CCC67832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DF34D-D38C-4359-837C-2C9C3E43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5093-5001-4DA5-B177-666CD36E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3ADA2-F9EE-449A-B9C3-82FD5653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5A085-9F71-40F4-BAFA-90BBA532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80D82-B270-4016-8ECE-2BA8CAD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E6C-9A11-4E1B-BF0C-E8333508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F8BE-E227-4C8E-A1F2-C8345F6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BAF1-2390-4F64-AF77-E8C3B7C0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35E5-6CFF-4688-95C6-AC412649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71A49-BD24-46F4-B4DA-3B44B2C4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79393-65BC-43BC-AAE7-352E34B9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730C-3FF1-4C5C-A2E5-FAC2665B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97E9C-D866-4B7B-8208-88DB2817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C075A-B629-4765-8203-F0E2A883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78670-C78B-46F3-82E7-D9EBE641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CC92-9665-4340-9A85-444E9A0F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7C0-E120-4900-9184-F1C3E2F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CDC1-B43D-4610-9EF8-6A005AA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7C326-5D46-42EC-9A60-266F9458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C36C4-4EA2-417A-820E-B78FB4B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48075-89DF-4226-B374-E35C161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D6424-7EFB-4893-98A8-57113A3D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66B07-4066-4FCD-9C2A-D34BE0C2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07E0D-11F8-4E53-93D2-AEE0E36A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32941-F767-4012-AF07-D368ABA6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D9BCC-81CB-4D5B-B9D1-D05F7EBA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F1BD8-8B2F-42BC-8172-BC477AA6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076-CAC1-40C3-AC91-B35567FADF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284-8A71-465A-AD08-0B232F207E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15F-1DC0-40BA-BC26-A613B8792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B6C-59E2-4D10-B37A-CAF92F0E13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0AD-E57C-41A0-94F7-589EB4F0A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8887-4A96-4ED0-BB37-EC69B3746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620-CF49-4421-BBFE-27DE7443F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FA7E-5CE6-4CDB-B38B-DD5702EA0A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9B4-157F-4201-B290-A9031D521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693-CBF3-450A-A54C-AC4E108B39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5A45-0EE5-4DD8-8217-02133B0C50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C275-7CD0-4D0A-88D1-6A5D104B99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9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3.gif"/><Relationship Id="rId12" Type="http://schemas.openxmlformats.org/officeDocument/2006/relationships/image" Target="../media/image9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4.gif"/><Relationship Id="rId16" Type="http://schemas.openxmlformats.org/officeDocument/2006/relationships/image" Target="../media/image11.gif"/><Relationship Id="rId17" Type="http://schemas.openxmlformats.org/officeDocument/2006/relationships/image" Target="../media/image16.gif"/><Relationship Id="rId18" Type="http://schemas.openxmlformats.org/officeDocument/2006/relationships/image" Target="../media/image10.gif"/><Relationship Id="rId19" Type="http://schemas.openxmlformats.org/officeDocument/2006/relationships/image" Target="../media/image12.gif"/><Relationship Id="rId20" Type="http://schemas.openxmlformats.org/officeDocument/2006/relationships/image" Target="../media/image9.gif"/><Relationship Id="rId2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3"/>
          <p:cNvSpPr txBox="1"/>
          <p:nvPr/>
        </p:nvSpPr>
        <p:spPr>
          <a:xfrm>
            <a:off x="1116000" y="777960"/>
            <a:ext cx="6494400" cy="52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3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Работаем с палочками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493" name="Picture 4" descr="http://povaldou.ucoz.ru/_ph/1/2/847987953.jpg"/>
          <p:cNvPicPr/>
          <p:nvPr/>
        </p:nvPicPr>
        <p:blipFill>
          <a:blip r:embed="rId1"/>
          <a:stretch/>
        </p:blipFill>
        <p:spPr>
          <a:xfrm>
            <a:off x="1908000" y="1916280"/>
            <a:ext cx="4762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3708360" y="333360"/>
            <a:ext cx="29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661680" y="3105000"/>
            <a:ext cx="7649640" cy="2339640"/>
            <a:chOff x="661680" y="3105000"/>
            <a:chExt cx="7649640" cy="2339640"/>
          </a:xfrm>
        </p:grpSpPr>
        <p:sp>
          <p:nvSpPr>
            <p:cNvPr id="496" name="Line 7"/>
            <p:cNvSpPr/>
            <p:nvPr/>
          </p:nvSpPr>
          <p:spPr>
            <a:xfrm>
              <a:off x="586872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>
              <a:off x="172512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9"/>
            <p:cNvSpPr/>
            <p:nvPr/>
          </p:nvSpPr>
          <p:spPr>
            <a:xfrm>
              <a:off x="3849840" y="3105000"/>
              <a:ext cx="127368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0"/>
            <p:cNvSpPr/>
            <p:nvPr/>
          </p:nvSpPr>
          <p:spPr>
            <a:xfrm>
              <a:off x="448668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1"/>
            <p:cNvSpPr/>
            <p:nvPr/>
          </p:nvSpPr>
          <p:spPr>
            <a:xfrm>
              <a:off x="310464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72512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310464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448668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>
              <a:off x="586872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5337000" y="353124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7"/>
            <p:cNvSpPr/>
            <p:nvPr/>
          </p:nvSpPr>
          <p:spPr>
            <a:xfrm>
              <a:off x="5231520" y="3105000"/>
              <a:ext cx="0" cy="10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8"/>
            <p:cNvSpPr/>
            <p:nvPr/>
          </p:nvSpPr>
          <p:spPr>
            <a:xfrm>
              <a:off x="3742200" y="3105000"/>
              <a:ext cx="0" cy="10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9"/>
            <p:cNvSpPr/>
            <p:nvPr/>
          </p:nvSpPr>
          <p:spPr>
            <a:xfrm flipH="1" flipV="1">
              <a:off x="7247880" y="4275720"/>
              <a:ext cx="957960" cy="52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 flipV="1">
              <a:off x="7248240" y="4910400"/>
              <a:ext cx="1063080" cy="53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1"/>
            <p:cNvSpPr/>
            <p:nvPr/>
          </p:nvSpPr>
          <p:spPr>
            <a:xfrm flipV="1">
              <a:off x="662040" y="4273560"/>
              <a:ext cx="1063080" cy="53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 flipH="1" flipV="1">
              <a:off x="661680" y="4910400"/>
              <a:ext cx="957960" cy="52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2254680" y="4910400"/>
              <a:ext cx="127368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5"/>
            <p:cNvSpPr/>
            <p:nvPr/>
          </p:nvSpPr>
          <p:spPr>
            <a:xfrm>
              <a:off x="3954960" y="491040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6"/>
            <p:cNvSpPr/>
            <p:nvPr/>
          </p:nvSpPr>
          <p:spPr>
            <a:xfrm>
              <a:off x="5442480" y="491040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23"/>
          <p:cNvSpPr/>
          <p:nvPr/>
        </p:nvSpPr>
        <p:spPr>
          <a:xfrm>
            <a:off x="2894040" y="938520"/>
            <a:ext cx="451188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усеницы две ползут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ашню с пушкою вез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4" descr="561640"/>
          <p:cNvPicPr/>
          <p:nvPr/>
        </p:nvPicPr>
        <p:blipFill>
          <a:blip r:embed="rId1"/>
          <a:stretch/>
        </p:blipFill>
        <p:spPr>
          <a:xfrm>
            <a:off x="177840" y="333360"/>
            <a:ext cx="2362320" cy="31417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5"/>
          <p:cNvSpPr/>
          <p:nvPr/>
        </p:nvSpPr>
        <p:spPr>
          <a:xfrm>
            <a:off x="3203640" y="40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897200" y="699840"/>
            <a:ext cx="4619520" cy="180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волнам плывёт отва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сбавляя быстрый х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шь гудит машина ва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то же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5940360" y="5661000"/>
            <a:ext cx="262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5"/>
          <p:cNvGrpSpPr/>
          <p:nvPr/>
        </p:nvGrpSpPr>
        <p:grpSpPr>
          <a:xfrm>
            <a:off x="1131840" y="3105000"/>
            <a:ext cx="6319440" cy="2987640"/>
            <a:chOff x="1131840" y="3105000"/>
            <a:chExt cx="6319440" cy="2987640"/>
          </a:xfrm>
        </p:grpSpPr>
        <p:sp>
          <p:nvSpPr>
            <p:cNvPr id="521" name="Line 18"/>
            <p:cNvSpPr/>
            <p:nvPr/>
          </p:nvSpPr>
          <p:spPr>
            <a:xfrm>
              <a:off x="6296760" y="5225400"/>
              <a:ext cx="1154520" cy="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>
              <a:off x="4116600" y="3105000"/>
              <a:ext cx="0" cy="106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8"/>
            <p:cNvSpPr/>
            <p:nvPr/>
          </p:nvSpPr>
          <p:spPr>
            <a:xfrm>
              <a:off x="4501080" y="3105000"/>
              <a:ext cx="0" cy="106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9"/>
            <p:cNvSpPr/>
            <p:nvPr/>
          </p:nvSpPr>
          <p:spPr>
            <a:xfrm>
              <a:off x="3634200" y="4165560"/>
              <a:ext cx="0" cy="105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0"/>
            <p:cNvSpPr/>
            <p:nvPr/>
          </p:nvSpPr>
          <p:spPr>
            <a:xfrm>
              <a:off x="4983480" y="4165560"/>
              <a:ext cx="0" cy="105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1"/>
            <p:cNvSpPr/>
            <p:nvPr/>
          </p:nvSpPr>
          <p:spPr>
            <a:xfrm>
              <a:off x="3730680" y="4165560"/>
              <a:ext cx="11541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>
              <a:off x="1226160" y="5320080"/>
              <a:ext cx="1156320" cy="77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 flipH="1">
              <a:off x="6234480" y="5320080"/>
              <a:ext cx="1059480" cy="77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4"/>
            <p:cNvSpPr/>
            <p:nvPr/>
          </p:nvSpPr>
          <p:spPr>
            <a:xfrm>
              <a:off x="5079960" y="522396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5"/>
            <p:cNvSpPr/>
            <p:nvPr/>
          </p:nvSpPr>
          <p:spPr>
            <a:xfrm>
              <a:off x="2382480" y="522396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6"/>
            <p:cNvSpPr/>
            <p:nvPr/>
          </p:nvSpPr>
          <p:spPr>
            <a:xfrm>
              <a:off x="3730680" y="5223960"/>
              <a:ext cx="11541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7"/>
            <p:cNvSpPr/>
            <p:nvPr/>
          </p:nvSpPr>
          <p:spPr>
            <a:xfrm>
              <a:off x="1131840" y="522396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9"/>
            <p:cNvSpPr/>
            <p:nvPr/>
          </p:nvSpPr>
          <p:spPr>
            <a:xfrm>
              <a:off x="2479320" y="609120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0"/>
            <p:cNvSpPr/>
            <p:nvPr/>
          </p:nvSpPr>
          <p:spPr>
            <a:xfrm>
              <a:off x="3730680" y="6091200"/>
              <a:ext cx="11541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1"/>
            <p:cNvSpPr/>
            <p:nvPr/>
          </p:nvSpPr>
          <p:spPr>
            <a:xfrm>
              <a:off x="4983480" y="609120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6" name="Picture 21" descr="tarodux-ship2"/>
          <p:cNvPicPr/>
          <p:nvPr/>
        </p:nvPicPr>
        <p:blipFill>
          <a:blip r:embed="rId1"/>
          <a:stretch/>
        </p:blipFill>
        <p:spPr>
          <a:xfrm flipH="1">
            <a:off x="6740640" y="2833560"/>
            <a:ext cx="2025360" cy="64800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22"/>
          <p:cNvGrpSpPr/>
          <p:nvPr/>
        </p:nvGrpSpPr>
        <p:grpSpPr>
          <a:xfrm>
            <a:off x="844560" y="4878360"/>
            <a:ext cx="7256160" cy="1935000"/>
            <a:chOff x="844560" y="4878360"/>
            <a:chExt cx="7256160" cy="1935000"/>
          </a:xfrm>
        </p:grpSpPr>
        <p:pic>
          <p:nvPicPr>
            <p:cNvPr id="538" name="Picture 23" descr="tarodux-ship11"/>
            <p:cNvPicPr/>
            <p:nvPr/>
          </p:nvPicPr>
          <p:blipFill>
            <a:blip r:embed="rId2"/>
            <a:stretch/>
          </p:blipFill>
          <p:spPr>
            <a:xfrm>
              <a:off x="4440240" y="4894200"/>
              <a:ext cx="190476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4" descr="tarodux-ship11"/>
            <p:cNvPicPr/>
            <p:nvPr/>
          </p:nvPicPr>
          <p:blipFill>
            <a:blip r:embed="rId3"/>
            <a:stretch/>
          </p:blipFill>
          <p:spPr>
            <a:xfrm>
              <a:off x="2557440" y="4878360"/>
              <a:ext cx="190476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5" descr="tarodux-ship11"/>
            <p:cNvPicPr/>
            <p:nvPr/>
          </p:nvPicPr>
          <p:blipFill>
            <a:blip r:embed="rId4"/>
            <a:stretch/>
          </p:blipFill>
          <p:spPr>
            <a:xfrm>
              <a:off x="844560" y="4878360"/>
              <a:ext cx="190476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26" descr="tarodux-ship11"/>
            <p:cNvPicPr/>
            <p:nvPr/>
          </p:nvPicPr>
          <p:blipFill>
            <a:blip r:embed="rId5"/>
            <a:stretch/>
          </p:blipFill>
          <p:spPr>
            <a:xfrm>
              <a:off x="6195960" y="4908600"/>
              <a:ext cx="190476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Text Box 25"/>
          <p:cNvSpPr/>
          <p:nvPr/>
        </p:nvSpPr>
        <p:spPr>
          <a:xfrm>
            <a:off x="321480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-0.00069 -0.1287 E">
                                      <p:cBhvr>
                                        <p:cTn id="45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692360" y="771120"/>
            <a:ext cx="4968720" cy="20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аздник, праздник у 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то встречать его пойдё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и верный мой дру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расный, маленький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6516720" y="5373720"/>
            <a:ext cx="223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5"/>
          <p:cNvGrpSpPr/>
          <p:nvPr/>
        </p:nvGrpSpPr>
        <p:grpSpPr>
          <a:xfrm>
            <a:off x="3492360" y="3429000"/>
            <a:ext cx="2952360" cy="2837880"/>
            <a:chOff x="3492360" y="3429000"/>
            <a:chExt cx="2952360" cy="2837880"/>
          </a:xfrm>
        </p:grpSpPr>
        <p:sp>
          <p:nvSpPr>
            <p:cNvPr id="546" name="Line 7"/>
            <p:cNvSpPr/>
            <p:nvPr/>
          </p:nvSpPr>
          <p:spPr>
            <a:xfrm>
              <a:off x="3492360" y="3429000"/>
              <a:ext cx="0" cy="136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8"/>
            <p:cNvSpPr/>
            <p:nvPr/>
          </p:nvSpPr>
          <p:spPr>
            <a:xfrm>
              <a:off x="3492360" y="4904280"/>
              <a:ext cx="0" cy="136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9"/>
            <p:cNvSpPr/>
            <p:nvPr/>
          </p:nvSpPr>
          <p:spPr>
            <a:xfrm>
              <a:off x="3605040" y="490428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5082480" y="490428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1"/>
            <p:cNvSpPr/>
            <p:nvPr/>
          </p:nvSpPr>
          <p:spPr>
            <a:xfrm>
              <a:off x="5082480" y="342900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605040" y="342900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 flipV="1">
              <a:off x="5082480" y="3540960"/>
              <a:ext cx="1362240" cy="56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>
              <a:off x="5082480" y="4223160"/>
              <a:ext cx="1362240" cy="56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14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7"/>
          <p:cNvSpPr/>
          <p:nvPr/>
        </p:nvSpPr>
        <p:spPr>
          <a:xfrm>
            <a:off x="3203640" y="40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2.77778E-006 -0.14398 E">
                                      <p:cBhvr>
                                        <p:cTn id="69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2217240" y="907560"/>
            <a:ext cx="4537080" cy="1482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нам домой под Новый год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то-то из лесу придет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 пушистая, в иголках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овут ту гостью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826920" y="260280"/>
            <a:ext cx="263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5"/>
          <p:cNvGrpSpPr/>
          <p:nvPr/>
        </p:nvGrpSpPr>
        <p:grpSpPr>
          <a:xfrm>
            <a:off x="3427560" y="2781000"/>
            <a:ext cx="2309040" cy="3368160"/>
            <a:chOff x="3427560" y="2781000"/>
            <a:chExt cx="2309040" cy="3368160"/>
          </a:xfrm>
        </p:grpSpPr>
        <p:sp>
          <p:nvSpPr>
            <p:cNvPr id="559" name="Line 7"/>
            <p:cNvSpPr/>
            <p:nvPr/>
          </p:nvSpPr>
          <p:spPr>
            <a:xfrm>
              <a:off x="4581360" y="2781360"/>
              <a:ext cx="0" cy="1058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4581360" y="3935160"/>
              <a:ext cx="0" cy="1058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>
              <a:off x="4581360" y="5090760"/>
              <a:ext cx="0" cy="1058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 flipH="1" flipV="1">
              <a:off x="4678560" y="278136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 flipH="1" flipV="1">
              <a:off x="4678560" y="355140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 flipH="1" flipV="1">
              <a:off x="4678560" y="441648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 flipH="1" flipV="1">
              <a:off x="4678560" y="528192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4"/>
            <p:cNvSpPr/>
            <p:nvPr/>
          </p:nvSpPr>
          <p:spPr>
            <a:xfrm flipV="1">
              <a:off x="3427560" y="2781000"/>
              <a:ext cx="1058400" cy="77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5"/>
            <p:cNvSpPr/>
            <p:nvPr/>
          </p:nvSpPr>
          <p:spPr>
            <a:xfrm flipV="1">
              <a:off x="3427560" y="3551040"/>
              <a:ext cx="1058400" cy="76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6"/>
            <p:cNvSpPr/>
            <p:nvPr/>
          </p:nvSpPr>
          <p:spPr>
            <a:xfrm flipV="1">
              <a:off x="3427560" y="4416120"/>
              <a:ext cx="1058400" cy="77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7"/>
            <p:cNvSpPr/>
            <p:nvPr/>
          </p:nvSpPr>
          <p:spPr>
            <a:xfrm flipV="1">
              <a:off x="3427560" y="5281560"/>
              <a:ext cx="1058400" cy="77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 Box 17"/>
          <p:cNvSpPr/>
          <p:nvPr/>
        </p:nvSpPr>
        <p:spPr>
          <a:xfrm>
            <a:off x="3203640" y="40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http://brigantina1v.ucoz.ru/153423264.gif"/>
          <p:cNvPicPr/>
          <p:nvPr/>
        </p:nvPicPr>
        <p:blipFill>
          <a:blip r:embed="rId1"/>
          <a:stretch/>
        </p:blipFill>
        <p:spPr>
          <a:xfrm>
            <a:off x="6913440" y="2975040"/>
            <a:ext cx="18748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708360" y="1484280"/>
            <a:ext cx="19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826920" y="837720"/>
            <a:ext cx="793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т так дом - одно окно, каждый день в окне ки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4"/>
          <p:cNvGrpSpPr/>
          <p:nvPr/>
        </p:nvGrpSpPr>
        <p:grpSpPr>
          <a:xfrm>
            <a:off x="2115720" y="1584360"/>
            <a:ext cx="2446920" cy="4619520"/>
            <a:chOff x="2115720" y="1584360"/>
            <a:chExt cx="2446920" cy="4619520"/>
          </a:xfrm>
        </p:grpSpPr>
        <p:sp>
          <p:nvSpPr>
            <p:cNvPr id="575" name="Line 7"/>
            <p:cNvSpPr/>
            <p:nvPr/>
          </p:nvSpPr>
          <p:spPr>
            <a:xfrm>
              <a:off x="4378320" y="2962440"/>
              <a:ext cx="0" cy="15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8"/>
            <p:cNvSpPr/>
            <p:nvPr/>
          </p:nvSpPr>
          <p:spPr>
            <a:xfrm>
              <a:off x="2370240" y="2962440"/>
              <a:ext cx="0" cy="15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9"/>
            <p:cNvSpPr/>
            <p:nvPr/>
          </p:nvSpPr>
          <p:spPr>
            <a:xfrm>
              <a:off x="2513160" y="4540320"/>
              <a:ext cx="1720800" cy="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>
              <a:off x="2513160" y="2819520"/>
              <a:ext cx="1720800" cy="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1"/>
            <p:cNvSpPr/>
            <p:nvPr/>
          </p:nvSpPr>
          <p:spPr>
            <a:xfrm flipV="1">
              <a:off x="3417840" y="1584360"/>
              <a:ext cx="1144800" cy="11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2"/>
            <p:cNvSpPr/>
            <p:nvPr/>
          </p:nvSpPr>
          <p:spPr>
            <a:xfrm flipV="1">
              <a:off x="2760840" y="4699080"/>
              <a:ext cx="412560" cy="150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3"/>
            <p:cNvSpPr/>
            <p:nvPr/>
          </p:nvSpPr>
          <p:spPr>
            <a:xfrm flipH="1" flipV="1">
              <a:off x="2115720" y="1638000"/>
              <a:ext cx="1187640" cy="10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 flipH="1" flipV="1">
              <a:off x="3585960" y="4714920"/>
              <a:ext cx="572760" cy="1434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13" descr=""/>
          <p:cNvPicPr/>
          <p:nvPr/>
        </p:nvPicPr>
        <p:blipFill>
          <a:blip r:embed="rId1"/>
          <a:srcRect l="0" t="0" r="58485" b="0"/>
          <a:stretch/>
        </p:blipFill>
        <p:spPr>
          <a:xfrm>
            <a:off x="5580000" y="2616120"/>
            <a:ext cx="2646360" cy="32432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5"/>
          <p:cNvSpPr/>
          <p:nvPr/>
        </p:nvSpPr>
        <p:spPr>
          <a:xfrm>
            <a:off x="320364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07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-0.00486 L 0.11129 -0.00486 E">
                                      <p:cBhvr>
                                        <p:cTn id="110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5" descr="zvezdia-537"/>
          <p:cNvPicPr/>
          <p:nvPr/>
        </p:nvPicPr>
        <p:blipFill>
          <a:blip r:embed="rId1"/>
          <a:stretch/>
        </p:blipFill>
        <p:spPr>
          <a:xfrm>
            <a:off x="12214080" y="85266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13"/>
          <p:cNvSpPr/>
          <p:nvPr/>
        </p:nvSpPr>
        <p:spPr>
          <a:xfrm>
            <a:off x="6012000" y="4535640"/>
            <a:ext cx="27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901880" y="476280"/>
            <a:ext cx="5219640" cy="1231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скры небо прожигают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 до нас не долетаю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54"/>
          <p:cNvGrpSpPr/>
          <p:nvPr/>
        </p:nvGrpSpPr>
        <p:grpSpPr>
          <a:xfrm>
            <a:off x="2074680" y="2604960"/>
            <a:ext cx="4368240" cy="3847680"/>
            <a:chOff x="2074680" y="2604960"/>
            <a:chExt cx="4368240" cy="3847680"/>
          </a:xfrm>
        </p:grpSpPr>
        <p:sp>
          <p:nvSpPr>
            <p:cNvPr id="589" name="Line 14"/>
            <p:cNvSpPr/>
            <p:nvPr/>
          </p:nvSpPr>
          <p:spPr>
            <a:xfrm flipH="1">
              <a:off x="3671640" y="2693880"/>
              <a:ext cx="630000" cy="126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4341600" y="2604960"/>
              <a:ext cx="563400" cy="1353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 flipH="1">
              <a:off x="4942800" y="3944520"/>
              <a:ext cx="1500120" cy="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 flipH="1">
              <a:off x="2074680" y="3958920"/>
              <a:ext cx="155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 flipH="1">
              <a:off x="5168520" y="3954240"/>
              <a:ext cx="1272600" cy="103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 flipH="1">
              <a:off x="2725200" y="4981320"/>
              <a:ext cx="704520" cy="144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H="1" flipV="1">
              <a:off x="5184720" y="5031720"/>
              <a:ext cx="461520" cy="1368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H="1" flipV="1">
              <a:off x="4354200" y="5558760"/>
              <a:ext cx="1304640" cy="89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H="1">
              <a:off x="2747880" y="5555880"/>
              <a:ext cx="1568160" cy="876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>
              <a:off x="2114280" y="3968640"/>
              <a:ext cx="1272960" cy="100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66"/>
          <p:cNvGrpSpPr/>
          <p:nvPr/>
        </p:nvGrpSpPr>
        <p:grpSpPr>
          <a:xfrm>
            <a:off x="0" y="620640"/>
            <a:ext cx="9144000" cy="5732640"/>
            <a:chOff x="0" y="620640"/>
            <a:chExt cx="9144000" cy="5732640"/>
          </a:xfrm>
        </p:grpSpPr>
        <p:pic>
          <p:nvPicPr>
            <p:cNvPr id="600" name="Picture 17" descr="0_500eb_a6f99c43_S"/>
            <p:cNvPicPr/>
            <p:nvPr/>
          </p:nvPicPr>
          <p:blipFill>
            <a:blip r:embed="rId2"/>
            <a:stretch/>
          </p:blipFill>
          <p:spPr>
            <a:xfrm>
              <a:off x="8169120" y="2509920"/>
              <a:ext cx="55584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8" descr="380455685"/>
            <p:cNvPicPr/>
            <p:nvPr/>
          </p:nvPicPr>
          <p:blipFill>
            <a:blip r:embed="rId3"/>
            <a:stretch/>
          </p:blipFill>
          <p:spPr>
            <a:xfrm>
              <a:off x="1149480" y="5591160"/>
              <a:ext cx="57780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0" descr="zvezdia-559"/>
            <p:cNvPicPr/>
            <p:nvPr/>
          </p:nvPicPr>
          <p:blipFill>
            <a:blip r:embed="rId4"/>
            <a:stretch/>
          </p:blipFill>
          <p:spPr>
            <a:xfrm>
              <a:off x="0" y="5775480"/>
              <a:ext cx="57168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2" descr="zvezdia-511"/>
            <p:cNvPicPr/>
            <p:nvPr/>
          </p:nvPicPr>
          <p:blipFill>
            <a:blip r:embed="rId5"/>
            <a:stretch/>
          </p:blipFill>
          <p:spPr>
            <a:xfrm>
              <a:off x="7732800" y="4322880"/>
              <a:ext cx="48888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3" descr="zvezdia-521"/>
            <p:cNvPicPr/>
            <p:nvPr/>
          </p:nvPicPr>
          <p:blipFill>
            <a:blip r:embed="rId6"/>
            <a:stretch/>
          </p:blipFill>
          <p:spPr>
            <a:xfrm>
              <a:off x="228600" y="62064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4" descr="zvezdia-534"/>
            <p:cNvPicPr/>
            <p:nvPr/>
          </p:nvPicPr>
          <p:blipFill>
            <a:blip r:embed="rId7"/>
            <a:stretch/>
          </p:blipFill>
          <p:spPr>
            <a:xfrm flipH="1">
              <a:off x="282240" y="1708200"/>
              <a:ext cx="3776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5" descr="zvezdia-537"/>
            <p:cNvPicPr/>
            <p:nvPr/>
          </p:nvPicPr>
          <p:blipFill>
            <a:blip r:embed="rId8"/>
            <a:stretch/>
          </p:blipFill>
          <p:spPr>
            <a:xfrm>
              <a:off x="6075360" y="4565520"/>
              <a:ext cx="38088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6" descr="zvezdia-538"/>
            <p:cNvPicPr/>
            <p:nvPr/>
          </p:nvPicPr>
          <p:blipFill>
            <a:blip r:embed="rId9"/>
            <a:stretch/>
          </p:blipFill>
          <p:spPr>
            <a:xfrm>
              <a:off x="5230800" y="272088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28" descr="zvezdia-553"/>
            <p:cNvPicPr/>
            <p:nvPr/>
          </p:nvPicPr>
          <p:blipFill>
            <a:blip r:embed="rId10"/>
            <a:stretch/>
          </p:blipFill>
          <p:spPr>
            <a:xfrm>
              <a:off x="874800" y="312408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32" descr="zvezdia-511"/>
            <p:cNvPicPr/>
            <p:nvPr/>
          </p:nvPicPr>
          <p:blipFill>
            <a:blip r:embed="rId11"/>
            <a:stretch/>
          </p:blipFill>
          <p:spPr>
            <a:xfrm>
              <a:off x="563400" y="4421160"/>
              <a:ext cx="45900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33" descr="zvezdia-537"/>
            <p:cNvPicPr/>
            <p:nvPr/>
          </p:nvPicPr>
          <p:blipFill>
            <a:blip r:embed="rId12"/>
            <a:stretch/>
          </p:blipFill>
          <p:spPr>
            <a:xfrm>
              <a:off x="4187880" y="5972040"/>
              <a:ext cx="38088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34" descr="zvezdia-521"/>
            <p:cNvPicPr/>
            <p:nvPr/>
          </p:nvPicPr>
          <p:blipFill>
            <a:blip r:embed="rId13"/>
            <a:stretch/>
          </p:blipFill>
          <p:spPr>
            <a:xfrm>
              <a:off x="6977160" y="297180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36" descr="zvezdia-534"/>
            <p:cNvPicPr/>
            <p:nvPr/>
          </p:nvPicPr>
          <p:blipFill>
            <a:blip r:embed="rId14"/>
            <a:stretch/>
          </p:blipFill>
          <p:spPr>
            <a:xfrm>
              <a:off x="7746840" y="1765440"/>
              <a:ext cx="41616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55" descr="zvezdia-521"/>
            <p:cNvPicPr/>
            <p:nvPr/>
          </p:nvPicPr>
          <p:blipFill>
            <a:blip r:embed="rId15"/>
            <a:stretch/>
          </p:blipFill>
          <p:spPr>
            <a:xfrm>
              <a:off x="7834320" y="63504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56" descr="380455685"/>
            <p:cNvPicPr/>
            <p:nvPr/>
          </p:nvPicPr>
          <p:blipFill>
            <a:blip r:embed="rId16"/>
            <a:stretch/>
          </p:blipFill>
          <p:spPr>
            <a:xfrm>
              <a:off x="6927840" y="5765760"/>
              <a:ext cx="57780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57" descr="zvezdia-538"/>
            <p:cNvPicPr/>
            <p:nvPr/>
          </p:nvPicPr>
          <p:blipFill>
            <a:blip r:embed="rId17"/>
            <a:stretch/>
          </p:blipFill>
          <p:spPr>
            <a:xfrm>
              <a:off x="2357280" y="263376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58" descr="0_500eb_a6f99c43_S"/>
            <p:cNvPicPr/>
            <p:nvPr/>
          </p:nvPicPr>
          <p:blipFill>
            <a:blip r:embed="rId18"/>
            <a:stretch/>
          </p:blipFill>
          <p:spPr>
            <a:xfrm>
              <a:off x="577800" y="2495520"/>
              <a:ext cx="55584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64" descr="zvezdia-559"/>
            <p:cNvPicPr/>
            <p:nvPr/>
          </p:nvPicPr>
          <p:blipFill>
            <a:blip r:embed="rId19"/>
            <a:stretch/>
          </p:blipFill>
          <p:spPr>
            <a:xfrm>
              <a:off x="8572680" y="574668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65" descr="zvezdia-537"/>
            <p:cNvPicPr/>
            <p:nvPr/>
          </p:nvPicPr>
          <p:blipFill>
            <a:blip r:embed="rId20"/>
            <a:stretch/>
          </p:blipFill>
          <p:spPr>
            <a:xfrm>
              <a:off x="1357200" y="4595760"/>
              <a:ext cx="3812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Group 67"/>
          <p:cNvGrpSpPr/>
          <p:nvPr/>
        </p:nvGrpSpPr>
        <p:grpSpPr>
          <a:xfrm>
            <a:off x="-181080" y="2860200"/>
            <a:ext cx="1369800" cy="1356120"/>
            <a:chOff x="-181080" y="2860200"/>
            <a:chExt cx="1369800" cy="1356120"/>
          </a:xfrm>
        </p:grpSpPr>
        <p:sp>
          <p:nvSpPr>
            <p:cNvPr id="620" name="AutoShape 68"/>
            <p:cNvSpPr/>
            <p:nvPr/>
          </p:nvSpPr>
          <p:spPr>
            <a:xfrm>
              <a:off x="0" y="30700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69"/>
            <p:cNvSpPr/>
            <p:nvPr/>
          </p:nvSpPr>
          <p:spPr>
            <a:xfrm rot="2241600">
              <a:off x="0" y="3069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70"/>
          <p:cNvGrpSpPr/>
          <p:nvPr/>
        </p:nvGrpSpPr>
        <p:grpSpPr>
          <a:xfrm>
            <a:off x="6464160" y="3103200"/>
            <a:ext cx="1369800" cy="1356120"/>
            <a:chOff x="6464160" y="3103200"/>
            <a:chExt cx="1369800" cy="1356120"/>
          </a:xfrm>
        </p:grpSpPr>
        <p:sp>
          <p:nvSpPr>
            <p:cNvPr id="623" name="AutoShape 71"/>
            <p:cNvSpPr/>
            <p:nvPr/>
          </p:nvSpPr>
          <p:spPr>
            <a:xfrm>
              <a:off x="6645240" y="33130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72"/>
            <p:cNvSpPr/>
            <p:nvPr/>
          </p:nvSpPr>
          <p:spPr>
            <a:xfrm rot="2241600">
              <a:off x="6644880" y="3312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5932440" y="1971360"/>
            <a:ext cx="1369800" cy="1356120"/>
            <a:chOff x="5932440" y="1971360"/>
            <a:chExt cx="1369800" cy="1356120"/>
          </a:xfrm>
        </p:grpSpPr>
        <p:sp>
          <p:nvSpPr>
            <p:cNvPr id="626" name="AutoShape 74"/>
            <p:cNvSpPr/>
            <p:nvPr/>
          </p:nvSpPr>
          <p:spPr>
            <a:xfrm>
              <a:off x="6113520" y="21812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75"/>
            <p:cNvSpPr/>
            <p:nvPr/>
          </p:nvSpPr>
          <p:spPr>
            <a:xfrm rot="2241600">
              <a:off x="6113160" y="21808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76"/>
          <p:cNvGrpSpPr/>
          <p:nvPr/>
        </p:nvGrpSpPr>
        <p:grpSpPr>
          <a:xfrm>
            <a:off x="1350720" y="2022120"/>
            <a:ext cx="1369800" cy="1356120"/>
            <a:chOff x="1350720" y="2022120"/>
            <a:chExt cx="1369800" cy="1356120"/>
          </a:xfrm>
        </p:grpSpPr>
        <p:sp>
          <p:nvSpPr>
            <p:cNvPr id="629" name="AutoShape 77"/>
            <p:cNvSpPr/>
            <p:nvPr/>
          </p:nvSpPr>
          <p:spPr>
            <a:xfrm>
              <a:off x="1531800" y="2232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8"/>
            <p:cNvSpPr/>
            <p:nvPr/>
          </p:nvSpPr>
          <p:spPr>
            <a:xfrm rot="2241600">
              <a:off x="1531440" y="2231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9"/>
          <p:cNvGrpSpPr/>
          <p:nvPr/>
        </p:nvGrpSpPr>
        <p:grpSpPr>
          <a:xfrm>
            <a:off x="199800" y="4974840"/>
            <a:ext cx="1369800" cy="1356120"/>
            <a:chOff x="199800" y="4974840"/>
            <a:chExt cx="1369800" cy="1356120"/>
          </a:xfrm>
        </p:grpSpPr>
        <p:sp>
          <p:nvSpPr>
            <p:cNvPr id="632" name="AutoShape 80"/>
            <p:cNvSpPr/>
            <p:nvPr/>
          </p:nvSpPr>
          <p:spPr>
            <a:xfrm>
              <a:off x="380880" y="5184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81"/>
            <p:cNvSpPr/>
            <p:nvPr/>
          </p:nvSpPr>
          <p:spPr>
            <a:xfrm rot="2241600">
              <a:off x="380520" y="5184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82"/>
          <p:cNvGrpSpPr/>
          <p:nvPr/>
        </p:nvGrpSpPr>
        <p:grpSpPr>
          <a:xfrm>
            <a:off x="5757840" y="5005080"/>
            <a:ext cx="1369800" cy="1356120"/>
            <a:chOff x="5757840" y="5005080"/>
            <a:chExt cx="1369800" cy="1356120"/>
          </a:xfrm>
        </p:grpSpPr>
        <p:sp>
          <p:nvSpPr>
            <p:cNvPr id="635" name="AutoShape 83"/>
            <p:cNvSpPr/>
            <p:nvPr/>
          </p:nvSpPr>
          <p:spPr>
            <a:xfrm>
              <a:off x="5938920" y="52149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84"/>
            <p:cNvSpPr/>
            <p:nvPr/>
          </p:nvSpPr>
          <p:spPr>
            <a:xfrm rot="2241600">
              <a:off x="5938560" y="52146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85"/>
          <p:cNvGrpSpPr/>
          <p:nvPr/>
        </p:nvGrpSpPr>
        <p:grpSpPr>
          <a:xfrm>
            <a:off x="4633920" y="1593360"/>
            <a:ext cx="1369800" cy="1356120"/>
            <a:chOff x="4633920" y="1593360"/>
            <a:chExt cx="1369800" cy="1356120"/>
          </a:xfrm>
        </p:grpSpPr>
        <p:sp>
          <p:nvSpPr>
            <p:cNvPr id="638" name="AutoShape 86"/>
            <p:cNvSpPr/>
            <p:nvPr/>
          </p:nvSpPr>
          <p:spPr>
            <a:xfrm>
              <a:off x="4815000" y="18032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87"/>
            <p:cNvSpPr/>
            <p:nvPr/>
          </p:nvSpPr>
          <p:spPr>
            <a:xfrm rot="2241600">
              <a:off x="4814640" y="18028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88"/>
          <p:cNvGrpSpPr/>
          <p:nvPr/>
        </p:nvGrpSpPr>
        <p:grpSpPr>
          <a:xfrm>
            <a:off x="712800" y="1004400"/>
            <a:ext cx="1369800" cy="1356120"/>
            <a:chOff x="712800" y="1004400"/>
            <a:chExt cx="1369800" cy="1356120"/>
          </a:xfrm>
        </p:grpSpPr>
        <p:sp>
          <p:nvSpPr>
            <p:cNvPr id="641" name="AutoShape 89"/>
            <p:cNvSpPr/>
            <p:nvPr/>
          </p:nvSpPr>
          <p:spPr>
            <a:xfrm>
              <a:off x="893880" y="121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90"/>
            <p:cNvSpPr/>
            <p:nvPr/>
          </p:nvSpPr>
          <p:spPr>
            <a:xfrm rot="2241600">
              <a:off x="893520" y="121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91"/>
          <p:cNvGrpSpPr/>
          <p:nvPr/>
        </p:nvGrpSpPr>
        <p:grpSpPr>
          <a:xfrm>
            <a:off x="7954920" y="1004400"/>
            <a:ext cx="1369800" cy="1356120"/>
            <a:chOff x="7954920" y="1004400"/>
            <a:chExt cx="1369800" cy="1356120"/>
          </a:xfrm>
        </p:grpSpPr>
        <p:sp>
          <p:nvSpPr>
            <p:cNvPr id="644" name="AutoShape 92"/>
            <p:cNvSpPr/>
            <p:nvPr/>
          </p:nvSpPr>
          <p:spPr>
            <a:xfrm>
              <a:off x="8136000" y="121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93"/>
            <p:cNvSpPr/>
            <p:nvPr/>
          </p:nvSpPr>
          <p:spPr>
            <a:xfrm rot="2241600">
              <a:off x="8135640" y="121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5:41:48Z</dcterms:created>
  <dc:creator>Admin</dc:creator>
  <dc:description/>
  <dc:language>en-US</dc:language>
  <cp:lastModifiedBy>Admin</cp:lastModifiedBy>
  <dcterms:modified xsi:type="dcterms:W3CDTF">2013-11-08T14:21:16Z</dcterms:modified>
  <cp:revision>12</cp:revision>
  <dc:subject/>
  <dc:title>Презентация PowerPoint</dc:title>
</cp:coreProperties>
</file>