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gif" ContentType="image/gif"/>
  <Override PartName="/ppt/media/image12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3.gif" ContentType="image/gif"/>
  <Override PartName="/ppt/media/image6.png" ContentType="image/png"/>
  <Override PartName="/ppt/media/image7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5E5-1810-477E-AD88-F1BC5065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3C7-5759-4990-93BA-982CC8F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B7B11-077C-4E08-902F-C7607ED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D35C1-E799-45BB-8EDA-C0B9709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21D2E-1CDA-426B-8252-AD2DF2D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51800-408F-4D43-A426-395AFA9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567A8-2428-4D2E-A785-B9756AF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E44B4-F0BF-4AFF-9A45-6819C2D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E4F9A-CF28-402A-9503-51DD0C6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20FF3-6640-48A2-A82F-CE13BEAA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D6E00-E98C-428B-8569-B1E5F59D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7199-2420-4707-A427-80EDD19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AEC-57DE-46F7-B407-12F52BEF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92F76-DF4B-47D9-A39B-506883E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E4EC1-2705-4D65-BE45-6613FCA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0A358-BA79-4146-AEBA-890C1E0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302C7-7A07-43C0-9F78-9A534746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7A002-FCEE-40E1-B434-990078E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28A8D-E1AC-41B9-89C6-60FD586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66BF9-9F69-4163-87D7-408DF16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84B25-B8F0-4F4D-9ED0-C139EEC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F3BA9-2676-4096-A00E-883DC4D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2A6C2-28A2-4F4D-AF17-B2862224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075-24BC-4E93-ADC5-DE2821E0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70270-3B2A-4578-926A-71450003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13BE3-068B-4073-87A9-8755E8CF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35938-DFDB-4FB3-8AEF-6C98EEB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14ABA-7FE7-4841-B908-12B4AD2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1DDE8-B374-48D0-AF22-B1128567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41AF7-AFF5-4D3A-B913-F009B458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A09DE-C077-4427-9DA5-BFC172C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E42D7-2F60-4334-A9BD-E0A5798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A442-AD67-4E68-88E1-A619B38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BF4D-9F96-4A06-8DF2-BA13400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C95-E604-4C1E-8A8D-F9C77965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9D05-B222-4BB2-A48A-F4DD77E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4E0E-54A9-4974-9C15-87225026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79E33-E5C1-45DA-B4AF-3F0AA96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8C42-16A9-4CA7-A086-075A92F0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2D4E1-73B6-445E-BC06-549BFCD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12C6D-195E-48AF-B73B-A92697C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4FF51-E661-43BF-8C9A-7328CE3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CE1D1-8B69-456D-B579-67D7EF5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63B4B-1353-46A1-867D-856BB51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8EB8-DE94-450F-9162-1082013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923-2B3D-43EE-9E4A-372B4BC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316A5-6150-4A4A-8EB4-981E387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F2FDC-927C-4479-8210-5E1392E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B9D13-E6D3-4EEE-8E54-F6BC9CBF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65EE6-3034-4E30-BA84-AE9A63C9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A6BDC-AA51-4886-B7DA-CD67AB90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58AE-1E0D-410A-9D76-2ED5E04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137-CD1A-4A68-93F7-DF77395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00E-26D9-4ADF-84E7-C381294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CDBA-CE40-4D94-B01F-B0930236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2807-3FBF-4ED2-B4F9-19EC06F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218-E4EE-4F56-BB39-9CEE8D99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810-244F-4CC8-95CF-38F9070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E04-9976-4E41-B4F9-9D77993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5FCA-BBCC-45D2-BF0B-31595680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3FA9-1B87-49EC-831E-29C0CA87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2B0-C520-4257-95E3-559E453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C54A-48E1-4ECA-9EB8-6E1FFEFF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F9C6-DA46-43FF-81DE-A58624C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AE3F-A233-423B-96EF-3F33A7B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B145-DD14-44B4-83A8-2F577E4E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FBCD-752F-41D4-B9CE-12C42C6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F1F-F10C-45F1-8AEC-8A74447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1E2E-C2A5-4C16-90AB-56ABC4E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19AA-C53C-4635-AC7C-9581093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7448-B245-420E-9EC4-DC1F9EA3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DBB9-9ABA-41BF-95D4-35A1C9D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D0BE-9990-4B25-BDEF-55CDEDA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C0D3-9454-413C-BABA-F0BE1985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96B2-AB95-4D87-AAE9-486681F6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C1B1-CD12-47F4-B739-3457A40E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D248-7685-4737-A21E-35CC2459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F775-CBF0-4E12-BEDB-1FE1B46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162-4E42-4364-8249-85F79C8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9060-47D4-41F0-A189-F09A916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C1B2-A575-4166-9A76-726A145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C1BF6-06C5-4B5B-99AA-8DACC2E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A127-A57E-40A5-B8FA-967B3244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456D8-D969-4978-AAD4-4AE8E70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8380-6443-4ADC-A237-90184B8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13A4-1CE8-4E3C-A188-EC4C44A1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BE78-62D1-46A3-BE54-C07B2AE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CCAF-1FC3-4B75-A0E7-6C908D17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7525-2106-4CC2-B8DC-8140FB29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568-CD99-410F-AC0D-A904CE6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1B2B9-018B-4CF4-AEE3-E93F6838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DC8F-06B6-45FC-8D2A-668BA098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ACE4-9278-42AB-98CD-B1E09DB5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4895-C3D9-4211-BDBE-58AFF1E7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8275-893C-4204-B22A-5D348E4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9C72-3AAF-4080-A7C9-2B87C44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16D68-56D1-431E-8D6E-6AEC3B6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CD05-E461-448B-A3A5-E1A84E9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FD7B-D81F-451A-BCE8-5C827BF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45BF-A96C-41F9-B38C-9E7A0B31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BFC-D5EF-45FC-96E5-9F2A46D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FA16D-70A6-48F0-9773-99D11DE8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6F6CC-D4CD-4BEA-B328-B265BE12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FA89-8A9C-4A4D-A1F6-01F87BC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F0A54-5907-40D3-95BD-3BD8131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FA12-3578-44C9-BD8D-52F8C14A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234B-0AD6-449F-90D1-97F737F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1079-16CD-41C2-BA59-E32C2E9C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A4DC-40A1-48F9-B802-502D923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9B0A-E3AA-4F74-9F35-90326AC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B6F3-60B5-4AD9-8E43-BA9957F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D8B-5FFB-49C2-A356-B15700E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FCCF2-EA47-48B9-A61F-A81571D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E949-F810-4573-A831-075B9227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A75C-DBA0-468C-8193-B9F2A2EF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CBDF-B7CE-4735-8F59-2A4B310D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B344E-470A-4DBE-BADF-638C99A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8677B-8DB3-4608-9F40-6CDDD81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1725-D678-4FCD-BECB-0387F267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1B45-4115-4425-8651-BE80428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487B-0079-4865-95CD-BEACA59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6C2F8-CE59-448D-B393-9BC1B46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0BA-1B80-4487-9A06-38923ED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DBE1-6E20-4415-BA8B-30CE841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65B0-C995-45D9-92BA-7BB0077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DABF-FA90-4394-B946-2DAF93F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5EA1-698A-4D65-8B0E-1DDABB62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FCAD-4DC5-45EE-9341-99277E70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1A8AF-F523-4D39-BEAC-9621E97F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1E7B-66C5-4230-B30F-39D73A42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49BD-4F59-413F-B679-11F8CEF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4CEA-8729-4CAD-947C-82E3E7E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9697-5D24-4751-9E04-2327923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7EF-A149-42FA-B5BB-6D520EA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F63E2-BBDF-418F-8EC8-4E59CFF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8751-08C7-4C68-B517-2CAAB95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CAC09-DD6B-4731-960E-6DBE7B7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B2E9-E121-4D87-B586-B126493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90D3-DA9D-4011-BC37-45CFEFA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7FC8-AF48-48D3-A542-DCB95CBE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DD14-774A-4DB3-B190-BD69C5A7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A37F-E582-4952-912B-B9251986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3E7EF-153B-4ED8-BF59-D42823D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D75C6-E02D-48F9-8D4E-E37A06E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4F7-94AE-4EE5-A923-4CBD56252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1A40-D20E-4B41-BB62-84779E269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CF1B-56A9-4ADC-BAA5-85DA2BF2E5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1B8-35FE-457B-A91D-1F7EA3D81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FAF-B9A9-4938-95BA-C785621338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A46-82B6-43A9-BB50-4E71C31BD2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996-3E06-401F-8F9D-18A5B969F1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6A9-02F4-4407-B1DC-2962270E6F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FBE8-5597-4A1A-BEB4-BCDF4E162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9E3-E986-4336-AC6B-45F4A24A2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BECE-38D4-40C1-975A-9CCB46135F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5250-A856-4F41-B181-4E751B7BAC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9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3.gif"/><Relationship Id="rId12" Type="http://schemas.openxmlformats.org/officeDocument/2006/relationships/image" Target="../media/image9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4.gif"/><Relationship Id="rId16" Type="http://schemas.openxmlformats.org/officeDocument/2006/relationships/image" Target="../media/image11.gif"/><Relationship Id="rId17" Type="http://schemas.openxmlformats.org/officeDocument/2006/relationships/image" Target="../media/image16.gif"/><Relationship Id="rId18" Type="http://schemas.openxmlformats.org/officeDocument/2006/relationships/image" Target="../media/image10.gif"/><Relationship Id="rId19" Type="http://schemas.openxmlformats.org/officeDocument/2006/relationships/image" Target="../media/image12.gif"/><Relationship Id="rId20" Type="http://schemas.openxmlformats.org/officeDocument/2006/relationships/image" Target="../media/image9.gif"/><Relationship Id="rId2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3"/>
          <p:cNvSpPr txBox="1"/>
          <p:nvPr/>
        </p:nvSpPr>
        <p:spPr>
          <a:xfrm>
            <a:off x="1116000" y="777960"/>
            <a:ext cx="6494400" cy="52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3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Работаем с палочками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pic>
        <p:nvPicPr>
          <p:cNvPr id="493" name="Picture 4" descr="http://povaldou.ucoz.ru/_ph/1/2/847987953.jpg"/>
          <p:cNvPicPr/>
          <p:nvPr/>
        </p:nvPicPr>
        <p:blipFill>
          <a:blip r:embed="rId1"/>
          <a:stretch/>
        </p:blipFill>
        <p:spPr>
          <a:xfrm>
            <a:off x="1908000" y="1916280"/>
            <a:ext cx="4762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3708360" y="333360"/>
            <a:ext cx="29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661680" y="3105000"/>
            <a:ext cx="7649640" cy="2339640"/>
            <a:chOff x="661680" y="3105000"/>
            <a:chExt cx="7649640" cy="2339640"/>
          </a:xfrm>
        </p:grpSpPr>
        <p:sp>
          <p:nvSpPr>
            <p:cNvPr id="496" name="Line 7"/>
            <p:cNvSpPr/>
            <p:nvPr/>
          </p:nvSpPr>
          <p:spPr>
            <a:xfrm>
              <a:off x="586872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>
              <a:off x="172512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9"/>
            <p:cNvSpPr/>
            <p:nvPr/>
          </p:nvSpPr>
          <p:spPr>
            <a:xfrm>
              <a:off x="3849840" y="3105000"/>
              <a:ext cx="127368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"/>
            <p:cNvSpPr/>
            <p:nvPr/>
          </p:nvSpPr>
          <p:spPr>
            <a:xfrm>
              <a:off x="448668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1"/>
            <p:cNvSpPr/>
            <p:nvPr/>
          </p:nvSpPr>
          <p:spPr>
            <a:xfrm>
              <a:off x="310464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725120" y="544212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310464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448668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5868720" y="427356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5337000" y="3531240"/>
              <a:ext cx="127404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7"/>
            <p:cNvSpPr/>
            <p:nvPr/>
          </p:nvSpPr>
          <p:spPr>
            <a:xfrm>
              <a:off x="5231520" y="3105000"/>
              <a:ext cx="0" cy="10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8"/>
            <p:cNvSpPr/>
            <p:nvPr/>
          </p:nvSpPr>
          <p:spPr>
            <a:xfrm>
              <a:off x="3742200" y="3105000"/>
              <a:ext cx="0" cy="106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9"/>
            <p:cNvSpPr/>
            <p:nvPr/>
          </p:nvSpPr>
          <p:spPr>
            <a:xfrm flipH="1" flipV="1">
              <a:off x="7247880" y="4275720"/>
              <a:ext cx="957960" cy="52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 flipV="1">
              <a:off x="7248240" y="4910400"/>
              <a:ext cx="1063080" cy="53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"/>
            <p:cNvSpPr/>
            <p:nvPr/>
          </p:nvSpPr>
          <p:spPr>
            <a:xfrm flipV="1">
              <a:off x="662040" y="4273560"/>
              <a:ext cx="1063080" cy="53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 flipH="1" flipV="1">
              <a:off x="661680" y="4910400"/>
              <a:ext cx="957960" cy="52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2254680" y="4910400"/>
              <a:ext cx="127368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5"/>
            <p:cNvSpPr/>
            <p:nvPr/>
          </p:nvSpPr>
          <p:spPr>
            <a:xfrm>
              <a:off x="3954960" y="491040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6"/>
            <p:cNvSpPr/>
            <p:nvPr/>
          </p:nvSpPr>
          <p:spPr>
            <a:xfrm>
              <a:off x="5442480" y="4910400"/>
              <a:ext cx="1274040" cy="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23"/>
          <p:cNvSpPr/>
          <p:nvPr/>
        </p:nvSpPr>
        <p:spPr>
          <a:xfrm>
            <a:off x="2894040" y="938520"/>
            <a:ext cx="451188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усеницы две ползут,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шню с пушкою вез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4" descr="561640"/>
          <p:cNvPicPr/>
          <p:nvPr/>
        </p:nvPicPr>
        <p:blipFill>
          <a:blip r:embed="rId1"/>
          <a:stretch/>
        </p:blipFill>
        <p:spPr>
          <a:xfrm>
            <a:off x="177840" y="333360"/>
            <a:ext cx="2362320" cy="3141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5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897200" y="699840"/>
            <a:ext cx="4619520" cy="180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волнам плывёт отва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сбавляя быстрый 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шь гудит машина в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то же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5940360" y="5661000"/>
            <a:ext cx="262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5"/>
          <p:cNvGrpSpPr/>
          <p:nvPr/>
        </p:nvGrpSpPr>
        <p:grpSpPr>
          <a:xfrm>
            <a:off x="1131840" y="3105000"/>
            <a:ext cx="6319440" cy="2987640"/>
            <a:chOff x="1131840" y="3105000"/>
            <a:chExt cx="6319440" cy="2987640"/>
          </a:xfrm>
        </p:grpSpPr>
        <p:sp>
          <p:nvSpPr>
            <p:cNvPr id="521" name="Line 18"/>
            <p:cNvSpPr/>
            <p:nvPr/>
          </p:nvSpPr>
          <p:spPr>
            <a:xfrm>
              <a:off x="6296760" y="5225400"/>
              <a:ext cx="1154520" cy="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4116600" y="3105000"/>
              <a:ext cx="0" cy="10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4501080" y="3105000"/>
              <a:ext cx="0" cy="10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3634200" y="4165560"/>
              <a:ext cx="0" cy="105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4983480" y="4165560"/>
              <a:ext cx="0" cy="105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1"/>
            <p:cNvSpPr/>
            <p:nvPr/>
          </p:nvSpPr>
          <p:spPr>
            <a:xfrm>
              <a:off x="3730680" y="416556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>
              <a:off x="1226160" y="5320080"/>
              <a:ext cx="1156320" cy="77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 flipH="1">
              <a:off x="6234480" y="5320080"/>
              <a:ext cx="1059480" cy="77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4"/>
            <p:cNvSpPr/>
            <p:nvPr/>
          </p:nvSpPr>
          <p:spPr>
            <a:xfrm>
              <a:off x="507996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5"/>
            <p:cNvSpPr/>
            <p:nvPr/>
          </p:nvSpPr>
          <p:spPr>
            <a:xfrm>
              <a:off x="238248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6"/>
            <p:cNvSpPr/>
            <p:nvPr/>
          </p:nvSpPr>
          <p:spPr>
            <a:xfrm>
              <a:off x="3730680" y="522396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7"/>
            <p:cNvSpPr/>
            <p:nvPr/>
          </p:nvSpPr>
          <p:spPr>
            <a:xfrm>
              <a:off x="1131840" y="522396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9"/>
            <p:cNvSpPr/>
            <p:nvPr/>
          </p:nvSpPr>
          <p:spPr>
            <a:xfrm>
              <a:off x="2479320" y="609120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0"/>
            <p:cNvSpPr/>
            <p:nvPr/>
          </p:nvSpPr>
          <p:spPr>
            <a:xfrm>
              <a:off x="3730680" y="6091200"/>
              <a:ext cx="11541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1"/>
            <p:cNvSpPr/>
            <p:nvPr/>
          </p:nvSpPr>
          <p:spPr>
            <a:xfrm>
              <a:off x="4983480" y="6091200"/>
              <a:ext cx="1154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6" name="Picture 21" descr="tarodux-ship2"/>
          <p:cNvPicPr/>
          <p:nvPr/>
        </p:nvPicPr>
        <p:blipFill>
          <a:blip r:embed="rId1"/>
          <a:stretch/>
        </p:blipFill>
        <p:spPr>
          <a:xfrm flipH="1">
            <a:off x="6740640" y="2833560"/>
            <a:ext cx="2025360" cy="648000"/>
          </a:xfrm>
          <a:prstGeom prst="rect">
            <a:avLst/>
          </a:prstGeom>
          <a:ln w="0">
            <a:noFill/>
          </a:ln>
        </p:spPr>
      </p:pic>
      <p:grpSp>
        <p:nvGrpSpPr>
          <p:cNvPr id="537" name="Group 22"/>
          <p:cNvGrpSpPr/>
          <p:nvPr/>
        </p:nvGrpSpPr>
        <p:grpSpPr>
          <a:xfrm>
            <a:off x="844560" y="4878360"/>
            <a:ext cx="7256160" cy="1935000"/>
            <a:chOff x="844560" y="4878360"/>
            <a:chExt cx="7256160" cy="1935000"/>
          </a:xfrm>
        </p:grpSpPr>
        <p:pic>
          <p:nvPicPr>
            <p:cNvPr id="538" name="Picture 23" descr="tarodux-ship11"/>
            <p:cNvPicPr/>
            <p:nvPr/>
          </p:nvPicPr>
          <p:blipFill>
            <a:blip r:embed="rId2"/>
            <a:stretch/>
          </p:blipFill>
          <p:spPr>
            <a:xfrm>
              <a:off x="4440240" y="4894200"/>
              <a:ext cx="190476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4" descr="tarodux-ship11"/>
            <p:cNvPicPr/>
            <p:nvPr/>
          </p:nvPicPr>
          <p:blipFill>
            <a:blip r:embed="rId3"/>
            <a:stretch/>
          </p:blipFill>
          <p:spPr>
            <a:xfrm>
              <a:off x="2557440" y="487836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5" descr="tarodux-ship11"/>
            <p:cNvPicPr/>
            <p:nvPr/>
          </p:nvPicPr>
          <p:blipFill>
            <a:blip r:embed="rId4"/>
            <a:stretch/>
          </p:blipFill>
          <p:spPr>
            <a:xfrm>
              <a:off x="844560" y="487836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6" descr="tarodux-ship11"/>
            <p:cNvPicPr/>
            <p:nvPr/>
          </p:nvPicPr>
          <p:blipFill>
            <a:blip r:embed="rId5"/>
            <a:stretch/>
          </p:blipFill>
          <p:spPr>
            <a:xfrm>
              <a:off x="6195960" y="4908600"/>
              <a:ext cx="190476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Text Box 25"/>
          <p:cNvSpPr/>
          <p:nvPr/>
        </p:nvSpPr>
        <p:spPr>
          <a:xfrm>
            <a:off x="321480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-0.00069 -0.1287 E">
                                      <p:cBhvr>
                                        <p:cTn id="45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692360" y="771120"/>
            <a:ext cx="4968720" cy="20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здник, праздник у 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о встречать его пойдё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Я и верный мой д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асный, маленький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6516720" y="5373720"/>
            <a:ext cx="223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5"/>
          <p:cNvGrpSpPr/>
          <p:nvPr/>
        </p:nvGrpSpPr>
        <p:grpSpPr>
          <a:xfrm>
            <a:off x="3492360" y="3429000"/>
            <a:ext cx="2952360" cy="2837880"/>
            <a:chOff x="3492360" y="3429000"/>
            <a:chExt cx="2952360" cy="2837880"/>
          </a:xfrm>
        </p:grpSpPr>
        <p:sp>
          <p:nvSpPr>
            <p:cNvPr id="546" name="Line 7"/>
            <p:cNvSpPr/>
            <p:nvPr/>
          </p:nvSpPr>
          <p:spPr>
            <a:xfrm>
              <a:off x="3492360" y="3429000"/>
              <a:ext cx="0" cy="136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8"/>
            <p:cNvSpPr/>
            <p:nvPr/>
          </p:nvSpPr>
          <p:spPr>
            <a:xfrm>
              <a:off x="3492360" y="4904280"/>
              <a:ext cx="0" cy="136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>
              <a:off x="3605040" y="490428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082480" y="490428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>
              <a:off x="5082480" y="342900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3605040" y="3429000"/>
              <a:ext cx="1362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 flipV="1">
              <a:off x="5082480" y="3540960"/>
              <a:ext cx="1362240" cy="56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5082480" y="4223160"/>
              <a:ext cx="1362240" cy="56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14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7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2.77778E-006 -0.14398 E">
                                      <p:cBhvr>
                                        <p:cTn id="69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2217240" y="907560"/>
            <a:ext cx="4537080" cy="14828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нам домой под Новый год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о-то из лесу придет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 пушистая, в иголках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 зовут ту гостью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826920" y="260280"/>
            <a:ext cx="26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5"/>
          <p:cNvGrpSpPr/>
          <p:nvPr/>
        </p:nvGrpSpPr>
        <p:grpSpPr>
          <a:xfrm>
            <a:off x="3427560" y="2781000"/>
            <a:ext cx="2309040" cy="3368160"/>
            <a:chOff x="3427560" y="2781000"/>
            <a:chExt cx="2309040" cy="3368160"/>
          </a:xfrm>
        </p:grpSpPr>
        <p:sp>
          <p:nvSpPr>
            <p:cNvPr id="559" name="Line 7"/>
            <p:cNvSpPr/>
            <p:nvPr/>
          </p:nvSpPr>
          <p:spPr>
            <a:xfrm>
              <a:off x="4581360" y="2781360"/>
              <a:ext cx="0" cy="1058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4581360" y="3935160"/>
              <a:ext cx="0" cy="1058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>
              <a:off x="4581360" y="5090760"/>
              <a:ext cx="0" cy="1058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H="1" flipV="1">
              <a:off x="4678560" y="278136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 flipH="1" flipV="1">
              <a:off x="4678560" y="355140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 flipH="1" flipV="1">
              <a:off x="4678560" y="441648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 flipH="1" flipV="1">
              <a:off x="4678560" y="5281920"/>
              <a:ext cx="1058040" cy="771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 flipV="1">
              <a:off x="3427560" y="278100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5"/>
            <p:cNvSpPr/>
            <p:nvPr/>
          </p:nvSpPr>
          <p:spPr>
            <a:xfrm flipV="1">
              <a:off x="3427560" y="3551040"/>
              <a:ext cx="1058400" cy="76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 flipV="1">
              <a:off x="3427560" y="441612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7"/>
            <p:cNvSpPr/>
            <p:nvPr/>
          </p:nvSpPr>
          <p:spPr>
            <a:xfrm flipV="1">
              <a:off x="3427560" y="5281560"/>
              <a:ext cx="1058400" cy="77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Text Box 17"/>
          <p:cNvSpPr/>
          <p:nvPr/>
        </p:nvSpPr>
        <p:spPr>
          <a:xfrm>
            <a:off x="3203640" y="404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http://brigantina1v.ucoz.ru/153423264.gif"/>
          <p:cNvPicPr/>
          <p:nvPr/>
        </p:nvPicPr>
        <p:blipFill>
          <a:blip r:embed="rId1"/>
          <a:stretch/>
        </p:blipFill>
        <p:spPr>
          <a:xfrm>
            <a:off x="6913440" y="2975040"/>
            <a:ext cx="18748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708360" y="148428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826920" y="837720"/>
            <a:ext cx="79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так дом - одно окно, каждый день в окне ки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2115720" y="1584360"/>
            <a:ext cx="2446920" cy="4619520"/>
            <a:chOff x="2115720" y="1584360"/>
            <a:chExt cx="2446920" cy="4619520"/>
          </a:xfrm>
        </p:grpSpPr>
        <p:sp>
          <p:nvSpPr>
            <p:cNvPr id="575" name="Line 7"/>
            <p:cNvSpPr/>
            <p:nvPr/>
          </p:nvSpPr>
          <p:spPr>
            <a:xfrm>
              <a:off x="4378320" y="2962440"/>
              <a:ext cx="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>
              <a:off x="2370240" y="2962440"/>
              <a:ext cx="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>
              <a:off x="2513160" y="4540320"/>
              <a:ext cx="172080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>
              <a:off x="2513160" y="2819520"/>
              <a:ext cx="1720800" cy="2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 flipV="1">
              <a:off x="3417840" y="1584360"/>
              <a:ext cx="1144800" cy="11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 flipV="1">
              <a:off x="2760840" y="4699080"/>
              <a:ext cx="412560" cy="1504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 flipH="1" flipV="1">
              <a:off x="2115720" y="1638000"/>
              <a:ext cx="1187640" cy="10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 flipH="1" flipV="1">
              <a:off x="3585960" y="4714920"/>
              <a:ext cx="572760" cy="1434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13" descr=""/>
          <p:cNvPicPr/>
          <p:nvPr/>
        </p:nvPicPr>
        <p:blipFill>
          <a:blip r:embed="rId1"/>
          <a:srcRect l="0" t="0" r="58485" b="0"/>
          <a:stretch/>
        </p:blipFill>
        <p:spPr>
          <a:xfrm>
            <a:off x="5580000" y="2616120"/>
            <a:ext cx="2646360" cy="32432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5"/>
          <p:cNvSpPr/>
          <p:nvPr/>
        </p:nvSpPr>
        <p:spPr>
          <a:xfrm>
            <a:off x="320364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бота с зага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07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-0.00486 L 0.11129 -0.00486 E">
                                      <p:cBhvr>
                                        <p:cTn id="110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35" descr="zvezdia-537"/>
          <p:cNvPicPr/>
          <p:nvPr/>
        </p:nvPicPr>
        <p:blipFill>
          <a:blip r:embed="rId1"/>
          <a:stretch/>
        </p:blipFill>
        <p:spPr>
          <a:xfrm>
            <a:off x="12214080" y="85266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13"/>
          <p:cNvSpPr/>
          <p:nvPr/>
        </p:nvSpPr>
        <p:spPr>
          <a:xfrm>
            <a:off x="6012000" y="4535640"/>
            <a:ext cx="27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901880" y="476280"/>
            <a:ext cx="5219640" cy="1231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кры небо прожигают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 до нас не долетаю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54"/>
          <p:cNvGrpSpPr/>
          <p:nvPr/>
        </p:nvGrpSpPr>
        <p:grpSpPr>
          <a:xfrm>
            <a:off x="2074680" y="2604960"/>
            <a:ext cx="4368240" cy="3847680"/>
            <a:chOff x="2074680" y="2604960"/>
            <a:chExt cx="4368240" cy="3847680"/>
          </a:xfrm>
        </p:grpSpPr>
        <p:sp>
          <p:nvSpPr>
            <p:cNvPr id="589" name="Line 14"/>
            <p:cNvSpPr/>
            <p:nvPr/>
          </p:nvSpPr>
          <p:spPr>
            <a:xfrm flipH="1">
              <a:off x="3671640" y="2693880"/>
              <a:ext cx="630000" cy="126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4341600" y="2604960"/>
              <a:ext cx="563400" cy="135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 flipH="1">
              <a:off x="4942800" y="3944520"/>
              <a:ext cx="1500120" cy="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 flipH="1">
              <a:off x="2074680" y="3958920"/>
              <a:ext cx="155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 flipH="1">
              <a:off x="5168520" y="3954240"/>
              <a:ext cx="1272600" cy="103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 flipH="1">
              <a:off x="2725200" y="4981320"/>
              <a:ext cx="704520" cy="144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H="1" flipV="1">
              <a:off x="5184720" y="5031720"/>
              <a:ext cx="461520" cy="136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H="1" flipV="1">
              <a:off x="4354200" y="5558760"/>
              <a:ext cx="1304640" cy="893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H="1">
              <a:off x="2747880" y="5555880"/>
              <a:ext cx="1568160" cy="876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>
              <a:off x="2114280" y="3968640"/>
              <a:ext cx="1272960" cy="100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66"/>
          <p:cNvGrpSpPr/>
          <p:nvPr/>
        </p:nvGrpSpPr>
        <p:grpSpPr>
          <a:xfrm>
            <a:off x="0" y="620640"/>
            <a:ext cx="9144000" cy="5732640"/>
            <a:chOff x="0" y="620640"/>
            <a:chExt cx="9144000" cy="5732640"/>
          </a:xfrm>
        </p:grpSpPr>
        <p:pic>
          <p:nvPicPr>
            <p:cNvPr id="600" name="Picture 17" descr="0_500eb_a6f99c43_S"/>
            <p:cNvPicPr/>
            <p:nvPr/>
          </p:nvPicPr>
          <p:blipFill>
            <a:blip r:embed="rId2"/>
            <a:stretch/>
          </p:blipFill>
          <p:spPr>
            <a:xfrm>
              <a:off x="8169120" y="2509920"/>
              <a:ext cx="55584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8" descr="380455685"/>
            <p:cNvPicPr/>
            <p:nvPr/>
          </p:nvPicPr>
          <p:blipFill>
            <a:blip r:embed="rId3"/>
            <a:stretch/>
          </p:blipFill>
          <p:spPr>
            <a:xfrm>
              <a:off x="1149480" y="5591160"/>
              <a:ext cx="57780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20" descr="zvezdia-559"/>
            <p:cNvPicPr/>
            <p:nvPr/>
          </p:nvPicPr>
          <p:blipFill>
            <a:blip r:embed="rId4"/>
            <a:stretch/>
          </p:blipFill>
          <p:spPr>
            <a:xfrm>
              <a:off x="0" y="5775480"/>
              <a:ext cx="57168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22" descr="zvezdia-511"/>
            <p:cNvPicPr/>
            <p:nvPr/>
          </p:nvPicPr>
          <p:blipFill>
            <a:blip r:embed="rId5"/>
            <a:stretch/>
          </p:blipFill>
          <p:spPr>
            <a:xfrm>
              <a:off x="7732800" y="4322880"/>
              <a:ext cx="48888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23" descr="zvezdia-521"/>
            <p:cNvPicPr/>
            <p:nvPr/>
          </p:nvPicPr>
          <p:blipFill>
            <a:blip r:embed="rId6"/>
            <a:stretch/>
          </p:blipFill>
          <p:spPr>
            <a:xfrm>
              <a:off x="228600" y="62064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24" descr="zvezdia-534"/>
            <p:cNvPicPr/>
            <p:nvPr/>
          </p:nvPicPr>
          <p:blipFill>
            <a:blip r:embed="rId7"/>
            <a:stretch/>
          </p:blipFill>
          <p:spPr>
            <a:xfrm flipH="1">
              <a:off x="282240" y="1708200"/>
              <a:ext cx="3776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5" descr="zvezdia-537"/>
            <p:cNvPicPr/>
            <p:nvPr/>
          </p:nvPicPr>
          <p:blipFill>
            <a:blip r:embed="rId8"/>
            <a:stretch/>
          </p:blipFill>
          <p:spPr>
            <a:xfrm>
              <a:off x="6075360" y="456552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6" descr="zvezdia-538"/>
            <p:cNvPicPr/>
            <p:nvPr/>
          </p:nvPicPr>
          <p:blipFill>
            <a:blip r:embed="rId9"/>
            <a:stretch/>
          </p:blipFill>
          <p:spPr>
            <a:xfrm>
              <a:off x="5230800" y="272088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8" descr="zvezdia-553"/>
            <p:cNvPicPr/>
            <p:nvPr/>
          </p:nvPicPr>
          <p:blipFill>
            <a:blip r:embed="rId10"/>
            <a:stretch/>
          </p:blipFill>
          <p:spPr>
            <a:xfrm>
              <a:off x="874800" y="312408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32" descr="zvezdia-511"/>
            <p:cNvPicPr/>
            <p:nvPr/>
          </p:nvPicPr>
          <p:blipFill>
            <a:blip r:embed="rId11"/>
            <a:stretch/>
          </p:blipFill>
          <p:spPr>
            <a:xfrm>
              <a:off x="563400" y="4421160"/>
              <a:ext cx="45900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33" descr="zvezdia-537"/>
            <p:cNvPicPr/>
            <p:nvPr/>
          </p:nvPicPr>
          <p:blipFill>
            <a:blip r:embed="rId12"/>
            <a:stretch/>
          </p:blipFill>
          <p:spPr>
            <a:xfrm>
              <a:off x="4187880" y="597204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34" descr="zvezdia-521"/>
            <p:cNvPicPr/>
            <p:nvPr/>
          </p:nvPicPr>
          <p:blipFill>
            <a:blip r:embed="rId13"/>
            <a:stretch/>
          </p:blipFill>
          <p:spPr>
            <a:xfrm>
              <a:off x="6977160" y="297180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36" descr="zvezdia-534"/>
            <p:cNvPicPr/>
            <p:nvPr/>
          </p:nvPicPr>
          <p:blipFill>
            <a:blip r:embed="rId14"/>
            <a:stretch/>
          </p:blipFill>
          <p:spPr>
            <a:xfrm>
              <a:off x="7746840" y="1765440"/>
              <a:ext cx="41616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5" descr="zvezdia-521"/>
            <p:cNvPicPr/>
            <p:nvPr/>
          </p:nvPicPr>
          <p:blipFill>
            <a:blip r:embed="rId15"/>
            <a:stretch/>
          </p:blipFill>
          <p:spPr>
            <a:xfrm>
              <a:off x="7834320" y="63504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6" descr="380455685"/>
            <p:cNvPicPr/>
            <p:nvPr/>
          </p:nvPicPr>
          <p:blipFill>
            <a:blip r:embed="rId16"/>
            <a:stretch/>
          </p:blipFill>
          <p:spPr>
            <a:xfrm>
              <a:off x="6927840" y="5765760"/>
              <a:ext cx="57780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57" descr="zvezdia-538"/>
            <p:cNvPicPr/>
            <p:nvPr/>
          </p:nvPicPr>
          <p:blipFill>
            <a:blip r:embed="rId17"/>
            <a:stretch/>
          </p:blipFill>
          <p:spPr>
            <a:xfrm>
              <a:off x="2357280" y="263376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58" descr="0_500eb_a6f99c43_S"/>
            <p:cNvPicPr/>
            <p:nvPr/>
          </p:nvPicPr>
          <p:blipFill>
            <a:blip r:embed="rId18"/>
            <a:stretch/>
          </p:blipFill>
          <p:spPr>
            <a:xfrm>
              <a:off x="577800" y="2495520"/>
              <a:ext cx="55584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64" descr="zvezdia-559"/>
            <p:cNvPicPr/>
            <p:nvPr/>
          </p:nvPicPr>
          <p:blipFill>
            <a:blip r:embed="rId19"/>
            <a:stretch/>
          </p:blipFill>
          <p:spPr>
            <a:xfrm>
              <a:off x="8572680" y="574668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65" descr="zvezdia-537"/>
            <p:cNvPicPr/>
            <p:nvPr/>
          </p:nvPicPr>
          <p:blipFill>
            <a:blip r:embed="rId20"/>
            <a:stretch/>
          </p:blipFill>
          <p:spPr>
            <a:xfrm>
              <a:off x="1357200" y="4595760"/>
              <a:ext cx="3812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Group 67"/>
          <p:cNvGrpSpPr/>
          <p:nvPr/>
        </p:nvGrpSpPr>
        <p:grpSpPr>
          <a:xfrm>
            <a:off x="-181080" y="2860200"/>
            <a:ext cx="1369800" cy="1356120"/>
            <a:chOff x="-181080" y="2860200"/>
            <a:chExt cx="1369800" cy="1356120"/>
          </a:xfrm>
        </p:grpSpPr>
        <p:sp>
          <p:nvSpPr>
            <p:cNvPr id="620" name="AutoShape 68"/>
            <p:cNvSpPr/>
            <p:nvPr/>
          </p:nvSpPr>
          <p:spPr>
            <a:xfrm>
              <a:off x="0" y="30700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69"/>
            <p:cNvSpPr/>
            <p:nvPr/>
          </p:nvSpPr>
          <p:spPr>
            <a:xfrm rot="2241600">
              <a:off x="0" y="3069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70"/>
          <p:cNvGrpSpPr/>
          <p:nvPr/>
        </p:nvGrpSpPr>
        <p:grpSpPr>
          <a:xfrm>
            <a:off x="6464160" y="3103200"/>
            <a:ext cx="1369800" cy="1356120"/>
            <a:chOff x="6464160" y="3103200"/>
            <a:chExt cx="1369800" cy="1356120"/>
          </a:xfrm>
        </p:grpSpPr>
        <p:sp>
          <p:nvSpPr>
            <p:cNvPr id="623" name="AutoShape 71"/>
            <p:cNvSpPr/>
            <p:nvPr/>
          </p:nvSpPr>
          <p:spPr>
            <a:xfrm>
              <a:off x="6645240" y="33130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72"/>
            <p:cNvSpPr/>
            <p:nvPr/>
          </p:nvSpPr>
          <p:spPr>
            <a:xfrm rot="2241600">
              <a:off x="6644880" y="3312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5932440" y="1971360"/>
            <a:ext cx="1369800" cy="1356120"/>
            <a:chOff x="5932440" y="1971360"/>
            <a:chExt cx="1369800" cy="1356120"/>
          </a:xfrm>
        </p:grpSpPr>
        <p:sp>
          <p:nvSpPr>
            <p:cNvPr id="626" name="AutoShape 74"/>
            <p:cNvSpPr/>
            <p:nvPr/>
          </p:nvSpPr>
          <p:spPr>
            <a:xfrm>
              <a:off x="6113520" y="21812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75"/>
            <p:cNvSpPr/>
            <p:nvPr/>
          </p:nvSpPr>
          <p:spPr>
            <a:xfrm rot="2241600">
              <a:off x="6113160" y="21808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76"/>
          <p:cNvGrpSpPr/>
          <p:nvPr/>
        </p:nvGrpSpPr>
        <p:grpSpPr>
          <a:xfrm>
            <a:off x="1350720" y="2022120"/>
            <a:ext cx="1369800" cy="1356120"/>
            <a:chOff x="1350720" y="2022120"/>
            <a:chExt cx="1369800" cy="1356120"/>
          </a:xfrm>
        </p:grpSpPr>
        <p:sp>
          <p:nvSpPr>
            <p:cNvPr id="629" name="AutoShape 77"/>
            <p:cNvSpPr/>
            <p:nvPr/>
          </p:nvSpPr>
          <p:spPr>
            <a:xfrm>
              <a:off x="1531800" y="2232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8"/>
            <p:cNvSpPr/>
            <p:nvPr/>
          </p:nvSpPr>
          <p:spPr>
            <a:xfrm rot="2241600">
              <a:off x="1531440" y="2231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9"/>
          <p:cNvGrpSpPr/>
          <p:nvPr/>
        </p:nvGrpSpPr>
        <p:grpSpPr>
          <a:xfrm>
            <a:off x="199800" y="4974840"/>
            <a:ext cx="1369800" cy="1356120"/>
            <a:chOff x="199800" y="4974840"/>
            <a:chExt cx="1369800" cy="1356120"/>
          </a:xfrm>
        </p:grpSpPr>
        <p:sp>
          <p:nvSpPr>
            <p:cNvPr id="632" name="AutoShape 80"/>
            <p:cNvSpPr/>
            <p:nvPr/>
          </p:nvSpPr>
          <p:spPr>
            <a:xfrm>
              <a:off x="380880" y="5184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81"/>
            <p:cNvSpPr/>
            <p:nvPr/>
          </p:nvSpPr>
          <p:spPr>
            <a:xfrm rot="2241600">
              <a:off x="380520" y="5184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82"/>
          <p:cNvGrpSpPr/>
          <p:nvPr/>
        </p:nvGrpSpPr>
        <p:grpSpPr>
          <a:xfrm>
            <a:off x="5757840" y="5005080"/>
            <a:ext cx="1369800" cy="1356120"/>
            <a:chOff x="5757840" y="5005080"/>
            <a:chExt cx="1369800" cy="1356120"/>
          </a:xfrm>
        </p:grpSpPr>
        <p:sp>
          <p:nvSpPr>
            <p:cNvPr id="635" name="AutoShape 83"/>
            <p:cNvSpPr/>
            <p:nvPr/>
          </p:nvSpPr>
          <p:spPr>
            <a:xfrm>
              <a:off x="5938920" y="52149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84"/>
            <p:cNvSpPr/>
            <p:nvPr/>
          </p:nvSpPr>
          <p:spPr>
            <a:xfrm rot="2241600">
              <a:off x="5938560" y="52146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85"/>
          <p:cNvGrpSpPr/>
          <p:nvPr/>
        </p:nvGrpSpPr>
        <p:grpSpPr>
          <a:xfrm>
            <a:off x="4633920" y="1593360"/>
            <a:ext cx="1369800" cy="1356120"/>
            <a:chOff x="4633920" y="1593360"/>
            <a:chExt cx="1369800" cy="1356120"/>
          </a:xfrm>
        </p:grpSpPr>
        <p:sp>
          <p:nvSpPr>
            <p:cNvPr id="638" name="AutoShape 86"/>
            <p:cNvSpPr/>
            <p:nvPr/>
          </p:nvSpPr>
          <p:spPr>
            <a:xfrm>
              <a:off x="4815000" y="18032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87"/>
            <p:cNvSpPr/>
            <p:nvPr/>
          </p:nvSpPr>
          <p:spPr>
            <a:xfrm rot="2241600">
              <a:off x="4814640" y="18028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88"/>
          <p:cNvGrpSpPr/>
          <p:nvPr/>
        </p:nvGrpSpPr>
        <p:grpSpPr>
          <a:xfrm>
            <a:off x="712800" y="1004400"/>
            <a:ext cx="1369800" cy="1356120"/>
            <a:chOff x="712800" y="1004400"/>
            <a:chExt cx="1369800" cy="1356120"/>
          </a:xfrm>
        </p:grpSpPr>
        <p:sp>
          <p:nvSpPr>
            <p:cNvPr id="641" name="AutoShape 89"/>
            <p:cNvSpPr/>
            <p:nvPr/>
          </p:nvSpPr>
          <p:spPr>
            <a:xfrm>
              <a:off x="893880" y="121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90"/>
            <p:cNvSpPr/>
            <p:nvPr/>
          </p:nvSpPr>
          <p:spPr>
            <a:xfrm rot="2241600">
              <a:off x="893520" y="121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91"/>
          <p:cNvGrpSpPr/>
          <p:nvPr/>
        </p:nvGrpSpPr>
        <p:grpSpPr>
          <a:xfrm>
            <a:off x="7954920" y="1004400"/>
            <a:ext cx="1369800" cy="1356120"/>
            <a:chOff x="7954920" y="1004400"/>
            <a:chExt cx="1369800" cy="1356120"/>
          </a:xfrm>
        </p:grpSpPr>
        <p:sp>
          <p:nvSpPr>
            <p:cNvPr id="644" name="AutoShape 92"/>
            <p:cNvSpPr/>
            <p:nvPr/>
          </p:nvSpPr>
          <p:spPr>
            <a:xfrm>
              <a:off x="8136000" y="121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93"/>
            <p:cNvSpPr/>
            <p:nvPr/>
          </p:nvSpPr>
          <p:spPr>
            <a:xfrm rot="2241600">
              <a:off x="8135640" y="121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5:41:48Z</dcterms:created>
  <dc:creator>Admin</dc:creator>
  <dc:description/>
  <dc:language>en-US</dc:language>
  <cp:lastModifiedBy>Admin</cp:lastModifiedBy>
  <dcterms:modified xsi:type="dcterms:W3CDTF">2013-11-08T14:21:16Z</dcterms:modified>
  <cp:revision>12</cp:revision>
  <dc:subject/>
  <dc:title>Презентация PowerPoint</dc:title>
</cp:coreProperties>
</file>